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F92-C4F2-40D9-9AFC-6E9717F9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FB0-8BE1-4C1D-BE96-3F45E4A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DBD-EE6D-43C6-AE8F-48F2C79E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896-33CE-4FE8-94C1-720D2204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E53B-B70C-4F9E-9A3A-23641E8D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4859-C8E7-446A-9DDC-AC7D3F0E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BBD-E247-43A2-9EA7-0A7E1AF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CA1C-655A-4F59-98FF-5A00668D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5DCF-4E10-42A5-A82C-5ACDE69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4BAF-3C3B-4427-A3AC-6D5191A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4AAD-839B-49A2-861E-E6D44FE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5D4-94E3-4990-9F95-4AD2B3A5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AC82-3CBD-49CB-A7F9-0806BB3E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01DA-F886-4F63-8A0C-D7B131D1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7B3F-E3CB-41A7-BAE4-BDDFAD3B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7EBD-8616-4458-B83E-AC96E8BA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CFE9-C0BE-415B-8FE5-3AD16F0A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303-FD81-46A9-A122-DA8CA9FF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674-A867-44D8-923A-2766C0AF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24F-CE40-41AC-8E52-DE198D8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FD5-F230-4451-9953-2A30429E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39F-0F30-4544-8011-3BF75F91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61A-17A9-443D-BCCC-0BEAC96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BD7-F50F-4AD3-86EB-1A0037CE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F4D-8155-4F25-9CEA-9CE203C9F3B9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2D60-AB12-4870-B186-5B11B764910A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-109440" y="853920"/>
            <a:ext cx="9186840" cy="1919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20120622_gusi.jpg"/>
          <p:cNvPicPr/>
          <p:nvPr/>
        </p:nvPicPr>
        <p:blipFill>
          <a:blip r:embed="rId3"/>
          <a:stretch/>
        </p:blipFill>
        <p:spPr>
          <a:xfrm>
            <a:off x="1643040" y="2928960"/>
            <a:ext cx="578664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98" name="Содержимое 3" descr="i (4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029816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2" name="Содержимое 3" descr="Гуси Лебеди. Сказка. 030 _4__0001.jpg"/>
          <p:cNvPicPr/>
          <p:nvPr/>
        </p:nvPicPr>
        <p:blipFill>
          <a:blip r:embed="rId2"/>
          <a:stretch/>
        </p:blipFill>
        <p:spPr>
          <a:xfrm>
            <a:off x="0" y="0"/>
            <a:ext cx="912636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4" name="Содержимое 3" descr="Гуси Лебеди. Сказка. 033_0002.jpg"/>
          <p:cNvPicPr/>
          <p:nvPr/>
        </p:nvPicPr>
        <p:blipFill>
          <a:blip r:embed="rId2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6" name="Содержимое 3" descr="illyustraciya-s-roditelyami-web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2:07Z</dcterms:created>
  <dc:creator>Deafult User</dc:creator>
  <dc:description/>
  <dc:language>en-US</dc:language>
  <cp:lastModifiedBy>User</cp:lastModifiedBy>
  <dcterms:modified xsi:type="dcterms:W3CDTF">2013-02-25T10:44:43Z</dcterms:modified>
  <cp:revision>8</cp:revision>
  <dc:subject/>
  <dc:title>«Гуси - Лебеди»</dc:title>
</cp:coreProperties>
</file>