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E10-3AC1-47FD-8B5F-6DC3AB83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8EFC-C50A-43C4-A1EA-F38B42AC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951-115A-4425-889F-5CB406FC7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81F-53CA-4297-82B7-DEFC3D78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DF4C-A456-4601-AA8E-4E127552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670A-D8CA-4E37-AD9B-6440D09A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6230-A686-4AA9-8CF4-2D722D5C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AD02-22EE-42DE-9DAA-045E4BC2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8753-C800-4104-98A9-905F2002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64F5-3C49-431F-9339-B5126857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71A1-0D51-4C00-A266-3DF28F7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4CE6-80B4-49AE-8A45-BAFE8177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0482-63B5-495C-8AD0-59A3502F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9E9-B27B-4936-A6CF-A86CE646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F693-20DC-4FCA-A1E1-65D1EE99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F45A-626B-4A3D-AEB3-312C7468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E1D6-6675-43C3-893D-D6DDB1E2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8A6-474C-4A78-90A3-13670ECB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255-55B4-436C-B018-C450E7AA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53E-2954-415A-8403-C5DAB948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03E9-6654-4577-810B-8AA7E171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E6F-523F-4C8B-A567-5A0FE678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CD5-7218-4930-A8D5-07DD5D7D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54F0-D5AE-4899-BEFC-E1D23828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FF7-7B78-4003-BCC9-54830AA366D1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4d6ca7">
                  <a:alpha val="45098"/>
                </a:srgbClr>
              </a:gs>
              <a:gs pos="100000">
                <a:srgbClr val="c90b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41100">
                  <a:alpha val="45098"/>
                </a:srgbClr>
              </a:gs>
              <a:gs pos="100000">
                <a:srgbClr val="5480d1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32c1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7598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b32c1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5cd2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35a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BDF1-03FA-447E-A25D-C5E3E9F163A8}" type="slidenum">
              <a:rPr b="0" lang="en-US" sz="1200" spc="-1" strike="noStrike">
                <a:solidFill>
                  <a:srgbClr val="535a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-109440" y="853920"/>
            <a:ext cx="9186840" cy="1919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20120622_gusi.jpg"/>
          <p:cNvPicPr/>
          <p:nvPr/>
        </p:nvPicPr>
        <p:blipFill>
          <a:blip r:embed="rId3"/>
          <a:stretch/>
        </p:blipFill>
        <p:spPr>
          <a:xfrm>
            <a:off x="1643040" y="2928960"/>
            <a:ext cx="578664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98" name="Содержимое 3" descr="i (4)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0298160" cy="6864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2" name="Содержимое 3" descr="Гуси Лебеди. Сказка. 030 _4__0001.jpg"/>
          <p:cNvPicPr/>
          <p:nvPr/>
        </p:nvPicPr>
        <p:blipFill>
          <a:blip r:embed="rId2"/>
          <a:stretch/>
        </p:blipFill>
        <p:spPr>
          <a:xfrm>
            <a:off x="0" y="0"/>
            <a:ext cx="9126360" cy="6862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4" name="Содержимое 3" descr="Гуси Лебеди. Сказка. 033_0002.jpg"/>
          <p:cNvPicPr/>
          <p:nvPr/>
        </p:nvPicPr>
        <p:blipFill>
          <a:blip r:embed="rId2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75f6d"/>
              </a:solidFill>
              <a:latin typeface="Calibri"/>
            </a:endParaRPr>
          </a:p>
        </p:txBody>
      </p:sp>
      <p:pic>
        <p:nvPicPr>
          <p:cNvPr id="106" name="Содержимое 3" descr="illyustraciya-s-roditelyami-web.jpg"/>
          <p:cNvPicPr/>
          <p:nvPr/>
        </p:nvPicPr>
        <p:blipFill>
          <a:blip r:embed="rId2"/>
          <a:stretch/>
        </p:blipFill>
        <p:spPr>
          <a:xfrm>
            <a:off x="0" y="0"/>
            <a:ext cx="91854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16:52:07Z</dcterms:created>
  <dc:creator>Deafult User</dc:creator>
  <dc:description/>
  <dc:language>en-US</dc:language>
  <cp:lastModifiedBy>User</cp:lastModifiedBy>
  <dcterms:modified xsi:type="dcterms:W3CDTF">2013-02-25T10:44:43Z</dcterms:modified>
  <cp:revision>8</cp:revision>
  <dc:subject/>
  <dc:title>«Гуси - Лебеди»</dc:title>
</cp:coreProperties>
</file>