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3C23-B769-452F-ACA2-5CC0E57194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374A-E65E-47E0-94B7-FE6288B53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517B-D947-490B-A59E-C05D2EB78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B81B-7559-4AA1-93DE-DAD4F8AE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540-1DAA-435A-B1BA-63529BF9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3A78-C1B5-497B-8C1C-2B859DEC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AEA-9120-4C0E-AFD0-6D17646B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841-026A-4938-AFCF-B79CA8F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77BC-FC12-4676-855B-0B643610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101-E5B3-4F9E-8E5B-0C748476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73E5-A13D-487D-B262-B6CE4722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0D9-E84F-429E-B5A0-9717EE5F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3F63-373F-4590-9E7B-0CEAB7CA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A72-EC85-4E78-965D-BC97EE5F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50000">
              <a:srgbClr val="ffffcc"/>
            </a:gs>
            <a:gs pos="100000">
              <a:srgbClr val="ff99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E4B8-FA60-4603-8A41-DA81186A6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25000"/>
            <a:ext cx="830268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Bookman Old Style"/>
              </a:rPr>
              <a:t>СЛОЖЕНИЕ МНОГОЗНАЧНЫХ ЧИСЕ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606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9194d"/>
                </a:solidFill>
                <a:latin typeface="Bookman Old Style"/>
              </a:rPr>
              <a:t>Уч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контролир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проверя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оцени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классифицировать ошиб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60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          </a:t>
            </a:r>
            <a:r>
              <a:rPr b="0" i="1" lang="ru-RU" sz="3200" spc="-1" strike="noStrike">
                <a:solidFill>
                  <a:srgbClr val="19194d"/>
                </a:solidFill>
                <a:latin typeface="Bookman Old Style"/>
              </a:rPr>
              <a:t>- определять причину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2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9152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9194d"/>
                </a:solidFill>
                <a:latin typeface="Bookman Old Style"/>
              </a:rPr>
              <a:t>  </a:t>
            </a:r>
            <a:r>
              <a:rPr b="1" lang="ru-RU" sz="2400" spc="-1" strike="noStrike">
                <a:solidFill>
                  <a:srgbClr val="19194d"/>
                </a:solidFill>
                <a:latin typeface="Bookman Old Style"/>
              </a:rPr>
              <a:t>АНЯ       АНДРЕЙ      АНТОН       ОЛЯ         ИРА</a:t>
            </a:r>
            <a:br>
              <a:rPr sz="2400"/>
            </a:b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+ 457          +3601         +183           + 72      + 213</a:t>
            </a:r>
            <a:br>
              <a:rPr sz="2800"/>
            </a:b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1062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 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     129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      42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  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     73  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   </a:t>
            </a:r>
            <a:r>
              <a:rPr b="0" lang="ru-RU" sz="2800" spc="-1" strike="noStrike" u="sng">
                <a:solidFill>
                  <a:srgbClr val="19194d"/>
                </a:solidFill>
                <a:uFillTx/>
                <a:latin typeface="Arial"/>
              </a:rPr>
              <a:t>   66_</a:t>
            </a: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19194d"/>
                </a:solidFill>
                <a:latin typeface="Arial"/>
              </a:rPr>
              <a:t> 1419            3730           225          1145          2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12680" y="2781360"/>
          <a:ext cx="7274160" cy="3576600"/>
        </p:xfrm>
        <a:graphic>
          <a:graphicData uri="http://schemas.openxmlformats.org/drawingml/2006/table">
            <a:tbl>
              <a:tblPr/>
              <a:tblGrid>
                <a:gridCol w="1225800"/>
                <a:gridCol w="1366560"/>
                <a:gridCol w="1514520"/>
                <a:gridCol w="1727280"/>
                <a:gridCol w="144000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и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поразрядность в запи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перепол-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количество цифр в сум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таблица с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9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А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ОЛ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8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19194d"/>
                          </a:solidFill>
                          <a:latin typeface="Bookman Old Style"/>
                        </a:rPr>
                        <a:t>И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Bookman Old Style"/>
              </a:rPr>
              <a:t>МОЯ ОЦЕ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6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15-14  БАЛЛОВ   -   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13-12  БАЛЛОВ   -   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11-10  БАЛЛОВ   -   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Если сегодня не получилось -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завтра обязательно получится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4000"/>
                            </p:stCondLst>
                            <p:childTnLst>
                              <p:par>
                                <p:cTn id="1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55736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9194d"/>
                </a:solidFill>
                <a:latin typeface="Bookman Old Style"/>
              </a:rPr>
              <a:t>Домашнее задание:</a:t>
            </a:r>
            <a:br>
              <a:rPr sz="4000"/>
            </a:br>
            <a:r>
              <a:rPr b="0" lang="ru-RU" sz="4000" spc="-1" strike="noStrike">
                <a:solidFill>
                  <a:srgbClr val="19194d"/>
                </a:solidFill>
                <a:latin typeface="Bookman Old Style"/>
              </a:rPr>
              <a:t>    № 164 ( </a:t>
            </a: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по выбору 6 примеров</a:t>
            </a:r>
            <a:r>
              <a:rPr b="0" lang="ru-RU" sz="4000" spc="-1" strike="noStrike">
                <a:solidFill>
                  <a:srgbClr val="19194d"/>
                </a:solidFill>
                <a:latin typeface="Bookman Old Style"/>
              </a:rPr>
              <a:t>)</a:t>
            </a:r>
            <a:br>
              <a:rPr sz="3200"/>
            </a:b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по желанию  -  файл с заданием для соседа по пар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2923920"/>
            <a:ext cx="822960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Arial"/>
              </a:rPr>
              <a:t>МОЛОДЦЫ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194d"/>
                </a:solidFill>
                <a:latin typeface="Arial"/>
              </a:rPr>
              <a:t>СПАСИБО ЗА УРОК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20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19194d"/>
                </a:solidFill>
                <a:latin typeface="Bookman Old Style"/>
              </a:rPr>
              <a:t>АЛГОРИТМ ПИСЬМЕННОГО </a:t>
            </a:r>
            <a:br>
              <a:rPr sz="3200"/>
            </a:br>
            <a:r>
              <a:rPr b="1" lang="ru-RU" sz="3200" spc="-1" strike="noStrike">
                <a:solidFill>
                  <a:srgbClr val="19194d"/>
                </a:solidFill>
                <a:latin typeface="Bookman Old Style"/>
              </a:rPr>
              <a:t>СЛОЖЕНИЯ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214272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Запиши столб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Определи сколько цифр (разрядов) в сум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Покажи стрелками перепол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Сложи поразря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remove" presetClass="emph" presetID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indefinite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3520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200" spc="-1" strike="noStrike">
                <a:solidFill>
                  <a:srgbClr val="19194d"/>
                </a:solidFill>
                <a:latin typeface="Bookman Old Style"/>
              </a:rPr>
              <a:t>АЛГОРИТМ ПИСЬМЕННОГО </a:t>
            </a:r>
            <a:br>
              <a:rPr sz="3200"/>
            </a:br>
            <a:r>
              <a:rPr b="1" lang="ru-RU" sz="3200" spc="-1" strike="noStrike">
                <a:solidFill>
                  <a:srgbClr val="19194d"/>
                </a:solidFill>
                <a:latin typeface="Bookman Old Style"/>
              </a:rPr>
              <a:t>СЛОЖЕНИЯ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14272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Запиши столб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Bookman Old Style"/>
              </a:rPr>
              <a:t>Покажи стрелками переполн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00000"/>
                </a:solidFill>
                <a:latin typeface="Bookman Old Style"/>
              </a:rPr>
              <a:t>Определи сколько цифр (разрядов) в сумм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Сложи поразряд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30088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1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При сложение  двух трехзначных чисел какое получится числ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47640" y="2923920"/>
            <a:ext cx="7025040" cy="36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  <a:ea typeface="Times New Roman"/>
              </a:rPr>
              <a:t>трехзначно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  <a:ea typeface="Times New Roman"/>
              </a:rPr>
              <a:t>трех или четырехзнач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  <a:ea typeface="Times New Roman"/>
              </a:rPr>
              <a:t>шестизнач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  <a:ea typeface="Times New Roman"/>
              </a:rPr>
              <a:t>двузначн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7280" y="691920"/>
            <a:ext cx="8856720" cy="20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2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Сколько цифр будет 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в сумме чисел</a:t>
            </a:r>
            <a:r>
              <a:rPr b="1" lang="ru-RU" sz="3300" spc="-1" strike="noStrike">
                <a:solidFill>
                  <a:srgbClr val="19194d"/>
                </a:solidFill>
                <a:latin typeface="Bookman Old Style"/>
              </a:rPr>
              <a:t>  321  и  945 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58920" y="3068280"/>
            <a:ext cx="7385040" cy="30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-457200">
              <a:spcBef>
                <a:spcPts val="901"/>
              </a:spcBef>
              <a:buClr>
                <a:srgbClr val="1919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Arial"/>
              </a:rPr>
              <a:t>   </a:t>
            </a: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т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   </a:t>
            </a: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д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   </a:t>
            </a: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четы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9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   </a:t>
            </a:r>
            <a:r>
              <a:rPr b="0" i="1" lang="ru-RU" sz="3600" spc="-1" strike="noStrike">
                <a:solidFill>
                  <a:srgbClr val="19194d"/>
                </a:solidFill>
                <a:latin typeface="Bookman Old Style"/>
              </a:rPr>
              <a:t>пя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2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560" y="1052280"/>
            <a:ext cx="8893080" cy="94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3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При сложении чисел  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3496 и 1730 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в каких разрядах переполнен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71760" y="3109680"/>
            <a:ext cx="692928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в единиц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в десятк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в сотня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в десятках и сотн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1916280"/>
            <a:ext cx="831384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4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Какого числа не может быть при сложении двух однозначных чисел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92360" y="3141360"/>
            <a:ext cx="6951600" cy="34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однознач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двузнач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трехзнач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50716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i="1" lang="ru-RU" sz="4000" spc="-1" strike="noStrike" u="sng">
                <a:solidFill>
                  <a:srgbClr val="19194d"/>
                </a:solidFill>
                <a:uFillTx/>
                <a:latin typeface="Bookman Old Style"/>
              </a:rPr>
              <a:t>Вопрос 5</a:t>
            </a:r>
            <a:br>
              <a:rPr sz="4000"/>
            </a:b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Может ли сумма двух четырехзначных чисел быть шестизначным числом?</a:t>
            </a:r>
            <a:br>
              <a:rPr sz="40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68000" y="3212640"/>
            <a:ext cx="6589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19194d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19194d"/>
                </a:solidFill>
                <a:latin typeface="Bookman Old Style"/>
              </a:rPr>
              <a:t>не зна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8302680" cy="150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194d"/>
                </a:solidFill>
                <a:latin typeface="Bookman Old Style"/>
              </a:rPr>
              <a:t>ОТ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4200" y="2060640"/>
            <a:ext cx="8786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А) 129     143      719       747         8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Б) 1451   1614     1225    1672      7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9194d"/>
                </a:solidFill>
                <a:latin typeface="Bookman Old Style"/>
              </a:rPr>
              <a:t>В) 6683   9903      9443    9185    11222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10:45:16Z</dcterms:created>
  <dc:creator>Кабинет №17</dc:creator>
  <dc:description/>
  <dc:language>en-US</dc:language>
  <cp:lastModifiedBy>User</cp:lastModifiedBy>
  <dcterms:modified xsi:type="dcterms:W3CDTF">2012-02-29T10:51:51Z</dcterms:modified>
  <cp:revision>116</cp:revision>
  <dc:subject/>
  <dc:title>Слайд 1</dc:title>
</cp:coreProperties>
</file>