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3420-60C9-49AD-985D-054AD04E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5A4-812F-419E-855B-31ABE30C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EDE-E0CF-4420-B017-5078E64A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40F-01D9-4CC4-8211-BF868499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D021F-9F9D-40FA-A83F-25D322CD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8D51-45EE-4FF6-B09B-17A93459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BE26-78D3-4EC7-8D3F-56AD4BF8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39AC-7BC9-43D1-AF53-76B9D640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2017-1F1B-402B-AB2B-5B27C807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F114-FAE0-4150-AD26-59993C94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B30E-A289-45F8-BE10-14C2455F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4BB-6D20-4CCE-B36D-98265EDA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6849-F97E-4714-9545-9F7FA667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5491-4A9C-4755-9607-F8E305F1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4160-71C5-4BFE-B9E9-70B38AF3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B866-E7BB-4D53-B960-F0E476634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20831-51C2-44E3-AD74-8A487DB8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D961B-17E0-4A03-BD10-403EAD74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9C10-BC46-4438-AEDC-1F4B5CBD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F5E6-D842-4F20-92D6-CA337CC0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DE31-9105-43B9-8193-6DA1A625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81AE-E7F8-48A8-A77A-51C28DE4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5BCA-91AD-4C05-931A-7C17B4F9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89AF2-C4CB-48B1-8432-0EEAE2B8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CC923-6A02-4D4C-BD2A-415C5797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86CFC-2CF7-4F91-8567-6390B7DC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3ED58-7BDF-469B-BC94-62538E75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A34DA-3D9F-4507-A97D-68CBD4EC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695B4-E818-40A8-A1B9-B6E3CB2B4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7CC0-7DEC-4E62-937D-A6CABE47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31B42-E3E0-480A-8F46-72ED36B7A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33216-585E-4FE2-BF0B-52175C82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71C25-F683-4926-B27C-28C60E5F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DC4-FCEF-449F-8B87-DEF6A10C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03164-7598-4139-883D-E75F1AD3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E2DE-59A6-4E10-9949-87BEC126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DEF5B-6D41-49FD-9ED6-8DC722CE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1B5CD-628B-4EF1-903D-1025DBB7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516E3-ED07-43F7-B9BF-FFD92569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4C7F-1CC4-409E-9BED-98B7F3E7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DF62-B263-40D1-8F47-BFBC24B7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D6C3D-FD97-4911-B2E5-7ABFC9C5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6FE6-33DB-4A95-804D-2617BF46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50622-EDBB-45A3-A997-736C5723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4A3E-23BB-4CCB-8CAA-FFF2B053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3FE16-61FD-49F5-8D49-0B50ED31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026FB-DCD6-4643-A794-63DD9F60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7E062-46E8-416D-88BF-20D1DAE7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2890C-CAAB-4BF1-BC17-7F5024A2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11B83-0D75-4ECB-8787-11863CF1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C58C3-FAFF-4984-89FD-9F4FFD25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48453-18C3-44C1-A971-D081E6EC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4C24-09E7-407E-8E66-C6EE238B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C25D5-D6D6-442B-9841-C0EEBA2C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DFD8B-0BCE-4743-842E-F40C959E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4E3-5802-4F66-92FB-782782A8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07CED-0A59-4BDF-9575-D018D92D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FDF6F-D91D-4275-82E5-29E06243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9F1A4-2199-4740-AEA8-00301721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F1E5E-F90A-4AD4-962A-8004327B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5BB84-9EE8-40A5-83DC-5D047F51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130B0-32FD-4FD4-9BE5-96F478AF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91C329-7280-4EEA-AC4C-A9C39F11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6462B-F9A0-474C-A107-92BF5B49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DBA1E-3539-41E6-8481-584E5751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3B84A-ED42-43CA-8DFF-094E6FF0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B96-DA80-433F-A8C8-CA57D92D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4B706-3CDA-4A48-9E8E-D2F35BF3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C7B4A-92A2-4CEC-88C4-E4BD5FA9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47E68-F82D-45D7-AB74-AE3930D8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77A6F-DE6F-4EB5-9AB7-1FBAF31F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3C497-FAA2-4C1B-B531-3B6C9C16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A7CD3-01B8-4234-886F-8AE55382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F6593-BE3C-4213-8E2B-30D2FE6B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A0F56-7546-4C03-BAD3-F8FABCAC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17090-E4D6-479F-968C-B598D781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6A004-E444-4D83-A468-8056AE6E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8C8-7F19-4DD8-8DA6-7BC5245C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41A68-6050-4907-81EC-47BD81FB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B6E58-7254-4DED-A9B1-34A94E2E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E5637-F141-424A-A2B8-35D2386F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B3F61-E1CD-4EC8-B7DE-A796537A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26312-4AF4-43E8-A7BA-3CFA1FC2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6D8-F620-4166-AB19-24E9C139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260F-9EFD-4487-975D-27FD6DE23C6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8B30-1AEC-4655-BEA5-6BA8837D950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38AD-C6AA-4B82-8873-3E798F7B5B0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CEB9-DBA0-4C0B-9EE7-78DC60D5EDD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98FA-5920-4E3D-9279-86F3276E2B9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5DF7D-C843-4EC3-88EC-7C053B0A163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C6D9-808E-4442-BEE9-12A6818A98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ru.wikipedia.org/wiki/1793_&#1075;&#1086;&#1076;" TargetMode="External"/><Relationship Id="rId3" Type="http://schemas.openxmlformats.org/officeDocument/2006/relationships/hyperlink" Target="https://ru.wikipedia.org/wiki/1920_&#1075;&#1086;&#1076;" TargetMode="External"/><Relationship Id="rId4" Type="http://schemas.openxmlformats.org/officeDocument/2006/relationships/hyperlink" Target="https://ru.wikipedia.org/wiki/1867_&#1075;&#1086;&#1076;" TargetMode="External"/><Relationship Id="rId5" Type="http://schemas.openxmlformats.org/officeDocument/2006/relationships/hyperlink" Target="https://ru.wikipedia.org/wiki/&#1056;&#1086;&#1089;&#1089;&#1080;&#1103;" TargetMode="External"/><Relationship Id="rId6" Type="http://schemas.openxmlformats.org/officeDocument/2006/relationships/hyperlink" Target="https://ru.wikipedia.org/wiki/&#1050;&#1088;&#1072;&#1089;&#1085;&#1086;&#1076;&#1072;&#1088;&#1089;&#1082;&#1080;&#1081;_&#1082;&#1088;&#1072;&#1081;" TargetMode="External"/><Relationship Id="rId7" Type="http://schemas.openxmlformats.org/officeDocument/2006/relationships/hyperlink" Target="https://ru.wikipedia.org/wiki/&#1057;&#1077;&#1074;&#1077;&#1088;&#1085;&#1099;&#1081;_&#1050;&#1072;&#1074;&#1082;&#1072;&#1079;" TargetMode="External"/><Relationship Id="rId8" Type="http://schemas.openxmlformats.org/officeDocument/2006/relationships/hyperlink" Target="https://ru.wikipedia.org/wiki/&#1070;&#1078;&#1085;&#1099;&#1081;_&#1092;&#1077;&#1076;&#1077;&#1088;&#1072;&#1083;&#1100;&#1085;&#1099;&#1081;_&#1086;&#1082;&#1088;&#1091;&#1075;" TargetMode="External"/><Relationship Id="rId9" Type="http://schemas.openxmlformats.org/officeDocument/2006/relationships/hyperlink" Target="https://ru.wikipedia.org/wiki/&#1050;&#1091;&#1073;&#1072;&#1085;&#1100;_(&#1088;&#1077;&#1075;&#1080;&#1086;&#1085;)" TargetMode="External"/><Relationship Id="rId10" Type="http://schemas.openxmlformats.org/officeDocument/2006/relationships/hyperlink" Target="https://ru.wikipedia.org/wiki/&#1057;&#1090;&#1086;&#1083;&#1080;&#1094;&#1099;_&#1056;&#1086;&#1089;&#1089;&#1080;&#1080;#.D0.9F.D1.80.D0.BE.D1.87.D0.B8.D0.B5_.D0.BD.D0.B5.D1.84.D0.BE.D1.80.D0.BC.D0.B0.D0.BB.D1.8C.D0.BD.D1.8B.D0.B5_.C2.AB.D1.81.D1.82.D0.BE.D0.BB.D0.B8.D1.86.D1.8B.C2.BB" TargetMode="External"/><Relationship Id="rId11" Type="http://schemas.openxmlformats.org/officeDocument/2006/relationships/hyperlink" Target="https://ru.wikipedia.org/wiki/&#1043;&#1086;&#1088;&#1086;&#1076;&#1072;_&#1056;&#1086;&#1089;&#1089;&#1080;&#1080;_&#1087;&#1086;_&#1095;&#1080;&#1089;&#1083;&#1077;&#1085;&#1085;&#1086;&#1089;&#1090;&#1080;_&#1085;&#1072;&#1089;&#1077;&#1083;&#1077;&#1085;&#1080;&#1103;" TargetMode="External"/><Relationship Id="rId12" Type="http://schemas.openxmlformats.org/officeDocument/2006/relationships/hyperlink" Target="https://ru.wikipedia.org/wiki/&#1056;&#1086;&#1089;&#1090;&#1086;&#1074;-&#1085;&#1072;-&#1044;&#1086;&#1085;&#1091;" TargetMode="External"/><Relationship Id="rId13" Type="http://schemas.openxmlformats.org/officeDocument/2006/relationships/hyperlink" Target="https://ru.wikipedia.org/wiki/&#1042;&#1086;&#1083;&#1075;&#1086;&#1075;&#1088;&#1072;&#1076;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00120" y="928800"/>
            <a:ext cx="6400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Century Schoolbook"/>
              </a:rPr>
              <a:t>ПРИМЕНЕНИЕ СВОЙСТВ ДЕЙСТВИЙ С РАЦИОНАЛЬНЫМИ ЧИСЛАМИ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286160" y="4357800"/>
            <a:ext cx="39578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Corbel"/>
              </a:rPr>
              <a:t>6 класс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50021"/>
                </a:solidFill>
                <a:latin typeface="Corbel"/>
              </a:rPr>
              <a:t>20.03.15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428840" y="285840"/>
            <a:ext cx="6500880" cy="32860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3" descr=""/>
          <p:cNvPicPr/>
          <p:nvPr/>
        </p:nvPicPr>
        <p:blipFill>
          <a:blip r:embed="rId2"/>
          <a:stretch/>
        </p:blipFill>
        <p:spPr>
          <a:xfrm>
            <a:off x="1285920" y="3857760"/>
            <a:ext cx="6791400" cy="137160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5"/>
          <p:cNvSpPr/>
          <p:nvPr/>
        </p:nvSpPr>
        <p:spPr>
          <a:xfrm>
            <a:off x="5857920" y="54133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билисска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4714920" y="0"/>
            <a:ext cx="3076560" cy="1247760"/>
          </a:xfrm>
          <a:prstGeom prst="rect">
            <a:avLst/>
          </a:prstGeom>
          <a:ln w="0">
            <a:noFill/>
          </a:ln>
        </p:spPr>
      </p:pic>
      <p:sp>
        <p:nvSpPr>
          <p:cNvPr id="353" name="Прямоугольник 5"/>
          <p:cNvSpPr/>
          <p:nvPr/>
        </p:nvSpPr>
        <p:spPr>
          <a:xfrm>
            <a:off x="1000080" y="1357200"/>
            <a:ext cx="5572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а на правом берегу Кубани, в 100 км северо-восточнее Краснодара. Высота берега над уровнем моря в районе станицы около 65 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езнодорожная станция Гречишкино Северо-Кавказской железной дороги на однопутной электрифицированной ветке «Краснодар — Кавказская». До 1902 года станция называлась «Розовая», а затем переименована по ходатайству схода казаков в память сотника Андрея Леонтьевича Гречишк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яжённость станицы с запада на восток около 10 километров. Средняя январская температура 2-3 градуса мороза. Морозный период длится не более 80 дней в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000080" y="142920"/>
            <a:ext cx="7929720" cy="15573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2"/>
          <a:stretch/>
        </p:blipFill>
        <p:spPr>
          <a:xfrm>
            <a:off x="1571760" y="2000160"/>
            <a:ext cx="6296040" cy="1886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"/>
          <p:cNvPicPr/>
          <p:nvPr/>
        </p:nvPicPr>
        <p:blipFill>
          <a:blip r:embed="rId3"/>
          <a:stretch/>
        </p:blipFill>
        <p:spPr>
          <a:xfrm>
            <a:off x="1500120" y="4000680"/>
            <a:ext cx="652464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785880" y="0"/>
            <a:ext cx="7581960" cy="247644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1071720" y="2500200"/>
            <a:ext cx="4238640" cy="257400"/>
          </a:xfrm>
          <a:prstGeom prst="rect">
            <a:avLst/>
          </a:prstGeom>
          <a:ln w="0">
            <a:noFill/>
          </a:ln>
        </p:spPr>
      </p:pic>
      <p:sp>
        <p:nvSpPr>
          <p:cNvPr id="361" name="Прямоугольник 5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71360" y="274320"/>
            <a:ext cx="5786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Октябрьское поселение (Крыловской район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1143000" y="1857240"/>
            <a:ext cx="7843680" cy="19623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"/>
          <p:cNvPicPr/>
          <p:nvPr/>
        </p:nvPicPr>
        <p:blipFill>
          <a:blip r:embed="rId2"/>
          <a:stretch/>
        </p:blipFill>
        <p:spPr>
          <a:xfrm>
            <a:off x="3071880" y="4143240"/>
            <a:ext cx="3162240" cy="2305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3"/>
          <a:stretch/>
        </p:blipFill>
        <p:spPr>
          <a:xfrm>
            <a:off x="6591240" y="0"/>
            <a:ext cx="25527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4" descr=""/>
          <p:cNvPicPr/>
          <p:nvPr/>
        </p:nvPicPr>
        <p:blipFill>
          <a:blip r:embed="rId1"/>
          <a:stretch/>
        </p:blipFill>
        <p:spPr>
          <a:xfrm>
            <a:off x="1285920" y="357120"/>
            <a:ext cx="7210440" cy="2495520"/>
          </a:xfrm>
          <a:prstGeom prst="rect">
            <a:avLst/>
          </a:prstGeom>
          <a:ln w="0">
            <a:noFill/>
          </a:ln>
        </p:spPr>
      </p:pic>
      <p:sp>
        <p:nvSpPr>
          <p:cNvPr id="367" name="Прямоугольник 4"/>
          <p:cNvSpPr/>
          <p:nvPr/>
        </p:nvSpPr>
        <p:spPr>
          <a:xfrm>
            <a:off x="2286000" y="3105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  12 ли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яя рабо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ставить сообщение и практическое приложение об одном из (городов) районов кр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760" y="35244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33cc"/>
                </a:solidFill>
                <a:latin typeface="Corbel"/>
              </a:rPr>
              <a:t>Рациональные чис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24000" y="1968120"/>
            <a:ext cx="5153040" cy="29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Числа, которые можно представить в виде отношения           -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туральное число, а – цело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Object 4"/>
              <p:cNvSpPr txBox="1"/>
              <p:nvPr/>
            </p:nvSpPr>
            <p:spPr>
              <a:xfrm>
                <a:off x="3132000" y="2997360"/>
                <a:ext cx="9367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где 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Corbel"/>
              </a:rPr>
              <a:t>Устный счёт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68360" y="1268280"/>
            <a:ext cx="23731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 + (- 2)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7 + (- 67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78 + 8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34 + (- 76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17 – (-33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56 – (-4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,6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 10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0,2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348000" y="1196640"/>
            <a:ext cx="2160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0,5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2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25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(-4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50 : (-2 )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: (- 125)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7 : (- 2)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35 : 5 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0 : 46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-8 : 0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Line 8"/>
          <p:cNvSpPr/>
          <p:nvPr/>
        </p:nvSpPr>
        <p:spPr>
          <a:xfrm>
            <a:off x="2916360" y="1197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войства действий с рациональными числ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Переместитель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сложения; б) умно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Сочетательно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)сложения;  б) умножени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Свойство едини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Свойство нул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Распределительное свойство умножения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50021"/>
                </a:solidFill>
                <a:latin typeface="Corbel"/>
              </a:rPr>
              <a:t>Проверь себя</a:t>
            </a:r>
            <a:br>
              <a:rPr sz="3600"/>
            </a:br>
            <a:r>
              <a:rPr b="0" lang="ru-RU" sz="1800" spc="-1" strike="noStrike">
                <a:solidFill>
                  <a:srgbClr val="a50021"/>
                </a:solidFill>
                <a:latin typeface="Corbel"/>
              </a:rPr>
              <a:t>(ответы к тесту)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). А;  б). 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I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вариан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). Б;  б). А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33520" indent="-533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a50021"/>
                </a:solidFill>
                <a:latin typeface="Corbel"/>
              </a:rPr>
              <a:t>Критерии оценивания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325116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a50021"/>
                </a:solidFill>
                <a:latin typeface="Corbel"/>
              </a:rPr>
              <a:t>Поставьте оценку: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319640" y="1557360"/>
          <a:ext cx="4824360" cy="4846680"/>
        </p:xfrm>
        <a:graphic>
          <a:graphicData uri="http://schemas.openxmlformats.org/drawingml/2006/table">
            <a:tbl>
              <a:tblPr/>
              <a:tblGrid>
                <a:gridCol w="2736720"/>
                <a:gridCol w="2087640"/>
              </a:tblGrid>
              <a:tr h="484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Количество верных ответов: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ценк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отличн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хорошо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удовлетв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8" name="Line 20"/>
          <p:cNvSpPr/>
          <p:nvPr/>
        </p:nvSpPr>
        <p:spPr>
          <a:xfrm>
            <a:off x="3708360" y="299736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2" descr="http://allday.ru/uploads/posts/2009-11/1259438849_ne-003-snegovik.jpg"/>
          <p:cNvPicPr/>
          <p:nvPr/>
        </p:nvPicPr>
        <p:blipFill>
          <a:blip r:embed="rId1"/>
          <a:stretch/>
        </p:blipFill>
        <p:spPr>
          <a:xfrm>
            <a:off x="428760" y="3429000"/>
            <a:ext cx="2079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67 0.00948 C -0.00885 0.01018 -0.00468 0.00902 -0.00138 0.01133 C 0.00035 0.01249 -0.00138 0.01688 6.66667E-006 0.01873 C 0.0014 0.02058 0.00383 0.02035 0.00574 0.02058 C 0.01129 0.02151 0.01702 0.02174 0.02258 0.02243 C 0.0316 0.02683 0.02258 0.02336 0.0382 0.02243 C 0.05417 0.02128 0.06997 0.02128 0.08594 0.02058 C 0.09671 0.01827 0.104 0.01619 0.11563 0.01503 C 0.1257 0.01943 0.13299 0.00717 0.14237 0.0037 C 0.14549 0.00254 0.14896 0.00254 0.15226 0.00185 C 0.15834 -0.00093 0.16303 -0.00648 0.1691 -0.00948 C 0.19428 -0.04232 0.17362 -0.02058 0.24792 -0.02243 C 0.25869 -0.0259 0.26928 -0.02706 0.28039 -0.02821 C 0.51442 -0.02636 0.43403 -0.03423 0.53959 -0.01873 C 0.54237 -0.01758 0.54515 -0.01596 0.54792 -0.01503 C 0.55157 -0.01388 0.55591 -0.01549 0.55921 -0.01318 C 0.56337 -0.01018 0.56476 -0.00231 0.5691 -4.0518E-006 C 0.57153 0.00116 0.57379 0.00254 0.57622 0.0037 C 0.58855 0.01619 0.58282 0.01318 0.59167 0.01688 C 0.59862 0.02313 0.59827 0.03353 0.60712 0.03747 C 0.60921 0.04325 0.61042 0.05088 0.61285 0.0562 C 0.6191 0.06984 0.61199 0.04857 0.61841 0.06568 C 0.62483 0.08256 0.6139 0.05874 0.62258 0.07701 C 0.62657 0.09852 0.62258 0.07516 0.62553 0.12373 C 0.62553 0.12442 0.62709 0.13668 0.62831 0.13876 C 0.63247 0.14616 0.63577 0.1487 0.64098 0.15379 C 0.64289 0.15796 0.64636 0.16073 0.64792 0.16512 C 0.64896 0.1679 0.64844 0.1716 0.64931 0.17461 C 0.65001 0.17669 0.65122 0.17831 0.65226 0.18016 C 0.65278 0.18201 0.65278 0.18409 0.65365 0.18571 C 0.65469 0.18802 0.65747 0.18895 0.65782 0.19149 C 0.65956 0.20375 0.654 0.21369 0.64792 0.22132 C 0.64445 0.23566 0.62935 0.25185 0.62258 0.26087 C 0.62101 0.26295 0.61997 0.26619 0.61841 0.26827 C 0.61355 0.27475 0.61511 0.26896 0.61129 0.2759 C 0.60417 0.28908 0.60834 0.29371 0.59584 0.30019 C 0.57674 0.29903 0.56876 0.29741 0.55226 0.29463 C 0.53751 0.29857 0.53872 0.30967 0.52831 0.31892 C 0.5224 0.33117 0.51754 0.34436 0.5099 0.35453 C 0.50782 0.35731 0.50695 0.36193 0.50435 0.36401 C 0.50226 0.36586 0.49358 0.36841 0.49028 0.36957 C 0.48317 0.37858 0.48924 0.37257 0.47049 0.37142 C 0.45782 0.37049 0.44515 0.37026 0.43247 0.36957 C 0.41702 0.37234 0.40122 0.37419 0.38594 0.37905 C 0.37726 0.38668 0.38699 0.37905 0.37327 0.3846 C 0.37136 0.38529 0.36962 0.38737 0.36771 0.3883 C 0.36546 0.38922 0.36285 0.38922 0.3606 0.39015 C 0.35921 0.39061 0.35782 0.39154 0.35643 0.39223 C 0.34671 0.40495 0.34306 0.40842 0.32969 0.41281 C 0.31372 0.41073 0.29775 0.41142 0.28178 0.40911 C 0.27726 0.40842 0.27344 0.40449 0.2691 0.40333 C 0.25591 0.39292 0.24063 0.38969 0.22553 0.38645 C 0.19723 0.3876 0.18508 0.38668 0.16199 0.39408 C 0.1606 0.39524 0.15956 0.39755 0.15782 0.39778 C 0.15261 0.39847 0.12327 0.38737 0.12119 0.38645 C 0.10782 0.37974 0.0948 0.36957 0.08178 0.36216 C 0.06719 0.35384 0.05157 0.3469 0.03664 0.3395 C 0.02865 0.33141 0.02275 0.3284 0.01285 0.32655 C -0.00086 0.30828 -0.02517 0.30897 -0.04218 0.30782 C -0.04027 0.29463 -0.03645 0.28168 -0.03645 0.26827 C -0.03645 0.23011 -0.05294 0.29302 -0.03801 0.24584 C -0.03958 0.24144 -0.03992 0.23636 -0.04218 0.23265 C -0.04513 0.2278 -0.05208 0.22664 -0.05624 0.22525 C -0.06267 0.21924 -0.06979 0.21647 -0.07742 0.21392 C -0.09097 0.17646 -0.07742 0.14963 -0.0618 0.12373 C -0.05798 0.11748 -0.05867 0.11355 -0.05347 0.10893 C -0.04982 0.09644 -0.0493 0.09043 -0.04357 0.07886 C -0.04166 0.07516 -0.03645 0.06938 -0.03645 0.06938 C -0.03437 0.06129 -0.03038 0.05481 -0.02812 0.04695 C -0.02638 0.04093 -0.0269 0.0333 -0.02378 0.02821 C -0.02291 0.0266 -0.021 0.02683 -0.01961 0.02636 C -0.01544 0.02475 0.00712 0.0185 0.0099 0.01133 L 6.66667E-006 -4.0518E-006 E">
                                      <p:cBhvr>
                                        <p:cTn id="125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утешествие по Краснодарскому            краю с рациональными числам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Picture 3" descr=""/>
          <p:cNvPicPr/>
          <p:nvPr/>
        </p:nvPicPr>
        <p:blipFill>
          <a:blip r:embed="rId1"/>
          <a:stretch/>
        </p:blipFill>
        <p:spPr>
          <a:xfrm>
            <a:off x="2071800" y="1928880"/>
            <a:ext cx="58388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72314"/>
                </a:solidFill>
                <a:latin typeface="Corbel"/>
              </a:rPr>
              <a:t>В состав края входят 44 муниципалитета ( районы и города)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434960" y="1447920"/>
          <a:ext cx="7499520" cy="3510000"/>
        </p:xfrm>
        <a:graphic>
          <a:graphicData uri="http://schemas.openxmlformats.org/drawingml/2006/table">
            <a:tbl>
              <a:tblPr/>
              <a:tblGrid>
                <a:gridCol w="2494080"/>
                <a:gridCol w="2505240"/>
                <a:gridCol w="25002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колько территорий края граничат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акая часть территорий края граничат 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4aa33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спублика Адыг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остовская обла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авропольский кр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рачаево-Черке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бх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лмык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1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рное мо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/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2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раснодар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5715000" y="142920"/>
            <a:ext cx="3152880" cy="1628640"/>
          </a:xfrm>
          <a:prstGeom prst="rect">
            <a:avLst/>
          </a:prstGeom>
          <a:ln w="0">
            <a:noFill/>
          </a:ln>
        </p:spPr>
      </p:pic>
      <p:sp>
        <p:nvSpPr>
          <p:cNvPr id="346" name="Прямоугольник 3"/>
          <p:cNvSpPr/>
          <p:nvPr/>
        </p:nvSpPr>
        <p:spPr>
          <a:xfrm>
            <a:off x="1000080" y="171468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аснода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(основан в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1793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до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1920 го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—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катеринода́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статус города получил в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4"/>
              </a:rPr>
              <a:t>1867 год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 — город на юг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5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расположенный на правом берегу реки Кубани. Административный центр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6"/>
              </a:rPr>
              <a:t>Краснодарского кр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рупный экономический и культурный центр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7"/>
              </a:rPr>
              <a:t>Северного Кавка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8"/>
              </a:rPr>
              <a:t>Южного федерального окру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центр историко-географической област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9"/>
              </a:rPr>
              <a:t>Кубан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еофициально именуется столицей Кубани, а такж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0"/>
              </a:rPr>
              <a:t>южной столицей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еление города составляет 805 680 чел. (2014) (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1"/>
              </a:rPr>
              <a:t>17-е место в 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(2014). Занимает третье место среди городов Южного федерального округа (после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2"/>
              </a:rPr>
              <a:t>Ростова-на-Дон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 </a:t>
            </a:r>
            <a:r>
              <a:rPr b="0" lang="ru-RU" sz="1800" spc="-1" strike="noStrike" u="sng">
                <a:solidFill>
                  <a:srgbClr val="8dc765"/>
                </a:solidFill>
                <a:uFillTx/>
                <a:latin typeface="Arial"/>
                <a:hlinkClick r:id="rId13"/>
              </a:rPr>
              <a:t>Волгогра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15:54:09Z</dcterms:created>
  <dc:creator>FoM</dc:creator>
  <dc:description/>
  <dc:language>en-US</dc:language>
  <cp:lastModifiedBy>1</cp:lastModifiedBy>
  <dcterms:modified xsi:type="dcterms:W3CDTF">2017-10-17T10:29:02Z</dcterms:modified>
  <cp:revision>90</cp:revision>
  <dc:subject/>
  <dc:title>СВОЙСТВА ДЕЙСТВИЙ С РАЦИОНАЛЬНЫМИ ЧИСЛАМИ</dc:title>
</cp:coreProperties>
</file>