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50B6D-C746-4634-88BE-D2933AD92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C4C55-BA35-4036-AA1E-42715E9F0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48447-59CE-4135-B837-B61711AFA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3B6C9-D9A6-49DE-9DD8-58BF9012F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A1505-F2CF-4D3A-A10E-AB86B9101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5CBC1-4E66-419D-B530-042E1A9D0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C5E11-C4F4-434D-BF63-E8909ED10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AAEC4-1026-4FDB-9AE8-ADD104DCF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4F6B0-3C70-4932-9F6E-63B4C1B72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405DD-EA29-4200-A7A7-A2FEA3697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06EF9-7774-48DF-AD93-3540734A7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AF482-EF46-4C92-9E76-9DAD056E0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A9DA6-F31A-4F42-B0BA-AF6847413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9DA31-3237-4572-8F7F-D76FA4B0B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DE579-929B-4BBB-99C8-BB78ED1FF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9A0B4-1A88-49CE-A021-F57514657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43486-A185-4900-B015-F389956AA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00D51F-D1AC-4C86-ACD6-368656DD9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0767E9-37E0-471C-84D5-71130A7EC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3C104F-9270-4444-8A31-100661894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71A2F9-D438-4CFD-9806-E9BAB321E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4E2287-DA45-4575-8C54-E3F23BB28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7DBC4-B7C4-454E-AD9B-D9FFC677A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DD6D75-920B-49CA-BD4C-B7E60A575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FFB338-8966-40A5-9016-878822572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60237E-6A4C-4852-8CD2-A8DB1DEFF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A4EC79-F0D1-40F2-B476-284038C91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D59E58-F19D-4BD1-A5D5-4302A2C81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19FD55-2B4F-4459-9C3A-754BADBE5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7D37A7-5741-4340-9C84-55B2EF3E4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63DCB5-5460-4632-AB6A-179D759A4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58619A-0427-4D48-B9E5-27278B538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BD9934-5AD0-4733-B424-2950CED6B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9526F-05DF-43A9-8218-8BC8BF181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633EC1-5E9B-4195-A642-DCA4CB9FB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713632-93EF-4C87-AD6A-A9E37F3CB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286157-22AE-4F59-88FE-2F096EE85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26AFF3-5BE9-4F30-AC07-F6F94E6D8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882FEA-F663-4FD2-9736-1701EDC94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6602AE-6D7C-49E1-AE50-556311B3B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405D11-F76C-4B69-96A2-EA20C6A11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83C0E5-75D6-45A8-BBEC-DF930A249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66D77B-91B3-40C5-B830-AA9C012FE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1BE90C-41E5-4BF6-9238-F41EDA38E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5568D-7BB5-480E-888A-5D3BE35AF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B25445-D24A-43D6-88A8-66D3B7F2B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ED0059-BC91-4453-BC81-7DF9B8EFB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E3F8DB-2ECC-4E15-A308-3C58B0CB2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45579D-F8B9-489C-A10D-C8575FB98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D1454E-BCB5-47F3-9000-68EAD32F6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55A7F0-B0C1-450E-8E5E-780FCD588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BAE0F0-0839-4375-BF2E-909EF9B20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B52A83-1F0F-43CD-8611-CDED03AE0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A3F47F-3963-4FB0-9B77-2CC4F8C79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7D2530-D719-452F-867B-379CF4622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AF276-6C91-4C17-9D8B-BAD07FD6C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CC109D-ABED-4D63-8C77-2E5EF9914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7BAA75-BDAF-44B6-B0AF-43BAE0EF3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46A123-9E7A-4197-9002-638AB8AD2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EF5ED5-490A-4A89-9780-D34A44B79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7783F7-7732-4958-B8C2-A8816B408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06D087-8CAC-4813-9399-0F2E50EA3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DD6A29-F7DF-4A37-81B2-0F13358ED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6358BC-569C-4E0E-A348-76B5F1FBE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5CA0C0-C343-4CCD-8D6A-2E95A2797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BF4385-BCB5-421A-8C47-BBD998BF8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D2FA7-836E-467F-94CE-C5D399098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69C6AE-7EF0-48E6-9BFC-186E29454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D27051-5428-4103-8552-D87E0E65C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5C7B93-6488-410B-B2B0-7923BC8A6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094DB9-651D-48E1-86A2-6E20BBC27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479486-59FF-4494-AA53-A14B8B4C6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B2634F-E088-4613-ABDA-FA7DC0851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81DE0C-AD55-499E-82A4-C56B4EBB0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DECA92-94F5-4A69-A595-03D300A1B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EAB203-B506-4A52-822E-71D497493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5E1E9E-EA01-4493-8C1C-0B4DB564E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E643C-78D0-4C7E-9CE4-5D6243208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5B6D5C-78BC-44B1-A047-FA8A168FE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C252DA-47CF-4AD3-8D95-A87C91A96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6CF2F1-A862-4055-838A-E26BF865A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CBA938-EF1F-4FE5-8CD3-B90821FFA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E07D1C-1BC8-4C68-AF7D-F55B96E9B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E8417-960D-4C03-9998-E2BF5BF8F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1597B-77C4-4801-A470-20C3E2EE482D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348AC-3055-4502-A048-FE1DF7667C43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0A18C-A3A0-4154-ACC2-E87EC10EAD4C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16E01-1DF5-45EE-A6DF-8366E8444306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F2837-772E-4A71-9B13-EFE4E928B0D1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D3C31-11CA-4D81-B749-763DDF81883D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24348-0F95-4856-8786-D8C94D717F37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hyperlink" Target="https://ru.wikipedia.org/wiki/1793_&#1075;&#1086;&#1076;" TargetMode="External"/><Relationship Id="rId3" Type="http://schemas.openxmlformats.org/officeDocument/2006/relationships/hyperlink" Target="https://ru.wikipedia.org/wiki/1920_&#1075;&#1086;&#1076;" TargetMode="External"/><Relationship Id="rId4" Type="http://schemas.openxmlformats.org/officeDocument/2006/relationships/hyperlink" Target="https://ru.wikipedia.org/wiki/1867_&#1075;&#1086;&#1076;" TargetMode="External"/><Relationship Id="rId5" Type="http://schemas.openxmlformats.org/officeDocument/2006/relationships/hyperlink" Target="https://ru.wikipedia.org/wiki/&#1056;&#1086;&#1089;&#1089;&#1080;&#1103;" TargetMode="External"/><Relationship Id="rId6" Type="http://schemas.openxmlformats.org/officeDocument/2006/relationships/hyperlink" Target="https://ru.wikipedia.org/wiki/&#1050;&#1088;&#1072;&#1089;&#1085;&#1086;&#1076;&#1072;&#1088;&#1089;&#1082;&#1080;&#1081;_&#1082;&#1088;&#1072;&#1081;" TargetMode="External"/><Relationship Id="rId7" Type="http://schemas.openxmlformats.org/officeDocument/2006/relationships/hyperlink" Target="https://ru.wikipedia.org/wiki/&#1057;&#1077;&#1074;&#1077;&#1088;&#1085;&#1099;&#1081;_&#1050;&#1072;&#1074;&#1082;&#1072;&#1079;" TargetMode="External"/><Relationship Id="rId8" Type="http://schemas.openxmlformats.org/officeDocument/2006/relationships/hyperlink" Target="https://ru.wikipedia.org/wiki/&#1070;&#1078;&#1085;&#1099;&#1081;_&#1092;&#1077;&#1076;&#1077;&#1088;&#1072;&#1083;&#1100;&#1085;&#1099;&#1081;_&#1086;&#1082;&#1088;&#1091;&#1075;" TargetMode="External"/><Relationship Id="rId9" Type="http://schemas.openxmlformats.org/officeDocument/2006/relationships/hyperlink" Target="https://ru.wikipedia.org/wiki/&#1050;&#1091;&#1073;&#1072;&#1085;&#1100;_(&#1088;&#1077;&#1075;&#1080;&#1086;&#1085;)" TargetMode="External"/><Relationship Id="rId10" Type="http://schemas.openxmlformats.org/officeDocument/2006/relationships/hyperlink" Target="https://ru.wikipedia.org/wiki/&#1057;&#1090;&#1086;&#1083;&#1080;&#1094;&#1099;_&#1056;&#1086;&#1089;&#1089;&#1080;&#1080;#.D0.9F.D1.80.D0.BE.D1.87.D0.B8.D0.B5_.D0.BD.D0.B5.D1.84.D0.BE.D1.80.D0.BC.D0.B0.D0.BB.D1.8C.D0.BD.D1.8B.D0.B5_.C2.AB.D1.81.D1.82.D0.BE.D0.BB.D0.B8.D1.86.D1.8B.C2.BB" TargetMode="External"/><Relationship Id="rId11" Type="http://schemas.openxmlformats.org/officeDocument/2006/relationships/hyperlink" Target="https://ru.wikipedia.org/wiki/&#1043;&#1086;&#1088;&#1086;&#1076;&#1072;_&#1056;&#1086;&#1089;&#1089;&#1080;&#1080;_&#1087;&#1086;_&#1095;&#1080;&#1089;&#1083;&#1077;&#1085;&#1085;&#1086;&#1089;&#1090;&#1080;_&#1085;&#1072;&#1089;&#1077;&#1083;&#1077;&#1085;&#1080;&#1103;" TargetMode="External"/><Relationship Id="rId12" Type="http://schemas.openxmlformats.org/officeDocument/2006/relationships/hyperlink" Target="https://ru.wikipedia.org/wiki/&#1056;&#1086;&#1089;&#1090;&#1086;&#1074;-&#1085;&#1072;-&#1044;&#1086;&#1085;&#1091;" TargetMode="External"/><Relationship Id="rId13" Type="http://schemas.openxmlformats.org/officeDocument/2006/relationships/hyperlink" Target="https://ru.wikipedia.org/wiki/&#1042;&#1086;&#1083;&#1075;&#1086;&#1075;&#1088;&#1072;&#1076;" TargetMode="External"/><Relationship Id="rId1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500120" y="928800"/>
            <a:ext cx="640080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cc"/>
                </a:solidFill>
                <a:latin typeface="Century Schoolbook"/>
              </a:rPr>
              <a:t>ПРИМЕНЕНИЕ СВОЙСТВ ДЕЙСТВИЙ С РАЦИОНАЛЬНЫМИ ЧИСЛАМИ</a:t>
            </a:r>
            <a:endParaRPr b="0" lang="en-US" sz="4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4286160" y="4357800"/>
            <a:ext cx="3957840" cy="175248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a50021"/>
                </a:solidFill>
                <a:latin typeface="Corbel"/>
              </a:rPr>
              <a:t>6 класс 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a50021"/>
                </a:solidFill>
                <a:latin typeface="Corbel"/>
              </a:rPr>
              <a:t>20.03.15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48" name="Picture 2" descr=""/>
          <p:cNvPicPr/>
          <p:nvPr/>
        </p:nvPicPr>
        <p:blipFill>
          <a:blip r:embed="rId1"/>
          <a:stretch/>
        </p:blipFill>
        <p:spPr>
          <a:xfrm>
            <a:off x="1428840" y="285840"/>
            <a:ext cx="6500880" cy="328608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3" descr=""/>
          <p:cNvPicPr/>
          <p:nvPr/>
        </p:nvPicPr>
        <p:blipFill>
          <a:blip r:embed="rId2"/>
          <a:stretch/>
        </p:blipFill>
        <p:spPr>
          <a:xfrm>
            <a:off x="1285920" y="3857760"/>
            <a:ext cx="6791400" cy="1371600"/>
          </a:xfrm>
          <a:prstGeom prst="rect">
            <a:avLst/>
          </a:prstGeom>
          <a:ln w="0">
            <a:noFill/>
          </a:ln>
        </p:spPr>
      </p:pic>
      <p:sp>
        <p:nvSpPr>
          <p:cNvPr id="350" name="Прямоугольник 5"/>
          <p:cNvSpPr/>
          <p:nvPr/>
        </p:nvSpPr>
        <p:spPr>
          <a:xfrm>
            <a:off x="5857920" y="5413320"/>
            <a:ext cx="25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9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Тбилисская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52" name="Picture 2" descr=""/>
          <p:cNvPicPr/>
          <p:nvPr/>
        </p:nvPicPr>
        <p:blipFill>
          <a:blip r:embed="rId1"/>
          <a:stretch/>
        </p:blipFill>
        <p:spPr>
          <a:xfrm>
            <a:off x="4714920" y="0"/>
            <a:ext cx="3076560" cy="1247760"/>
          </a:xfrm>
          <a:prstGeom prst="rect">
            <a:avLst/>
          </a:prstGeom>
          <a:ln w="0">
            <a:noFill/>
          </a:ln>
        </p:spPr>
      </p:pic>
      <p:sp>
        <p:nvSpPr>
          <p:cNvPr id="353" name="Прямоугольник 5"/>
          <p:cNvSpPr/>
          <p:nvPr/>
        </p:nvSpPr>
        <p:spPr>
          <a:xfrm>
            <a:off x="1000080" y="1357200"/>
            <a:ext cx="55720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сположена на правом берегу Кубани, в 100 км северо-восточнее Краснодара. Высота берега над уровнем моря в районе станицы около 65 метр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Железнодорожная станция Гречишкино Северо-Кавказской железной дороги на однопутной электрифицированной ветке «Краснодар — Кавказская». До 1902 года станция называлась «Розовая», а затем переименована по ходатайству схода казаков в память сотника Андрея Леонтьевича Гречишки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тяжённость станицы с запада на восток около 10 километров. Средняя январская температура 2-3 градуса мороза. Морозный период длится не более 80 дней в год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55" name="Picture 2" descr=""/>
          <p:cNvPicPr/>
          <p:nvPr/>
        </p:nvPicPr>
        <p:blipFill>
          <a:blip r:embed="rId1"/>
          <a:stretch/>
        </p:blipFill>
        <p:spPr>
          <a:xfrm>
            <a:off x="1000080" y="142920"/>
            <a:ext cx="7929720" cy="155736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4" descr=""/>
          <p:cNvPicPr/>
          <p:nvPr/>
        </p:nvPicPr>
        <p:blipFill>
          <a:blip r:embed="rId2"/>
          <a:stretch/>
        </p:blipFill>
        <p:spPr>
          <a:xfrm>
            <a:off x="1571760" y="2000160"/>
            <a:ext cx="6296040" cy="188604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5" descr=""/>
          <p:cNvPicPr/>
          <p:nvPr/>
        </p:nvPicPr>
        <p:blipFill>
          <a:blip r:embed="rId3"/>
          <a:stretch/>
        </p:blipFill>
        <p:spPr>
          <a:xfrm>
            <a:off x="1500120" y="4000680"/>
            <a:ext cx="6524640" cy="16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59" name="Picture 4" descr=""/>
          <p:cNvPicPr/>
          <p:nvPr/>
        </p:nvPicPr>
        <p:blipFill>
          <a:blip r:embed="rId1"/>
          <a:stretch/>
        </p:blipFill>
        <p:spPr>
          <a:xfrm>
            <a:off x="785880" y="0"/>
            <a:ext cx="7581960" cy="247644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5" descr=""/>
          <p:cNvPicPr/>
          <p:nvPr/>
        </p:nvPicPr>
        <p:blipFill>
          <a:blip r:embed="rId2"/>
          <a:stretch/>
        </p:blipFill>
        <p:spPr>
          <a:xfrm>
            <a:off x="1071720" y="2500200"/>
            <a:ext cx="4238640" cy="257400"/>
          </a:xfrm>
          <a:prstGeom prst="rect">
            <a:avLst/>
          </a:prstGeom>
          <a:ln w="0">
            <a:noFill/>
          </a:ln>
        </p:spPr>
      </p:pic>
      <p:sp>
        <p:nvSpPr>
          <p:cNvPr id="361" name="Прямоугольник 5"/>
          <p:cNvSpPr/>
          <p:nvPr/>
        </p:nvSpPr>
        <p:spPr>
          <a:xfrm>
            <a:off x="2286000" y="310500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вет    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071360" y="274320"/>
            <a:ext cx="5786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Октябрьское поселение (Крыловской район)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63" name="Picture 2" descr=""/>
          <p:cNvPicPr/>
          <p:nvPr/>
        </p:nvPicPr>
        <p:blipFill>
          <a:blip r:embed="rId1"/>
          <a:stretch/>
        </p:blipFill>
        <p:spPr>
          <a:xfrm>
            <a:off x="1143000" y="1857240"/>
            <a:ext cx="7843680" cy="196236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3" descr=""/>
          <p:cNvPicPr/>
          <p:nvPr/>
        </p:nvPicPr>
        <p:blipFill>
          <a:blip r:embed="rId2"/>
          <a:stretch/>
        </p:blipFill>
        <p:spPr>
          <a:xfrm>
            <a:off x="3071880" y="4143240"/>
            <a:ext cx="3162240" cy="230508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4" descr=""/>
          <p:cNvPicPr/>
          <p:nvPr/>
        </p:nvPicPr>
        <p:blipFill>
          <a:blip r:embed="rId3"/>
          <a:stretch/>
        </p:blipFill>
        <p:spPr>
          <a:xfrm>
            <a:off x="6591240" y="0"/>
            <a:ext cx="2552760" cy="117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Picture 4" descr=""/>
          <p:cNvPicPr/>
          <p:nvPr/>
        </p:nvPicPr>
        <p:blipFill>
          <a:blip r:embed="rId1"/>
          <a:stretch/>
        </p:blipFill>
        <p:spPr>
          <a:xfrm>
            <a:off x="1285920" y="357120"/>
            <a:ext cx="7210440" cy="2495520"/>
          </a:xfrm>
          <a:prstGeom prst="rect">
            <a:avLst/>
          </a:prstGeom>
          <a:ln w="0">
            <a:noFill/>
          </a:ln>
        </p:spPr>
      </p:pic>
      <p:sp>
        <p:nvSpPr>
          <p:cNvPr id="367" name="Прямоугольник 4"/>
          <p:cNvSpPr/>
          <p:nvPr/>
        </p:nvSpPr>
        <p:spPr>
          <a:xfrm>
            <a:off x="2286000" y="310500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вет  12 литр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Домашняя работа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Составить сообщение и практическое приложение об одном из (городов) районов края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5760" y="352440"/>
            <a:ext cx="822960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0033cc"/>
                </a:solidFill>
                <a:latin typeface="Corbel"/>
              </a:rPr>
              <a:t>Рациональные числа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324000" y="1968120"/>
            <a:ext cx="5153040" cy="29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Числа, которые можно представить в виде отношения           - 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натуральное число, а – целое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2" name="Object 4"/>
              <p:cNvSpPr txBox="1"/>
              <p:nvPr/>
            </p:nvSpPr>
            <p:spPr>
              <a:xfrm>
                <a:off x="3132000" y="2997360"/>
                <a:ext cx="936720" cy="66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где 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23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Corbel"/>
              </a:rPr>
              <a:t>Устный счёт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468360" y="1268280"/>
            <a:ext cx="2373120" cy="36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rbel"/>
              </a:rPr>
              <a:t>-5 + (- 2)  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rbel"/>
              </a:rPr>
              <a:t>-7 + (- 67)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rbel"/>
              </a:rPr>
              <a:t>-78 + 89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orbel"/>
              </a:rPr>
              <a:t>34 + (- 76) 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rbel"/>
              </a:rPr>
              <a:t>-17 – (-33)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orbel"/>
              </a:rPr>
              <a:t>56 – (-4)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rbel"/>
              </a:rPr>
              <a:t>-5,6 </a:t>
            </a:r>
            <a:r>
              <a:rPr b="0" lang="ru-RU" sz="26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ru-RU" sz="2600" spc="-1" strike="noStrike">
                <a:solidFill>
                  <a:srgbClr val="000000"/>
                </a:solidFill>
                <a:latin typeface="Corbel"/>
              </a:rPr>
              <a:t> (- 10)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rbel"/>
              </a:rPr>
              <a:t>-8 </a:t>
            </a:r>
            <a:r>
              <a:rPr b="0" lang="ru-RU" sz="26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ru-RU" sz="2600" spc="-1" strike="noStrike">
                <a:solidFill>
                  <a:srgbClr val="000000"/>
                </a:solidFill>
                <a:latin typeface="Corbel"/>
              </a:rPr>
              <a:t> (-0,2)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Corbel"/>
              </a:rPr>
              <a:t>      </a:t>
            </a:r>
            <a:endParaRPr b="0" lang="en-US" sz="7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348000" y="1196640"/>
            <a:ext cx="216072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rbel"/>
              </a:rPr>
              <a:t>-0,5 </a:t>
            </a:r>
            <a:r>
              <a:rPr b="0" lang="ru-RU" sz="26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ru-RU" sz="2600" spc="-1" strike="noStrike">
                <a:solidFill>
                  <a:srgbClr val="000000"/>
                </a:solidFill>
                <a:latin typeface="Corbel"/>
              </a:rPr>
              <a:t> 2 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rbel"/>
              </a:rPr>
              <a:t>25 </a:t>
            </a:r>
            <a:r>
              <a:rPr b="0" lang="ru-RU" sz="26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ru-RU" sz="2600" spc="-1" strike="noStrike">
                <a:solidFill>
                  <a:srgbClr val="000000"/>
                </a:solidFill>
                <a:latin typeface="Corbel"/>
              </a:rPr>
              <a:t> (-4)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rbel"/>
              </a:rPr>
              <a:t>-50 : (-2 )  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rbel"/>
              </a:rPr>
              <a:t>-8 : (- 125)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rbel"/>
              </a:rPr>
              <a:t>7 : (- 2) 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rbel"/>
              </a:rPr>
              <a:t>-35 : 5    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rbel"/>
              </a:rPr>
              <a:t>0 : 46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orbel"/>
              </a:rPr>
              <a:t>-8 : 0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9" name="Line 8"/>
          <p:cNvSpPr/>
          <p:nvPr/>
        </p:nvSpPr>
        <p:spPr>
          <a:xfrm>
            <a:off x="2916360" y="1197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0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Свойства действий с рациональными числами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1. Переместительное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а)сложения; б) умножения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2. Сочетательное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а)сложения;  б) умножения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3. Свойство единицы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4. Свойство нуля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5. Распределительное свойство умножения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826920" y="260280"/>
            <a:ext cx="687096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a50021"/>
                </a:solidFill>
                <a:latin typeface="Corbel"/>
              </a:rPr>
              <a:t>Проверь себя</a:t>
            </a:r>
            <a:br>
              <a:rPr sz="3600"/>
            </a:br>
            <a:r>
              <a:rPr b="0" lang="ru-RU" sz="1800" spc="-1" strike="noStrike">
                <a:solidFill>
                  <a:srgbClr val="a50021"/>
                </a:solidFill>
                <a:latin typeface="Corbel"/>
              </a:rPr>
              <a:t>(ответы к тесту)</a:t>
            </a:r>
            <a:endParaRPr b="0" lang="en-US" sz="18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4568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I 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вариант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533520" indent="-533520"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533520" indent="-533520"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а). А;  б). А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533520" indent="-533520"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533520" indent="-533520"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Б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533520" indent="-5335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533520" indent="-5335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46526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II 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вариант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533520" indent="-533520"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а). Б;  б). А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533520" indent="-533520"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Б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533520" indent="-533520"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В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533520" indent="-5335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a50021"/>
                </a:solidFill>
                <a:latin typeface="Corbel"/>
              </a:rPr>
              <a:t>Критерии оценивания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-360" y="1844640"/>
            <a:ext cx="3251160" cy="41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a50021"/>
                </a:solidFill>
                <a:latin typeface="Corbel"/>
              </a:rPr>
              <a:t>Поставьте оценку: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5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graphicFrame>
        <p:nvGraphicFramePr>
          <p:cNvPr id="337" name=""/>
          <p:cNvGraphicFramePr/>
          <p:nvPr/>
        </p:nvGraphicFramePr>
        <p:xfrm>
          <a:off x="4319640" y="1557360"/>
          <a:ext cx="4824360" cy="4846680"/>
        </p:xfrm>
        <a:graphic>
          <a:graphicData uri="http://schemas.openxmlformats.org/drawingml/2006/table">
            <a:tbl>
              <a:tblPr/>
              <a:tblGrid>
                <a:gridCol w="2736720"/>
                <a:gridCol w="2087640"/>
              </a:tblGrid>
              <a:tr h="48466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0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Количество верных ответов: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0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Оценка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0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отлично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0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хорошо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0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удовлетв.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8" name="Line 20"/>
          <p:cNvSpPr/>
          <p:nvPr/>
        </p:nvSpPr>
        <p:spPr>
          <a:xfrm>
            <a:off x="3708360" y="2997360"/>
            <a:ext cx="482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Picture 2" descr="http://allday.ru/uploads/posts/2009-11/1259438849_ne-003-snegovik.jpg"/>
          <p:cNvPicPr/>
          <p:nvPr/>
        </p:nvPicPr>
        <p:blipFill>
          <a:blip r:embed="rId1"/>
          <a:stretch/>
        </p:blipFill>
        <p:spPr>
          <a:xfrm>
            <a:off x="428760" y="3429000"/>
            <a:ext cx="207936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267 0.00948 C -0.00885 0.01018 -0.00468 0.00902 -0.00138 0.01133 C 0.00035 0.01249 -0.00138 0.01688 6.66667E-006 0.01873 C 0.0014 0.02058 0.00383 0.02035 0.00574 0.02058 C 0.01129 0.02151 0.01702 0.02174 0.02258 0.02243 C 0.0316 0.02683 0.02258 0.02336 0.0382 0.02243 C 0.05417 0.02128 0.06997 0.02128 0.08594 0.02058 C 0.09671 0.01827 0.104 0.01619 0.11563 0.01503 C 0.1257 0.01943 0.13299 0.00717 0.14237 0.0037 C 0.14549 0.00254 0.14896 0.00254 0.15226 0.00185 C 0.15834 -0.00093 0.16303 -0.00648 0.1691 -0.00948 C 0.19428 -0.04232 0.17362 -0.02058 0.24792 -0.02243 C 0.25869 -0.0259 0.26928 -0.02706 0.28039 -0.02821 C 0.51442 -0.02636 0.43403 -0.03423 0.53959 -0.01873 C 0.54237 -0.01758 0.54515 -0.01596 0.54792 -0.01503 C 0.55157 -0.01388 0.55591 -0.01549 0.55921 -0.01318 C 0.56337 -0.01018 0.56476 -0.00231 0.5691 -4.0518E-006 C 0.57153 0.00116 0.57379 0.00254 0.57622 0.0037 C 0.58855 0.01619 0.58282 0.01318 0.59167 0.01688 C 0.59862 0.02313 0.59827 0.03353 0.60712 0.03747 C 0.60921 0.04325 0.61042 0.05088 0.61285 0.0562 C 0.6191 0.06984 0.61199 0.04857 0.61841 0.06568 C 0.62483 0.08256 0.6139 0.05874 0.62258 0.07701 C 0.62657 0.09852 0.62258 0.07516 0.62553 0.12373 C 0.62553 0.12442 0.62709 0.13668 0.62831 0.13876 C 0.63247 0.14616 0.63577 0.1487 0.64098 0.15379 C 0.64289 0.15796 0.64636 0.16073 0.64792 0.16512 C 0.64896 0.1679 0.64844 0.1716 0.64931 0.17461 C 0.65001 0.17669 0.65122 0.17831 0.65226 0.18016 C 0.65278 0.18201 0.65278 0.18409 0.65365 0.18571 C 0.65469 0.18802 0.65747 0.18895 0.65782 0.19149 C 0.65956 0.20375 0.654 0.21369 0.64792 0.22132 C 0.64445 0.23566 0.62935 0.25185 0.62258 0.26087 C 0.62101 0.26295 0.61997 0.26619 0.61841 0.26827 C 0.61355 0.27475 0.61511 0.26896 0.61129 0.2759 C 0.60417 0.28908 0.60834 0.29371 0.59584 0.30019 C 0.57674 0.29903 0.56876 0.29741 0.55226 0.29463 C 0.53751 0.29857 0.53872 0.30967 0.52831 0.31892 C 0.5224 0.33117 0.51754 0.34436 0.5099 0.35453 C 0.50782 0.35731 0.50695 0.36193 0.50435 0.36401 C 0.50226 0.36586 0.49358 0.36841 0.49028 0.36957 C 0.48317 0.37858 0.48924 0.37257 0.47049 0.37142 C 0.45782 0.37049 0.44515 0.37026 0.43247 0.36957 C 0.41702 0.37234 0.40122 0.37419 0.38594 0.37905 C 0.37726 0.38668 0.38699 0.37905 0.37327 0.3846 C 0.37136 0.38529 0.36962 0.38737 0.36771 0.3883 C 0.36546 0.38922 0.36285 0.38922 0.3606 0.39015 C 0.35921 0.39061 0.35782 0.39154 0.35643 0.39223 C 0.34671 0.40495 0.34306 0.40842 0.32969 0.41281 C 0.31372 0.41073 0.29775 0.41142 0.28178 0.40911 C 0.27726 0.40842 0.27344 0.40449 0.2691 0.40333 C 0.25591 0.39292 0.24063 0.38969 0.22553 0.38645 C 0.19723 0.3876 0.18508 0.38668 0.16199 0.39408 C 0.1606 0.39524 0.15956 0.39755 0.15782 0.39778 C 0.15261 0.39847 0.12327 0.38737 0.12119 0.38645 C 0.10782 0.37974 0.0948 0.36957 0.08178 0.36216 C 0.06719 0.35384 0.05157 0.3469 0.03664 0.3395 C 0.02865 0.33141 0.02275 0.3284 0.01285 0.32655 C -0.00086 0.30828 -0.02517 0.30897 -0.04218 0.30782 C -0.04027 0.29463 -0.03645 0.28168 -0.03645 0.26827 C -0.03645 0.23011 -0.05294 0.29302 -0.03801 0.24584 C -0.03958 0.24144 -0.03992 0.23636 -0.04218 0.23265 C -0.04513 0.2278 -0.05208 0.22664 -0.05624 0.22525 C -0.06267 0.21924 -0.06979 0.21647 -0.07742 0.21392 C -0.09097 0.17646 -0.07742 0.14963 -0.0618 0.12373 C -0.05798 0.11748 -0.05867 0.11355 -0.05347 0.10893 C -0.04982 0.09644 -0.0493 0.09043 -0.04357 0.07886 C -0.04166 0.07516 -0.03645 0.06938 -0.03645 0.06938 C -0.03437 0.06129 -0.03038 0.05481 -0.02812 0.04695 C -0.02638 0.04093 -0.0269 0.0333 -0.02378 0.02821 C -0.02291 0.0266 -0.021 0.02683 -0.01961 0.02636 C -0.01544 0.02475 0.00712 0.0185 0.0099 0.01133 L 6.66667E-006 -4.0518E-006 E">
                                      <p:cBhvr>
                                        <p:cTn id="125" dur="2000" fill="hold"/>
                                        <p:tgtEl>
                                          <p:spTgt spid="3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Путешествие по Краснодарскому            краю с рациональными числами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41" name="Picture 3" descr=""/>
          <p:cNvPicPr/>
          <p:nvPr/>
        </p:nvPicPr>
        <p:blipFill>
          <a:blip r:embed="rId1"/>
          <a:stretch/>
        </p:blipFill>
        <p:spPr>
          <a:xfrm>
            <a:off x="2071800" y="1928880"/>
            <a:ext cx="5838840" cy="46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72314"/>
                </a:solidFill>
                <a:latin typeface="Corbel"/>
              </a:rPr>
              <a:t>В состав края входят 44 муниципалитета ( районы и города)</a:t>
            </a:r>
            <a:endParaRPr b="0" lang="en-US" sz="2000" spc="-1" strike="noStrike">
              <a:solidFill>
                <a:srgbClr val="572314"/>
              </a:solidFill>
              <a:latin typeface="Corbel"/>
            </a:endParaRPr>
          </a:p>
        </p:txBody>
      </p:sp>
      <p:graphicFrame>
        <p:nvGraphicFramePr>
          <p:cNvPr id="343" name=""/>
          <p:cNvGraphicFramePr/>
          <p:nvPr/>
        </p:nvGraphicFramePr>
        <p:xfrm>
          <a:off x="1434960" y="1447920"/>
          <a:ext cx="7499520" cy="3510000"/>
        </p:xfrm>
        <a:graphic>
          <a:graphicData uri="http://schemas.openxmlformats.org/drawingml/2006/table">
            <a:tbl>
              <a:tblPr/>
              <a:tblGrid>
                <a:gridCol w="2494080"/>
                <a:gridCol w="2505240"/>
                <a:gridCol w="2500200"/>
              </a:tblGrid>
              <a:tr h="9147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4aa3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Сколько территорий края граничат 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4aa3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Какая часть территорий края граничат 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4aa33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Республика Адыге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e2c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e2c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1/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e2cd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Ростовская обла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1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1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6/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1e8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Ставропольский кра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e2c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e2c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6/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e2cd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Карачаево-Черкес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1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1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3/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1e8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Абхази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e2c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e2c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/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e2cd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Калмык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1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1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1e8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Черное мор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e2c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e2c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6/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e2c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Краснодар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45" name="Picture 2" descr=""/>
          <p:cNvPicPr/>
          <p:nvPr/>
        </p:nvPicPr>
        <p:blipFill>
          <a:blip r:embed="rId1"/>
          <a:stretch/>
        </p:blipFill>
        <p:spPr>
          <a:xfrm>
            <a:off x="5715000" y="142920"/>
            <a:ext cx="3152880" cy="1628640"/>
          </a:xfrm>
          <a:prstGeom prst="rect">
            <a:avLst/>
          </a:prstGeom>
          <a:ln w="0">
            <a:noFill/>
          </a:ln>
        </p:spPr>
      </p:pic>
      <p:sp>
        <p:nvSpPr>
          <p:cNvPr id="346" name="Прямоугольник 3"/>
          <p:cNvSpPr/>
          <p:nvPr/>
        </p:nvSpPr>
        <p:spPr>
          <a:xfrm>
            <a:off x="1000080" y="1714680"/>
            <a:ext cx="73580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раснода́р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(основан в </a:t>
            </a:r>
            <a:r>
              <a:rPr b="0" lang="ru-RU" sz="1800" spc="-1" strike="noStrike" u="sng">
                <a:solidFill>
                  <a:srgbClr val="8dc765"/>
                </a:solidFill>
                <a:uFillTx/>
                <a:latin typeface="Arial"/>
                <a:hlinkClick r:id="rId2"/>
              </a:rPr>
              <a:t>1793 году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; до </a:t>
            </a:r>
            <a:r>
              <a:rPr b="0" lang="ru-RU" sz="1800" spc="-1" strike="noStrike" u="sng">
                <a:solidFill>
                  <a:srgbClr val="8dc765"/>
                </a:solidFill>
                <a:uFillTx/>
                <a:latin typeface="Arial"/>
                <a:hlinkClick r:id="rId3"/>
              </a:rPr>
              <a:t>1920 год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— 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Екатеринода́р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; статус города получил в </a:t>
            </a:r>
            <a:r>
              <a:rPr b="0" lang="ru-RU" sz="1800" spc="-1" strike="noStrike" u="sng">
                <a:solidFill>
                  <a:srgbClr val="8dc765"/>
                </a:solidFill>
                <a:uFillTx/>
                <a:latin typeface="Arial"/>
                <a:hlinkClick r:id="rId4"/>
              </a:rPr>
              <a:t>1867 году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 — город на юге </a:t>
            </a:r>
            <a:r>
              <a:rPr b="0" lang="ru-RU" sz="1800" spc="-1" strike="noStrike" u="sng">
                <a:solidFill>
                  <a:srgbClr val="8dc765"/>
                </a:solidFill>
                <a:uFillTx/>
                <a:latin typeface="Arial"/>
                <a:hlinkClick r:id="rId5"/>
              </a:rPr>
              <a:t>Росси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расположенный на правом берегу реки Кубани. Административный центр </a:t>
            </a:r>
            <a:r>
              <a:rPr b="0" lang="ru-RU" sz="1800" spc="-1" strike="noStrike" u="sng">
                <a:solidFill>
                  <a:srgbClr val="8dc765"/>
                </a:solidFill>
                <a:uFillTx/>
                <a:latin typeface="Arial"/>
                <a:hlinkClick r:id="rId6"/>
              </a:rPr>
              <a:t>Краснодарского кра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Крупный экономический и культурный центр </a:t>
            </a:r>
            <a:r>
              <a:rPr b="0" lang="ru-RU" sz="1800" spc="-1" strike="noStrike" u="sng">
                <a:solidFill>
                  <a:srgbClr val="8dc765"/>
                </a:solidFill>
                <a:uFillTx/>
                <a:latin typeface="Arial"/>
                <a:hlinkClick r:id="rId7"/>
              </a:rPr>
              <a:t>Северного Кавказ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и </a:t>
            </a:r>
            <a:r>
              <a:rPr b="0" lang="ru-RU" sz="1800" spc="-1" strike="noStrike" u="sng">
                <a:solidFill>
                  <a:srgbClr val="8dc765"/>
                </a:solidFill>
                <a:uFillTx/>
                <a:latin typeface="Arial"/>
                <a:hlinkClick r:id="rId8"/>
              </a:rPr>
              <a:t>Южного федерального округ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центр историко-географической области </a:t>
            </a:r>
            <a:r>
              <a:rPr b="0" lang="ru-RU" sz="1800" spc="-1" strike="noStrike" u="sng">
                <a:solidFill>
                  <a:srgbClr val="8dc765"/>
                </a:solidFill>
                <a:uFillTx/>
                <a:latin typeface="Arial"/>
                <a:hlinkClick r:id="rId9"/>
              </a:rPr>
              <a:t>Кубань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Неофициально именуется столицей Кубани, а также </a:t>
            </a:r>
            <a:r>
              <a:rPr b="0" lang="ru-RU" sz="1800" spc="-1" strike="noStrike" u="sng">
                <a:solidFill>
                  <a:srgbClr val="8dc765"/>
                </a:solidFill>
                <a:uFillTx/>
                <a:latin typeface="Arial"/>
                <a:hlinkClick r:id="rId10"/>
              </a:rPr>
              <a:t>южной столицей Росси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селение города составляет 805 680 чел. (2014) (</a:t>
            </a:r>
            <a:r>
              <a:rPr b="0" lang="ru-RU" sz="1800" spc="-1" strike="noStrike" u="sng">
                <a:solidFill>
                  <a:srgbClr val="8dc765"/>
                </a:solidFill>
                <a:uFillTx/>
                <a:latin typeface="Arial"/>
                <a:hlinkClick r:id="rId11"/>
              </a:rPr>
              <a:t>17-е место в Росси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(2014). Занимает третье место среди городов Южного федерального округа (после </a:t>
            </a:r>
            <a:r>
              <a:rPr b="0" lang="ru-RU" sz="1800" spc="-1" strike="noStrike" u="sng">
                <a:solidFill>
                  <a:srgbClr val="8dc765"/>
                </a:solidFill>
                <a:uFillTx/>
                <a:latin typeface="Arial"/>
                <a:hlinkClick r:id="rId12"/>
              </a:rPr>
              <a:t>Ростова-на-Дону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и </a:t>
            </a:r>
            <a:r>
              <a:rPr b="0" lang="ru-RU" sz="1800" spc="-1" strike="noStrike" u="sng">
                <a:solidFill>
                  <a:srgbClr val="8dc765"/>
                </a:solidFill>
                <a:uFillTx/>
                <a:latin typeface="Arial"/>
                <a:hlinkClick r:id="rId13"/>
              </a:rPr>
              <a:t>Волгоград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4T15:54:09Z</dcterms:created>
  <dc:creator>FoM</dc:creator>
  <dc:description/>
  <dc:language>en-US</dc:language>
  <cp:lastModifiedBy>1</cp:lastModifiedBy>
  <dcterms:modified xsi:type="dcterms:W3CDTF">2017-10-17T10:29:02Z</dcterms:modified>
  <cp:revision>90</cp:revision>
  <dc:subject/>
  <dc:title>СВОЙСТВА ДЕЙСТВИЙ С РАЦИОНАЛЬНЫМИ ЧИСЛАМИ</dc:title>
</cp:coreProperties>
</file>