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9BE0-7EF7-4C3C-BE6B-DF6DA6A8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C79B-FA6F-4458-A738-34F065FD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2F79-E61D-4C22-9BCE-DED2806B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9EB2-7A06-4A1E-B6A8-00749422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C3F1-7AEB-44FC-854B-663041A8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392D-856F-4A2E-8C7D-22BD8002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FF72-D491-4708-A13A-DB73CAAE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BDF9-4900-4988-BC48-6EE7FD42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09FD-A912-4DB2-B63C-3C38883E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1B33-EA53-4BF9-A906-081EEA3D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A9D0-2886-4491-8F76-4915DB46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F78C-27AA-4BF3-9559-6B22E7D8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52E9-B905-47D8-AF64-5A945E07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76FF-E6D7-4D6C-A99C-D80F472F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B276-1416-47CB-B141-01ADC220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9A75-AE25-41FA-81EC-3591E349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51D5-6EEB-4277-A2F8-10F480ED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C6A55-E7B6-4048-A566-53946F5A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FF7F8-A97E-4DDA-8115-BC72C950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DDF32-633D-48D1-8507-C8C45954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E29F1-37C1-4E82-B3E2-7A121FD8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04FBF-B7A8-4194-8F75-F2694A60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6EC1-AFDB-48DE-BD4C-E556F331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C4894-6D62-4D3A-912B-83D5BB45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A0A7E-5AB1-4FCD-AF6F-00537AEB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4A298-C7F6-42DC-BB3B-A8F6C9E0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E3C4A-FFED-4AAE-91D2-91505739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EA390-2858-4753-8719-4937A9B0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2304C-A7D0-4C6C-A599-05E8E0C8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C351F-7AB4-4575-BDB1-5446478C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9FFD5-706E-4E78-AFBC-E3A2E972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12C29-211F-4902-944E-113BA17B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4A233-57D4-41D1-A099-6CC614EA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BBEE-F1DD-44A4-8685-9CAA959C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D9F17-1A62-4EAE-9045-CCD063FA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72DA1-E02B-4D0E-84AE-D1817C2E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45715-D6B4-4173-B150-066186EC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0F943-3281-40E8-9607-2C91702D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12362-9758-40E4-A98D-243C77A0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79342-4D05-456F-B9AD-EAE90BC7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F8179-8203-4B91-94FA-1DF81F9E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EFE9C-465F-4888-829A-C991F2B8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E68E4-5AF3-4F0F-8D27-A1C794B8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A79CF-455D-4213-AD7C-CDF98CB0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1E89-FB56-43FA-8161-43CEC584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FAC42-2D8B-4611-B719-7AF4753F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8D2B0-5CA1-4AB4-8C8B-14005F8C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D77BC-2C57-4D8B-A575-68FA14EF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9A3BA-58F9-4159-88E6-E6E0B9D8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C7BA7-8023-4386-874E-3F830910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D661A-FABA-474B-B4B4-0AC68413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B47BE-3EC4-4B8C-A00F-5CEFCEB7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8F36F-C573-4EAD-8012-11EEAABD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77526-B818-490E-8FA9-B2531673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9AA31-9F3C-43DF-9AA5-B68A970F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FB36-94E9-4811-ADC2-090EE273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95799-ECD5-454D-8034-14777346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7D23E-877E-4725-A8D1-048E8D4E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B1AB3-6FF1-4052-8040-A5C08F5F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519D2-7D99-4000-BF95-F2903BAE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55B65-89B8-4E2E-82BC-DE9B2F2B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7EA5B-DFA5-4480-A417-E56943AF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16E59-9EF8-4A1D-B8F1-2ABDC857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BAF58-2CF0-4BCF-8CE2-007223D8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DFCD9-63B6-4407-A80B-6937E186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18BFF-8B4C-4813-B7A7-83A41D43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4917-EE72-44AF-856A-D1134C5A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155B9-CD58-4C44-BB5E-B3BBD6A0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51F9B-BCE6-4FCD-87A5-0365400E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F55C1-7676-4F1D-B2F7-F150E8D6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20ABD-1EA7-48C6-9951-22124418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BF7E5-C6DA-4AE7-B71A-86D91E8D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1857F-5AF5-4871-BF6D-4324A20A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CD302-981A-4D03-A097-BC21B169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64EC7-711D-4C4C-80BF-2BEF6136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0BB29-2485-4390-A78F-2CB270BF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7F555-C0C6-4D12-9A91-5450EF0A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58C0-80DD-4183-B779-74EF1AE8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47EAB-ECB1-4667-AAC3-285BC30F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6D2DF-3E19-42BB-9985-59A212DE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9712B-F75C-4380-87AD-BD9DDEF4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5E78C-668A-4C01-9230-42C7C44D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39D70-7037-4C30-99E8-79D24C1F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6E53-3FC3-4568-BA40-8927E837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1ACD-91FE-4F55-AC1A-FA6C467AE72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CD9F-32BC-4ECB-A2C5-33F85D79D23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96B9-FC7D-4602-B02E-3D6B768088E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16DA-EE40-4D1E-BD94-815E7D7C699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A337-9E11-4E31-8450-B7618247B45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C5BC-BB85-432D-92C3-EEC4054A383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7A2F-96E3-46D1-9741-407EE8B544C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ru.wikipedia.org/wiki/1793_&#1075;&#1086;&#1076;" TargetMode="External"/><Relationship Id="rId3" Type="http://schemas.openxmlformats.org/officeDocument/2006/relationships/hyperlink" Target="https://ru.wikipedia.org/wiki/1920_&#1075;&#1086;&#1076;" TargetMode="External"/><Relationship Id="rId4" Type="http://schemas.openxmlformats.org/officeDocument/2006/relationships/hyperlink" Target="https://ru.wikipedia.org/wiki/1867_&#1075;&#1086;&#1076;" TargetMode="External"/><Relationship Id="rId5" Type="http://schemas.openxmlformats.org/officeDocument/2006/relationships/hyperlink" Target="https://ru.wikipedia.org/wiki/&#1056;&#1086;&#1089;&#1089;&#1080;&#1103;" TargetMode="External"/><Relationship Id="rId6" Type="http://schemas.openxmlformats.org/officeDocument/2006/relationships/hyperlink" Target="https://ru.wikipedia.org/wiki/&#1050;&#1088;&#1072;&#1089;&#1085;&#1086;&#1076;&#1072;&#1088;&#1089;&#1082;&#1080;&#1081;_&#1082;&#1088;&#1072;&#1081;" TargetMode="External"/><Relationship Id="rId7" Type="http://schemas.openxmlformats.org/officeDocument/2006/relationships/hyperlink" Target="https://ru.wikipedia.org/wiki/&#1057;&#1077;&#1074;&#1077;&#1088;&#1085;&#1099;&#1081;_&#1050;&#1072;&#1074;&#1082;&#1072;&#1079;" TargetMode="External"/><Relationship Id="rId8" Type="http://schemas.openxmlformats.org/officeDocument/2006/relationships/hyperlink" Target="https://ru.wikipedia.org/wiki/&#1070;&#1078;&#1085;&#1099;&#1081;_&#1092;&#1077;&#1076;&#1077;&#1088;&#1072;&#1083;&#1100;&#1085;&#1099;&#1081;_&#1086;&#1082;&#1088;&#1091;&#1075;" TargetMode="External"/><Relationship Id="rId9" Type="http://schemas.openxmlformats.org/officeDocument/2006/relationships/hyperlink" Target="https://ru.wikipedia.org/wiki/&#1050;&#1091;&#1073;&#1072;&#1085;&#1100;_(&#1088;&#1077;&#1075;&#1080;&#1086;&#1085;)" TargetMode="External"/><Relationship Id="rId10" Type="http://schemas.openxmlformats.org/officeDocument/2006/relationships/hyperlink" Target="https://ru.wikipedia.org/wiki/&#1057;&#1090;&#1086;&#1083;&#1080;&#1094;&#1099;_&#1056;&#1086;&#1089;&#1089;&#1080;&#1080;#.D0.9F.D1.80.D0.BE.D1.87.D0.B8.D0.B5_.D0.BD.D0.B5.D1.84.D0.BE.D1.80.D0.BC.D0.B0.D0.BB.D1.8C.D0.BD.D1.8B.D0.B5_.C2.AB.D1.81.D1.82.D0.BE.D0.BB.D0.B8.D1.86.D1.8B.C2.BB" TargetMode="External"/><Relationship Id="rId11" Type="http://schemas.openxmlformats.org/officeDocument/2006/relationships/hyperlink" Target="https://ru.wikipedia.org/wiki/&#1043;&#1086;&#1088;&#1086;&#1076;&#1072;_&#1056;&#1086;&#1089;&#1089;&#1080;&#1080;_&#1087;&#1086;_&#1095;&#1080;&#1089;&#1083;&#1077;&#1085;&#1085;&#1086;&#1089;&#1090;&#1080;_&#1085;&#1072;&#1089;&#1077;&#1083;&#1077;&#1085;&#1080;&#1103;" TargetMode="External"/><Relationship Id="rId12" Type="http://schemas.openxmlformats.org/officeDocument/2006/relationships/hyperlink" Target="https://ru.wikipedia.org/wiki/&#1056;&#1086;&#1089;&#1090;&#1086;&#1074;-&#1085;&#1072;-&#1044;&#1086;&#1085;&#1091;" TargetMode="External"/><Relationship Id="rId13" Type="http://schemas.openxmlformats.org/officeDocument/2006/relationships/hyperlink" Target="https://ru.wikipedia.org/wiki/&#1042;&#1086;&#1083;&#1075;&#1086;&#1075;&#1088;&#1072;&#1076;" TargetMode="Externa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00120" y="928800"/>
            <a:ext cx="6400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entury Schoolbook"/>
              </a:rPr>
              <a:t>ПРИМЕНЕНИЕ СВОЙСТВ ДЕЙСТВИЙ С РАЦИОНАЛЬНЫМИ ЧИСЛАМИ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286160" y="4357800"/>
            <a:ext cx="395784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50021"/>
                </a:solidFill>
                <a:latin typeface="Corbel"/>
              </a:rPr>
              <a:t>6 класс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50021"/>
                </a:solidFill>
                <a:latin typeface="Corbel"/>
              </a:rPr>
              <a:t>20.03.15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1428840" y="285840"/>
            <a:ext cx="6500880" cy="3286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2"/>
          <a:stretch/>
        </p:blipFill>
        <p:spPr>
          <a:xfrm>
            <a:off x="1285920" y="3857760"/>
            <a:ext cx="6791400" cy="137160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5"/>
          <p:cNvSpPr/>
          <p:nvPr/>
        </p:nvSpPr>
        <p:spPr>
          <a:xfrm>
            <a:off x="5857920" y="541332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билисска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4714920" y="0"/>
            <a:ext cx="3076560" cy="124776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5"/>
          <p:cNvSpPr/>
          <p:nvPr/>
        </p:nvSpPr>
        <p:spPr>
          <a:xfrm>
            <a:off x="1000080" y="1357200"/>
            <a:ext cx="5572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ложена на правом берегу Кубани, в 100 км северо-восточнее Краснодара. Высота берега над уровнем моря в районе станицы около 65 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езнодорожная станция Гречишкино Северо-Кавказской железной дороги на однопутной электрифицированной ветке «Краснодар — Кавказская». До 1902 года станция называлась «Розовая», а затем переименована по ходатайству схода казаков в память сотника Андрея Леонтьевича Гречишк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яжённость станицы с запада на восток около 10 километров. Средняя январская температура 2-3 градуса мороза. Морозный период длится не более 80 дней в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000080" y="142920"/>
            <a:ext cx="7929720" cy="1557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"/>
          <p:cNvPicPr/>
          <p:nvPr/>
        </p:nvPicPr>
        <p:blipFill>
          <a:blip r:embed="rId2"/>
          <a:stretch/>
        </p:blipFill>
        <p:spPr>
          <a:xfrm>
            <a:off x="1571760" y="2000160"/>
            <a:ext cx="6296040" cy="1886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"/>
          <p:cNvPicPr/>
          <p:nvPr/>
        </p:nvPicPr>
        <p:blipFill>
          <a:blip r:embed="rId3"/>
          <a:stretch/>
        </p:blipFill>
        <p:spPr>
          <a:xfrm>
            <a:off x="1500120" y="4000680"/>
            <a:ext cx="65246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785880" y="0"/>
            <a:ext cx="7581960" cy="2476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1071720" y="2500200"/>
            <a:ext cx="4238640" cy="25740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5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578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ктябрьское поселение (Крыловской район)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1143000" y="1857240"/>
            <a:ext cx="7843680" cy="19623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2"/>
          <a:stretch/>
        </p:blipFill>
        <p:spPr>
          <a:xfrm>
            <a:off x="3071880" y="4143240"/>
            <a:ext cx="3162240" cy="23050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3"/>
          <a:stretch/>
        </p:blipFill>
        <p:spPr>
          <a:xfrm>
            <a:off x="6591240" y="0"/>
            <a:ext cx="25527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1285920" y="357120"/>
            <a:ext cx="7210440" cy="249552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4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  12 ли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омашняя рабо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ставить сообщение и практическое приложение об одном из (городов) районов кр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5760" y="35244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33cc"/>
                </a:solidFill>
                <a:latin typeface="Corbel"/>
              </a:rPr>
              <a:t>Рациональные числ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24000" y="1968120"/>
            <a:ext cx="5153040" cy="29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исла, которые можно представить в виде отношения           -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туральное число, а – цело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4"/>
              <p:cNvSpPr txBox="1"/>
              <p:nvPr/>
            </p:nvSpPr>
            <p:spPr>
              <a:xfrm>
                <a:off x="3132000" y="2997360"/>
                <a:ext cx="936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где 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orbel"/>
              </a:rPr>
              <a:t>Устный счёт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68360" y="1268280"/>
            <a:ext cx="23731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5 + (- 2)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7 + (- 67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78 + 89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34 + (- 76)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17 – (-33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56 – (-4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5,6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(- 10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8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(-0,2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orbel"/>
              </a:rPr>
              <a:t>      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348000" y="1196640"/>
            <a:ext cx="21607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0,5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2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25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(-4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50 : (-2 )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8 : (- 125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7 : (- 2)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35 : 5  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0 : 46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8 : 0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Line 8"/>
          <p:cNvSpPr/>
          <p:nvPr/>
        </p:nvSpPr>
        <p:spPr>
          <a:xfrm>
            <a:off x="2916360" y="1197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войства действий с рациональными числам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Переместительно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сложения; б) умнож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Сочетательно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сложения;  б) умнож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Свойство единиц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Свойство нул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Распределительное свойство умножени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Corbel"/>
              </a:rPr>
              <a:t>Проверь себя</a:t>
            </a:r>
            <a:br>
              <a:rPr sz="3600"/>
            </a:br>
            <a:r>
              <a:rPr b="0" lang="ru-RU" sz="1800" spc="-1" strike="noStrike">
                <a:solidFill>
                  <a:srgbClr val="a50021"/>
                </a:solidFill>
                <a:latin typeface="Corbel"/>
              </a:rPr>
              <a:t>(ответы к тесту)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ариан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а). А;  б). 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Б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ариан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а). Б;  б). 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a50021"/>
                </a:solidFill>
                <a:latin typeface="Corbel"/>
              </a:rPr>
              <a:t>Критерии оцениван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32511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50021"/>
                </a:solidFill>
                <a:latin typeface="Corbel"/>
              </a:rPr>
              <a:t>Поставьте оценку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319640" y="1557360"/>
          <a:ext cx="4824360" cy="4846680"/>
        </p:xfrm>
        <a:graphic>
          <a:graphicData uri="http://schemas.openxmlformats.org/drawingml/2006/table">
            <a:tbl>
              <a:tblPr/>
              <a:tblGrid>
                <a:gridCol w="2736720"/>
                <a:gridCol w="2087640"/>
              </a:tblGrid>
              <a:tr h="484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личество верных ответов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Оцен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отлично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хорошо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удовлетв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Line 20"/>
          <p:cNvSpPr/>
          <p:nvPr/>
        </p:nvSpPr>
        <p:spPr>
          <a:xfrm>
            <a:off x="3708360" y="299736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http://allday.ru/uploads/posts/2009-11/1259438849_ne-003-snegovik.jpg"/>
          <p:cNvPicPr/>
          <p:nvPr/>
        </p:nvPicPr>
        <p:blipFill>
          <a:blip r:embed="rId1"/>
          <a:stretch/>
        </p:blipFill>
        <p:spPr>
          <a:xfrm>
            <a:off x="428760" y="3573360"/>
            <a:ext cx="19555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67 0.00949 C -0.00885 0.01019 -0.00469 0.00903 -0.00139 0.01134 C 0.00035 0.0125 -0.00139 0.0169 5.55556E-007 0.01875 C 0.00139 0.0206 0.00382 0.02037 0.00573 0.0206 C 0.01128 0.02153 0.01701 0.02176 0.02257 0.02245 C 0.0316 0.02685 0.02257 0.02338 0.03819 0.02245 C 0.05417 0.0213 0.06996 0.0213 0.08594 0.0206 C 0.0967 0.01829 0.10399 0.0162 0.11562 0.01505 C 0.12569 0.01944 0.13299 0.00718 0.14236 0.0037 C 0.14549 0.00255 0.14896 0.00255 0.15226 0.00185 C 0.15833 -0.00093 0.16302 -0.00648 0.1691 -0.00949 C 0.19427 -0.04236 0.17361 -0.0206 0.24792 -0.02245 C 0.25868 -0.02593 0.26927 -0.02708 0.28038 -0.02824 C 0.51441 -0.02639 0.43403 -0.03426 0.53958 -0.01875 C 0.54236 -0.01759 0.54514 -0.01597 0.54792 -0.01505 C 0.55156 -0.01389 0.5559 -0.01551 0.5592 -0.01319 C 0.56337 -0.01019 0.56476 -0.00231 0.5691 1.11022E-016 C 0.57153 0.00116 0.57378 0.00255 0.57621 0.0037 C 0.58854 0.0162 0.58281 0.01319 0.59167 0.0169 C 0.59861 0.02315 0.59826 0.03356 0.60712 0.0375 C 0.6092 0.04329 0.61042 0.05093 0.61285 0.05625 C 0.6191 0.06991 0.61198 0.04861 0.6184 0.06574 C 0.62483 0.08264 0.61389 0.0588 0.62257 0.07708 C 0.62656 0.09861 0.62257 0.07523 0.62552 0.12384 C 0.62552 0.12431 0.62708 0.13657 0.6283 0.13866 C 0.63246 0.14606 0.63576 0.14861 0.64097 0.1537 C 0.64288 0.15787 0.64635 0.16065 0.64792 0.16505 C 0.64896 0.16782 0.64844 0.17153 0.64931 0.17454 C 0.65 0.17662 0.65121 0.17824 0.65226 0.18009 C 0.65278 0.18194 0.65278 0.18403 0.65365 0.18565 C 0.65469 0.18796 0.65746 0.18889 0.65781 0.19144 C 0.65955 0.2037 0.65399 0.21366 0.64792 0.2213 C 0.64444 0.23565 0.62934 0.25185 0.62257 0.26088 C 0.62101 0.26296 0.61996 0.2662 0.6184 0.26829 C 0.61354 0.27477 0.6151 0.26898 0.61128 0.27593 C 0.60417 0.28912 0.60833 0.29375 0.59583 0.30023 C 0.57674 0.29907 0.56875 0.29745 0.55226 0.29468 C 0.5375 0.29861 0.53871 0.30972 0.5283 0.31898 C 0.5224 0.33125 0.51753 0.34444 0.5099 0.35463 C 0.50781 0.35741 0.50694 0.36204 0.50434 0.36412 C 0.50226 0.36597 0.49358 0.36852 0.49028 0.36968 C 0.48316 0.37847 0.48924 0.37269 0.47049 0.37153 C 0.45781 0.3706 0.44514 0.37037 0.43246 0.36968 C 0.41701 0.37245 0.40121 0.37431 0.38594 0.37894 C 0.37726 0.38657 0.38698 0.37894 0.37326 0.38449 C 0.37135 0.38519 0.36962 0.38727 0.36771 0.38819 C 0.36545 0.38912 0.36285 0.38912 0.36059 0.39005 C 0.3592 0.39051 0.35781 0.39144 0.35642 0.39213 C 0.3467 0.40486 0.34306 0.40833 0.32969 0.41273 C 0.31371 0.41065 0.29774 0.41134 0.28177 0.40903 C 0.27726 0.40833 0.27344 0.4044 0.2691 0.40324 C 0.2559 0.39282 0.24062 0.38958 0.22552 0.38634 C 0.19722 0.3875 0.18507 0.38657 0.16198 0.39398 C 0.16059 0.39514 0.15955 0.39745 0.15781 0.39769 C 0.1526 0.39838 0.12326 0.38727 0.12118 0.38634 C 0.10781 0.37963 0.09479 0.36968 0.08177 0.36227 C 0.06719 0.35394 0.05156 0.34699 0.03663 0.33958 C 0.02865 0.33148 0.02274 0.32847 0.01285 0.32662 C -0.000869999999999999 0.30833 -0.02517 0.30903 -0.04219 0.30787 C -0.04028 0.29468 -0.03646 0.28171 -0.03646 0.26829 C -0.03646 0.23009 -0.05295 0.29306 -0.03802 0.24583 C -0.03958 0.24144 -0.03993 0.23634 -0.04219 0.23264 C -0.04514 0.22778 -0.05208 0.22662 -0.05625 0.22523 C -0.06267 0.21921 -0.06979 0.21644 -0.07743 0.21389 C -0.09097 0.17639 -0.07743 0.14954 -0.06181 0.12384 C -0.05799 0.11759 -0.05868 0.11366 -0.05347 0.10903 C -0.04983 0.09653 -0.04931 0.09051 -0.04358 0.07894 C -0.04167 0.07523 -0.03646 0.06944 -0.03646 0.06968 C -0.03438 0.06134 -0.03038 0.05486 -0.02813 0.04699 C -0.02639 0.04097 -0.02691 0.03333 -0.02379 0.02824 C -0.02292 0.02662 -0.02101 0.02685 -0.01962 0.02639 C -0.01545 0.02477 0.00712 0.01852 0.0099 0.01134 L 5.55556E-007 1.11022E-016 E">
                                      <p:cBhvr>
                                        <p:cTn id="125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утешествие по Краснодарскому            краю с рациональными числам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Picture 3" descr=""/>
          <p:cNvPicPr/>
          <p:nvPr/>
        </p:nvPicPr>
        <p:blipFill>
          <a:blip r:embed="rId1"/>
          <a:stretch/>
        </p:blipFill>
        <p:spPr>
          <a:xfrm>
            <a:off x="2071800" y="1928880"/>
            <a:ext cx="58388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Corbel"/>
              </a:rPr>
              <a:t>В состав края входят 44 муниципалитета ( районы и города)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434960" y="1447920"/>
          <a:ext cx="7499520" cy="3510000"/>
        </p:xfrm>
        <a:graphic>
          <a:graphicData uri="http://schemas.openxmlformats.org/drawingml/2006/table">
            <a:tbl>
              <a:tblPr/>
              <a:tblGrid>
                <a:gridCol w="2494080"/>
                <a:gridCol w="2505240"/>
                <a:gridCol w="25002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колько территорий края граничат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акая часть территорий края граничат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еспублика Адыге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/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остов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/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тавропольский кр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/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арачаево-Черке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/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бхаз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/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алмык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ерное мо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/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раснодар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5715000" y="142920"/>
            <a:ext cx="3152880" cy="162864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3"/>
          <p:cNvSpPr/>
          <p:nvPr/>
        </p:nvSpPr>
        <p:spPr>
          <a:xfrm>
            <a:off x="1000080" y="1714680"/>
            <a:ext cx="735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нода́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(основан в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2"/>
              </a:rPr>
              <a:t>1793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до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3"/>
              </a:rPr>
              <a:t>1920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катеринода́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статус города получил в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4"/>
              </a:rPr>
              <a:t>1867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 — город на юге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5"/>
              </a:rPr>
              <a:t>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расположенный на правом берегу реки Кубани. Административный центр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6"/>
              </a:rPr>
              <a:t>Краснодарского кр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Крупный экономический и культурный центр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7"/>
              </a:rPr>
              <a:t>Северного Кавка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8"/>
              </a:rPr>
              <a:t>Южного федерального окру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центр историко-географической области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9"/>
              </a:rPr>
              <a:t>Куба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еофициально именуется столицей Кубани, а также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10"/>
              </a:rPr>
              <a:t>южной столицей 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еление города составляет 805 680 чел. (2014) (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11"/>
              </a:rPr>
              <a:t>17-е место в 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(2014). Занимает третье место среди городов Южного федерального округа (после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12"/>
              </a:rPr>
              <a:t>Ростова-на-Дон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13"/>
              </a:rPr>
              <a:t>Волгогра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5:54:09Z</dcterms:created>
  <dc:creator>FoM</dc:creator>
  <dc:description/>
  <dc:language>en-US</dc:language>
  <cp:lastModifiedBy>1</cp:lastModifiedBy>
  <dcterms:modified xsi:type="dcterms:W3CDTF">2017-10-17T10:34:50Z</dcterms:modified>
  <cp:revision>91</cp:revision>
  <dc:subject/>
  <dc:title>СВОЙСТВА ДЕЙСТВИЙ С РАЦИОНАЛЬНЫМИ ЧИСЛАМИ</dc:title>
</cp:coreProperties>
</file>