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AFE-4868-49F7-B590-357354FF8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1468-AC7A-48EF-8081-C669B3DC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5250-DD7A-47D1-84EA-5B345820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C714-6261-45C5-B77E-62BB9290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1E13-686B-49D2-9D05-B75E0078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F171-B02A-4857-85B4-CF20C3BA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B7A1-E346-4334-A900-4507ABC8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ECE8-ECB5-4F8B-B4B7-D3902FA7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4EFA-F26D-4243-B2B1-FBA8798B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8A60-265F-4BA2-8A04-6D5A99A7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2D72-9F82-486D-ADC7-52C1CD01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299-7895-43C0-86BB-6D29973A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D4ADC-3D61-4612-979D-A19C3B6D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8B9F-8811-4959-AFF7-6A7E006BA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50A5-94AA-46E4-BEBC-4FEC39C4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74F4-D911-4AB4-B30D-307CBB33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B6E79-6974-4B38-B459-988B6C3C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3F2F7-8FD7-4906-AE38-2837C761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402E5-33CB-4298-9350-F0E02078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E2D9-A058-4F88-B729-D58DECF2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2950B-37AC-447E-AD29-681FF4B5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B616C-1434-414D-BBDD-F626238A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ABBC-0810-4343-802F-49AAB30E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949F-0CB7-425B-B353-7A901389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AF3A5-2C0C-4283-A9C2-8D0D1682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A6388-1CFD-4063-8FB0-8BB4B40B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BD503-AA2A-45BD-8F5C-26624B26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68FC7-0BF5-409C-B38D-E6B3B7FC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7978-B784-460F-97DF-AC67D8A4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6E8AF-44FA-4FAF-90BA-23EA9446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1FFFA-6762-4BDE-ACDE-4A93EEA5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EB56A-1A8F-4E7E-97E4-F53F8B2F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C8801-5D95-4A63-A436-08397E6A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37C-630E-4CAB-A9DE-CA9BE2AD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A2309-D1AA-4D1A-83AA-21F07E55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84CF4-03F0-4E69-9EF8-DFF2EF0D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9B18A-AA17-46A5-9B07-9285085B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32C99-54FD-4776-892D-8E438670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45371-7509-4960-BC9C-2430640B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D87E7-627C-4049-96D5-C2A6B54A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9E195-7DD2-4AA3-9228-D49967ED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0C42E-33F7-4F1A-A564-EFE31B98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FEBDD-CCBD-48FD-9F80-2F67EAC1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86260-45DB-4DF9-8F75-414D254D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668-6F2E-48E1-8A6B-0224BC0C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994BD-B1F2-4227-A9A9-BB5B8FC5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426A6-E7D8-406E-A6B4-DB9D9BBB9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C5291-AC2E-40A3-82EC-2F08FAFE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D001B9-13D1-43EE-8D98-95C05A71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9CFA5-3325-4DD5-A403-DA575951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D9309-0E4C-4CE0-86D8-F810A0C1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132AF-755A-4150-AF25-2138CD03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0748A-8DF1-40EF-94A8-34A558F7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E8E23-1E12-4248-BB74-8B11D59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6D8B8-AB12-4980-9FB9-CC423AE9C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F450-82A3-48B6-97A3-E50908E1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6C6AC-4E99-4CC2-8A0F-F369612D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52998-2BC4-4777-8CB6-094BC05A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774F8-ED32-4A77-BB52-2120174F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56124-3642-473D-907C-27B3AFEA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CB0C1-2633-4CBE-A121-9F6E86BC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F728-6448-4E97-BB50-B0A14C26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BB167-A846-4036-893F-532AAE73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2D270-F962-4D2E-9FFE-4979196E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F1F80-5C54-4479-8CB5-6A3B295C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5B2D4-A49E-48C2-B192-48A2603B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FE4D-4330-43BF-9387-6B816513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55F6A-E8DE-4E42-AD2A-DB15CF9A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9C253-F56B-43CF-B687-93CC9D687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0025B-76F2-42D5-915F-29802B9B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B4036-8216-4D76-9A88-8369918E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88819-7EF8-4D2E-A414-01A6B866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B32F6-EB07-4D7E-88C9-9B6473AC5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C4B14-F23C-49A3-B434-BF89A21BC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853A3-6AEE-4BF4-B19B-01AA252C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ECC05-B30A-4DEF-8102-34D76556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5F5D7-C201-4C61-84F2-856EE788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D9D-E996-498E-B562-D519367B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15E01-E7AB-4BEA-BFDF-CD4C9C60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3AFCA-AEFA-4C51-8D29-94179F24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458910-628F-4435-8D1F-CE8212CE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98967-EE10-4DFB-AB05-481A4C06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98532-9ACE-4D02-A755-A5BED850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E91-AC74-46BA-9320-BFCD6D52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FAD6-1BAD-45B9-B111-020B5CCDF4C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B929-0141-4C44-8695-4E4CCE74361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15C8-B261-48E3-9D4D-E9A2FC79CB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6F20-330D-4C84-8976-443F136537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2D797-5F3A-47B7-8548-F1C19029AF2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E1E0-1E27-416A-8D15-30E4D40804F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0462-FE67-472F-9053-617C8B1355A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ru.wikipedia.org/wiki/1793_&#1075;&#1086;&#1076;" TargetMode="External"/><Relationship Id="rId3" Type="http://schemas.openxmlformats.org/officeDocument/2006/relationships/hyperlink" Target="https://ru.wikipedia.org/wiki/1920_&#1075;&#1086;&#1076;" TargetMode="External"/><Relationship Id="rId4" Type="http://schemas.openxmlformats.org/officeDocument/2006/relationships/hyperlink" Target="https://ru.wikipedia.org/wiki/1867_&#1075;&#1086;&#1076;" TargetMode="External"/><Relationship Id="rId5" Type="http://schemas.openxmlformats.org/officeDocument/2006/relationships/hyperlink" Target="https://ru.wikipedia.org/wiki/&#1056;&#1086;&#1089;&#1089;&#1080;&#1103;" TargetMode="External"/><Relationship Id="rId6" Type="http://schemas.openxmlformats.org/officeDocument/2006/relationships/hyperlink" Target="https://ru.wikipedia.org/wiki/&#1050;&#1088;&#1072;&#1089;&#1085;&#1086;&#1076;&#1072;&#1088;&#1089;&#1082;&#1080;&#1081;_&#1082;&#1088;&#1072;&#1081;" TargetMode="External"/><Relationship Id="rId7" Type="http://schemas.openxmlformats.org/officeDocument/2006/relationships/hyperlink" Target="https://ru.wikipedia.org/wiki/&#1057;&#1077;&#1074;&#1077;&#1088;&#1085;&#1099;&#1081;_&#1050;&#1072;&#1074;&#1082;&#1072;&#1079;" TargetMode="External"/><Relationship Id="rId8" Type="http://schemas.openxmlformats.org/officeDocument/2006/relationships/hyperlink" Target="https://ru.wikipedia.org/wiki/&#1070;&#1078;&#1085;&#1099;&#1081;_&#1092;&#1077;&#1076;&#1077;&#1088;&#1072;&#1083;&#1100;&#1085;&#1099;&#1081;_&#1086;&#1082;&#1088;&#1091;&#1075;" TargetMode="External"/><Relationship Id="rId9" Type="http://schemas.openxmlformats.org/officeDocument/2006/relationships/hyperlink" Target="https://ru.wikipedia.org/wiki/&#1050;&#1091;&#1073;&#1072;&#1085;&#1100;_(&#1088;&#1077;&#1075;&#1080;&#1086;&#1085;)" TargetMode="External"/><Relationship Id="rId10" Type="http://schemas.openxmlformats.org/officeDocument/2006/relationships/hyperlink" Target="https://ru.wikipedia.org/wiki/&#1057;&#1090;&#1086;&#1083;&#1080;&#1094;&#1099;_&#1056;&#1086;&#1089;&#1089;&#1080;&#1080;#.D0.9F.D1.80.D0.BE.D1.87.D0.B8.D0.B5_.D0.BD.D0.B5.D1.84.D0.BE.D1.80.D0.BC.D0.B0.D0.BB.D1.8C.D0.BD.D1.8B.D0.B5_.C2.AB.D1.81.D1.82.D0.BE.D0.BB.D0.B8.D1.86.D1.8B.C2.BB" TargetMode="External"/><Relationship Id="rId11" Type="http://schemas.openxmlformats.org/officeDocument/2006/relationships/hyperlink" Target="https://ru.wikipedia.org/wiki/&#1043;&#1086;&#1088;&#1086;&#1076;&#1072;_&#1056;&#1086;&#1089;&#1089;&#1080;&#1080;_&#1087;&#1086;_&#1095;&#1080;&#1089;&#1083;&#1077;&#1085;&#1085;&#1086;&#1089;&#1090;&#1080;_&#1085;&#1072;&#1089;&#1077;&#1083;&#1077;&#1085;&#1080;&#1103;" TargetMode="External"/><Relationship Id="rId12" Type="http://schemas.openxmlformats.org/officeDocument/2006/relationships/hyperlink" Target="https://ru.wikipedia.org/wiki/&#1056;&#1086;&#1089;&#1090;&#1086;&#1074;-&#1085;&#1072;-&#1044;&#1086;&#1085;&#1091;" TargetMode="External"/><Relationship Id="rId13" Type="http://schemas.openxmlformats.org/officeDocument/2006/relationships/hyperlink" Target="https://ru.wikipedia.org/wiki/&#1042;&#1086;&#1083;&#1075;&#1086;&#1075;&#1088;&#1072;&#1076;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00120" y="92880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ПРИМЕНЕНИЕ СВОЙСТВ ДЕЙСТВИЙ С РАЦИОНАЛЬНЫМИ ЧИСЛАМ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86160" y="4357800"/>
            <a:ext cx="39578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Corbel"/>
              </a:rPr>
              <a:t>6 класс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Corbel"/>
              </a:rPr>
              <a:t>20.03.15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428840" y="285840"/>
            <a:ext cx="6500880" cy="32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1285920" y="3857760"/>
            <a:ext cx="6791400" cy="137160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5"/>
          <p:cNvSpPr/>
          <p:nvPr/>
        </p:nvSpPr>
        <p:spPr>
          <a:xfrm>
            <a:off x="5857920" y="54133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билисска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714920" y="0"/>
            <a:ext cx="3076560" cy="124776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5"/>
          <p:cNvSpPr/>
          <p:nvPr/>
        </p:nvSpPr>
        <p:spPr>
          <a:xfrm>
            <a:off x="1000080" y="1357200"/>
            <a:ext cx="5572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а на правом берегу Кубани, в 100 км северо-восточнее Краснодара. Высота берега над уровнем моря в районе станицы около 65 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нодорожная станция Гречишкино Северо-Кавказской железной дороги на однопутной электрифицированной ветке «Краснодар — Кавказская». До 1902 года станция называлась «Розовая», а затем переименована по ходатайству схода казаков в память сотника Андрея Леонтьевича Гречи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яжённость станицы с запада на восток около 10 километров. Средняя январская температура 2-3 градуса мороза. Морозный период длится не более 80 дней в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000080" y="142920"/>
            <a:ext cx="7929720" cy="1557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1571760" y="2000160"/>
            <a:ext cx="6296040" cy="1886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3"/>
          <a:stretch/>
        </p:blipFill>
        <p:spPr>
          <a:xfrm>
            <a:off x="1500120" y="4000680"/>
            <a:ext cx="6524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785880" y="0"/>
            <a:ext cx="7581960" cy="247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1071720" y="2500200"/>
            <a:ext cx="4238640" cy="2574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5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ктябрьское поселение (Крыловской район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143000" y="1857240"/>
            <a:ext cx="7843680" cy="1962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162240" cy="2305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3"/>
          <a:stretch/>
        </p:blipFill>
        <p:spPr>
          <a:xfrm>
            <a:off x="6591240" y="0"/>
            <a:ext cx="25527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1285920" y="357120"/>
            <a:ext cx="7210440" cy="249552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4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 12 ли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яя рабо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ть сообщение и практическое приложение об одном из (городов) районов кр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760" y="3524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33cc"/>
                </a:solidFill>
                <a:latin typeface="Corbel"/>
              </a:rPr>
              <a:t>Рациональные чис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24000" y="1968120"/>
            <a:ext cx="515304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а, которые можно представить в виде отношения           -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туральное число, а – цел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3132000" y="2997360"/>
                <a:ext cx="93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где 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rbel"/>
              </a:rPr>
              <a:t>Устный счё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8360" y="1268280"/>
            <a:ext cx="23731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 + (- 2)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7 + (- 67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78 + 8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34 + (- 76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17 – (-33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56 – (-4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,6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 10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0,2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348000" y="1196640"/>
            <a:ext cx="2160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0,5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2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25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4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0 : (-2 )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: (- 125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7 : (- 2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35 : 5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0 : 46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: 0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2916360" y="1197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войства действий с рациональными числ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ереместитель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сложения; б) умно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очетатель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сложения;  б) умно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Свойство едини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Свойство ну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Распределительное свойство умноже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Corbel"/>
              </a:rPr>
              <a:t>Проверь себя</a:t>
            </a:r>
            <a:br>
              <a:rPr sz="3600"/>
            </a:br>
            <a:r>
              <a:rPr b="0" lang="ru-RU" sz="1800" spc="-1" strike="noStrike">
                <a:solidFill>
                  <a:srgbClr val="a50021"/>
                </a:solidFill>
                <a:latin typeface="Corbel"/>
              </a:rPr>
              <a:t>(ответы к тесту)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). А;  б). 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). Б;  б). 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a50021"/>
                </a:solidFill>
                <a:latin typeface="Corbel"/>
              </a:rPr>
              <a:t>Критерии оценива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3251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50021"/>
                </a:solidFill>
                <a:latin typeface="Corbel"/>
              </a:rPr>
              <a:t>Поставьте оценку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319640" y="1557360"/>
          <a:ext cx="4824360" cy="4846680"/>
        </p:xfrm>
        <a:graphic>
          <a:graphicData uri="http://schemas.openxmlformats.org/drawingml/2006/table">
            <a:tbl>
              <a:tblPr/>
              <a:tblGrid>
                <a:gridCol w="2736720"/>
                <a:gridCol w="208764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личество верных ответов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цен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тличн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орош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довлетв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Line 20"/>
          <p:cNvSpPr/>
          <p:nvPr/>
        </p:nvSpPr>
        <p:spPr>
          <a:xfrm>
            <a:off x="3708360" y="29973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http://allday.ru/uploads/posts/2009-11/1259438849_ne-003-snegovik.jpg"/>
          <p:cNvPicPr/>
          <p:nvPr/>
        </p:nvPicPr>
        <p:blipFill>
          <a:blip r:embed="rId1"/>
          <a:stretch/>
        </p:blipFill>
        <p:spPr>
          <a:xfrm>
            <a:off x="428760" y="3573360"/>
            <a:ext cx="19555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0.00949 C -0.00885 0.01019 -0.00469 0.00903 -0.00139 0.01134 C 0.00035 0.0125 -0.00139 0.0169 5.55556E-007 0.01875 C 0.00139 0.0206 0.00382 0.02037 0.00573 0.0206 C 0.01128 0.02153 0.01701 0.02176 0.02257 0.02245 C 0.0316 0.02685 0.02257 0.02338 0.03819 0.02245 C 0.05417 0.0213 0.06996 0.0213 0.08594 0.0206 C 0.0967 0.01829 0.10399 0.0162 0.11562 0.01505 C 0.12569 0.01944 0.13299 0.00718 0.14236 0.0037 C 0.14549 0.00255 0.14896 0.00255 0.15226 0.00185 C 0.15833 -0.00093 0.16302 -0.00648 0.1691 -0.00949 C 0.19427 -0.04236 0.17361 -0.0206 0.24792 -0.02245 C 0.25868 -0.02593 0.26927 -0.02708 0.28038 -0.02824 C 0.51441 -0.02639 0.43403 -0.03426 0.53958 -0.01875 C 0.54236 -0.01759 0.54514 -0.01597 0.54792 -0.01505 C 0.55156 -0.01389 0.5559 -0.01551 0.5592 -0.01319 C 0.56337 -0.01019 0.56476 -0.00231 0.5691 1.11022E-016 C 0.57153 0.00116 0.57378 0.00255 0.57621 0.0037 C 0.58854 0.0162 0.58281 0.01319 0.59167 0.0169 C 0.59861 0.02315 0.59826 0.03356 0.60712 0.0375 C 0.6092 0.04329 0.61042 0.05093 0.61285 0.05625 C 0.6191 0.06991 0.61198 0.04861 0.6184 0.06574 C 0.62483 0.08264 0.61389 0.0588 0.62257 0.07708 C 0.62656 0.09861 0.62257 0.07523 0.62552 0.12384 C 0.62552 0.12431 0.62708 0.13657 0.6283 0.13866 C 0.63246 0.14606 0.63576 0.14861 0.64097 0.1537 C 0.64288 0.15787 0.64635 0.16065 0.64792 0.16505 C 0.64896 0.16782 0.64844 0.17153 0.64931 0.17454 C 0.65 0.17662 0.65121 0.17824 0.65226 0.18009 C 0.65278 0.18194 0.65278 0.18403 0.65365 0.18565 C 0.65469 0.18796 0.65746 0.18889 0.65781 0.19144 C 0.65955 0.2037 0.65399 0.21366 0.64792 0.2213 C 0.64444 0.23565 0.62934 0.25185 0.62257 0.26088 C 0.62101 0.26296 0.61996 0.2662 0.6184 0.26829 C 0.61354 0.27477 0.6151 0.26898 0.61128 0.27593 C 0.60417 0.28912 0.60833 0.29375 0.59583 0.30023 C 0.57674 0.29907 0.56875 0.29745 0.55226 0.29468 C 0.5375 0.29861 0.53871 0.30972 0.5283 0.31898 C 0.5224 0.33125 0.51753 0.34444 0.5099 0.35463 C 0.50781 0.35741 0.50694 0.36204 0.50434 0.36412 C 0.50226 0.36597 0.49358 0.36852 0.49028 0.36968 C 0.48316 0.37847 0.48924 0.37269 0.47049 0.37153 C 0.45781 0.3706 0.44514 0.37037 0.43246 0.36968 C 0.41701 0.37245 0.40121 0.37431 0.38594 0.37894 C 0.37726 0.38657 0.38698 0.37894 0.37326 0.38449 C 0.37135 0.38519 0.36962 0.38727 0.36771 0.38819 C 0.36545 0.38912 0.36285 0.38912 0.36059 0.39005 C 0.3592 0.39051 0.35781 0.39144 0.35642 0.39213 C 0.3467 0.40486 0.34306 0.40833 0.32969 0.41273 C 0.31371 0.41065 0.29774 0.41134 0.28177 0.40903 C 0.27726 0.40833 0.27344 0.4044 0.2691 0.40324 C 0.2559 0.39282 0.24062 0.38958 0.22552 0.38634 C 0.19722 0.3875 0.18507 0.38657 0.16198 0.39398 C 0.16059 0.39514 0.15955 0.39745 0.15781 0.39769 C 0.1526 0.39838 0.12326 0.38727 0.12118 0.38634 C 0.10781 0.37963 0.09479 0.36968 0.08177 0.36227 C 0.06719 0.35394 0.05156 0.34699 0.03663 0.33958 C 0.02865 0.33148 0.02274 0.32847 0.01285 0.32662 C -0.000869999999999999 0.30833 -0.02517 0.30903 -0.04219 0.30787 C -0.04028 0.29468 -0.03646 0.28171 -0.03646 0.26829 C -0.03646 0.23009 -0.05295 0.29306 -0.03802 0.24583 C -0.03958 0.24144 -0.03993 0.23634 -0.04219 0.23264 C -0.04514 0.22778 -0.05208 0.22662 -0.05625 0.22523 C -0.06267 0.21921 -0.06979 0.21644 -0.07743 0.21389 C -0.09097 0.17639 -0.07743 0.14954 -0.06181 0.12384 C -0.05799 0.11759 -0.05868 0.11366 -0.05347 0.10903 C -0.04983 0.09653 -0.04931 0.09051 -0.04358 0.07894 C -0.04167 0.07523 -0.03646 0.06944 -0.03646 0.06968 C -0.03438 0.06134 -0.03038 0.05486 -0.02813 0.04699 C -0.02639 0.04097 -0.02691 0.03333 -0.02379 0.02824 C -0.02292 0.02662 -0.02101 0.02685 -0.01962 0.02639 C -0.01545 0.02477 0.00712 0.01852 0.0099 0.01134 L 5.55556E-007 1.11022E-016 E">
                                      <p:cBhvr>
                                        <p:cTn id="125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утешествие по Краснодарскому            краю с рациональными числ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071800" y="1928880"/>
            <a:ext cx="58388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В состав края входят 44 муниципалитета ( районы и города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434960" y="1447920"/>
          <a:ext cx="7499520" cy="3510000"/>
        </p:xfrm>
        <a:graphic>
          <a:graphicData uri="http://schemas.openxmlformats.org/drawingml/2006/table">
            <a:tbl>
              <a:tblPr/>
              <a:tblGrid>
                <a:gridCol w="2494080"/>
                <a:gridCol w="2505240"/>
                <a:gridCol w="25002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колько территорий края граничат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акая часть территорий края граничат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спублика Адыг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ст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аврополь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рачаево-Черке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бх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лмык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рное м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аснода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5715000" y="142920"/>
            <a:ext cx="3152880" cy="162864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3"/>
          <p:cNvSpPr/>
          <p:nvPr/>
        </p:nvSpPr>
        <p:spPr>
          <a:xfrm>
            <a:off x="1000080" y="171468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основан в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179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до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1920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ода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статус города получил в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4"/>
              </a:rPr>
              <a:t>1867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город на юг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5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сположенный на правом берегу реки Кубани. Административный центр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6"/>
              </a:rPr>
              <a:t>Краснодар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рупный экономический и культурный центр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7"/>
              </a:rPr>
              <a:t>Северного Кавк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8"/>
              </a:rPr>
              <a:t>Южного федерального окру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центр историко-географической област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9"/>
              </a:rPr>
              <a:t>Куба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официально именуется столицей Кубани, а такж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0"/>
              </a:rPr>
              <a:t>южной столицей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е города составляет 805 680 чел. (2014) (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1"/>
              </a:rPr>
              <a:t>17-е место 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(2014). Занимает третье место среди городов Южного федерального округа (посл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2"/>
              </a:rPr>
              <a:t>Ростова-на-Д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3"/>
              </a:rPr>
              <a:t>Волгогра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5:54:09Z</dcterms:created>
  <dc:creator>FoM</dc:creator>
  <dc:description/>
  <dc:language>en-US</dc:language>
  <cp:lastModifiedBy>1</cp:lastModifiedBy>
  <dcterms:modified xsi:type="dcterms:W3CDTF">2017-10-17T10:34:50Z</dcterms:modified>
  <cp:revision>91</cp:revision>
  <dc:subject/>
  <dc:title>СВОЙСТВА ДЕЙСТВИЙ С РАЦИОНАЛЬНЫМИ ЧИСЛАМИ</dc:title>
</cp:coreProperties>
</file>