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7.jpeg" ContentType="image/jpeg"/>
  <Override PartName="/ppt/media/image52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6.jpeg" ContentType="image/jpeg"/>
  <Override PartName="/ppt/media/image20.wmf" ContentType="image/x-wmf"/>
  <Override PartName="/ppt/media/image32.jpeg" ContentType="image/jpeg"/>
  <Override PartName="/ppt/media/image19.jpeg" ContentType="image/jpeg"/>
  <Override PartName="/ppt/media/image4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.png" ContentType="image/png"/>
  <Override PartName="/ppt/media/image15.png" ContentType="image/png"/>
  <Override PartName="/ppt/media/image3.jpeg" ContentType="image/jpeg"/>
  <Override PartName="/ppt/media/image37.jpeg" ContentType="image/jpeg"/>
  <Override PartName="/ppt/media/image25.wmf" ContentType="image/x-wmf"/>
  <Override PartName="/ppt/media/image2.jpeg" ContentType="image/jpeg"/>
  <Override PartName="/ppt/media/image36.jpeg" ContentType="image/jpeg"/>
  <Override PartName="/ppt/media/image4.png" ContentType="image/png"/>
  <Override PartName="/ppt/media/image12.jpeg" ContentType="image/jpeg"/>
  <Override PartName="/ppt/media/image50.wmf" ContentType="image/x-wmf"/>
  <Override PartName="/ppt/media/image35.jpeg" ContentType="image/jpeg"/>
  <Override PartName="/ppt/media/image29.jpeg" ContentType="image/jpeg"/>
  <Override PartName="/ppt/media/image41.jpeg" ContentType="image/jpeg"/>
  <Override PartName="/ppt/media/image8.jpeg" ContentType="image/jpeg"/>
  <Override PartName="/ppt/media/image39.jpeg" ContentType="image/jpeg"/>
  <Override PartName="/ppt/media/image44.jpeg" ContentType="image/jpeg"/>
  <Override PartName="/ppt/media/image40.jpeg" ContentType="image/jpeg"/>
  <Override PartName="/ppt/media/image45.wmf" ContentType="image/x-wmf"/>
  <Override PartName="/ppt/media/image47.wmf" ContentType="image/x-wmf"/>
  <Override PartName="/ppt/media/image31.jpeg" ContentType="image/jpeg"/>
  <Override PartName="/ppt/media/image34.wmf" ContentType="image/x-wmf"/>
  <Override PartName="/ppt/media/image46.wmf" ContentType="image/x-wmf"/>
  <Override PartName="/ppt/media/image33.jpeg" ContentType="image/jpeg"/>
  <Override PartName="/ppt/media/image49.wmf" ContentType="image/x-wmf"/>
  <Override PartName="/ppt/media/image6.png" ContentType="image/png"/>
  <Override PartName="/ppt/media/image53.png" ContentType="image/png"/>
  <Override PartName="/ppt/media/image30.jpeg" ContentType="image/jpeg"/>
  <Override PartName="/ppt/media/image13.png" ContentType="image/png"/>
  <Override PartName="/ppt/media/image11.jpeg" ContentType="image/jpeg"/>
  <Override PartName="/ppt/media/image51.wmf" ContentType="image/x-wmf"/>
  <Override PartName="/ppt/media/image48.png" ContentType="image/png"/>
  <Override PartName="/ppt/media/image9.jpeg" ContentType="image/jpeg"/>
  <Override PartName="/ppt/media/image5.png" ContentType="image/png"/>
  <Override PartName="/ppt/media/image43.jpeg" ContentType="image/jpeg"/>
  <Override PartName="/ppt/media/image38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  <p:sldId id="313" r:id="rId65"/>
    <p:sldId id="314" r:id="rId66"/>
    <p:sldId id="315" r:id="rId67"/>
    <p:sldId id="316" r:id="rId68"/>
    <p:sldId id="317" r:id="rId69"/>
    <p:sldId id="318" r:id="rId70"/>
    <p:sldId id="319" r:id="rId71"/>
    <p:sldId id="320" r:id="rId72"/>
    <p:sldId id="321" r:id="rId73"/>
    <p:sldId id="322" r:id="rId74"/>
    <p:sldId id="323" r:id="rId75"/>
    <p:sldId id="324" r:id="rId76"/>
    <p:sldId id="325" r:id="rId77"/>
    <p:sldId id="326" r:id="rId78"/>
    <p:sldId id="327" r:id="rId79"/>
    <p:sldId id="328" r:id="rId80"/>
    <p:sldId id="329" r:id="rId81"/>
    <p:sldId id="330" r:id="rId82"/>
    <p:sldId id="331" r:id="rId83"/>
    <p:sldId id="332" r:id="rId84"/>
    <p:sldId id="333" r:id="rId85"/>
    <p:sldId id="334" r:id="rId86"/>
    <p:sldId id="335" r:id="rId87"/>
    <p:sldId id="336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slide" Target="slides/slide58.xml"/><Relationship Id="rId66" Type="http://schemas.openxmlformats.org/officeDocument/2006/relationships/slide" Target="slides/slide59.xml"/><Relationship Id="rId67" Type="http://schemas.openxmlformats.org/officeDocument/2006/relationships/slide" Target="slides/slide60.xml"/><Relationship Id="rId68" Type="http://schemas.openxmlformats.org/officeDocument/2006/relationships/slide" Target="slides/slide61.xml"/><Relationship Id="rId69" Type="http://schemas.openxmlformats.org/officeDocument/2006/relationships/slide" Target="slides/slide62.xml"/><Relationship Id="rId70" Type="http://schemas.openxmlformats.org/officeDocument/2006/relationships/slide" Target="slides/slide63.xml"/><Relationship Id="rId71" Type="http://schemas.openxmlformats.org/officeDocument/2006/relationships/slide" Target="slides/slide64.xml"/><Relationship Id="rId72" Type="http://schemas.openxmlformats.org/officeDocument/2006/relationships/slide" Target="slides/slide65.xml"/><Relationship Id="rId73" Type="http://schemas.openxmlformats.org/officeDocument/2006/relationships/slide" Target="slides/slide66.xml"/><Relationship Id="rId74" Type="http://schemas.openxmlformats.org/officeDocument/2006/relationships/slide" Target="slides/slide67.xml"/><Relationship Id="rId75" Type="http://schemas.openxmlformats.org/officeDocument/2006/relationships/slide" Target="slides/slide68.xml"/><Relationship Id="rId76" Type="http://schemas.openxmlformats.org/officeDocument/2006/relationships/slide" Target="slides/slide69.xml"/><Relationship Id="rId77" Type="http://schemas.openxmlformats.org/officeDocument/2006/relationships/slide" Target="slides/slide70.xml"/><Relationship Id="rId78" Type="http://schemas.openxmlformats.org/officeDocument/2006/relationships/slide" Target="slides/slide71.xml"/><Relationship Id="rId79" Type="http://schemas.openxmlformats.org/officeDocument/2006/relationships/slide" Target="slides/slide72.xml"/><Relationship Id="rId80" Type="http://schemas.openxmlformats.org/officeDocument/2006/relationships/slide" Target="slides/slide73.xml"/><Relationship Id="rId81" Type="http://schemas.openxmlformats.org/officeDocument/2006/relationships/slide" Target="slides/slide74.xml"/><Relationship Id="rId82" Type="http://schemas.openxmlformats.org/officeDocument/2006/relationships/slide" Target="slides/slide75.xml"/><Relationship Id="rId83" Type="http://schemas.openxmlformats.org/officeDocument/2006/relationships/slide" Target="slides/slide76.xml"/><Relationship Id="rId84" Type="http://schemas.openxmlformats.org/officeDocument/2006/relationships/slide" Target="slides/slide77.xml"/><Relationship Id="rId85" Type="http://schemas.openxmlformats.org/officeDocument/2006/relationships/slide" Target="slides/slide78.xml"/><Relationship Id="rId86" Type="http://schemas.openxmlformats.org/officeDocument/2006/relationships/slide" Target="slides/slide79.xml"/><Relationship Id="rId87" Type="http://schemas.openxmlformats.org/officeDocument/2006/relationships/slide" Target="slides/slide80.xml"/><Relationship Id="rId88" Type="http://schemas.openxmlformats.org/officeDocument/2006/relationships/slide" Target="slides/slide81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A353-219F-42C1-AACE-BCFFCE07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8BB9-2CA8-4E43-8131-F8A20C88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6E17-86E8-41F6-B0E2-3A25EB09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CAA2-571A-455E-B636-4E6442A3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F9265-E747-4243-BC1A-02299161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B65D-62CC-48BA-A242-4195E534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7136-5EFE-4FAE-BA4F-68A0022A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D9F9-A495-4709-A027-2F9DC657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8EF6-C742-4628-A4B4-53EC5150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B5DA-2B53-466D-90BE-9743287A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D294-1917-4397-84A9-7DC80386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A9B7-E4E8-45C8-B4A4-10E45C92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1422-1160-4831-A95C-9A6D562C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46B3-30AA-481A-A935-C06EAADB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7A26-344D-4DA1-A619-24F9649B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85B3-1583-4CD0-A015-FA4D5F4F4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E091-286F-4F62-91BD-B489465B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0509F-E2FB-4183-A9F7-F2ED0691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CAFE0-9710-40A6-B5A4-8B7223CD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F62F5-F850-4049-AEB2-FC33546F2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76EEB-878E-498F-85B6-1F510AB8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594BF-F2E2-4A0D-B383-237A0807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C128-D8BA-44D7-8E14-49A5A09E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6E9E8-D5CC-43F3-87E2-4AFBA5A3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0A2A4-E7D9-4D03-ABD8-8DD530B0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AFDE7-CB90-4E31-886E-EEC87064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3DCE8-1486-4C05-A9E0-3AEAD9B4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99D9F-CBE4-493A-80B0-A443022F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89E4E-AD22-4154-96BC-520600E32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7A340-097B-47A8-9CD7-16181725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CFB56-E89E-4A97-964D-F3C12BBF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D135F-96F7-496E-931E-F1F78E22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948C7-026F-4D90-B6C6-4803431C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186D-1A71-4469-AE6B-E88BF841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38C34-5287-48F7-89D7-786330AE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07730-7995-4A80-B472-6C1406130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8B87A-2B91-4F61-BB41-17E6843B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91C82-9EFA-49CC-926D-4BAC1716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31FC9-968A-4D1A-99E1-774B204C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17B5A-EFDF-4574-B36F-B36670C2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52A38-DB57-4828-8B69-D3A079F8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A5313-F651-494D-9111-8F720488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7AA57-6A1E-4E4E-A972-03394663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3CD7F-AAE0-4EC5-B589-788776E9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03BA-8B5D-498E-B86E-12472580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34196-08DA-4FE1-BD98-0F52164B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687E99-C195-4025-A85F-5BA29E37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73536-C80F-4338-ABDE-8A27EDE6B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AD6DB-DA59-4CA7-8A2C-0315EC93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ACB0D-CC01-4E2A-A5B2-20A971CB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DC5C9-4D18-4CBF-B328-966EFC3A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266C6-781E-40FE-9BCA-79C5FD1A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963CB-A5B5-466E-9F9E-5C26720E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0EBCC-F1E6-4A83-8718-90EBCB22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C0230-6582-4F4E-A8D9-04D8816A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9A76-0138-4E94-971C-1BBA78F6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14470-ADC4-4223-9C3E-614972CC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7E25B-14D4-464A-BC2E-DC492214C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EEBDE-6555-4190-B759-EC2368F8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F7ECE-B126-4214-AB2F-CE72D00D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746DD-3D3D-4543-8F2F-1A892D33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EB19F-5E08-4EF6-A82D-892BBA6DD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C680A-A21C-4CE3-95E7-5D254E71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306F0-F4BD-49D6-A315-CFC31422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3D750-F628-4F5F-8DDF-B200257E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C87E2-83D4-4233-8BA7-9EF5FCB2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855-7DA3-4A88-A248-D23FA84D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40BC8-ECF4-46CE-ACC6-0C408950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4248D-7627-4A4E-BDCE-CE65E718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070E7-FB98-445D-992A-DF60E692A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EF39-FB30-4309-8BC0-BFC31156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C2D-193B-4AE6-A756-4418131C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3F2A-8057-4AC0-9CCB-6F8B419964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EEA9-6F20-4FB2-9450-330F15F49D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5148-AE32-4EB9-8258-17B9C064E1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2C31-C228-4035-A817-26FF85DE6A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A4F2-950F-4A78-BD69-CF43C222BE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5AE5-15D0-42D6-BDF2-81D1B85B3E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lectricalschool.info/main/osnovy/568-jelektricheskaja-cep-i-ee-jelementy.html" TargetMode="External"/><Relationship Id="rId2" Type="http://schemas.openxmlformats.org/officeDocument/2006/relationships/hyperlink" Target="http://electricalschool.info/spravochnik/electroteh/497-nelinejjnye-jelektricheskie-cepi.html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4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19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6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9680" y="785880"/>
            <a:ext cx="83883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нкт-Петербургско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осударственное бюджетное профессионально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овательное учрежден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Индустриально-судостроительны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лицей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1071720" y="2214720"/>
            <a:ext cx="7242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ссивные компон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зис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8"/>
          <p:cNvSpPr/>
          <p:nvPr/>
        </p:nvSpPr>
        <p:spPr>
          <a:xfrm>
            <a:off x="4932000" y="504756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3132000" y="479736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работала: Забара О. В., мастер п/о, преподаватель СПб ГБПОУ ИС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одержимое 1"/>
          <p:cNvSpPr/>
          <p:nvPr/>
        </p:nvSpPr>
        <p:spPr>
          <a:xfrm rot="16200000">
            <a:off x="-3214440" y="3214440"/>
            <a:ext cx="6858000" cy="4287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Заголовок 1"/>
          <p:cNvSpPr/>
          <p:nvPr/>
        </p:nvSpPr>
        <p:spPr>
          <a:xfrm>
            <a:off x="928800" y="357120"/>
            <a:ext cx="7358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остоянные резис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8"/>
          <p:cNvGrpSpPr/>
          <p:nvPr/>
        </p:nvGrpSpPr>
        <p:grpSpPr>
          <a:xfrm>
            <a:off x="6571800" y="1474920"/>
            <a:ext cx="1839960" cy="309600"/>
            <a:chOff x="6571800" y="1474920"/>
            <a:chExt cx="1839960" cy="309600"/>
          </a:xfrm>
        </p:grpSpPr>
        <p:grpSp>
          <p:nvGrpSpPr>
            <p:cNvPr id="310" name="Group 19"/>
            <p:cNvGrpSpPr/>
            <p:nvPr/>
          </p:nvGrpSpPr>
          <p:grpSpPr>
            <a:xfrm>
              <a:off x="6571800" y="1474920"/>
              <a:ext cx="1839960" cy="309600"/>
              <a:chOff x="6571800" y="1474920"/>
              <a:chExt cx="1839960" cy="309600"/>
            </a:xfrm>
          </p:grpSpPr>
          <p:sp>
            <p:nvSpPr>
              <p:cNvPr id="311" name="Line 20"/>
              <p:cNvSpPr/>
              <p:nvPr/>
            </p:nvSpPr>
            <p:spPr>
              <a:xfrm flipH="1">
                <a:off x="6571800" y="1628640"/>
                <a:ext cx="183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 rot="10800000">
                <a:off x="7091280" y="1474920"/>
                <a:ext cx="848160" cy="309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Line 22"/>
            <p:cNvSpPr/>
            <p:nvPr/>
          </p:nvSpPr>
          <p:spPr>
            <a:xfrm>
              <a:off x="7461000" y="1534680"/>
              <a:ext cx="2016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3"/>
            <p:cNvSpPr/>
            <p:nvPr/>
          </p:nvSpPr>
          <p:spPr>
            <a:xfrm>
              <a:off x="7322040" y="1530720"/>
              <a:ext cx="20160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Прямоугольник 28"/>
          <p:cNvSpPr/>
          <p:nvPr/>
        </p:nvSpPr>
        <p:spPr>
          <a:xfrm>
            <a:off x="1071720" y="1928880"/>
            <a:ext cx="6357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щего применени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чны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цизионны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сокочастотные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сокоомны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соковольт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6" descr="Радиаторы"/>
          <p:cNvPicPr/>
          <p:nvPr/>
        </p:nvPicPr>
        <p:blipFill>
          <a:blip r:embed="rId1"/>
          <a:stretch/>
        </p:blipFill>
        <p:spPr>
          <a:xfrm>
            <a:off x="6215040" y="328608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http://www.lingerie-magazin.ru/data/Image/znak2.jpg"/>
          <p:cNvPicPr/>
          <p:nvPr/>
        </p:nvPicPr>
        <p:blipFill>
          <a:blip r:embed="rId2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Содержимое 1"/>
          <p:cNvSpPr/>
          <p:nvPr/>
        </p:nvSpPr>
        <p:spPr>
          <a:xfrm rot="16200000">
            <a:off x="-3214440" y="3214440"/>
            <a:ext cx="6858000" cy="4287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Заголовок 1"/>
          <p:cNvSpPr/>
          <p:nvPr/>
        </p:nvSpPr>
        <p:spPr>
          <a:xfrm>
            <a:off x="928800" y="214200"/>
            <a:ext cx="7358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Переменные резис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28"/>
          <p:cNvSpPr/>
          <p:nvPr/>
        </p:nvSpPr>
        <p:spPr>
          <a:xfrm>
            <a:off x="1071720" y="1214280"/>
            <a:ext cx="6357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егулировоч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дстроеч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1714680" y="2143080"/>
            <a:ext cx="2086920" cy="986040"/>
            <a:chOff x="1714680" y="2143080"/>
            <a:chExt cx="2086920" cy="986040"/>
          </a:xfrm>
        </p:grpSpPr>
        <p:sp>
          <p:nvSpPr>
            <p:cNvPr id="322" name="Line 5"/>
            <p:cNvSpPr/>
            <p:nvPr/>
          </p:nvSpPr>
          <p:spPr>
            <a:xfrm>
              <a:off x="1714680" y="2940120"/>
              <a:ext cx="20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2250720" y="2750040"/>
              <a:ext cx="962280" cy="37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7"/>
            <p:cNvSpPr/>
            <p:nvPr/>
          </p:nvSpPr>
          <p:spPr>
            <a:xfrm flipV="1">
              <a:off x="2737800" y="2143080"/>
              <a:ext cx="0" cy="61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0"/>
          <p:cNvGrpSpPr/>
          <p:nvPr/>
        </p:nvGrpSpPr>
        <p:grpSpPr>
          <a:xfrm>
            <a:off x="1571760" y="4357800"/>
            <a:ext cx="2217240" cy="1431360"/>
            <a:chOff x="1571760" y="4357800"/>
            <a:chExt cx="2217240" cy="1431360"/>
          </a:xfrm>
        </p:grpSpPr>
        <p:sp>
          <p:nvSpPr>
            <p:cNvPr id="326" name="Line 11"/>
            <p:cNvSpPr/>
            <p:nvPr/>
          </p:nvSpPr>
          <p:spPr>
            <a:xfrm>
              <a:off x="1571760" y="5587920"/>
              <a:ext cx="221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2"/>
            <p:cNvSpPr/>
            <p:nvPr/>
          </p:nvSpPr>
          <p:spPr>
            <a:xfrm>
              <a:off x="2140920" y="5384520"/>
              <a:ext cx="1022400" cy="40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V="1">
              <a:off x="2658600" y="4791240"/>
              <a:ext cx="0" cy="6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2658600" y="5079600"/>
              <a:ext cx="1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5"/>
            <p:cNvSpPr/>
            <p:nvPr/>
          </p:nvSpPr>
          <p:spPr>
            <a:xfrm flipV="1">
              <a:off x="2847960" y="4357800"/>
              <a:ext cx="0" cy="72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Picture 16" descr="Potentiometer"/>
          <p:cNvPicPr/>
          <p:nvPr/>
        </p:nvPicPr>
        <p:blipFill>
          <a:blip r:embed="rId1"/>
          <a:srcRect l="0" t="8218" r="10205" b="15152"/>
          <a:stretch/>
        </p:blipFill>
        <p:spPr>
          <a:xfrm>
            <a:off x="5214960" y="857160"/>
            <a:ext cx="3143160" cy="31435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Подстроечные резисторы"/>
          <p:cNvPicPr/>
          <p:nvPr/>
        </p:nvPicPr>
        <p:blipFill>
          <a:blip r:embed="rId2"/>
          <a:stretch/>
        </p:blipFill>
        <p:spPr>
          <a:xfrm>
            <a:off x="4643280" y="4460760"/>
            <a:ext cx="1933560" cy="2397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резистор подстроечный подстроечный 22 ком CA9V"/>
          <p:cNvPicPr/>
          <p:nvPr/>
        </p:nvPicPr>
        <p:blipFill>
          <a:blip r:embed="rId3"/>
          <a:stretch/>
        </p:blipFill>
        <p:spPr>
          <a:xfrm>
            <a:off x="6357960" y="4714920"/>
            <a:ext cx="2500200" cy="18781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http://www.lingerie-magazin.ru/data/Image/znak2.jpg"/>
          <p:cNvPicPr/>
          <p:nvPr/>
        </p:nvPicPr>
        <p:blipFill>
          <a:blip r:embed="rId4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Содержимое 1"/>
          <p:cNvSpPr/>
          <p:nvPr/>
        </p:nvSpPr>
        <p:spPr>
          <a:xfrm rot="16200000">
            <a:off x="-3214440" y="3214440"/>
            <a:ext cx="6858000" cy="4287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Заголовок 1"/>
          <p:cNvSpPr/>
          <p:nvPr/>
        </p:nvSpPr>
        <p:spPr>
          <a:xfrm>
            <a:off x="928800" y="214200"/>
            <a:ext cx="7358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ые резист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28"/>
          <p:cNvSpPr/>
          <p:nvPr/>
        </p:nvSpPr>
        <p:spPr>
          <a:xfrm>
            <a:off x="571680" y="1214280"/>
            <a:ext cx="7929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противление нелинейно зависит от внешних фактор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личины приложенного напряжения (варисторы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мпературы (терморезисторы)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вещения (фоторезисторы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56"/>
          <p:cNvGrpSpPr/>
          <p:nvPr/>
        </p:nvGrpSpPr>
        <p:grpSpPr>
          <a:xfrm>
            <a:off x="7729560" y="3786120"/>
            <a:ext cx="1413360" cy="1595520"/>
            <a:chOff x="7729560" y="3786120"/>
            <a:chExt cx="1413360" cy="1595520"/>
          </a:xfrm>
        </p:grpSpPr>
        <p:grpSp>
          <p:nvGrpSpPr>
            <p:cNvPr id="339" name="Group 57"/>
            <p:cNvGrpSpPr/>
            <p:nvPr/>
          </p:nvGrpSpPr>
          <p:grpSpPr>
            <a:xfrm>
              <a:off x="7729560" y="3786120"/>
              <a:ext cx="1413360" cy="1595520"/>
              <a:chOff x="7729560" y="3786120"/>
              <a:chExt cx="1413360" cy="1595520"/>
            </a:xfrm>
          </p:grpSpPr>
          <p:sp>
            <p:nvSpPr>
              <p:cNvPr id="340" name="Line 58"/>
              <p:cNvSpPr/>
              <p:nvPr/>
            </p:nvSpPr>
            <p:spPr>
              <a:xfrm>
                <a:off x="8663400" y="3786120"/>
                <a:ext cx="0" cy="159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59"/>
              <p:cNvSpPr/>
              <p:nvPr/>
            </p:nvSpPr>
            <p:spPr>
              <a:xfrm rot="5400000">
                <a:off x="8296200" y="4372560"/>
                <a:ext cx="735480" cy="381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60"/>
              <p:cNvSpPr/>
              <p:nvPr/>
            </p:nvSpPr>
            <p:spPr>
              <a:xfrm>
                <a:off x="7729560" y="4914360"/>
                <a:ext cx="47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61"/>
              <p:cNvSpPr/>
              <p:nvPr/>
            </p:nvSpPr>
            <p:spPr>
              <a:xfrm flipV="1">
                <a:off x="8209080" y="4194360"/>
                <a:ext cx="933840" cy="71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4" name="Text Box 62"/>
            <p:cNvSpPr/>
            <p:nvPr/>
          </p:nvSpPr>
          <p:spPr>
            <a:xfrm>
              <a:off x="7857360" y="4310280"/>
              <a:ext cx="63648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56"/>
          <p:cNvGrpSpPr/>
          <p:nvPr/>
        </p:nvGrpSpPr>
        <p:grpSpPr>
          <a:xfrm>
            <a:off x="6643800" y="2357280"/>
            <a:ext cx="1413360" cy="1595520"/>
            <a:chOff x="6643800" y="2357280"/>
            <a:chExt cx="1413360" cy="1595520"/>
          </a:xfrm>
        </p:grpSpPr>
        <p:grpSp>
          <p:nvGrpSpPr>
            <p:cNvPr id="346" name="Group 57"/>
            <p:cNvGrpSpPr/>
            <p:nvPr/>
          </p:nvGrpSpPr>
          <p:grpSpPr>
            <a:xfrm>
              <a:off x="6643800" y="2357280"/>
              <a:ext cx="1413360" cy="1595520"/>
              <a:chOff x="6643800" y="2357280"/>
              <a:chExt cx="1413360" cy="1595520"/>
            </a:xfrm>
          </p:grpSpPr>
          <p:sp>
            <p:nvSpPr>
              <p:cNvPr id="347" name="Line 58"/>
              <p:cNvSpPr/>
              <p:nvPr/>
            </p:nvSpPr>
            <p:spPr>
              <a:xfrm>
                <a:off x="7577640" y="2357280"/>
                <a:ext cx="0" cy="159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59"/>
              <p:cNvSpPr/>
              <p:nvPr/>
            </p:nvSpPr>
            <p:spPr>
              <a:xfrm rot="5400000">
                <a:off x="7210440" y="2943720"/>
                <a:ext cx="735480" cy="381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Line 60"/>
              <p:cNvSpPr/>
              <p:nvPr/>
            </p:nvSpPr>
            <p:spPr>
              <a:xfrm>
                <a:off x="6643800" y="3485520"/>
                <a:ext cx="47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Line 61"/>
              <p:cNvSpPr/>
              <p:nvPr/>
            </p:nvSpPr>
            <p:spPr>
              <a:xfrm flipV="1">
                <a:off x="7123320" y="2765520"/>
                <a:ext cx="933840" cy="71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Text Box 62"/>
            <p:cNvSpPr/>
            <p:nvPr/>
          </p:nvSpPr>
          <p:spPr>
            <a:xfrm>
              <a:off x="6771600" y="2881440"/>
              <a:ext cx="63648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2" name="Picture 8" descr="http://www.lingerie-magazin.ru/data/Image/znak2.jpg"/>
          <p:cNvPicPr/>
          <p:nvPr/>
        </p:nvPicPr>
        <p:blipFill>
          <a:blip r:embed="rId1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Содержимое 1"/>
          <p:cNvSpPr/>
          <p:nvPr/>
        </p:nvSpPr>
        <p:spPr>
          <a:xfrm rot="16200000">
            <a:off x="-3214440" y="3214440"/>
            <a:ext cx="6858000" cy="4287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rcRect l="7501" t="40627" r="15834" b="29689"/>
          <a:stretch/>
        </p:blipFill>
        <p:spPr>
          <a:xfrm>
            <a:off x="0" y="1143000"/>
            <a:ext cx="9144000" cy="5665680"/>
          </a:xfrm>
          <a:prstGeom prst="rect">
            <a:avLst/>
          </a:prstGeom>
          <a:ln w="0">
            <a:noFill/>
          </a:ln>
        </p:spPr>
      </p:pic>
      <p:sp>
        <p:nvSpPr>
          <p:cNvPr id="355" name="Прямоугольник 28"/>
          <p:cNvSpPr/>
          <p:nvPr/>
        </p:nvSpPr>
        <p:spPr>
          <a:xfrm>
            <a:off x="785880" y="2928960"/>
            <a:ext cx="2428920" cy="571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9"/>
          <p:cNvSpPr/>
          <p:nvPr/>
        </p:nvSpPr>
        <p:spPr>
          <a:xfrm>
            <a:off x="7500960" y="2928960"/>
            <a:ext cx="1500120" cy="571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Заголовок 1"/>
          <p:cNvSpPr/>
          <p:nvPr/>
        </p:nvSpPr>
        <p:spPr>
          <a:xfrm>
            <a:off x="642960" y="214200"/>
            <a:ext cx="7358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ассификац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 материалу рези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6"/>
          <p:cNvSpPr/>
          <p:nvPr/>
        </p:nvSpPr>
        <p:spPr>
          <a:xfrm>
            <a:off x="938160" y="3857760"/>
            <a:ext cx="561960" cy="2786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7"/>
          <p:cNvSpPr/>
          <p:nvPr/>
        </p:nvSpPr>
        <p:spPr>
          <a:xfrm>
            <a:off x="5572080" y="3857760"/>
            <a:ext cx="490680" cy="2786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8"/>
          <p:cNvSpPr/>
          <p:nvPr/>
        </p:nvSpPr>
        <p:spPr>
          <a:xfrm>
            <a:off x="2643120" y="3857760"/>
            <a:ext cx="561960" cy="2786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Содержимое 1"/>
          <p:cNvSpPr/>
          <p:nvPr/>
        </p:nvSpPr>
        <p:spPr>
          <a:xfrm rot="16200000">
            <a:off x="-3214440" y="3214440"/>
            <a:ext cx="6858000" cy="4287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Arial"/>
                <a:ea typeface="Arial"/>
              </a:rPr>
              <a:t>Параметры резист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642960" y="2786040"/>
            <a:ext cx="8229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alibri"/>
              </a:rPr>
              <a:t>Параметры резистор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FD44-C0E8-4B9F-8CDF-36280449C3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alibri"/>
              </a:rPr>
              <a:t>Параметры резистор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092240"/>
            <a:ext cx="8229600" cy="30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270000" algn="just">
              <a:buClr>
                <a:srgbClr val="0000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Номинальная мощность рассеяния Р</a:t>
            </a:r>
            <a:r>
              <a:rPr b="1" lang="ru-RU" sz="2400" spc="-1" strike="noStrike" baseline="-25000">
                <a:solidFill>
                  <a:srgbClr val="000099"/>
                </a:solidFill>
                <a:latin typeface="Calibri"/>
              </a:rPr>
              <a:t>н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, Вт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то наибольшая допускаемая мощность, которую резистор может рассеивать при заданных условиях эксплуатации в течение гарантированного срока службы (обычно 10 тыс. час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= I</a:t>
            </a:r>
            <a:r>
              <a:rPr b="1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мощность электрического тока, рассеиваемая резистором, Вт;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I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ок через резистор, А;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R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ическое сопротивление резистора, 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гласно ГОСТ 10318 и ГОСТ 24013 значения номинальных мощностей рассеяния для вновь разрабатываемых резисторов назначаются из ряда 0,01 – 0,025 – 0,05 – 0,062 – 0,125 – 0,25 – 0,5 – 1 – 2 – 3 – 4 – 5 – 8 – 10 – 16 – 25 – 40 – 63 – 80 – 100 – 250 – 500 В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0" y="304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8" descr="http://www.lingerie-magazin.ru/data/Image/znak2.jpg"/>
          <p:cNvPicPr/>
          <p:nvPr/>
        </p:nvPicPr>
        <p:blipFill>
          <a:blip r:embed="rId1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Содержимое 1"/>
          <p:cNvSpPr/>
          <p:nvPr/>
        </p:nvSpPr>
        <p:spPr>
          <a:xfrm rot="16200000">
            <a:off x="-3214440" y="3214440"/>
            <a:ext cx="6858000" cy="4287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Arial"/>
                <a:ea typeface="Arial"/>
              </a:rPr>
              <a:t>Система обозна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Заголовок 1"/>
          <p:cNvSpPr/>
          <p:nvPr/>
        </p:nvSpPr>
        <p:spPr>
          <a:xfrm>
            <a:off x="571680" y="214200"/>
            <a:ext cx="7358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означение номинальной мощ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rcRect l="38021" t="33335" r="16667" b="38336"/>
          <a:stretch/>
        </p:blipFill>
        <p:spPr>
          <a:xfrm>
            <a:off x="1428840" y="4429080"/>
            <a:ext cx="6215040" cy="2428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"/>
          <p:cNvPicPr/>
          <p:nvPr/>
        </p:nvPicPr>
        <p:blipFill>
          <a:blip r:embed="rId2"/>
          <a:srcRect l="14583" t="37501" r="43751" b="49171"/>
          <a:stretch/>
        </p:blipFill>
        <p:spPr>
          <a:xfrm>
            <a:off x="857160" y="1000080"/>
            <a:ext cx="7500960" cy="1500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3"/>
          <a:srcRect l="56252" t="37501" r="13021" b="49171"/>
          <a:stretch/>
        </p:blipFill>
        <p:spPr>
          <a:xfrm>
            <a:off x="1785960" y="2571840"/>
            <a:ext cx="5532480" cy="15001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http://www.lingerie-magazin.ru/data/Image/znak2.jpg"/>
          <p:cNvPicPr/>
          <p:nvPr/>
        </p:nvPicPr>
        <p:blipFill>
          <a:blip r:embed="rId4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EE48-5E75-46DB-8C49-F07D9F0E5E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469800"/>
            <a:ext cx="8229600" cy="60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процессе работы резистор нагревается и температура его перегрева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носительно окружающей среды определяется соотношени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 K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T = Т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Т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мпература резистора,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20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 – температура окружающей сред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площадь поверхности резистора, м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≈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 Вт/К×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коэффициент теплоотдачи с единицы площади поверхности резистор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2"/>
              <p:cNvSpPr txBox="1"/>
              <p:nvPr/>
            </p:nvSpPr>
            <p:spPr>
              <a:xfrm>
                <a:off x="2071800" y="1714680"/>
                <a:ext cx="2255760" cy="14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α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BE11-75DC-4C7A-AF75-3688A0426C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34880" y="1947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alibri"/>
              </a:rPr>
              <a:t>Параметры резистор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2520" y="1007640"/>
            <a:ext cx="848664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2. </a:t>
            </a: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Номинальное сопротивление</a:t>
            </a: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R</a:t>
            </a:r>
            <a:r>
              <a:rPr b="1" lang="ru-RU" sz="3200" spc="-1" strike="noStrike" baseline="-25000">
                <a:solidFill>
                  <a:srgbClr val="000099"/>
                </a:solidFill>
                <a:latin typeface="Calibri"/>
              </a:rPr>
              <a:t>н</a:t>
            </a: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Это значение сопротивле-ния, указанное в ТУ на резистор. Согласно ГОСТ 2825 номинальные значения сопротивлений резисторов назначаются из шести десятичных рядов: </a:t>
            </a: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Е6, Е12, Е24, Е48, Е96, Е19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Для переменных резисторов в соответствии с ГОСТ 10318 установлены ряды  Е6 и Е3. Кратные и дольные единицы сопротивления получают путем умножения члена ряда на 10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где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k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лое положительное или отрицательное чис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8" descr="http://www.lingerie-magazin.ru/data/Image/znak2.jpg"/>
          <p:cNvPicPr/>
          <p:nvPr/>
        </p:nvPicPr>
        <p:blipFill>
          <a:blip r:embed="rId1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андартные ря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8" name="Object 272"/>
          <p:cNvGraphicFramePr/>
          <p:nvPr/>
        </p:nvGraphicFramePr>
        <p:xfrm>
          <a:off x="357120" y="1428840"/>
          <a:ext cx="8542440" cy="42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9" name="Object 27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1428840"/>
                    <a:ext cx="85424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Text Box 273"/>
          <p:cNvSpPr/>
          <p:nvPr/>
        </p:nvSpPr>
        <p:spPr>
          <a:xfrm>
            <a:off x="785880" y="6078600"/>
            <a:ext cx="7848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имер резистор из ряда E12 может иметь сопротивление 1,2 Ом, 12 Ом, 120 Ом, …, 1,2 МОм, 12 МОм, 1,5 Ом, 15 Ом и т. 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http://www.lingerie-magazin.ru/data/Image/znak2.jpg"/>
          <p:cNvPicPr/>
          <p:nvPr/>
        </p:nvPicPr>
        <p:blipFill>
          <a:blip r:embed="rId3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rcRect l="14063" t="21669" r="12501" b="15832"/>
          <a:stretch/>
        </p:blipFill>
        <p:spPr>
          <a:xfrm>
            <a:off x="285840" y="1143000"/>
            <a:ext cx="8501040" cy="4521240"/>
          </a:xfrm>
          <a:prstGeom prst="rect">
            <a:avLst/>
          </a:prstGeom>
          <a:ln w="0">
            <a:noFill/>
          </a:ln>
        </p:spPr>
      </p:pic>
      <p:sp>
        <p:nvSpPr>
          <p:cNvPr id="251" name="Заголовок 1"/>
          <p:cNvSpPr/>
          <p:nvPr/>
        </p:nvSpPr>
        <p:spPr>
          <a:xfrm>
            <a:off x="428760" y="285840"/>
            <a:ext cx="7358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ассификация  радиокомпонен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D1CD-61FF-410A-8716-E843622DB5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34880" y="19476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alibri"/>
              </a:rPr>
              <a:t>Параметры резистор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2520" y="1007640"/>
            <a:ext cx="848664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3. </a:t>
            </a:r>
            <a:r>
              <a:rPr b="1" i="1" lang="ru-RU" sz="2800" spc="-1" strike="noStrike">
                <a:solidFill>
                  <a:srgbClr val="000099"/>
                </a:solidFill>
                <a:latin typeface="Calibri"/>
              </a:rPr>
              <a:t>Допускаемое отклонение сопротивления от номинального значения (допуск) </a:t>
            </a:r>
            <a:r>
              <a:rPr b="1" i="1" lang="ru-RU" sz="28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1" i="1" lang="ru-RU" sz="2800" spc="-1" strike="noStrike">
                <a:solidFill>
                  <a:srgbClr val="000099"/>
                </a:solidFill>
                <a:latin typeface="Calibri"/>
              </a:rPr>
              <a:t>R, %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начения допусков согласованы с номером десятичного ряда, который используется при назначении сопротивления. Согласно ГОСТ 9667 допуски составляют 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20%, 10%, 5%, 2%, 1%, 0,5%,..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для значений сопротивлений, назначаемых из десятичных рядов Е6...Е192, соответственно. Для прецизионных резисторов разрешается назначать меньшие значения допусков – от 0,25%  до 0,001%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8" descr="http://www.lingerie-magazin.ru/data/Image/znak2.jpg"/>
          <p:cNvPicPr/>
          <p:nvPr/>
        </p:nvPicPr>
        <p:blipFill>
          <a:blip r:embed="rId1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30C5-72DC-4745-9C51-665165604A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6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4. </a:t>
            </a:r>
            <a:r>
              <a:rPr b="1" i="1" lang="ru-RU" sz="2800" spc="-1" strike="noStrike">
                <a:solidFill>
                  <a:srgbClr val="000099"/>
                </a:solidFill>
                <a:latin typeface="Calibri"/>
              </a:rPr>
              <a:t>Предельное рабочее напряжение U</a:t>
            </a:r>
            <a:r>
              <a:rPr b="1" lang="ru-RU" sz="2800" spc="-1" strike="noStrike" baseline="-25000">
                <a:solidFill>
                  <a:srgbClr val="000099"/>
                </a:solidFill>
                <a:latin typeface="Calibri"/>
              </a:rPr>
              <a:t>пред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Это напряжение, устанав-ливаемое с учетом тепловых процессов в РЭ, электрической прочности резистора, конструкции и размеров резистора и обеспечения длительной работоспособности. Значение                        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гласно ГОСТ 24013 предельные рабочие напряжения  постоянных  резисторов устанавливаются из рядов 25 – 50 – 150 – 200 – 250 – 500 – 750 В и 1 – 1,5 – 2,5 – 3 – 4 – 5 – 10 – 25 – 35 – 40 – 60 к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457200" y="1854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alibri"/>
              </a:rPr>
              <a:t>Параметры резистор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4"/>
              <p:cNvSpPr txBox="1"/>
              <p:nvPr/>
            </p:nvSpPr>
            <p:spPr>
              <a:xfrm>
                <a:off x="2286000" y="3214800"/>
                <a:ext cx="23353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ð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ò</m:t>
                            </m:r>
                          </m:e>
                          <m:sub>
                            <m:r>
                              <m:t xml:space="preserve"></m:t>
                            </m:r>
                          </m:sub>
                        </m:s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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408" name="Picture 8" descr="http://www.lingerie-magazin.ru/data/Image/znak2.jpg"/>
          <p:cNvPicPr/>
          <p:nvPr/>
        </p:nvPicPr>
        <p:blipFill>
          <a:blip r:embed="rId1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D448-A908-40CF-8B1A-1BD663C543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457200" y="990720"/>
            <a:ext cx="8229600" cy="56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5. 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Температурный коэффициент сопротивления резистора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ТКС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едставляет собой относительное изменение сопротивления резистора при изменении его температуры на один граду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К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–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К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олжно быть таким, чтобы в рабочем диапазоне температур величина сопротивления резистора не выходила за пределы допускаемых отклонений. Для большинства резисторов значени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–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457200" y="1854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alibri"/>
              </a:rPr>
              <a:t>Параметры резистор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3"/>
              <p:cNvSpPr txBox="1"/>
              <p:nvPr/>
            </p:nvSpPr>
            <p:spPr>
              <a:xfrm>
                <a:off x="1500120" y="5286240"/>
                <a:ext cx="27860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b>
                    </m:sSub>
                    <m:r>
                      <m:t xml:space="preserve">»</m:t>
                    </m:r>
                    <m:r>
                      <m:t xml:space="preserve">±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Object 2"/>
              <p:cNvSpPr txBox="1"/>
              <p:nvPr/>
            </p:nvSpPr>
            <p:spPr>
              <a:xfrm>
                <a:off x="2357280" y="2500200"/>
                <a:ext cx="222264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R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17" name="Picture 8" descr="http://www.lingerie-magazin.ru/data/Image/znak2.jpg"/>
          <p:cNvPicPr/>
          <p:nvPr/>
        </p:nvPicPr>
        <p:blipFill>
          <a:blip r:embed="rId1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34D8-DC29-49DC-962B-81339DD55D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alibri"/>
              </a:rPr>
              <a:t>Параметры резисторов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536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6. </a:t>
            </a:r>
            <a:r>
              <a:rPr b="1" i="1" lang="ru-RU" sz="2800" spc="-1" strike="noStrike">
                <a:solidFill>
                  <a:srgbClr val="000099"/>
                </a:solidFill>
                <a:latin typeface="Calibri"/>
              </a:rPr>
              <a:t>ЭДС шумов резистора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00099"/>
                </a:solidFill>
                <a:latin typeface="Calibri"/>
              </a:rPr>
              <a:t>Е</a:t>
            </a:r>
            <a:r>
              <a:rPr b="1" lang="ru-RU" sz="2800" spc="-1" strike="noStrike" baseline="-25000">
                <a:solidFill>
                  <a:srgbClr val="000099"/>
                </a:solidFill>
                <a:latin typeface="Calibri"/>
              </a:rPr>
              <a:t>ш</a:t>
            </a: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Это параметр, который характеризует уровень электрических шумов, возникающих при протекании электри-ческого тока по резистору вследствие неоднород-ности материала РЭ. Значение ЭДС шумов опреде-ляется соотношени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мкВ/В,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ш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действующее напряжение шума, мк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Object 2"/>
              <p:cNvSpPr txBox="1"/>
              <p:nvPr/>
            </p:nvSpPr>
            <p:spPr>
              <a:xfrm>
                <a:off x="3784680" y="3724200"/>
                <a:ext cx="199224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</m:t>
                        </m:r>
                      </m:e>
                      <m:sub>
                        <m:r>
                          <m:t xml:space="preserve">ù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ù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ð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2A04-4B3A-4BFE-BC8F-54A9562A0E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Параметры переменных резисто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228600" y="1116000"/>
            <a:ext cx="4708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Arial"/>
              </a:rPr>
              <a:t>7. Функциональная характерист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едставляет зависимость сопротивлени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нного резистора от угла поворот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ли от величины линейного перемещени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скользящего контакта вдоль РЭ. По виду функциональной характеристики переменные резисторы делятся на следующие группы: линейные (типа А); нелинейные (типа Б – логарифмические и типа В – обратнологарифмические); специального наз-начения (типа И или Е). Функциональные характеристики переменных резисторов представлены на рис. 7.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23"/>
          <p:cNvSpPr/>
          <p:nvPr/>
        </p:nvSpPr>
        <p:spPr>
          <a:xfrm>
            <a:off x="9242280" y="629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7" name="Object 2"/>
          <p:cNvGraphicFramePr/>
          <p:nvPr/>
        </p:nvGraphicFramePr>
        <p:xfrm>
          <a:off x="5369040" y="974880"/>
          <a:ext cx="3546360" cy="515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9040" y="974880"/>
                    <a:ext cx="3546360" cy="515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785D-C95E-450B-BF69-49DCD9BC4D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Параметры переменных резисто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Rectangle 2"/>
          <p:cNvSpPr/>
          <p:nvPr/>
        </p:nvSpPr>
        <p:spPr>
          <a:xfrm>
            <a:off x="428760" y="1085760"/>
            <a:ext cx="8057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8. 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Износостойк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еременных резисторов оценивается максимально допустимым числом поворотов (или циклов перемещения от упора до упора и обратно) подвижной системы, при достижении которого параметры резистора еще остаются в пределах норм 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3"/>
          <p:cNvSpPr/>
          <p:nvPr/>
        </p:nvSpPr>
        <p:spPr>
          <a:xfrm>
            <a:off x="9242280" y="6293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Содержимое 1"/>
          <p:cNvSpPr/>
          <p:nvPr/>
        </p:nvSpPr>
        <p:spPr>
          <a:xfrm rot="16200000">
            <a:off x="-3214440" y="3214440"/>
            <a:ext cx="6858000" cy="4287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Arial"/>
                <a:ea typeface="Arial"/>
              </a:rPr>
              <a:t>Система обозна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Заголовок 1"/>
          <p:cNvSpPr/>
          <p:nvPr/>
        </p:nvSpPr>
        <p:spPr>
          <a:xfrm>
            <a:off x="1785960" y="2500200"/>
            <a:ext cx="7358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обознач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Содержимое 1"/>
          <p:cNvSpPr/>
          <p:nvPr/>
        </p:nvSpPr>
        <p:spPr>
          <a:xfrm rot="16200000">
            <a:off x="-3214440" y="3214440"/>
            <a:ext cx="6858000" cy="4287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Arial"/>
                <a:ea typeface="Arial"/>
              </a:rPr>
              <a:t>Система обозна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Заголовок 1"/>
          <p:cNvSpPr/>
          <p:nvPr/>
        </p:nvSpPr>
        <p:spPr>
          <a:xfrm>
            <a:off x="571680" y="214200"/>
            <a:ext cx="7358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истема обознач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словно-графическое обозначение на принципиальных схе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rcRect l="17189" t="22500" r="15625" b="29169"/>
          <a:stretch/>
        </p:blipFill>
        <p:spPr>
          <a:xfrm>
            <a:off x="500040" y="2246400"/>
            <a:ext cx="8643960" cy="3886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http://www.lingerie-magazin.ru/data/Image/znak2.jpg"/>
          <p:cNvPicPr/>
          <p:nvPr/>
        </p:nvPicPr>
        <p:blipFill>
          <a:blip r:embed="rId2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307D-7AA0-41E8-B3D3-2ED0AC3D86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Старые системы обозначений резисторо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0040" y="9288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указании типа резистора используется буквенная или буквенно-цифровая система обозначения резисто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До 1960 г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бозначение типа вновь разработанного резистора складывалось из двух-трех букв, например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ЛТ – металлодиэлектрический лакированный теплостойк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 – высокостабильный углеродисты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ЛП – бороуглеродистый лакированный прецизион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4C8E-C4A4-4F2F-828C-7CA2021556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Старые системы обозначений резисторов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00040" y="928800"/>
            <a:ext cx="8291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Для резисторов, разработанных в 1960–79 гг.,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именяется буквенно-цифровая система обозначений, по существу представляющая классификацию резисторов по материалу и конструкции резистивного элемен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1 – непроволочные тонкослойные углеродистые и бороуглеродисты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2, СП2 – непроволочные тонкослойные металлодиэлектрические и металлоокисные, с постоянным (С2) и переменным (СП2) сопротивление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3, СП3 – непроволочные композиционные пленочные, с постоянным (С3) и переменным (СП3) сопротивление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4, СП4 – непроволочные композиционные объемные, с постоянным (С4) и переменным (СП4) сопротивление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5, СП5 – проволочные, с постоянным (С5) и переменным (СП5) сопротивление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6 – непроволочные тонкослойные металлизирован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5555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55555"/>
                </a:solidFill>
                <a:latin typeface="Arial"/>
              </a:rPr>
              <a:t>Элементом электрической цепи</a:t>
            </a:r>
            <a:r>
              <a:rPr b="0" lang="ru-RU" sz="1800" spc="-1" strike="noStrike">
                <a:solidFill>
                  <a:srgbClr val="555555"/>
                </a:solidFill>
                <a:latin typeface="Arial"/>
              </a:rPr>
              <a:t> называют идеализированное устройство, отображающее какое-либо из свойств реальной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электрической цепи</a:t>
            </a:r>
            <a:r>
              <a:rPr b="0" lang="ru-RU" sz="1800" spc="-1" strike="noStrike">
                <a:solidFill>
                  <a:srgbClr val="555555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5555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5555"/>
                </a:solidFill>
                <a:latin typeface="Arial"/>
              </a:rPr>
              <a:t>Электрические цепи, в которых параметры всех элементов не зависят от величины и направлений токов и напряжений, т.е. </a:t>
            </a:r>
            <a:r>
              <a:rPr b="1" lang="ru-RU" sz="1800" spc="-1" strike="noStrike">
                <a:solidFill>
                  <a:srgbClr val="555555"/>
                </a:solidFill>
                <a:latin typeface="Arial"/>
              </a:rPr>
              <a:t>графики вольт-амперных характеристик (ВАХ)</a:t>
            </a:r>
            <a:r>
              <a:rPr b="0" lang="ru-RU" sz="1800" spc="-1" strike="noStrike">
                <a:solidFill>
                  <a:srgbClr val="555555"/>
                </a:solidFill>
                <a:latin typeface="Arial"/>
              </a:rPr>
              <a:t> элементов являются прямыми линиями, называются линейными. Соответственно такие элементы называются </a:t>
            </a:r>
            <a:r>
              <a:rPr b="1" lang="ru-RU" sz="1800" spc="-1" strike="noStrike">
                <a:solidFill>
                  <a:srgbClr val="555555"/>
                </a:solidFill>
                <a:latin typeface="Arial"/>
              </a:rPr>
              <a:t>линейными</a:t>
            </a:r>
            <a:r>
              <a:rPr b="0" lang="ru-RU" sz="1800" spc="-1" strike="noStrike">
                <a:solidFill>
                  <a:srgbClr val="555555"/>
                </a:solidFill>
                <a:latin typeface="Arial"/>
              </a:rPr>
              <a:t>. </a:t>
            </a:r>
            <a:br>
              <a:rPr sz="1800"/>
            </a:br>
            <a:r>
              <a:rPr b="0" lang="ru-RU" sz="1800" spc="-1" strike="noStrike">
                <a:solidFill>
                  <a:srgbClr val="555555"/>
                </a:solidFill>
                <a:latin typeface="Arial"/>
              </a:rPr>
              <a:t>Когда параметры элементов электрической цепи существенно зависят от тока или напряжения, т.е. графики ВАХ этих элементов имеют криволинейный характер, то такие элементы называют </a:t>
            </a:r>
            <a:r>
              <a:rPr b="1" lang="ru-RU" sz="1800" spc="-1" strike="noStrike">
                <a:solidFill>
                  <a:srgbClr val="555555"/>
                </a:solidFill>
                <a:latin typeface="Arial"/>
              </a:rPr>
              <a:t>нелинейными</a:t>
            </a:r>
            <a:r>
              <a:rPr b="0" lang="ru-RU" sz="1800" spc="-1" strike="noStrike">
                <a:solidFill>
                  <a:srgbClr val="555555"/>
                </a:solidFill>
                <a:latin typeface="Arial"/>
              </a:rPr>
              <a:t>. </a:t>
            </a:r>
            <a:br>
              <a:rPr sz="1800"/>
            </a:br>
            <a:r>
              <a:rPr b="0" lang="ru-RU" sz="1800" spc="-1" strike="noStrike">
                <a:solidFill>
                  <a:srgbClr val="555555"/>
                </a:solidFill>
                <a:latin typeface="Arial"/>
              </a:rPr>
              <a:t>Если электрическая цепь содержит хотя бы один нелинейный элемент, то она является 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нелинейной электрической цепью</a:t>
            </a:r>
            <a:r>
              <a:rPr b="0" lang="ru-RU" sz="1800" spc="-1" strike="noStrike">
                <a:solidFill>
                  <a:srgbClr val="555555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5555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5555"/>
                </a:solidFill>
                <a:latin typeface="Arial"/>
              </a:rPr>
              <a:t>В теории электрических цепей различают </a:t>
            </a:r>
            <a:r>
              <a:rPr b="1" lang="ru-RU" sz="1800" spc="-1" strike="noStrike">
                <a:solidFill>
                  <a:srgbClr val="555555"/>
                </a:solidFill>
                <a:latin typeface="Arial"/>
              </a:rPr>
              <a:t>активные и пассивные элементы</a:t>
            </a:r>
            <a:r>
              <a:rPr b="0" lang="ru-RU" sz="1800" spc="-1" strike="noStrike">
                <a:solidFill>
                  <a:srgbClr val="555555"/>
                </a:solidFill>
                <a:latin typeface="Arial"/>
              </a:rPr>
              <a:t>. Первые вносят энергию в электрическую цепь, а вторые ее потребляю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55555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B313-0EF9-46C3-A0D1-60EAB737B2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С 1979 г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по настоящее время система условных обозначений резисторов осуществляется в соответствии с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ОСТ 11.074.009–78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Классификация и система условных обозначений резисторо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”. Согласно этому стандарту тип резистора обозначается буквами или буквами и цифро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294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ервый элемент буквенны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Р – постоянный резистор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РП – переменный резистор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РН – набор резисто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294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торой элемент – цифр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– непроволочный резистор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 – проволочный резист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294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Третий элемен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цифра, обозначающая разновидность конструк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alibri"/>
              </a:rPr>
              <a:t>Современнная система обозначений резистор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3608-70FC-4F08-9758-B25698A536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571680" y="1500120"/>
            <a:ext cx="82296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резистор постоянного сопротивл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резистор переменного сопротивлени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1, РП1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непроволочные резисто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2, РП2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проволочные резисто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набор резистор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терморезистор с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ТК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&lt;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терморезистор с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ТК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&gt;0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варистор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фоторезисто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Calibri"/>
              </a:rPr>
              <a:t>Современнная система обозначений резистор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1EAB6-E05C-46CB-BD52-208D6EC121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468360" y="1056960"/>
            <a:ext cx="822960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ервый элем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тип резисто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второй элем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номер разработки резисто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третий элем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номинальная мощность рассеяния, Вт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етвёртый элем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номинальное сопротивл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пятый элем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допускаемое отклонение сопротивления, %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шестой элем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группа по шума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седьмой элем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номер ГОСТ или 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Обозначение в перечнях элементов отечественных резисто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8" descr="http://www.lingerie-magazin.ru/data/Image/znak2.jpg"/>
          <p:cNvPicPr/>
          <p:nvPr/>
        </p:nvPicPr>
        <p:blipFill>
          <a:blip r:embed="rId1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B013-2CFA-4F39-AF10-89F92CBB34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468360" y="1056960"/>
            <a:ext cx="822960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Пример обозначени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 конструкторской документации постоянного резистора типа МЛТ с номинальной мощностью рассеяния 0,5 Вт, номинальным сопротивлением 680 кОм, допуском на номинал 10 %, группой по шумам А: МЛТ–0,5  680 кОм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±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0 % А № Т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означение непроволочного резистора переменного сопротивления типа РП1 номера разработки 2, с логарифмической функциональной характеристикой типа В, номинальным сопротивлением 330 Ом, допуском на номинал 30 %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П1–2 - 330 О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±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0 % В  № 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3-9а-16-220 К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±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% ОЖ0.467.012 Т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Обозначение в перечнях элементов отечественных резисто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8" descr="http://www.lingerie-magazin.ru/data/Image/znak2.jpg"/>
          <p:cNvPicPr/>
          <p:nvPr/>
        </p:nvPicPr>
        <p:blipFill>
          <a:blip r:embed="rId1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2508-2AF2-4558-91E4-9ED41EB07F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31640" y="210960"/>
            <a:ext cx="8229600" cy="38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Обозначения резисторов зарубежных фир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360" y="625320"/>
            <a:ext cx="8075520" cy="7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99"/>
                </a:solidFill>
                <a:latin typeface="Calibri"/>
              </a:rPr>
              <a:t>Для резисторов изготовляемых по стандартам </a:t>
            </a: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MI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словное обозначение формируется следующим образо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рвый элемен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обозначает серию резистора, согласно таблиц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355680" y="1547640"/>
          <a:ext cx="8343720" cy="5002560"/>
        </p:xfrm>
        <a:graphic>
          <a:graphicData uri="http://schemas.openxmlformats.org/drawingml/2006/table">
            <a:tbl>
              <a:tblPr/>
              <a:tblGrid>
                <a:gridCol w="1262160"/>
                <a:gridCol w="5338440"/>
                <a:gridCol w="1743120"/>
              </a:tblGrid>
              <a:tr h="358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е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именование резисто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 станда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тандартные металлопленочные резисторы (допуск ±2, ±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IL-R-226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таллопленочные прецизионные резист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IL-R-105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щные проволочные резисторы с алюминиевым радиатор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IL-R-185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N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таллопленочные резисторы с уровнем надежности "S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IL-R-55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L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таллопленочные резисторы с уровнем надежности "Р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IL-R-39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волочные прецизионные резисторы миниатюрные и субминиатюр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IL-R-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B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волочные прецизионные резисторы с уровнем надежности "R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IL-R-39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волочные мощные резисторы для поверхностного монтаж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IL-R-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NR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N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еталлопленочные прецизионные резисторы с герметичным уплотне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IL-R-55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C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глеродистые композиционные резисто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IL-R-39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55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олстопленочные кристаллы резисторов с уровнем надежности "R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IL-R-55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0BEB-F1A4-4B7A-8059-D602A3D9EA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229600" cy="51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Обозначения резисторов зарубежных фир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Rectangle 649"/>
          <p:cNvSpPr/>
          <p:nvPr/>
        </p:nvSpPr>
        <p:spPr>
          <a:xfrm>
            <a:off x="527040" y="744840"/>
            <a:ext cx="8077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торой, третий, четвертый и пятый элем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цифровой код, обозначающий номинальное сопротив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означение номинального сопротивления представляет собой код из четырех цифр, первые три из которых указывают величину номинала сопротивления в Омах, а последняя - число последующих нулей. Для резисторов с допуском более 10% код состоит из трех цифр, в котором значащими являются первые дв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Шестой элемен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буквенный код, которым обозначается уровень надежности резисторов в течение 1000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50"/>
          <p:cNvSpPr/>
          <p:nvPr/>
        </p:nvSpPr>
        <p:spPr>
          <a:xfrm>
            <a:off x="79560" y="283428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608040" y="3867120"/>
          <a:ext cx="8016840" cy="1006560"/>
        </p:xfrm>
        <a:graphic>
          <a:graphicData uri="http://schemas.openxmlformats.org/drawingml/2006/table">
            <a:tbl>
              <a:tblPr/>
              <a:tblGrid>
                <a:gridCol w="4432320"/>
                <a:gridCol w="896760"/>
                <a:gridCol w="893880"/>
                <a:gridCol w="897120"/>
                <a:gridCol w="89676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ень надежности (число отказов в 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4" name="Rectangle 714"/>
          <p:cNvSpPr/>
          <p:nvPr/>
        </p:nvSpPr>
        <p:spPr>
          <a:xfrm>
            <a:off x="622440" y="5021640"/>
            <a:ext cx="802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N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22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металлоплёночный резистор с уровнем надёжности 0,001 % , номинальным  сопротивлением 2,2 МОм и допускаемым отклонением сопротивления &lt; ±2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5" descr="http://fb.ru/misc/i/gallery/11315/87418.jpg"/>
          <p:cNvPicPr/>
          <p:nvPr/>
        </p:nvPicPr>
        <p:blipFill>
          <a:blip r:embed="rId1"/>
          <a:stretch/>
        </p:blipFill>
        <p:spPr>
          <a:xfrm>
            <a:off x="4143240" y="4929120"/>
            <a:ext cx="3310200" cy="19288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ветовая маркировка резистор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28760" y="107172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четырёхполосной маркировки обычных резисторов с точностью 5 и 10 % - золотая или серебряная полоска всегда стоит в конц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трёхполосочного кода первая полоска стоит ближе к краю резистора, чем последня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других вариантов важно, чтобы получалось значение сопротивления из номинального ряда, если не получается, нужно читать наоборо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резисторов МЛТ-0,125 производства ССС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4 полосками, первой является полоска, нанесённая ближе к кра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ычно она находится на металлическом стаканчике вывода, а остальные три — на более узком керамическом теле резистор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D007-B505-424D-BE3E-24A9948A86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Calibri"/>
              </a:rPr>
              <a:t>Пример цветовой маркировки резисто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Object 2"/>
          <p:cNvGraphicFramePr/>
          <p:nvPr/>
        </p:nvGraphicFramePr>
        <p:xfrm>
          <a:off x="125280" y="1714680"/>
          <a:ext cx="8875800" cy="38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280" y="1714680"/>
                    <a:ext cx="8875800" cy="38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2" descr="http://electric.nn0v.ru/files/2010/10/resistor.jpg"/>
          <p:cNvPicPr/>
          <p:nvPr/>
        </p:nvPicPr>
        <p:blipFill>
          <a:blip r:embed="rId1"/>
          <a:stretch/>
        </p:blipFill>
        <p:spPr>
          <a:xfrm>
            <a:off x="0" y="0"/>
            <a:ext cx="5724360" cy="545796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4" descr="http://www.ra4a.ru/_ld/0/29151276.png"/>
          <p:cNvPicPr/>
          <p:nvPr/>
        </p:nvPicPr>
        <p:blipFill>
          <a:blip r:embed="rId2"/>
          <a:stretch/>
        </p:blipFill>
        <p:spPr>
          <a:xfrm>
            <a:off x="5643720" y="3571920"/>
            <a:ext cx="3297240" cy="32860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" descr="http://cmuems.com/2011/b/wp-content/uploads/2011/10/color_code.gif"/>
          <p:cNvPicPr/>
          <p:nvPr/>
        </p:nvPicPr>
        <p:blipFill>
          <a:blip r:embed="rId3"/>
          <a:stretch/>
        </p:blipFill>
        <p:spPr>
          <a:xfrm>
            <a:off x="5357880" y="571680"/>
            <a:ext cx="351324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ветовая маркировка резистор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резисторов с точностью 20 % используют маркировку с тремя полосками, для резисторов с точностью 10 % и 5 % маркировку с четырьмя полосками, для более точных резисторов с пятью или шестью полос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ервые две полос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всегд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значают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ервые два знака номинал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полосок 3 или 4,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третья полоск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знача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есятичный множител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то есть степень десятки, которая умножается на двузначное число, указанное первыми двумя полос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полосок 4, последняя указывае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точность резистор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полосок 5, третья означает третий знак сопротивления, четвёртая — десятичный множитель, пятая — точ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естая полоска, если она есть, указывает температурный коэффициент сопротивления (ТКС). Если эта полоска в 1,5 раза шире остальных, то она указывает надёжность резистора (% отказов на 1000 часов работы)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8" name="Picture 8" descr="http://www.lingerie-magazin.ru/data/Image/znak2.jpg"/>
          <p:cNvPicPr/>
          <p:nvPr/>
        </p:nvPicPr>
        <p:blipFill>
          <a:blip r:embed="rId1"/>
          <a:srcRect l="28188" t="9660" r="20144" b="8663"/>
          <a:stretch/>
        </p:blipFill>
        <p:spPr>
          <a:xfrm>
            <a:off x="8429760" y="3500280"/>
            <a:ext cx="54288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ункции, классификац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 обозначений и маркиро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араметры резисто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вивалентные сх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трукции резисто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истики и приме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упроводниковые резист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Цветовая маркировка резистор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ет отметить, что иногда встречаются резисторы с 5 полосами, но стандартной (5 или 10 %) точно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этом случае первые две полосы задают первые знаки номинала, третья — множитель, четвёртая — точность, 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ятая — температурный коэффици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Picture 8" descr="http://www.lingerie-magazin.ru/data/Image/znak2.jpg"/>
          <p:cNvPicPr/>
          <p:nvPr/>
        </p:nvPicPr>
        <p:blipFill>
          <a:blip r:embed="rId1"/>
          <a:srcRect l="28226" t="9664" r="20153" b="8662"/>
          <a:stretch/>
        </p:blipFill>
        <p:spPr>
          <a:xfrm>
            <a:off x="8215200" y="4714920"/>
            <a:ext cx="3175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2" name="Object 5"/>
          <p:cNvGraphicFramePr/>
          <p:nvPr/>
        </p:nvGraphicFramePr>
        <p:xfrm>
          <a:off x="971640" y="260280"/>
          <a:ext cx="7488000" cy="468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60280"/>
                    <a:ext cx="7488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4" name="Text Box 6"/>
          <p:cNvSpPr/>
          <p:nvPr/>
        </p:nvSpPr>
        <p:spPr>
          <a:xfrm>
            <a:off x="971640" y="501336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пустим на резисторе видим 4 полоски коричневую, чёрную, красную, золотую. Первые две полоски дают 1 0, третья 100, четвёртая даёт точность 5 %, итого резистор сопротивлением 10·100 Ом = 1 кОм, с точностью ±5 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аркировка и типоразмер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SMD-резистор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856800" y="3929040"/>
            <a:ext cx="4643640" cy="23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 100 — э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•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м = 10 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 151 — эт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5•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м = 150 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Picture 7" descr="180px-Smd_rezistory_i_spi4ka"/>
          <p:cNvPicPr/>
          <p:nvPr/>
        </p:nvPicPr>
        <p:blipFill>
          <a:blip r:embed="rId1"/>
          <a:stretch/>
        </p:blipFill>
        <p:spPr>
          <a:xfrm>
            <a:off x="857160" y="1714680"/>
            <a:ext cx="4402080" cy="18572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" descr="http://russband.ru/pic/small-8004.jpg"/>
          <p:cNvPicPr/>
          <p:nvPr/>
        </p:nvPicPr>
        <p:blipFill>
          <a:blip r:embed="rId2"/>
          <a:stretch/>
        </p:blipFill>
        <p:spPr>
          <a:xfrm>
            <a:off x="5214960" y="1500120"/>
            <a:ext cx="3643200" cy="36435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8" descr="http://www.lingerie-magazin.ru/data/Image/znak2.jpg"/>
          <p:cNvPicPr/>
          <p:nvPr/>
        </p:nvPicPr>
        <p:blipFill>
          <a:blip r:embed="rId3"/>
          <a:srcRect l="28178" t="9668" r="20149" b="8660"/>
          <a:stretch/>
        </p:blipFill>
        <p:spPr>
          <a:xfrm>
            <a:off x="0" y="4714920"/>
            <a:ext cx="50004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ркировка SMD-резистор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71680" y="928440"/>
            <a:ext cx="62863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Резисторы» нулевого сопротивления (перемычки на плате) кодируются одной цифрой «0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дирование 3 или 4 цифр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бозначае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10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0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— э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•10² Ом = 1 к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BCD обознача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AB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•10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Ом, точность 1 % (ряд E96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пример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100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— э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00•10² Ом = 10 к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2" name="Picture 2" descr="http://obrazki.elektroda.pl/7626695800_1342864860.jpg"/>
          <p:cNvPicPr/>
          <p:nvPr/>
        </p:nvPicPr>
        <p:blipFill>
          <a:blip r:embed="rId1"/>
          <a:srcRect l="9539" t="15561" r="52886" b="11112"/>
          <a:stretch/>
        </p:blipFill>
        <p:spPr>
          <a:xfrm>
            <a:off x="7000920" y="1000080"/>
            <a:ext cx="1928880" cy="2357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2" descr="http://obrazki.elektroda.pl/7626695800_1342864860.jpg"/>
          <p:cNvPicPr/>
          <p:nvPr/>
        </p:nvPicPr>
        <p:blipFill>
          <a:blip r:embed="rId2"/>
          <a:srcRect l="50106" t="15561" r="8146" b="11112"/>
          <a:stretch/>
        </p:blipFill>
        <p:spPr>
          <a:xfrm>
            <a:off x="7000920" y="4071960"/>
            <a:ext cx="2143080" cy="23572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8" descr="http://www.lingerie-magazin.ru/data/Image/znak2.jpg"/>
          <p:cNvPicPr/>
          <p:nvPr/>
        </p:nvPicPr>
        <p:blipFill>
          <a:blip r:embed="rId3"/>
          <a:srcRect l="28199" t="9671" r="20156" b="8662"/>
          <a:stretch/>
        </p:blipFill>
        <p:spPr>
          <a:xfrm>
            <a:off x="5572080" y="3714840"/>
            <a:ext cx="571680" cy="90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6353-48E4-4FDE-A5B9-313B1A43B8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23640" y="184320"/>
            <a:ext cx="839124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Кодированное обозначение сопроти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Rectangle 15"/>
          <p:cNvSpPr/>
          <p:nvPr/>
        </p:nvSpPr>
        <p:spPr>
          <a:xfrm>
            <a:off x="-201600" y="32140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5"/>
          <p:cNvSpPr/>
          <p:nvPr/>
        </p:nvSpPr>
        <p:spPr>
          <a:xfrm>
            <a:off x="198360" y="666000"/>
            <a:ext cx="857736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 CYR"/>
              </a:rPr>
              <a:t>Для обозначения сопротивления резистора применяются следующие единицы измере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 CYR"/>
              </a:rPr>
              <a:t>R</a:t>
            </a:r>
            <a:r>
              <a:rPr b="1" lang="ru-RU" sz="32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 CYR"/>
              </a:rPr>
              <a:t>или</a:t>
            </a:r>
            <a:r>
              <a:rPr b="1" lang="ru-RU" sz="3200" spc="-1" strike="noStrike">
                <a:solidFill>
                  <a:srgbClr val="000000"/>
                </a:solidFill>
                <a:latin typeface="Times New Roman CYR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 CYR"/>
              </a:rPr>
              <a:t>E -  </a:t>
            </a:r>
            <a:r>
              <a:rPr b="1" lang="ru-RU" sz="3200" spc="-1" strike="noStrike">
                <a:solidFill>
                  <a:srgbClr val="000000"/>
                </a:solidFill>
                <a:latin typeface="Times New Roman CYR"/>
              </a:rPr>
              <a:t>Ом</a:t>
            </a:r>
            <a:r>
              <a:rPr b="1" lang="en-US" sz="3200" spc="-1" strike="noStrike">
                <a:solidFill>
                  <a:srgbClr val="000000"/>
                </a:solidFill>
                <a:latin typeface="Times New Roman CYR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 CYR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 CYR"/>
              </a:rPr>
              <a:t>K -  </a:t>
            </a:r>
            <a:r>
              <a:rPr b="1" lang="ru-RU" sz="3200" spc="-1" strike="noStrike">
                <a:solidFill>
                  <a:srgbClr val="000000"/>
                </a:solidFill>
                <a:latin typeface="Times New Roman CYR"/>
              </a:rPr>
              <a:t>к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 CYR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м,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 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м,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 -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 -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=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 CYR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 CYR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7375e"/>
                </a:solidFill>
                <a:latin typeface="Arial"/>
              </a:rPr>
              <a:t>3К3F = 3,3 кОм </a:t>
            </a:r>
            <a:r>
              <a:rPr b="0" i="1" lang="en-US" sz="3200" spc="-1" strike="noStrike">
                <a:solidFill>
                  <a:srgbClr val="17375e"/>
                </a:solidFill>
                <a:latin typeface="Arial"/>
              </a:rPr>
              <a:t>±</a:t>
            </a:r>
            <a:r>
              <a:rPr b="0" i="1" lang="ru-RU" sz="3200" spc="-1" strike="noStrike">
                <a:solidFill>
                  <a:srgbClr val="17375e"/>
                </a:solidFill>
                <a:latin typeface="Arial"/>
              </a:rPr>
              <a:t>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680J = 0,68 МОм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±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8" descr="http://www.lingerie-magazin.ru/data/Image/znak2.jpg"/>
          <p:cNvPicPr/>
          <p:nvPr/>
        </p:nvPicPr>
        <p:blipFill>
          <a:blip r:embed="rId1"/>
          <a:srcRect l="28187" t="9676" r="20162" b="8662"/>
          <a:stretch/>
        </p:blipFill>
        <p:spPr>
          <a:xfrm>
            <a:off x="8215200" y="2357280"/>
            <a:ext cx="642960" cy="10144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8" descr="http://www.lingerie-magazin.ru/data/Image/znak2.jpg"/>
          <p:cNvPicPr/>
          <p:nvPr/>
        </p:nvPicPr>
        <p:blipFill>
          <a:blip r:embed="rId2"/>
          <a:srcRect l="28191" t="9691" r="20144" b="8660"/>
          <a:stretch/>
        </p:blipFill>
        <p:spPr>
          <a:xfrm>
            <a:off x="2428920" y="6072120"/>
            <a:ext cx="36180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E096-52C6-4353-8CCE-2E4B79A84D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23640" y="184320"/>
            <a:ext cx="839124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Кодированное обозначение сопротивл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Rectangle 15"/>
          <p:cNvSpPr/>
          <p:nvPr/>
        </p:nvSpPr>
        <p:spPr>
          <a:xfrm>
            <a:off x="-201600" y="321408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5"/>
          <p:cNvSpPr/>
          <p:nvPr/>
        </p:nvSpPr>
        <p:spPr>
          <a:xfrm>
            <a:off x="198360" y="686520"/>
            <a:ext cx="8577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ускаемые отклонения сопротивления от номинального  значения (ГОСТ 1107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428760" y="1714680"/>
          <a:ext cx="7929360" cy="1785600"/>
        </p:xfrm>
        <a:graphic>
          <a:graphicData uri="http://schemas.openxmlformats.org/drawingml/2006/table">
            <a:tbl>
              <a:tblPr/>
              <a:tblGrid>
                <a:gridCol w="2295360"/>
                <a:gridCol w="959040"/>
                <a:gridCol w="957240"/>
                <a:gridCol w="958680"/>
                <a:gridCol w="957240"/>
                <a:gridCol w="959040"/>
                <a:gridCol w="842760"/>
              </a:tblGrid>
              <a:tr h="4204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сятичный 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1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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дированное обоз-начение отклонения, лат. (ру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Р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6" name="Rectangle 155"/>
          <p:cNvSpPr/>
          <p:nvPr/>
        </p:nvSpPr>
        <p:spPr>
          <a:xfrm>
            <a:off x="571680" y="3654720"/>
            <a:ext cx="7913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римеры кодированных обозначений резистор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20R0D = 220 О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5%; 4G7М = 4,7 Г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%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М1К =  1,1 М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https://pp.vk.me/c623230/v623230600/5288b/aHMTt3jMKZg.jpg"/>
          <p:cNvPicPr/>
          <p:nvPr/>
        </p:nvPicPr>
        <p:blipFill>
          <a:blip r:embed="rId1"/>
          <a:srcRect l="0" t="0" r="0" b="47025"/>
          <a:stretch/>
        </p:blipFill>
        <p:spPr>
          <a:xfrm>
            <a:off x="0" y="714240"/>
            <a:ext cx="6886440" cy="43894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2" descr="https://pp.vk.me/c623230/v623230600/5288b/aHMTt3jMKZg.jpg"/>
          <p:cNvPicPr/>
          <p:nvPr/>
        </p:nvPicPr>
        <p:blipFill>
          <a:blip r:embed="rId2"/>
          <a:srcRect l="13161" t="52982" r="18423" b="14217"/>
          <a:stretch/>
        </p:blipFill>
        <p:spPr>
          <a:xfrm>
            <a:off x="4809960" y="1428840"/>
            <a:ext cx="4334040" cy="25002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" descr="https://pp.vk.me/c623230/v623230600/5288b/aHMTt3jMKZg.jpg"/>
          <p:cNvPicPr/>
          <p:nvPr/>
        </p:nvPicPr>
        <p:blipFill>
          <a:blip r:embed="rId3"/>
          <a:srcRect l="0" t="91258" r="0" b="0"/>
          <a:stretch/>
        </p:blipFill>
        <p:spPr>
          <a:xfrm>
            <a:off x="714240" y="6000840"/>
            <a:ext cx="81439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0" name="Object 2"/>
          <p:cNvGraphicFramePr/>
          <p:nvPr/>
        </p:nvGraphicFramePr>
        <p:xfrm>
          <a:off x="142920" y="1285920"/>
          <a:ext cx="8888400" cy="36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285920"/>
                    <a:ext cx="888840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Конструкции резисто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Picture 8" descr="http://www.lingerie-magazin.ru/data/Image/znak2.jpg"/>
          <p:cNvPicPr/>
          <p:nvPr/>
        </p:nvPicPr>
        <p:blipFill>
          <a:blip r:embed="rId3"/>
          <a:srcRect l="28187" t="9676" r="20162" b="8662"/>
          <a:stretch/>
        </p:blipFill>
        <p:spPr>
          <a:xfrm>
            <a:off x="8286840" y="285840"/>
            <a:ext cx="642960" cy="10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4AAD-96BD-40CC-BE1C-0D8C96B994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Конструкции непроволочных тонкослойных резисто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6" name="Group 35"/>
          <p:cNvGrpSpPr/>
          <p:nvPr/>
        </p:nvGrpSpPr>
        <p:grpSpPr>
          <a:xfrm>
            <a:off x="-500040" y="928800"/>
            <a:ext cx="9144000" cy="5023800"/>
            <a:chOff x="-500040" y="928800"/>
            <a:chExt cx="9144000" cy="5023800"/>
          </a:xfrm>
        </p:grpSpPr>
        <p:sp>
          <p:nvSpPr>
            <p:cNvPr id="537" name="Rectangle 6"/>
            <p:cNvSpPr/>
            <p:nvPr/>
          </p:nvSpPr>
          <p:spPr>
            <a:xfrm>
              <a:off x="-500040" y="210636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26"/>
            <p:cNvSpPr/>
            <p:nvPr/>
          </p:nvSpPr>
          <p:spPr>
            <a:xfrm>
              <a:off x="-500040" y="2088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Picture 27" descr="рез-ры1"/>
            <p:cNvPicPr/>
            <p:nvPr/>
          </p:nvPicPr>
          <p:blipFill>
            <a:blip r:embed="rId1"/>
            <a:stretch/>
          </p:blipFill>
          <p:spPr>
            <a:xfrm>
              <a:off x="785880" y="928800"/>
              <a:ext cx="3214800" cy="24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28" descr="рез1"/>
            <p:cNvPicPr/>
            <p:nvPr/>
          </p:nvPicPr>
          <p:blipFill>
            <a:blip r:embed="rId2"/>
            <a:stretch/>
          </p:blipFill>
          <p:spPr>
            <a:xfrm rot="5400000">
              <a:off x="461160" y="4181760"/>
              <a:ext cx="2023920" cy="1517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30" descr="рез ПТМН-1"/>
            <p:cNvPicPr/>
            <p:nvPr/>
          </p:nvPicPr>
          <p:blipFill>
            <a:blip r:embed="rId3"/>
            <a:stretch/>
          </p:blipFill>
          <p:spPr>
            <a:xfrm rot="16200000">
              <a:off x="3000600" y="3856680"/>
              <a:ext cx="1713960" cy="228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2" name="Picture 5" descr="http://fb.ru/misc/i/gallery/11315/87418.jpg"/>
          <p:cNvPicPr/>
          <p:nvPr/>
        </p:nvPicPr>
        <p:blipFill>
          <a:blip r:embed="rId4"/>
          <a:stretch/>
        </p:blipFill>
        <p:spPr>
          <a:xfrm>
            <a:off x="5929200" y="4429080"/>
            <a:ext cx="2819520" cy="16430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http://allkoreancars.ru/sites/default/files/images/oborudovanie/rezistor.jpg"/>
          <p:cNvPicPr/>
          <p:nvPr/>
        </p:nvPicPr>
        <p:blipFill>
          <a:blip r:embed="rId5"/>
          <a:srcRect l="43503" t="0" r="6248" b="32664"/>
          <a:stretch/>
        </p:blipFill>
        <p:spPr>
          <a:xfrm>
            <a:off x="4572000" y="928800"/>
            <a:ext cx="37893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9583-F630-45D8-9E24-BEDA3EBDC4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7" descr="ANd9GcQlLu-pzZxrCbHi-mH00OSbVFvEDjhNXUB5ApgJkfyv5I1lMaoBEuPdJgHgww"/>
          <p:cNvPicPr/>
          <p:nvPr/>
        </p:nvPicPr>
        <p:blipFill>
          <a:blip r:embed="rId1"/>
          <a:stretch/>
        </p:blipFill>
        <p:spPr>
          <a:xfrm>
            <a:off x="3794040" y="4135320"/>
            <a:ext cx="1984320" cy="20862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9" descr="ANd9GcQTKjfXHcON30-2E9x9Cntxx8D7kjxvjB56us1Nm_x077sisYTw1xJnGGZJ"/>
          <p:cNvPicPr/>
          <p:nvPr/>
        </p:nvPicPr>
        <p:blipFill>
          <a:blip r:embed="rId2"/>
          <a:stretch/>
        </p:blipFill>
        <p:spPr>
          <a:xfrm>
            <a:off x="6257880" y="1324080"/>
            <a:ext cx="2241720" cy="204624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Calibri"/>
              </a:rPr>
              <a:t>Переменные резист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12" descr="ANd9GcTSFIwj1FlgjeYlLq6GNg8Pc2aF1aE3ZV0aa4GMyBh7PAJK3cj5xShicvbL"/>
          <p:cNvPicPr/>
          <p:nvPr/>
        </p:nvPicPr>
        <p:blipFill>
          <a:blip r:embed="rId3"/>
          <a:stretch/>
        </p:blipFill>
        <p:spPr>
          <a:xfrm>
            <a:off x="558720" y="1482840"/>
            <a:ext cx="2959200" cy="18856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4" descr="20041214_2037_1789a-Leistungswiderstand_mit_Sicherungsloetung"/>
          <p:cNvPicPr/>
          <p:nvPr/>
        </p:nvPicPr>
        <p:blipFill>
          <a:blip r:embed="rId4"/>
          <a:stretch/>
        </p:blipFill>
        <p:spPr>
          <a:xfrm>
            <a:off x="6102360" y="3984480"/>
            <a:ext cx="2774880" cy="227808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6" descr="Potentiometer"/>
          <p:cNvPicPr/>
          <p:nvPr/>
        </p:nvPicPr>
        <p:blipFill>
          <a:blip r:embed="rId5"/>
          <a:stretch/>
        </p:blipFill>
        <p:spPr>
          <a:xfrm>
            <a:off x="3541680" y="1138320"/>
            <a:ext cx="2486160" cy="29131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8" descr="Файл:Electronic component potentiometers.jpg"/>
          <p:cNvPicPr/>
          <p:nvPr/>
        </p:nvPicPr>
        <p:blipFill>
          <a:blip r:embed="rId6"/>
          <a:stretch/>
        </p:blipFill>
        <p:spPr>
          <a:xfrm>
            <a:off x="463680" y="3852720"/>
            <a:ext cx="298116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зисто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элемент РЭА, предназначенный для перераспределения и регулирования электрической энергии между элементами схемы. Основной особенностью резистора является то, что электри-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ская энергия превращается в нем в тепловую и рассеива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Содержимое 1"/>
          <p:cNvSpPr/>
          <p:nvPr/>
        </p:nvSpPr>
        <p:spPr>
          <a:xfrm rot="16200000">
            <a:off x="-3214440" y="3214440"/>
            <a:ext cx="6858000" cy="42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67"/>
          <p:cNvGrpSpPr/>
          <p:nvPr/>
        </p:nvGrpSpPr>
        <p:grpSpPr>
          <a:xfrm>
            <a:off x="5144040" y="4286160"/>
            <a:ext cx="3212640" cy="1569240"/>
            <a:chOff x="5144040" y="4286160"/>
            <a:chExt cx="3212640" cy="1569240"/>
          </a:xfrm>
        </p:grpSpPr>
        <p:grpSp>
          <p:nvGrpSpPr>
            <p:cNvPr id="259" name="Group 18"/>
            <p:cNvGrpSpPr/>
            <p:nvPr/>
          </p:nvGrpSpPr>
          <p:grpSpPr>
            <a:xfrm>
              <a:off x="5144040" y="5332320"/>
              <a:ext cx="3069720" cy="523080"/>
              <a:chOff x="5144040" y="5332320"/>
              <a:chExt cx="3069720" cy="523080"/>
            </a:xfrm>
          </p:grpSpPr>
          <p:grpSp>
            <p:nvGrpSpPr>
              <p:cNvPr id="260" name="Group 19"/>
              <p:cNvGrpSpPr/>
              <p:nvPr/>
            </p:nvGrpSpPr>
            <p:grpSpPr>
              <a:xfrm>
                <a:off x="5144040" y="5332320"/>
                <a:ext cx="3069720" cy="523080"/>
                <a:chOff x="5144040" y="5332320"/>
                <a:chExt cx="3069720" cy="523080"/>
              </a:xfrm>
            </p:grpSpPr>
            <p:sp>
              <p:nvSpPr>
                <p:cNvPr id="261" name="Line 20"/>
                <p:cNvSpPr/>
                <p:nvPr/>
              </p:nvSpPr>
              <p:spPr>
                <a:xfrm flipH="1">
                  <a:off x="5144040" y="5592960"/>
                  <a:ext cx="3069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21"/>
                <p:cNvSpPr/>
                <p:nvPr/>
              </p:nvSpPr>
              <p:spPr>
                <a:xfrm rot="10800000">
                  <a:off x="6010200" y="5332320"/>
                  <a:ext cx="1415160" cy="523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Line 22"/>
              <p:cNvSpPr/>
              <p:nvPr/>
            </p:nvSpPr>
            <p:spPr>
              <a:xfrm>
                <a:off x="6627240" y="5433840"/>
                <a:ext cx="336600" cy="31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Line 23"/>
              <p:cNvSpPr/>
              <p:nvPr/>
            </p:nvSpPr>
            <p:spPr>
              <a:xfrm>
                <a:off x="6395400" y="5427360"/>
                <a:ext cx="336600" cy="31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Text Box 24"/>
            <p:cNvSpPr/>
            <p:nvPr/>
          </p:nvSpPr>
          <p:spPr>
            <a:xfrm>
              <a:off x="5168880" y="4286160"/>
              <a:ext cx="318780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R1  13 К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6" descr="Радиаторы"/>
          <p:cNvPicPr/>
          <p:nvPr/>
        </p:nvPicPr>
        <p:blipFill>
          <a:blip r:embed="rId1"/>
          <a:stretch/>
        </p:blipFill>
        <p:spPr>
          <a:xfrm>
            <a:off x="2286000" y="414324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http://www.lingerie-magazin.ru/data/Image/znak2.jpg"/>
          <p:cNvPicPr/>
          <p:nvPr/>
        </p:nvPicPr>
        <p:blipFill>
          <a:blip r:embed="rId2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3611A-D611-4AC9-A90A-9EC578081A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4880" y="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3300"/>
                </a:solidFill>
                <a:latin typeface="Calibri"/>
              </a:rPr>
              <a:t>Эквивалентные схемы замещения резистор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14520" y="461952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сопротивление РЭ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из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1 ГОм – сопротивление изоляции резистора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r=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0,1...1 Ом – сопротивление выводов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–10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–9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Г – индуктивность РЭ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–1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..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–1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Ф – электрическая емкость между выводами резистора,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Calibri"/>
              </a:rPr>
              <a:t>з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=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–12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Ф – электрическая емкость корпуса резистора относительно земли (общего провода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3"/>
          <p:cNvSpPr/>
          <p:nvPr/>
        </p:nvSpPr>
        <p:spPr>
          <a:xfrm>
            <a:off x="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9" name="Object 2"/>
          <p:cNvGraphicFramePr/>
          <p:nvPr/>
        </p:nvGraphicFramePr>
        <p:xfrm>
          <a:off x="-316080" y="500040"/>
          <a:ext cx="9460080" cy="43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16080" y="500040"/>
                    <a:ext cx="9460080" cy="43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Rectangle 14"/>
          <p:cNvSpPr/>
          <p:nvPr/>
        </p:nvSpPr>
        <p:spPr>
          <a:xfrm>
            <a:off x="0" y="443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04E9-9FF9-419C-9423-0936493C7B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06028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Calibri"/>
              </a:rPr>
              <a:t>Характеристики и применение резисторов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4"/>
          <p:cNvSpPr/>
          <p:nvPr/>
        </p:nvSpPr>
        <p:spPr>
          <a:xfrm>
            <a:off x="214200" y="142920"/>
            <a:ext cx="8572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проволочные тонкослойные постоянные резисто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резисторы широкого применения с допускам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 %,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0 % или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0 % и мощностью от 0,125 до 2 Вт. К этой же категории относятся резисторы типа МЛТ, МТ и ВС. ТКС МТ и МЛТ не превышает 0,02 % 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Уровень шумов для группы А не более 1 мкВ /В, для группы Б – не более 10 мкВ /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Группа С1. У резисторов этой группы токопроводящий слой представляет собой плёнку пиролитического углерода осаждённую на керамическое осн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Группа С2, у резисторов группы токопроводящий слой представляет собой очень тонкую (десятые доли мкм) плёнку сплава металла или оксида метал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4"/>
          <p:cNvSpPr/>
          <p:nvPr/>
        </p:nvSpPr>
        <p:spPr>
          <a:xfrm>
            <a:off x="1349280" y="696960"/>
            <a:ext cx="6596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а С1.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лю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. С1 характеризуются высокой стабильностью сопроти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2. Низким уровнем шу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3. Небольшим отрицательным ТК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4. Слабая зависимость сопротивления от част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5. Слабая зависимость от приложенного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Бороуглеродистые резисторы БЛП по стабильности сопротивления могут не уступать проволочным резистор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ТКС = - (0,012…0,025) %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ff3300"/>
                </a:solidFill>
                <a:latin typeface="Symbol"/>
                <a:ea typeface="Symbol"/>
              </a:rPr>
              <a:t>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1262160" y="4919760"/>
            <a:ext cx="657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а С1. </a:t>
            </a: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Мину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</a:rPr>
              <a:t>1. Резисторы группы С1 имеют большие габариты, чем С2 при равной мощ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4"/>
          <p:cNvSpPr/>
          <p:nvPr/>
        </p:nvSpPr>
        <p:spPr>
          <a:xfrm>
            <a:off x="892080" y="587520"/>
            <a:ext cx="753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ппа С2.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Плю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. Имеют меньшие габариты, чем С1 при равной мощности, так как металл обладает большей теплостойкостью чем угле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2. Высокая стабильность пара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3. Слабая зависимость сопротивления от част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4. Слабая зависимость сопротивления от напря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. Высокая надёж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806400" y="2809800"/>
            <a:ext cx="75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ппа С2. </a:t>
            </a:r>
            <a:r>
              <a:rPr b="1" lang="ru-RU" sz="1800" spc="-1" strike="noStrike">
                <a:solidFill>
                  <a:srgbClr val="c0504d"/>
                </a:solidFill>
                <a:latin typeface="Arial"/>
              </a:rPr>
              <a:t>Мину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1.</a:t>
            </a:r>
            <a:r>
              <a:rPr b="0" i="1" lang="ru-RU" sz="1800" spc="-1" strike="noStrike">
                <a:solidFill>
                  <a:srgbClr val="c0504d"/>
                </a:solidFill>
                <a:latin typeface="Arial"/>
              </a:rPr>
              <a:t> Для некоторых</a:t>
            </a: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 – пониженная надёжность при повышенной номинальной мо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2. Небольшая стойкость к импульсной нагруз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504d"/>
                </a:solidFill>
                <a:latin typeface="Arial"/>
              </a:rPr>
              <a:t>3. Меньший частотный диапазон, чем у углеродистых резисторов. Это потому, что у металлоплёночных резисторов токопроводящий слой толще, чем у углеродистых, поэтому увеличивается паразитная ёмкость между витками резистивной спир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6"/>
          <p:cNvSpPr/>
          <p:nvPr/>
        </p:nvSpPr>
        <p:spPr>
          <a:xfrm>
            <a:off x="762120" y="5246640"/>
            <a:ext cx="772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снове С2 создаются прецизионные резисторы с допусками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,1%...1%. Прецизионные резисторы имеют большие габариты, чем резисторы общего назна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92DA-9C12-472F-8BBB-0FC5D79761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620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Тонкослойные углеродистые резист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35040" y="3630600"/>
          <a:ext cx="8229600" cy="3019320"/>
        </p:xfrm>
        <a:graphic>
          <a:graphicData uri="http://schemas.openxmlformats.org/drawingml/2006/table">
            <a:tbl>
              <a:tblPr/>
              <a:tblGrid>
                <a:gridCol w="1390680"/>
                <a:gridCol w="1350720"/>
                <a:gridCol w="1644840"/>
                <a:gridCol w="1279440"/>
                <a:gridCol w="1096920"/>
                <a:gridCol w="1467000"/>
              </a:tblGrid>
              <a:tr h="688680">
                <a:tc gridSpan="6">
                  <a:txBody>
                    <a:bodyPr lIns="90000" rIns="9000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едельные значения параметров тонкослойных углеродистых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резисторов общего применения ВС, БЛП, С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5000">
                <a:tc>
                  <a:txBody>
                    <a:bodyPr lIns="90000" rIns="9000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номинальных мощностей, В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номинальных сопротив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лений, Ом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опускаемые отклонения сопротивлений, 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едельное напряжение, 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7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ТКС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4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1/К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рабочих температур,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С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5640">
                <a:tc>
                  <a:txBody>
                    <a:bodyPr lIns="18000" rIns="1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5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</a:t>
                      </a:r>
                      <a:r>
                        <a:rPr b="0" lang="ru-RU" sz="19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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;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;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;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;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; 250; 350; 5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7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6" name="Rectangle 109"/>
          <p:cNvSpPr/>
          <p:nvPr/>
        </p:nvSpPr>
        <p:spPr>
          <a:xfrm>
            <a:off x="573120" y="898920"/>
            <a:ext cx="8121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глеродистые резисторы дешевы, имеют относительно небольшой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К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малый коэффициент напряжения, низкий уровень токовых шумов, удовлетворительную стабильность во времени. Эти резисторы характеризуются высокой стойкостью к радиационным воздействиям, малой чувствительностью к электрическим перегрузкам и импульсным нагрузкам и предназначены для работы в электрических цепях постоянного, переменного и импульсного то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FD49-1526-4CC4-A1BF-A7BF9369CA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Тонкослойные металлодиэлектрические и металлоокисные резистор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60200" y="944640"/>
            <a:ext cx="8818560" cy="17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основным электрическим характеристикам металлодиэлектрические резисторы превосходят углеродистые, так как они более стабильны, теплостойки и влагостойки. Вследствие лучшего теплоотвода габаритные размеры металлодиэлектрических резисторов при одинаковой номинальной мощности рассеяния в 1,5...2 раза меньше, чем углеродистых. Поэтому всюду, где возможно, металлодиэлектрические резисторы рекомендуется применять вместо других типов резисто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5"/>
          <p:cNvSpPr/>
          <p:nvPr/>
        </p:nvSpPr>
        <p:spPr>
          <a:xfrm>
            <a:off x="2546280" y="2606760"/>
            <a:ext cx="70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41"/>
          <p:cNvSpPr/>
          <p:nvPr/>
        </p:nvSpPr>
        <p:spPr>
          <a:xfrm>
            <a:off x="2546280" y="2606760"/>
            <a:ext cx="67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420840" y="2940120"/>
          <a:ext cx="7983360" cy="3421080"/>
        </p:xfrm>
        <a:graphic>
          <a:graphicData uri="http://schemas.openxmlformats.org/drawingml/2006/table">
            <a:tbl>
              <a:tblPr/>
              <a:tblGrid>
                <a:gridCol w="1347480"/>
                <a:gridCol w="1347840"/>
                <a:gridCol w="1386000"/>
                <a:gridCol w="1335240"/>
                <a:gridCol w="1334880"/>
                <a:gridCol w="1231920"/>
              </a:tblGrid>
              <a:tr h="941400"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едельные значения параметров тонкослойных металло-диэлектрических  резисторов общего применени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МЛТ, С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13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номинальных мощностей, В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номинальных сопротивле-ний, 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опускае-мые отклоне-ния сопро-тивлений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едель-ное напряжение,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ТК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рабочих температур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5..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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</a:t>
                      </a:r>
                      <a:r>
                        <a:rPr b="0" lang="ru-RU" sz="20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;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;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; 250; 350; 500; 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5...1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..+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6F32-4BAC-4DD0-BBCB-F94DE0A674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Физическая природа электросопротивления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тонкослойных непроволочных резисторов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4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34"/>
          <p:cNvSpPr/>
          <p:nvPr/>
        </p:nvSpPr>
        <p:spPr>
          <a:xfrm>
            <a:off x="9250200" y="6163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49"/>
          <p:cNvSpPr/>
          <p:nvPr/>
        </p:nvSpPr>
        <p:spPr>
          <a:xfrm>
            <a:off x="0" y="302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52"/>
          <p:cNvGrpSpPr/>
          <p:nvPr/>
        </p:nvGrpSpPr>
        <p:grpSpPr>
          <a:xfrm>
            <a:off x="195120" y="763200"/>
            <a:ext cx="8650440" cy="5892120"/>
            <a:chOff x="195120" y="763200"/>
            <a:chExt cx="8650440" cy="5892120"/>
          </a:xfrm>
        </p:grpSpPr>
        <p:sp>
          <p:nvSpPr>
            <p:cNvPr id="598" name="Rectangle 425"/>
            <p:cNvSpPr/>
            <p:nvPr/>
          </p:nvSpPr>
          <p:spPr>
            <a:xfrm>
              <a:off x="195120" y="763200"/>
              <a:ext cx="4992840" cy="58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Удельное электросопротивление границы плен-ки 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уменьшается с температурой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по закон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            (7.8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где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h=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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5 нм – ширина границы между отдель-ными зернами, м;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(1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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1,5) эВ – работа выхо-да электронов из зерна;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≈0,9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– коэффициент, учитывающий многократные отражения элект-ронов от поверхности пленки;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1,6×10</a:t>
              </a:r>
              <a:r>
                <a:rPr b="0" lang="ru-RU" sz="1800" spc="-1" strike="noStrike" baseline="30000">
                  <a:solidFill>
                    <a:srgbClr val="000000"/>
                  </a:solidFill>
                  <a:latin typeface="Arial"/>
                </a:rPr>
                <a:t>–19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Кл – заряд электрона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,6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×10</a:t>
              </a:r>
              <a:r>
                <a:rPr b="0" lang="ru-RU" sz="1800" spc="-1" strike="noStrike" baseline="30000">
                  <a:solidFill>
                    <a:srgbClr val="000000"/>
                  </a:solidFill>
                  <a:latin typeface="Arial"/>
                </a:rPr>
                <a:t>–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эВ/К – постоянная Больцмана, </a:t>
              </a:r>
              <a:r>
                <a:rPr b="0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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8,85×10</a:t>
              </a:r>
              <a:r>
                <a:rPr b="0" lang="ru-RU" sz="1800" spc="-1" strike="noStrike" baseline="30000">
                  <a:solidFill>
                    <a:srgbClr val="000000"/>
                  </a:solidFill>
                  <a:latin typeface="Arial"/>
                </a:rPr>
                <a:t>–12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Ф/м – электрическая постоянная;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              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нстанта, зависящая от структуры пленк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ТК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тонкой пленки можно рассчитать из выраж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.            (7.9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99" name="Object 2"/>
            <p:cNvGraphicFramePr/>
            <p:nvPr/>
          </p:nvGraphicFramePr>
          <p:xfrm>
            <a:off x="5386320" y="1103400"/>
            <a:ext cx="3436920" cy="3287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0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86320" y="1103400"/>
                      <a:ext cx="3436920" cy="3287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601" name="Object 3"/>
                <p:cNvSpPr txBox="1"/>
                <p:nvPr/>
              </p:nvSpPr>
              <p:spPr>
                <a:xfrm>
                  <a:off x="1752480" y="4594320"/>
                  <a:ext cx="1095480" cy="50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»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  <m:sup>
                          <m:r>
                            <m:t xml:space="preserve">7</m:t>
                          </m:r>
                        </m:sup>
                      </m:sSup>
                      <m:f>
                        <m:num>
                          <m:r>
                            <m:t xml:space="preserve">À</m:t>
                          </m:r>
                        </m:num>
                        <m:den>
                          <m:sSup>
                            <m:e>
                              <m:r>
                                <m:t xml:space="preserve">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æ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2" name="Object 4"/>
                <p:cNvSpPr txBox="1"/>
                <p:nvPr/>
              </p:nvSpPr>
              <p:spPr>
                <a:xfrm>
                  <a:off x="1397160" y="5626080"/>
                  <a:ext cx="2412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ρ</m:t>
                          </m:r>
                        </m:den>
                      </m:f>
                      <m:f>
                        <m:num>
                          <m:r>
                            <m:t xml:space="preserve">dρ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»-</m:t>
                      </m:r>
                      <m:f>
                        <m:num>
                          <m:r>
                            <m:t xml:space="preserve">W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h</m:t>
                              </m:r>
                            </m:sub>
                          </m:sSub>
                        </m:num>
                        <m:den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T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3" name="Object 5"/>
                <p:cNvSpPr txBox="1"/>
                <p:nvPr/>
              </p:nvSpPr>
              <p:spPr>
                <a:xfrm>
                  <a:off x="1282680" y="1593720"/>
                  <a:ext cx="2481120" cy="126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k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CeTh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ex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W</m:t>
                              </m:r>
                              <m:r>
                                <m:t xml:space="preserve">−</m:t>
                              </m:r>
                              <m:r>
                                <m:t xml:space="preserve">g</m:t>
                              </m:r>
                              <m:f>
                                <m:num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4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pe</m:t>
                                      </m:r>
                                    </m:e>
                                    <m:sub>
                                      <m:r>
                                        <m:t xml:space="preserve">o</m:t>
                                      </m:r>
                                    </m:sub>
                                  </m:sSub>
                                  <m:r>
                                    <m:t xml:space="preserve">h</m:t>
                                  </m:r>
                                </m:den>
                              </m:f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kT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604" name="Rectangle 451"/>
            <p:cNvSpPr/>
            <p:nvPr/>
          </p:nvSpPr>
          <p:spPr>
            <a:xfrm>
              <a:off x="5356080" y="4240080"/>
              <a:ext cx="3489480" cy="20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 учетом объемного электро-сопротивления зерна суммарное значение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ТК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пленочного РЭ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ТК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определяется вкладом двух составляющих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ТК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ТК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оз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ТК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гр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  (7.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4"/>
          <p:cNvSpPr/>
          <p:nvPr/>
        </p:nvSpPr>
        <p:spPr>
          <a:xfrm>
            <a:off x="571680" y="21420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озиционные резисто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группы С3 и С4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5"/>
          <p:cNvSpPr/>
          <p:nvPr/>
        </p:nvSpPr>
        <p:spPr>
          <a:xfrm>
            <a:off x="571680" y="785880"/>
            <a:ext cx="7786440" cy="48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истивный элемент этих резисторов изготовляется на основе композиций, состоящих из смеси порошкообразного проводника (сажа, графит и др.) и органического или неорганического диэлектрика. В зависимости от состава композиционные материалы имеют очень широкий диапазон удельных сопротивлений. В резисторах группы С3 полученную композицию наносят на поверхность изоляционного основания, в резисторах группы С4 композицию спрессовывают в виде объёмного цилиндра или параллелепипеда. Резисторы С4 имеют прямоугольную форму и предназначены для установки на печатных платах. С4 обладают высокой теплостойкостью (до 350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) и имеют небольшие габарит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достатком композиционных резисторов является высокий уровень токовых шумов, что объясняется их крупнозернистой структурой их матери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C5BB-22CE-4675-9DE9-F7C3DB8301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16668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Физическая природа электросопротивления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композиционных непроволочных резисторов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971640"/>
            <a:ext cx="453708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Композиционные резистивные элемен-т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едставляют собой гетерогенную смесь (композицию), состоящую из неско-льких компонент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водящий компонент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еспечивает электропроводность РЭ. 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честве прово-дящего компонента обычно применяются порошок графита или сажа . В качестве на-полнителей обычно применяют корундо-вые, слюдяные, фарфоровые, кварцевые по-рошки, TiО2, ZrO2, тальк, асбест, стекло-волокно. Объемная концентрация напол-нителей составляет 3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5% в пленочных композициях и 50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0% в объемных композициях. Температурный коэффициент сопротивления композиции рав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КС = ТК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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ТК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                (7.1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3" name="Object 2"/>
          <p:cNvGraphicFramePr/>
          <p:nvPr/>
        </p:nvGraphicFramePr>
        <p:xfrm>
          <a:off x="5330880" y="1535040"/>
          <a:ext cx="306684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0880" y="1535040"/>
                    <a:ext cx="306684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Делитель напряжения - stoom"/>
          <p:cNvPicPr/>
          <p:nvPr/>
        </p:nvPicPr>
        <p:blipFill>
          <a:blip r:embed="rId1"/>
          <a:srcRect l="4408" t="6513" r="7350" b="11683"/>
          <a:stretch/>
        </p:blipFill>
        <p:spPr>
          <a:xfrm>
            <a:off x="4857840" y="3357720"/>
            <a:ext cx="4286160" cy="35002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1.03. Делители напряжения"/>
          <p:cNvPicPr/>
          <p:nvPr/>
        </p:nvPicPr>
        <p:blipFill>
          <a:blip r:embed="rId2"/>
          <a:stretch/>
        </p:blipFill>
        <p:spPr>
          <a:xfrm>
            <a:off x="571680" y="1785960"/>
            <a:ext cx="4357440" cy="418320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8"/>
          <p:cNvSpPr/>
          <p:nvPr/>
        </p:nvSpPr>
        <p:spPr>
          <a:xfrm>
            <a:off x="911520" y="915840"/>
            <a:ext cx="5479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вых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= 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 =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вх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 + R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Заголовок 1"/>
          <p:cNvSpPr/>
          <p:nvPr/>
        </p:nvSpPr>
        <p:spPr>
          <a:xfrm>
            <a:off x="785880" y="214200"/>
            <a:ext cx="7358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литель напря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одержимое 1"/>
          <p:cNvSpPr/>
          <p:nvPr/>
        </p:nvSpPr>
        <p:spPr>
          <a:xfrm rot="16200000">
            <a:off x="-3214440" y="3214440"/>
            <a:ext cx="6858000" cy="42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8"/>
          <p:cNvSpPr/>
          <p:nvPr/>
        </p:nvSpPr>
        <p:spPr>
          <a:xfrm>
            <a:off x="4957200" y="2428920"/>
            <a:ext cx="427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обходимо учиты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противление нагрузки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4"/>
          <p:cNvSpPr/>
          <p:nvPr/>
        </p:nvSpPr>
        <p:spPr>
          <a:xfrm>
            <a:off x="1571760" y="696960"/>
            <a:ext cx="59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лёночные композиционные резист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979560" y="2394000"/>
            <a:ext cx="7205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а С3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. Плю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. Очень высокая надё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а С3</a:t>
            </a: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. Мину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</a:rPr>
              <a:t>1. Сильная зависимость сопротивление от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</a:rPr>
              <a:t>2. Низкая стабильность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CA40-F1A0-4E3E-A973-669BC9AE23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Композиционные пленочные резистор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6840" y="934920"/>
            <a:ext cx="8218440" cy="21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мпозиционные пленочные резисторы характеризуются, как правило, большими значениями номинальных сопротивлений, достигающими 100 ГОм, относительно высокими значениями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КС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достатком композиционных пленочных резисторов является довольно высокое значение уровня шумов, достигающее 15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40 мкВ/В. Резисторы предназначены для работы в электрических цепях постоянного и переменного ток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684360" y="3143160"/>
          <a:ext cx="7692840" cy="3368880"/>
        </p:xfrm>
        <a:graphic>
          <a:graphicData uri="http://schemas.openxmlformats.org/drawingml/2006/table">
            <a:tbl>
              <a:tblPr/>
              <a:tblGrid>
                <a:gridCol w="1293840"/>
                <a:gridCol w="1292040"/>
                <a:gridCol w="1328760"/>
                <a:gridCol w="1282680"/>
                <a:gridCol w="1271520"/>
                <a:gridCol w="1224000"/>
              </a:tblGrid>
              <a:tr h="744480">
                <a:tc gridSpan="6">
                  <a:txBody>
                    <a:bodyPr lIns="90000" rIns="90000" tIns="49320" bIns="493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едельные значения параметров композиционных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леночных резисторов (С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3160"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номиналь-ных мощ-ностей, В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номиналь-ных сопро-тивлений, Ом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опускае-мые откло-нения сопро-тивлений, 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едель-ное напря-жение, 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ТКС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4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/К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рабочих температур,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С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5...0,2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</a:t>
                      </a:r>
                      <a:r>
                        <a:rPr b="0" lang="ru-RU" sz="19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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 100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</a:t>
                      </a:r>
                      <a:r>
                        <a:rPr b="0" lang="ru-RU" sz="19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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;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;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;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; 100; 200; 350; 1000;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50400" bIns="50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0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4"/>
          <p:cNvSpPr/>
          <p:nvPr/>
        </p:nvSpPr>
        <p:spPr>
          <a:xfrm>
            <a:off x="1262160" y="806400"/>
            <a:ext cx="6640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а С4 с органическими связующими материалами.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Плю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. Высокая стабильность пара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2. Пониженный уровень собственных шум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а С4 с органическими связующими материалами.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Мину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c0504d"/>
                </a:solidFill>
                <a:latin typeface="Arial"/>
              </a:rPr>
              <a:t>1. Сравнительно низкая надёжность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5"/>
          <p:cNvSpPr/>
          <p:nvPr/>
        </p:nvSpPr>
        <p:spPr>
          <a:xfrm>
            <a:off x="1241280" y="3330720"/>
            <a:ext cx="6748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а С4 с неорганическими связующими материалами.</a:t>
            </a: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лю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. Очень высокая надё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2. Сопротивление этих резисторов практически не зависит от напря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3. Слабая зависимость от частоты до частоты 50 кГ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а С4 с неорганическими связующими материалами.</a:t>
            </a: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 Мину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</a:rPr>
              <a:t>1. Низкая стабильность сопротивл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9508-D592-451B-8648-42600BFCC2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Композиционные объемные резисто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851040"/>
            <a:ext cx="8229600" cy="57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пуск постоянных резисторов с объемным резистивным элементом в настоящее время ограничен тремя типами: С4-2, ТВО и С4-3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зисторы типа С4-2 и ТВО (теплостойкие, влагостойкие объемные) имеют прямоугольную форму с запрессованными в объемный резистивный элемент осевыми выводами. Диапазон номинальных сопротивлений достигает 1 Ом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 МОм, допускаемые отклонения сопротивлений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±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,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±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,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±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0%. Номинальные мощности рассеяния резисторов типа С4-2 находятся в пределах от 0,25 до 2 Вт, а резисторов типа ТВО – от 0,125 до 60 В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изкоомные резисторы С4-3  (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= 1,8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8 Ом) выполнены в виде колец с наружным диаметром 9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2 мм и нанесенными на торцы контактными площадк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ъемные композиционные резисторы характеризуются сравнительно невысоким уровнем шумов (3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 мкВ/В), хорошо выдерживают импульсные перегруз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4"/>
          <p:cNvSpPr/>
          <p:nvPr/>
        </p:nvSpPr>
        <p:spPr>
          <a:xfrm>
            <a:off x="1143000" y="784080"/>
            <a:ext cx="62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волочные  резистор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групп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5"/>
          <p:cNvSpPr/>
          <p:nvPr/>
        </p:nvSpPr>
        <p:spPr>
          <a:xfrm>
            <a:off x="870120" y="1503360"/>
            <a:ext cx="7445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лочные резисторы выполняют обычно на цилиндрическом изоляционном основании с одно или многослойной обмоткой из провода высокого сопротивления. Провод и контактные узлы защищают, как правило, эмалевыми покрытиями. Для уменьшения паразитных параметров (большая собственная индуктивность и большая собственная ёмкость) применяют обмотки специальных видов. Для уменьшения индуктивности применя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ифилярную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мотку, при которой обмотку резистора выполняют сдвоенным проводом, благодаря чему магнитные поля расположенных рядом витков направлены навстречу друг другу и вычитаются. Уменьшение индуктивности также достигается намоткой провода на плоский каркас. Недостатком бифилярной намотки является большая собственная ёмк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4"/>
          <p:cNvSpPr/>
          <p:nvPr/>
        </p:nvSpPr>
        <p:spPr>
          <a:xfrm>
            <a:off x="357120" y="500040"/>
            <a:ext cx="8072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лучения малых индуктивности и ёмкости применяют разбивку обмотки на секции, в каждой из которых поочерёдно меняется направление намотки. Проволочные резисторы значительно дороже тонкоплёночных, поэтому применяют их в тех случаях, когда характеристики тонкоплёночных резисторов не удовлетворяют предъявляемым требовани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571680" y="3143160"/>
            <a:ext cx="79120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6"/>
          <p:cNvSpPr/>
          <p:nvPr/>
        </p:nvSpPr>
        <p:spPr>
          <a:xfrm>
            <a:off x="1414440" y="1219320"/>
            <a:ext cx="635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а С5.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лю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. Высокая стабильность сопроти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2. Низкий уровень собственных шум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3.  Большая номинальная мощ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4. Высокая точность сопроти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7"/>
          <p:cNvSpPr/>
          <p:nvPr/>
        </p:nvSpPr>
        <p:spPr>
          <a:xfrm>
            <a:off x="1436760" y="3330720"/>
            <a:ext cx="6270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уппа С5. </a:t>
            </a: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Мину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</a:rPr>
              <a:t>1. Сравнительно большие паразитные реактивные парамет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</a:rPr>
              <a:t>2. Применение на достаточно низких часто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504d"/>
                </a:solidFill>
                <a:latin typeface="Arial"/>
              </a:rPr>
              <a:t>3. Сравнительно высокая стоим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1324-1F83-4A73-AAB3-6EFB737C07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Проволочные резисторы постоянного сопротивл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Rectangle 9"/>
          <p:cNvSpPr/>
          <p:nvPr/>
        </p:nvSpPr>
        <p:spPr>
          <a:xfrm>
            <a:off x="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773280" y="3298680"/>
          <a:ext cx="8073720" cy="3192480"/>
        </p:xfrm>
        <a:graphic>
          <a:graphicData uri="http://schemas.openxmlformats.org/drawingml/2006/table">
            <a:tbl>
              <a:tblPr/>
              <a:tblGrid>
                <a:gridCol w="1352520"/>
                <a:gridCol w="1350720"/>
                <a:gridCol w="1459080"/>
                <a:gridCol w="1244520"/>
                <a:gridCol w="1387440"/>
                <a:gridCol w="1279440"/>
              </a:tblGrid>
              <a:tr h="640080"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едельные значения параметров прецизионных проволочных резист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4400"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номиналь-ных мощно-стей, В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номиналь-ных сопро-тивлений, 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опускаемые отклонения сопро-тивлений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едель-ное напря-жение,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ТК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1/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рабочих температур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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..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00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0" name="Rectangle 105"/>
          <p:cNvSpPr/>
          <p:nvPr/>
        </p:nvSpPr>
        <p:spPr>
          <a:xfrm>
            <a:off x="762120" y="786960"/>
            <a:ext cx="7978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ают несколько групп проволочных резисторов постоянного сопротив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очные и прецизионные резисто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именяемые в метрологической аппаратуре, в электро- и радиоизмерительных приборах и вычислительной техни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соковольтные проволоч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грузочные (гасящие) проволочные резисто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уемые для понижения напряжения в цепях постоянного тока радиоэлектронных сре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4"/>
          <p:cNvSpPr/>
          <p:nvPr/>
        </p:nvSpPr>
        <p:spPr>
          <a:xfrm>
            <a:off x="1214280" y="142920"/>
            <a:ext cx="66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сокочастотные резисторы и резисторы СВЧ (группа С6 и друг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571680" y="1285920"/>
            <a:ext cx="8143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резисторы имеют небольшие собственную ёмкость и индуктивность. Это обеспечивается отсутствием спиральной нарезки. Сопротивление при этом не превышает 200…300 Ом. В ряде случаев высокочастотные резисторы изготавливают без проволочных выводов и эмалевого покрытия, что уменьшает паразитную индуктивность и шунтирующее действие диэлектрика. Резисторы группы С6 способны работать на частотах до 10 ГГц. К категории высокочастотных относятся также резисторы типов: С2 – 11, С2 – 34, МЛН (металлооксидные незащищённые) и МОУ (металлооксидные ультравысокочастотные). На высоких частотах кроме того применяют микропроволочные малогабаритные резисторы С5 – 32 Т, имеющее длину 6 мм, диаметр 2,6 мм и паразитную индуктивность не более 0,1 мкГн. С5 – 32 Т имеют мощность 0.125 Вт, номинальное сопротивление от 0,24 до 300 Ом и точность 0,5 %; 1 %; 2 %; 5 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C912-C6A2-4F9D-90AC-F4D48901AF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Резисторы переменного сопротивл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4"/>
          <p:cNvSpPr/>
          <p:nvPr/>
        </p:nvSpPr>
        <p:spPr>
          <a:xfrm>
            <a:off x="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773280" y="3298680"/>
          <a:ext cx="8073720" cy="3192480"/>
        </p:xfrm>
        <a:graphic>
          <a:graphicData uri="http://schemas.openxmlformats.org/drawingml/2006/table">
            <a:tbl>
              <a:tblPr/>
              <a:tblGrid>
                <a:gridCol w="1352520"/>
                <a:gridCol w="1350720"/>
                <a:gridCol w="1459080"/>
                <a:gridCol w="1244520"/>
                <a:gridCol w="1387440"/>
                <a:gridCol w="1279440"/>
              </a:tblGrid>
              <a:tr h="640080">
                <a:tc gridSpan="6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едельные значения параметров прецизионных проволочных резист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14400"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номиналь-ных мощно-стей, В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номиналь-ных сопро-тивлений, 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опускаемые отклонения сопро-тивлений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Предель-ное напря-жение,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ТКС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4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 1/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Диапазон рабочих температур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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 CYR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·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</a:t>
                      </a:r>
                      <a:r>
                        <a:rPr b="0" lang="ru-RU" sz="18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…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±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..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0,001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8" name="Rectangle 35"/>
          <p:cNvSpPr/>
          <p:nvPr/>
        </p:nvSpPr>
        <p:spPr>
          <a:xfrm>
            <a:off x="762120" y="786960"/>
            <a:ext cx="7978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ают несколько групп проволочных резисторов постоянного сопротив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очные и прецизионные резисто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именяемые в метрологической аппаратуре, в электро- и радиоизмерительных приборах и вычислительной техник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высоковольтные проволочны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нагрузочные (гасящие) проволочные резисто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уемые для понижения напряжения в цепях постоянного тока радиоэлектронных сре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Заголовок 1"/>
          <p:cNvSpPr/>
          <p:nvPr/>
        </p:nvSpPr>
        <p:spPr>
          <a:xfrm>
            <a:off x="714240" y="285840"/>
            <a:ext cx="7358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литель т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2" descr="Электроизмерительные приборы"/>
          <p:cNvPicPr/>
          <p:nvPr/>
        </p:nvPicPr>
        <p:blipFill>
          <a:blip r:embed="rId1"/>
          <a:srcRect l="0" t="0" r="0" b="30435"/>
          <a:stretch/>
        </p:blipFill>
        <p:spPr>
          <a:xfrm>
            <a:off x="4537080" y="4338720"/>
            <a:ext cx="4606920" cy="2519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Делитель тока"/>
          <p:cNvPicPr/>
          <p:nvPr/>
        </p:nvPicPr>
        <p:blipFill>
          <a:blip r:embed="rId2"/>
          <a:stretch/>
        </p:blipFill>
        <p:spPr>
          <a:xfrm>
            <a:off x="714240" y="1000080"/>
            <a:ext cx="3714840" cy="4924440"/>
          </a:xfrm>
          <a:prstGeom prst="rect">
            <a:avLst/>
          </a:prstGeom>
          <a:ln w="0">
            <a:noFill/>
          </a:ln>
        </p:spPr>
      </p:pic>
      <p:sp>
        <p:nvSpPr>
          <p:cNvPr id="277" name="Прямоугольник 5"/>
          <p:cNvSpPr/>
          <p:nvPr/>
        </p:nvSpPr>
        <p:spPr>
          <a:xfrm>
            <a:off x="3736080" y="1000080"/>
            <a:ext cx="48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вых = Iвх  (R1 / R2 + R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Содержимое 1"/>
          <p:cNvSpPr/>
          <p:nvPr/>
        </p:nvSpPr>
        <p:spPr>
          <a:xfrm rot="16200000">
            <a:off x="-3214440" y="3214440"/>
            <a:ext cx="6858000" cy="42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5564-318F-4474-870B-7A9A8733B0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Проволочные резисторы постоянного сопротивл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37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Group 39"/>
          <p:cNvGrpSpPr/>
          <p:nvPr/>
        </p:nvGrpSpPr>
        <p:grpSpPr>
          <a:xfrm>
            <a:off x="750960" y="840600"/>
            <a:ext cx="7978680" cy="5736240"/>
            <a:chOff x="750960" y="840600"/>
            <a:chExt cx="7978680" cy="5736240"/>
          </a:xfrm>
        </p:grpSpPr>
        <p:sp>
          <p:nvSpPr>
            <p:cNvPr id="655" name="Rectangle 35"/>
            <p:cNvSpPr/>
            <p:nvPr/>
          </p:nvSpPr>
          <p:spPr>
            <a:xfrm>
              <a:off x="750960" y="840600"/>
              <a:ext cx="79786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 конструктивным особенностям различают непроволочные и проволочные переменные резисторы с круговым и прямолинейным перемещением подвижного контакта, одноэлементные и многоэлементные (сдвоенные, строенные и т.д.), однооборотные и многооборотные, с выключателем и без выключателя, с фиксацией и без фиксации положения подвижной системы, с дополнительными и без дополнительных отводов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56" name="Object 2"/>
            <p:cNvGraphicFramePr/>
            <p:nvPr/>
          </p:nvGraphicFramePr>
          <p:xfrm>
            <a:off x="1353960" y="3603600"/>
            <a:ext cx="6496200" cy="2973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53960" y="3603600"/>
                      <a:ext cx="6496200" cy="297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58" name="Rectangle 38"/>
          <p:cNvSpPr/>
          <p:nvPr/>
        </p:nvSpPr>
        <p:spPr>
          <a:xfrm>
            <a:off x="0" y="42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C13D-BB27-442F-8000-C43A7984CE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8360" y="166320"/>
            <a:ext cx="8229600" cy="4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Магниторезистор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6840" y="691920"/>
            <a:ext cx="8372520" cy="57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то радиокомпоненты,  у которых электросопротивление изменяется под воздействием внешнего магнитного поля.  Регулируя напряженность управляю-щего магнитного поля в зазоре или перемещая магниторезистивный элемент в поле постоянного магнита, можно управлять сопротивлением и другими электри-ческими характеристиками резисто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анализа эффекта Холла в полупроводниках следует, что tg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–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где 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– подвижность носителей заряда (электронов или дырок). Для малых углов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можно полагать, что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В данном случае за время свободного пробега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доль электрического поля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оситель заряда пройдет путь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, меньший, чем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 имен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В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≈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os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≈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1-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2)=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1-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/2).                            (7.19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кольку за время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ситель заряда проходит меньший путь вдоль поля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то это равносильно уменьшению дрейфовой скорости v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д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или подвижности, а тем самым и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величению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электросопротивления полупроводни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Очевидно, чт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                                  (7.2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означив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r =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учитывая статистический разброс времени и длин свободного пробега, окончательно получи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                                         (7.2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34"/>
          <p:cNvGrpSpPr/>
          <p:nvPr/>
        </p:nvGrpSpPr>
        <p:grpSpPr>
          <a:xfrm>
            <a:off x="3390840" y="4508640"/>
            <a:ext cx="2691000" cy="1749240"/>
            <a:chOff x="3390840" y="4508640"/>
            <a:chExt cx="2691000" cy="1749240"/>
          </a:xfrm>
        </p:grpSpPr>
        <mc:AlternateContent>
          <mc:Choice xmlns:a14="http://schemas.microsoft.com/office/drawing/2010/main" Requires="a14">
            <p:sp>
              <p:nvSpPr>
                <p:cNvPr id="668" name="Object 2"/>
                <p:cNvSpPr txBox="1"/>
                <p:nvPr/>
              </p:nvSpPr>
              <p:spPr>
                <a:xfrm>
                  <a:off x="3390840" y="4508640"/>
                  <a:ext cx="2691000" cy="77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l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t xml:space="preserve">å</m:t>
                              </m:r>
                            </m:sub>
                          </m:sSub>
                        </m:num>
                        <m:den>
                          <m:r>
                            <m:t xml:space="preserve">l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å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r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å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69" name="Object 3"/>
                <p:cNvSpPr txBox="1"/>
                <p:nvPr/>
              </p:nvSpPr>
              <p:spPr>
                <a:xfrm>
                  <a:off x="3746520" y="5854680"/>
                  <a:ext cx="168912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r</m:t>
                      </m:r>
                      <m:r>
                        <m:t xml:space="preserve">/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å</m:t>
                          </m:r>
                        </m:sub>
                      </m:sSub>
                      <m:r>
                        <m:t xml:space="preserve">=</m:t>
                      </m:r>
                      <m:sSup>
                        <m:e>
                          <m:r>
                            <m:t xml:space="preserve">m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319E-01F6-4D61-8DAB-8DE9A5A22F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Конструкция магниторезис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0" y="23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Object 2"/>
          <p:cNvGraphicFramePr/>
          <p:nvPr/>
        </p:nvGraphicFramePr>
        <p:xfrm>
          <a:off x="1494000" y="954000"/>
          <a:ext cx="6642000" cy="32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4000" y="954000"/>
                    <a:ext cx="664200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Rectangle 9"/>
          <p:cNvSpPr/>
          <p:nvPr/>
        </p:nvSpPr>
        <p:spPr>
          <a:xfrm>
            <a:off x="357120" y="4382280"/>
            <a:ext cx="8329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честве магниторезистивных элементов применяют в основном два полупроводниковых соединения из класса 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бладающих выраженным магниторезистивным эффектом: антимонид индия (InSb) и арсенид индия (InAs). Эти материалы характеризуются небольшой шириной запрещенной зоны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0,17 эВ и 0,36 эВ, соответственно) и очень высокой подвижностью электронов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7,6 и 3,3 м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B650-A237-42AF-8117-6E8400F430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44600" y="2998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Параметры магниторезисто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71680" y="1028880"/>
            <a:ext cx="822960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1. 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Номинальное сопротивление R</a:t>
            </a:r>
            <a:r>
              <a:rPr b="1" lang="ru-RU" sz="2400" spc="-1" strike="noStrike" baseline="-25000">
                <a:solidFill>
                  <a:srgbClr val="000099"/>
                </a:solidFill>
                <a:latin typeface="Calibri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сопротивление магниторезистора в отсутствие магнитного по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2. 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Номинальная мощность рассеяния Р</a:t>
            </a:r>
            <a:r>
              <a:rPr b="1" lang="ru-RU" sz="2400" spc="-1" strike="noStrike" baseline="-25000">
                <a:solidFill>
                  <a:srgbClr val="000099"/>
                </a:solidFill>
                <a:latin typeface="Calibri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– максимально допустимая мощность рассеяния резистора в течение гарантированного срока служб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3. 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Отношение сопротивления R</a:t>
            </a:r>
            <a:r>
              <a:rPr b="1" i="1" lang="ru-RU" sz="2400" spc="-1" strike="noStrike" baseline="-25000">
                <a:solidFill>
                  <a:srgbClr val="000099"/>
                </a:solidFill>
                <a:latin typeface="Calibri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в поперечном магнитном поле с определенным значением индукци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обычн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0,5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к номинальному значению </a:t>
            </a: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R</a:t>
            </a:r>
            <a:r>
              <a:rPr b="1" lang="ru-RU" sz="2400" spc="-1" strike="noStrike" baseline="-25000">
                <a:solidFill>
                  <a:srgbClr val="000099"/>
                </a:solidFill>
                <a:latin typeface="Calibri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R</a:t>
            </a:r>
            <a:r>
              <a:rPr b="1" i="1" lang="ru-RU" sz="2400" spc="-1" strike="noStrike" baseline="-25000">
                <a:solidFill>
                  <a:srgbClr val="000099"/>
                </a:solidFill>
                <a:latin typeface="Calibri"/>
              </a:rPr>
              <a:t>В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 / </a:t>
            </a:r>
            <a:r>
              <a:rPr b="1" i="1" lang="en-US" sz="2400" spc="-1" strike="noStrike">
                <a:solidFill>
                  <a:srgbClr val="000099"/>
                </a:solidFill>
                <a:latin typeface="Calibri"/>
              </a:rPr>
              <a:t>R</a:t>
            </a:r>
            <a:r>
              <a:rPr b="1" lang="ru-RU" sz="2400" spc="-1" strike="noStrike" baseline="-25000">
                <a:solidFill>
                  <a:srgbClr val="000099"/>
                </a:solidFill>
                <a:latin typeface="Calibri"/>
              </a:rPr>
              <a:t>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4. 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Функциональная характеристика R = f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(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B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зависи-мость сопротивления магниторезистора от величины индукции воздействующего магнитного по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5. 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Температурный коэффициент сопротивления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(</a:t>
            </a:r>
            <a:r>
              <a:rPr b="1" i="1" lang="ru-RU" sz="2400" spc="-1" strike="noStrike">
                <a:solidFill>
                  <a:srgbClr val="000099"/>
                </a:solidFill>
                <a:latin typeface="Calibri"/>
              </a:rPr>
              <a:t>ТКС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3276-5482-41C6-A804-50CDA92E94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060280"/>
            <a:ext cx="822960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00"/>
                </a:solidFill>
                <a:latin typeface="Calibri"/>
              </a:rPr>
              <a:t>Проектирование проволочных резисторов</a:t>
            </a:r>
            <a:br>
              <a:rPr sz="4000"/>
            </a:br>
            <a:r>
              <a:rPr b="1" i="1" lang="ru-RU" sz="4000" spc="-1" strike="noStrike">
                <a:solidFill>
                  <a:srgbClr val="cc3300"/>
                </a:solidFill>
                <a:latin typeface="Calibri"/>
              </a:rPr>
              <a:t>постоянного сопротивл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6916-EDC8-41E5-BFE4-C48F3A5D86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8540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Техническое задание на проектирование проволочного резист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09"/>
          <p:cNvSpPr/>
          <p:nvPr/>
        </p:nvSpPr>
        <p:spPr>
          <a:xfrm>
            <a:off x="785880" y="1087920"/>
            <a:ext cx="7908840" cy="20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оминальное сопротивление и отклонение от номинала, 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оминальная мощность рассеяния, В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допустимый нагрев резистивного элемента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условия эксплутации по ГОСТ 1515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массогабаритные характеристики (размеры, масса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14"/>
          <p:cNvSpPr/>
          <p:nvPr/>
        </p:nvSpPr>
        <p:spPr>
          <a:xfrm>
            <a:off x="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8" name="Object 2"/>
          <p:cNvGraphicFramePr/>
          <p:nvPr/>
        </p:nvGraphicFramePr>
        <p:xfrm>
          <a:off x="2214720" y="3646440"/>
          <a:ext cx="4518000" cy="32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4720" y="3646440"/>
                    <a:ext cx="4518000" cy="32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5C92-A8D6-4606-8CD3-AF5CE103D5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85480" y="259920"/>
            <a:ext cx="84121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Порядок проектирования проволочного резистор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88440" y="1033200"/>
            <a:ext cx="8526600" cy="56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Выбор материала провода (манганин, константан, нихром). Производится исходя из условий эксплуатации, допустимой рабочей температуры и требований к стабильности параметр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Расчет диаметра обмоточного провода без изоляции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С этой целью воспользуемся формулой для допустимой плотности тока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протекающего через резистивный элемент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А/мм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                              (7.2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– значение тока через резистор, А;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– сечение провода, мм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з формулы (7.22)  следует, что диаметр провода резистивного элемента без изоляции раве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                               (7.23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132"/>
          <p:cNvGrpSpPr/>
          <p:nvPr/>
        </p:nvGrpSpPr>
        <p:grpSpPr>
          <a:xfrm>
            <a:off x="3314880" y="3309840"/>
            <a:ext cx="2462040" cy="3043440"/>
            <a:chOff x="3314880" y="3309840"/>
            <a:chExt cx="2462040" cy="3043440"/>
          </a:xfrm>
        </p:grpSpPr>
        <mc:AlternateContent>
          <mc:Choice xmlns:a14="http://schemas.microsoft.com/office/drawing/2010/main" Requires="a14">
            <p:sp>
              <p:nvSpPr>
                <p:cNvPr id="703" name="Object 2"/>
                <p:cNvSpPr txBox="1"/>
                <p:nvPr/>
              </p:nvSpPr>
              <p:spPr>
                <a:xfrm>
                  <a:off x="3340080" y="3309840"/>
                  <a:ext cx="1635120" cy="82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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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pd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4" name="Object 3"/>
                <p:cNvSpPr txBox="1"/>
                <p:nvPr/>
              </p:nvSpPr>
              <p:spPr>
                <a:xfrm>
                  <a:off x="3314880" y="5499000"/>
                  <a:ext cx="2462040" cy="85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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pj</m:t>
                              </m:r>
                            </m:den>
                          </m:f>
                        </m:e>
                      </m:rad>
                      <m:r>
                        <m:t xml:space="preserve">»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t xml:space="preserve"></m:t>
                                  </m:r>
                                </m:sub>
                              </m:sSub>
                            </m:num>
                            <m:den>
                              <m:r>
                                <m:t xml:space="preserve">j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5" name="Rectangle 1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0D41-D7AD-4F04-85F7-6F66F07958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85480" y="259920"/>
            <a:ext cx="84121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Порядок проектирования проволочного резистор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88440" y="1046160"/>
            <a:ext cx="842508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формуле (7.23) величина тока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через резистивный элемент рассчитывается исходя из номинальной мощности рассеяния резистора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и номинального сопротивления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                                (7.24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лотность тока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j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выбирается в зависимости от допустимого нагрева резистора, диаметра провода и условий охлаждения; для расчетов могут быть приняты следующие значения плотности тока: для стабильных резисторов 1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 А/мм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для нагрузочных (гасящих) резисторов 5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 А/мм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для резисторов из микропровода 200</a:t>
            </a:r>
            <a:r>
              <a:rPr b="0" lang="ru-RU" sz="22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00 А/мм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 рассчитанному диаметру провода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из справочника выбирается ближайшее стандартное значение диаметра и, в соответствии с допустимой температурой нагрева,  величина диаметра провода в изоляции </a:t>
            </a: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из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1"/>
          <p:cNvSpPr/>
          <p:nvPr/>
        </p:nvSpPr>
        <p:spPr>
          <a:xfrm>
            <a:off x="2546280" y="2606760"/>
            <a:ext cx="70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2"/>
          <p:cNvSpPr/>
          <p:nvPr/>
        </p:nvSpPr>
        <p:spPr>
          <a:xfrm>
            <a:off x="2546280" y="2606760"/>
            <a:ext cx="6778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2"/>
              <p:cNvSpPr txBox="1"/>
              <p:nvPr/>
            </p:nvSpPr>
            <p:spPr>
              <a:xfrm>
                <a:off x="4280040" y="2163600"/>
                <a:ext cx="135720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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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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FA4A7-1F1E-4BE4-B987-A04E9713EA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Порядок проектирования проволочного резистор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6840" y="934560"/>
            <a:ext cx="8218440" cy="560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3. Определение длины обмоточного провода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Calibri"/>
              </a:rPr>
              <a:t>пр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 Для этого воспользуемся формулой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Calibri"/>
              </a:rPr>
              <a:t>пр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=                                      , из которой, после преобразований, следует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,  м,                                         (7.25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– удельное сопротивление провода, Ом×мм</a:t>
            </a:r>
            <a:r>
              <a:rPr b="0" lang="ru-RU" sz="1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/м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4. Расчет площади поверхности охлаждения резистора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Calibri"/>
              </a:rPr>
              <a:t>охл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Приближенно можно считать, что она равна площади наружной поверхности изоляционного основания. Для этого воспользуемся формулой (7.2), из которой получим, что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                                               (7.2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Для точных резисторов с допусками 0,25; 0,5; 1,0% значение удельной мощности рассеяния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Calibri"/>
              </a:rPr>
              <a:t>уд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= 5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500 Вт/м</a:t>
            </a:r>
            <a:r>
              <a:rPr b="0" lang="ru-RU" sz="1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; для резисторов общего применения с допустимой температурой перегрева 5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60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С величина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Calibri"/>
              </a:rPr>
              <a:t>уд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 = 100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1500 Вт/м</a:t>
            </a:r>
            <a:r>
              <a:rPr b="0" lang="ru-RU" sz="1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, для нагрузочных резисторов (например, в цепях питания аппаратуры) </a:t>
            </a: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1900" spc="-1" strike="noStrike" baseline="-25000">
                <a:solidFill>
                  <a:srgbClr val="000000"/>
                </a:solidFill>
                <a:latin typeface="Calibri"/>
              </a:rPr>
              <a:t>уд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= 300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5000 Вт/м</a:t>
            </a:r>
            <a:r>
              <a:rPr b="0" lang="ru-RU" sz="19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4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1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Group 117"/>
          <p:cNvGrpSpPr/>
          <p:nvPr/>
        </p:nvGrpSpPr>
        <p:grpSpPr>
          <a:xfrm>
            <a:off x="2298600" y="1190520"/>
            <a:ext cx="2732040" cy="3619440"/>
            <a:chOff x="2298600" y="1190520"/>
            <a:chExt cx="2732040" cy="3619440"/>
          </a:xfrm>
        </p:grpSpPr>
        <mc:AlternateContent>
          <mc:Choice xmlns:a14="http://schemas.microsoft.com/office/drawing/2010/main" Requires="a14">
            <p:sp>
              <p:nvSpPr>
                <p:cNvPr id="732" name="Object 2"/>
                <p:cNvSpPr txBox="1"/>
                <p:nvPr/>
              </p:nvSpPr>
              <p:spPr>
                <a:xfrm>
                  <a:off x="3475080" y="3975120"/>
                  <a:ext cx="1324080" cy="83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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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ò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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3" name="Object 3"/>
                <p:cNvSpPr txBox="1"/>
                <p:nvPr/>
              </p:nvSpPr>
              <p:spPr>
                <a:xfrm>
                  <a:off x="3441600" y="1612800"/>
                  <a:ext cx="158904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ð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</m:t>
                              </m:r>
                            </m:sub>
                          </m:sSub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o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  <m:r>
                            <m:t xml:space="preserve">ρ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34" name="Object 4"/>
                <p:cNvSpPr txBox="1"/>
                <p:nvPr/>
              </p:nvSpPr>
              <p:spPr>
                <a:xfrm>
                  <a:off x="2298600" y="1190520"/>
                  <a:ext cx="215928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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/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</m:t>
                          </m:r>
                        </m:sub>
                      </m:sSub>
                      <m:r>
                        <m:t xml:space="preserve">(</m:t>
                      </m:r>
                      <m:sSub>
                        <m:e>
                          <m:r>
                            <m:t xml:space="preserve">pd</m:t>
                          </m:r>
                        </m:e>
                        <m:sub>
                          <m:sSup>
                            <m:e>
                              <m:r>
                                <m:t xml:space="preserve">o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b>
                      </m:sSub>
                      <m:r>
                        <m:t xml:space="preserve">/</m:t>
                      </m:r>
                      <m:r>
                        <m:t xml:space="preserve">4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F040-3CDB-46E4-ADAD-5FAF753D1E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Разработка конструкции резистора</a:t>
            </a:r>
            <a:r>
              <a:rPr b="0" lang="ru-RU" sz="2800" spc="-1" strike="noStrike">
                <a:solidFill>
                  <a:srgbClr val="cc33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673200"/>
            <a:ext cx="4038480" cy="59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ем длину намотки по форму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           (7.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гасящих резисторов значение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1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0 мм, для точных резисто-ров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6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9 м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ив длину намотки, следует произвести проверочный расчет размещения обмотки на каркасе, проверив выполнение условия  где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число витков намотки,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1,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,3 – коэффициент неплотности укладки провода. Число витков намотки можно оценить по формул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       (7.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0" name="Group 10"/>
          <p:cNvGrpSpPr/>
          <p:nvPr/>
        </p:nvGrpSpPr>
        <p:grpSpPr>
          <a:xfrm>
            <a:off x="1803240" y="1459080"/>
            <a:ext cx="1420920" cy="4805280"/>
            <a:chOff x="1803240" y="1459080"/>
            <a:chExt cx="1420920" cy="4805280"/>
          </a:xfrm>
        </p:grpSpPr>
        <mc:AlternateContent>
          <mc:Choice xmlns:a14="http://schemas.microsoft.com/office/drawing/2010/main" Requires="a14">
            <p:sp>
              <p:nvSpPr>
                <p:cNvPr id="741" name="Object 3"/>
                <p:cNvSpPr txBox="1"/>
                <p:nvPr/>
              </p:nvSpPr>
              <p:spPr>
                <a:xfrm>
                  <a:off x="1968480" y="1459080"/>
                  <a:ext cx="109080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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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D</m:t>
                              </m:r>
                            </m:e>
                            <m:sub>
                              <m:r>
                                <m:t xml:space="preserve">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2" name="Object 4"/>
                <p:cNvSpPr txBox="1"/>
                <p:nvPr/>
              </p:nvSpPr>
              <p:spPr>
                <a:xfrm>
                  <a:off x="1803240" y="5646600"/>
                  <a:ext cx="1420920" cy="61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ð</m:t>
                              </m:r>
                            </m:sub>
                          </m:sSub>
                        </m:num>
                        <m:den>
                          <m:r>
                            <m:t xml:space="preserve">p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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</m:t>
                              </m:r>
                            </m:sub>
                          </m:sSub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743" name="Object 2"/>
          <p:cNvGraphicFramePr/>
          <p:nvPr/>
        </p:nvGraphicFramePr>
        <p:xfrm>
          <a:off x="4686480" y="1163520"/>
          <a:ext cx="4216320" cy="347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6480" y="1163520"/>
                    <a:ext cx="4216320" cy="347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Содержимое 1"/>
          <p:cNvSpPr/>
          <p:nvPr/>
        </p:nvSpPr>
        <p:spPr>
          <a:xfrm rot="16200000">
            <a:off x="-3214440" y="3214440"/>
            <a:ext cx="6858000" cy="428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7" descr="Технический форум - Показать сообщение отдельно - Светодиод в 220 вольт"/>
          <p:cNvPicPr/>
          <p:nvPr/>
        </p:nvPicPr>
        <p:blipFill>
          <a:blip r:embed="rId1"/>
          <a:stretch/>
        </p:blipFill>
        <p:spPr>
          <a:xfrm>
            <a:off x="1143000" y="365040"/>
            <a:ext cx="7323120" cy="6492960"/>
          </a:xfrm>
          <a:prstGeom prst="rect">
            <a:avLst/>
          </a:prstGeom>
          <a:ln w="0">
            <a:noFill/>
          </a:ln>
        </p:spPr>
      </p:pic>
      <p:sp>
        <p:nvSpPr>
          <p:cNvPr id="281" name="Заголовок 1"/>
          <p:cNvSpPr/>
          <p:nvPr/>
        </p:nvSpPr>
        <p:spPr>
          <a:xfrm>
            <a:off x="571680" y="357120"/>
            <a:ext cx="7358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9" descr="Схемы простых регуляторов для паяльника. Как самому сделать паяльную станцию."/>
          <p:cNvPicPr/>
          <p:nvPr/>
        </p:nvPicPr>
        <p:blipFill>
          <a:blip r:embed="rId2"/>
          <a:stretch/>
        </p:blipFill>
        <p:spPr>
          <a:xfrm>
            <a:off x="357120" y="1357200"/>
            <a:ext cx="8504280" cy="44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B4D6-7363-480C-999D-52666DC38E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Расчёт производственной погрешност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cc3300"/>
                </a:solidFill>
                <a:latin typeface="Symbol"/>
                <a:ea typeface="Symbol"/>
              </a:rPr>
              <a:t></a:t>
            </a:r>
            <a:r>
              <a:rPr b="1" i="1" lang="ru-RU" sz="2800" spc="-1" strike="noStrike">
                <a:solidFill>
                  <a:srgbClr val="cc3300"/>
                </a:solidFill>
                <a:latin typeface="Calibri"/>
              </a:rPr>
              <a:t>R</a:t>
            </a:r>
            <a:r>
              <a:rPr b="1" lang="ru-RU" sz="2800" spc="-1" strike="noStrike" baseline="-25000">
                <a:solidFill>
                  <a:srgbClr val="cc3300"/>
                </a:solidFill>
                <a:latin typeface="Calibri"/>
              </a:rPr>
              <a:t>н</a:t>
            </a:r>
            <a:r>
              <a:rPr b="1" i="1" lang="ru-RU" sz="28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c3300"/>
                </a:solidFill>
                <a:latin typeface="Calibri"/>
              </a:rPr>
              <a:t>и расчет </a:t>
            </a:r>
            <a:r>
              <a:rPr b="1" i="1" lang="ru-RU" sz="2800" spc="-1" strike="noStrike">
                <a:solidFill>
                  <a:srgbClr val="cc3300"/>
                </a:solidFill>
                <a:latin typeface="Calibri"/>
              </a:rPr>
              <a:t>ТКС </a:t>
            </a:r>
            <a:r>
              <a:rPr b="1" lang="ru-RU" sz="2800" spc="-1" strike="noStrike">
                <a:solidFill>
                  <a:srgbClr val="cc3300"/>
                </a:solidFill>
                <a:latin typeface="Symbol"/>
                <a:ea typeface="Symbol"/>
              </a:rPr>
              <a:t></a:t>
            </a:r>
            <a:r>
              <a:rPr b="1" i="1" lang="ru-RU" sz="2800" spc="-1" strike="noStrike" baseline="-25000">
                <a:solidFill>
                  <a:srgbClr val="cc3300"/>
                </a:solidFill>
                <a:latin typeface="Calibri"/>
              </a:rPr>
              <a:t>R,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9"/>
          <p:cNvSpPr/>
          <p:nvPr/>
        </p:nvSpPr>
        <p:spPr>
          <a:xfrm>
            <a:off x="0" y="18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0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119"/>
          <p:cNvGrpSpPr/>
          <p:nvPr/>
        </p:nvGrpSpPr>
        <p:grpSpPr>
          <a:xfrm>
            <a:off x="660240" y="835920"/>
            <a:ext cx="8207640" cy="5918400"/>
            <a:chOff x="660240" y="835920"/>
            <a:chExt cx="8207640" cy="5918400"/>
          </a:xfrm>
        </p:grpSpPr>
        <p:sp>
          <p:nvSpPr>
            <p:cNvPr id="755" name="Rectangle 105"/>
            <p:cNvSpPr/>
            <p:nvPr/>
          </p:nvSpPr>
          <p:spPr>
            <a:xfrm>
              <a:off x="660240" y="835920"/>
              <a:ext cx="8207640" cy="59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Для расчета производственной погрешности сопротивления резистора используем формулу для сопротивления проволочного резистора: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                                      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.  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Подставляя в эту формулу значение  </a:t>
              </a:r>
              <a:r>
                <a:rPr b="0" i="1" lang="ru-RU" sz="17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ru-RU" sz="1700" spc="-1" strike="noStrike" baseline="-25000">
                  <a:solidFill>
                    <a:srgbClr val="000000"/>
                  </a:solidFill>
                  <a:latin typeface="Arial"/>
                </a:rPr>
                <a:t>пр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lang="ru-RU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0" i="1" lang="ru-RU" sz="1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ru-RU" sz="1700" spc="-1" strike="noStrike" baseline="-25000">
                  <a:solidFill>
                    <a:srgbClr val="000000"/>
                  </a:solidFill>
                  <a:latin typeface="Arial"/>
                </a:rPr>
                <a:t>к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, получим: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.                                         (7.29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рассчитаем относительные коэффициенты влияния </a:t>
              </a:r>
              <a:r>
                <a:rPr b="0" i="1" lang="ru-RU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ru-RU" sz="17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 = 1, = –2, = 1. Таким образом, относительное среднеквадратическое отклонение сопротивления проволочного резистора равно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.                                      (7.30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Полагая, что погрешности входных параметров распределены по нормальному закону (п. 6.3), для производственной погрешности сопротивления проволочного резистора получим следующее выражение: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i="1" lang="ru-RU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ru-RU" sz="1700" spc="-1" strike="noStrike" baseline="-25000">
                  <a:solidFill>
                    <a:srgbClr val="000000"/>
                  </a:solidFill>
                  <a:latin typeface="Arial"/>
                </a:rPr>
                <a:t>н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, %  =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±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, % .                                (7.31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Температурный коэффициент сопротивления резистора рассчитывается по формуле (7.22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1/К.          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ru-RU" sz="1700" spc="-1" strike="noStrike">
                  <a:solidFill>
                    <a:srgbClr val="000000"/>
                  </a:solidFill>
                  <a:latin typeface="Arial"/>
                </a:rPr>
                <a:t>             (7.32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6" name="Object 2"/>
                <p:cNvSpPr txBox="1"/>
                <p:nvPr/>
              </p:nvSpPr>
              <p:spPr>
                <a:xfrm>
                  <a:off x="4343400" y="1465200"/>
                  <a:ext cx="1343160" cy="8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ρ</m:t>
                      </m:r>
                      <m:f>
                        <m:num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l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ð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d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o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7" name="Object 3"/>
                <p:cNvSpPr txBox="1"/>
                <p:nvPr/>
              </p:nvSpPr>
              <p:spPr>
                <a:xfrm>
                  <a:off x="4343400" y="2577960"/>
                  <a:ext cx="152568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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ρ</m:t>
                      </m:r>
                      <m:f>
                        <m:num>
                          <m:r>
                            <m:t xml:space="preserve">4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D</m:t>
                              </m:r>
                            </m:e>
                            <m:sub>
                              <m:r>
                                <m:t xml:space="preserve">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o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8" name="Object 4"/>
                <p:cNvSpPr txBox="1"/>
                <p:nvPr/>
              </p:nvSpPr>
              <p:spPr>
                <a:xfrm>
                  <a:off x="3327480" y="3886200"/>
                  <a:ext cx="2743200" cy="57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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ρ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sSubSup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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sub>
                          </m:sSub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59" name="Object 5"/>
                <p:cNvSpPr txBox="1"/>
                <p:nvPr/>
              </p:nvSpPr>
              <p:spPr>
                <a:xfrm>
                  <a:off x="5600880" y="5308560"/>
                  <a:ext cx="39672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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60" name="Object 6"/>
                <p:cNvSpPr txBox="1"/>
                <p:nvPr/>
              </p:nvSpPr>
              <p:spPr>
                <a:xfrm>
                  <a:off x="3090960" y="6087960"/>
                  <a:ext cx="2781360" cy="42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R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ρ</m:t>
                          </m:r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2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к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61" name="Rectangle 1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9820-ED8B-4F40-8081-551FBC3CD9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3" name="Picture 2" descr="ТЭА"/>
          <p:cNvPicPr/>
          <p:nvPr/>
        </p:nvPicPr>
        <p:blipFill>
          <a:blip r:embed="rId1"/>
          <a:stretch/>
        </p:blipFill>
        <p:spPr>
          <a:xfrm>
            <a:off x="0" y="55440"/>
            <a:ext cx="9144000" cy="63684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3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6" descr="head-logo"/>
          <p:cNvPicPr/>
          <p:nvPr/>
        </p:nvPicPr>
        <p:blipFill>
          <a:blip r:embed="rId2"/>
          <a:stretch/>
        </p:blipFill>
        <p:spPr>
          <a:xfrm>
            <a:off x="7000920" y="5357880"/>
            <a:ext cx="1861920" cy="795240"/>
          </a:xfrm>
          <a:prstGeom prst="rect">
            <a:avLst/>
          </a:prstGeom>
          <a:ln w="0">
            <a:noFill/>
          </a:ln>
        </p:spPr>
      </p:pic>
      <p:sp>
        <p:nvSpPr>
          <p:cNvPr id="766" name="Rectangle 5"/>
          <p:cNvSpPr/>
          <p:nvPr/>
        </p:nvSpPr>
        <p:spPr>
          <a:xfrm>
            <a:off x="1071720" y="2428920"/>
            <a:ext cx="724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Содержимое 1"/>
          <p:cNvSpPr/>
          <p:nvPr/>
        </p:nvSpPr>
        <p:spPr>
          <a:xfrm rot="16200000">
            <a:off x="-3214440" y="3214440"/>
            <a:ext cx="6858000" cy="4287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Заголовок 1"/>
          <p:cNvSpPr/>
          <p:nvPr/>
        </p:nvSpPr>
        <p:spPr>
          <a:xfrm>
            <a:off x="928800" y="357120"/>
            <a:ext cx="73580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Классификац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стоя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е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пециа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полупроводников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67"/>
          <p:cNvGrpSpPr/>
          <p:nvPr/>
        </p:nvGrpSpPr>
        <p:grpSpPr>
          <a:xfrm>
            <a:off x="5928840" y="857160"/>
            <a:ext cx="1925280" cy="926280"/>
            <a:chOff x="5928840" y="857160"/>
            <a:chExt cx="1925280" cy="926280"/>
          </a:xfrm>
        </p:grpSpPr>
        <p:grpSp>
          <p:nvGrpSpPr>
            <p:cNvPr id="286" name="Group 18"/>
            <p:cNvGrpSpPr/>
            <p:nvPr/>
          </p:nvGrpSpPr>
          <p:grpSpPr>
            <a:xfrm>
              <a:off x="5928840" y="1474200"/>
              <a:ext cx="1839240" cy="309240"/>
              <a:chOff x="5928840" y="1474200"/>
              <a:chExt cx="1839240" cy="309240"/>
            </a:xfrm>
          </p:grpSpPr>
          <p:grpSp>
            <p:nvGrpSpPr>
              <p:cNvPr id="287" name="Group 19"/>
              <p:cNvGrpSpPr/>
              <p:nvPr/>
            </p:nvGrpSpPr>
            <p:grpSpPr>
              <a:xfrm>
                <a:off x="5928840" y="1474200"/>
                <a:ext cx="1839240" cy="309240"/>
                <a:chOff x="5928840" y="1474200"/>
                <a:chExt cx="1839240" cy="309240"/>
              </a:xfrm>
            </p:grpSpPr>
            <p:sp>
              <p:nvSpPr>
                <p:cNvPr id="288" name="Line 20"/>
                <p:cNvSpPr/>
                <p:nvPr/>
              </p:nvSpPr>
              <p:spPr>
                <a:xfrm flipH="1">
                  <a:off x="5928840" y="1628280"/>
                  <a:ext cx="1839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21"/>
                <p:cNvSpPr/>
                <p:nvPr/>
              </p:nvSpPr>
              <p:spPr>
                <a:xfrm rot="10800000">
                  <a:off x="6447960" y="1474200"/>
                  <a:ext cx="847800" cy="309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0" name="Line 22"/>
              <p:cNvSpPr/>
              <p:nvPr/>
            </p:nvSpPr>
            <p:spPr>
              <a:xfrm>
                <a:off x="6817680" y="1534320"/>
                <a:ext cx="201600" cy="18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Line 23"/>
              <p:cNvSpPr/>
              <p:nvPr/>
            </p:nvSpPr>
            <p:spPr>
              <a:xfrm>
                <a:off x="6678720" y="1530360"/>
                <a:ext cx="201600" cy="18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Text Box 24"/>
            <p:cNvSpPr/>
            <p:nvPr/>
          </p:nvSpPr>
          <p:spPr>
            <a:xfrm>
              <a:off x="5944320" y="857160"/>
              <a:ext cx="1909800" cy="73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R1  5,6 К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3"/>
          <p:cNvGrpSpPr/>
          <p:nvPr/>
        </p:nvGrpSpPr>
        <p:grpSpPr>
          <a:xfrm>
            <a:off x="5572080" y="2143080"/>
            <a:ext cx="3677760" cy="1203120"/>
            <a:chOff x="5572080" y="2143080"/>
            <a:chExt cx="3677760" cy="1203120"/>
          </a:xfrm>
        </p:grpSpPr>
        <p:grpSp>
          <p:nvGrpSpPr>
            <p:cNvPr id="294" name="Group 4"/>
            <p:cNvGrpSpPr/>
            <p:nvPr/>
          </p:nvGrpSpPr>
          <p:grpSpPr>
            <a:xfrm>
              <a:off x="5572080" y="2360160"/>
              <a:ext cx="2087280" cy="986040"/>
              <a:chOff x="5572080" y="2360160"/>
              <a:chExt cx="2087280" cy="986040"/>
            </a:xfrm>
          </p:grpSpPr>
          <p:sp>
            <p:nvSpPr>
              <p:cNvPr id="295" name="Line 5"/>
              <p:cNvSpPr/>
              <p:nvPr/>
            </p:nvSpPr>
            <p:spPr>
              <a:xfrm>
                <a:off x="5572080" y="3157200"/>
                <a:ext cx="20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6"/>
              <p:cNvSpPr/>
              <p:nvPr/>
            </p:nvSpPr>
            <p:spPr>
              <a:xfrm>
                <a:off x="6108120" y="2967120"/>
                <a:ext cx="962280" cy="379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7"/>
              <p:cNvSpPr/>
              <p:nvPr/>
            </p:nvSpPr>
            <p:spPr>
              <a:xfrm flipV="1">
                <a:off x="6595200" y="2360160"/>
                <a:ext cx="0" cy="61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Text Box 8"/>
            <p:cNvSpPr/>
            <p:nvPr/>
          </p:nvSpPr>
          <p:spPr>
            <a:xfrm>
              <a:off x="6627600" y="2143080"/>
              <a:ext cx="262224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R14  100 К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56"/>
          <p:cNvGrpSpPr/>
          <p:nvPr/>
        </p:nvGrpSpPr>
        <p:grpSpPr>
          <a:xfrm>
            <a:off x="6229440" y="3833640"/>
            <a:ext cx="1413360" cy="1595520"/>
            <a:chOff x="6229440" y="3833640"/>
            <a:chExt cx="1413360" cy="1595520"/>
          </a:xfrm>
        </p:grpSpPr>
        <p:grpSp>
          <p:nvGrpSpPr>
            <p:cNvPr id="300" name="Group 57"/>
            <p:cNvGrpSpPr/>
            <p:nvPr/>
          </p:nvGrpSpPr>
          <p:grpSpPr>
            <a:xfrm>
              <a:off x="6229440" y="3833640"/>
              <a:ext cx="1413360" cy="1595520"/>
              <a:chOff x="6229440" y="3833640"/>
              <a:chExt cx="1413360" cy="1595520"/>
            </a:xfrm>
          </p:grpSpPr>
          <p:sp>
            <p:nvSpPr>
              <p:cNvPr id="301" name="Line 58"/>
              <p:cNvSpPr/>
              <p:nvPr/>
            </p:nvSpPr>
            <p:spPr>
              <a:xfrm>
                <a:off x="7163280" y="3833640"/>
                <a:ext cx="0" cy="159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59"/>
              <p:cNvSpPr/>
              <p:nvPr/>
            </p:nvSpPr>
            <p:spPr>
              <a:xfrm rot="5400000">
                <a:off x="6796080" y="4420080"/>
                <a:ext cx="735480" cy="381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Line 60"/>
              <p:cNvSpPr/>
              <p:nvPr/>
            </p:nvSpPr>
            <p:spPr>
              <a:xfrm>
                <a:off x="6229440" y="4961880"/>
                <a:ext cx="47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Line 61"/>
              <p:cNvSpPr/>
              <p:nvPr/>
            </p:nvSpPr>
            <p:spPr>
              <a:xfrm flipV="1">
                <a:off x="6708960" y="4241880"/>
                <a:ext cx="933840" cy="71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Text Box 62"/>
            <p:cNvSpPr/>
            <p:nvPr/>
          </p:nvSpPr>
          <p:spPr>
            <a:xfrm>
              <a:off x="6357240" y="4357800"/>
              <a:ext cx="63648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6" name="Picture 8" descr="http://www.lingerie-magazin.ru/data/Image/znak2.jpg"/>
          <p:cNvPicPr/>
          <p:nvPr/>
        </p:nvPicPr>
        <p:blipFill>
          <a:blip r:embed="rId1"/>
          <a:srcRect l="28188" t="9660" r="20144" b="8663"/>
          <a:stretch/>
        </p:blipFill>
        <p:spPr>
          <a:xfrm>
            <a:off x="8601120" y="0"/>
            <a:ext cx="542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2T14:50:59Z</dcterms:created>
  <dc:creator>Admin</dc:creator>
  <dc:description/>
  <dc:language>en-US</dc:language>
  <cp:lastModifiedBy>Пользователь</cp:lastModifiedBy>
  <dcterms:modified xsi:type="dcterms:W3CDTF">2017-10-17T10:23:09Z</dcterms:modified>
  <cp:revision>114</cp:revision>
  <dc:subject/>
  <dc:title>Омский государственный технический университет каф. Технология электронной аппаратуры</dc:title>
</cp:coreProperties>
</file>