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5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19.jpeg" ContentType="image/jpeg"/>
  <Override PartName="/ppt/media/image4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wmf" ContentType="image/x-wmf"/>
  <Override PartName="/ppt/media/image2.jpeg" ContentType="image/jpeg"/>
  <Override PartName="/ppt/media/image36.jpeg" ContentType="image/jpeg"/>
  <Override PartName="/ppt/media/image4.png" ContentType="image/png"/>
  <Override PartName="/ppt/media/image12.jpeg" ContentType="image/jpeg"/>
  <Override PartName="/ppt/media/image50.wmf" ContentType="image/x-wmf"/>
  <Override PartName="/ppt/media/image35.jpeg" ContentType="image/jpeg"/>
  <Override PartName="/ppt/media/image29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47.wmf" ContentType="image/x-wmf"/>
  <Override PartName="/ppt/media/image31.jpeg" ContentType="image/jpeg"/>
  <Override PartName="/ppt/media/image34.wmf" ContentType="image/x-wmf"/>
  <Override PartName="/ppt/media/image46.wmf" ContentType="image/x-wmf"/>
  <Override PartName="/ppt/media/image33.jpeg" ContentType="image/jpeg"/>
  <Override PartName="/ppt/media/image49.wmf" ContentType="image/x-wmf"/>
  <Override PartName="/ppt/media/image6.png" ContentType="image/png"/>
  <Override PartName="/ppt/media/image53.png" ContentType="image/png"/>
  <Override PartName="/ppt/media/image30.jpeg" ContentType="image/jpeg"/>
  <Override PartName="/ppt/media/image13.png" ContentType="image/png"/>
  <Override PartName="/ppt/media/image11.jpeg" ContentType="image/jpeg"/>
  <Override PartName="/ppt/media/image51.wmf" ContentType="image/x-wmf"/>
  <Override PartName="/ppt/media/image48.png" ContentType="image/png"/>
  <Override PartName="/ppt/media/image9.jpeg" ContentType="image/jpeg"/>
  <Override PartName="/ppt/media/image5.png" ContentType="image/png"/>
  <Override PartName="/ppt/media/image43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565-9E83-475D-B082-3D1A3BE4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3EB-FCD6-45E6-A198-BBE90A2F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C58-CD7E-436B-85CD-58ACFA3E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EA5-D9FE-4E7C-B026-23A6C249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1D8F-2BCD-447B-B738-B1222925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AEF9-19CB-46E2-ADD7-49E63C14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4EEB-E4EC-46BD-84C8-BBC9066D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AEE3-0D22-4785-A542-9EE9B503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1AE2-54A7-42BF-86EE-1E0F0648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F1CB-134E-414D-997A-7DB37570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FCA5-DA8A-4C73-8515-4DA9E4F4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17D-8935-413E-B2F9-02DD7EEC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4B7B-6FFB-4A7E-AFEB-6CFAB8FA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AE22-670A-4C5A-9BF2-73C2344D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B518-43F5-4AD2-A6B3-C364BEA3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7147-050A-40D6-8C8C-031FBC7A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2B8D-E4BD-40C9-B1CC-E0F171ED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7DF4-E373-4462-B842-DDDFA5ED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400D-6EDB-40BC-9ED2-E25DD029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B1CB-78CE-46C0-A32E-D2D57B21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6497-C1A8-4ACC-9BA8-53B717DD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EE01-AADB-473D-A7C9-179B6E62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2E3-E0A7-4547-9EDA-DE751EA0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5E06-855D-4418-92B6-455B7869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4D04-BA92-41CA-B69B-6C1BDA94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91989-F9E5-401C-931D-620309D5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016E2-6523-4E9F-9D19-2519CDE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69FE-3036-41E8-9AC9-AD5436C1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C8DBA-CB14-4330-A628-5BC1EB3E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7E3D-3500-4199-B445-0A057363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C4EED-B3E2-4788-A5B4-BD937CF7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32B3E-22FE-41EC-8239-34F02890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CE4AC-4CB6-45A7-B895-119D9EDC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D6C-FB71-494C-8505-0102D5FD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79BB0-AB2A-402D-B428-249DE543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6D1BC-EC65-45BA-ACE8-D33B532E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C70E-B474-477A-8FAE-4FFFE441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2AF35-7A97-462C-BF3E-9568E246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CB45B-8FC0-4330-B027-343A74D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CCDD8-9416-4684-B19B-CADF63DF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4F96C-DB5D-46E8-8A1A-8163EF23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4E15D-2187-410A-AC14-80296C56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6C349-1A3F-4BE0-BE87-467B7567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D448E-BA09-44DF-9A7E-4AA31DDA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19F-089A-423A-9F61-F1AE48CD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AE2D7-9E2D-46AE-BECF-1132924C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0E307-ECD9-4511-8CFB-CF20915E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C381D-3265-48A6-8CE2-E3BDE554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C65D3-A8E5-4CF3-BA15-82EDB2B3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3B5EC-E7AB-472D-8F9C-75EB3E97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6A5AF-4FED-49EB-B0F4-622E9D30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97B96-E7AE-4AC9-9745-894CC5C6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FC5D6-1FBC-4B2C-8C7B-C2A15E0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3BADD-AE91-4D28-8D44-16C4410A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71FD2-059B-47A4-A6C3-D66A7F48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1EF-D34E-4A4B-8B4D-BC9A8ABF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C11AB-C74C-4F8B-89E5-FFA401DE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2856E-18E6-440F-85C1-9477917B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1E5FB-EAC7-4A22-BC7D-9947AEF8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49053-FDC1-4185-BAC9-C6C122DD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D0148-600B-442C-AB6D-611A9021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1B70-0E57-4365-9603-4C9103D8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2CBAE-0E2F-4C0A-ADDE-CBA9EDE4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9B574-565F-4B0A-A8BF-16718063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21BE8-688C-4A24-B4E3-05A7B2A6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2AD2B-F8DC-4BA7-AC39-EA2CA9C2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604-4D90-4650-9064-2D52CEE4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CE00E-820A-4CE2-9F6D-5EA52470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E1207-CFB4-4456-80C1-C8987967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E02B2-AFC4-4D66-95BB-104BC393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55F-3AC5-4C77-9DAD-B7B8A841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04A-70B4-4170-A528-63C4F479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D409-983D-4CEA-AEDB-C4AF3749A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5ECD-E4DE-4348-B6AB-46F6B943BC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DB9E-BE98-4190-AA7B-99D77B288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DF4D-EB77-4BE8-B825-ED4AD8447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3F41-DF04-492E-AEE3-ED3FDE624E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42CC-3FCC-4B19-BECC-151A24897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lectricalschool.info/main/osnovy/568-jelektricheskaja-cep-i-ee-jelementy.html" TargetMode="External"/><Relationship Id="rId2" Type="http://schemas.openxmlformats.org/officeDocument/2006/relationships/hyperlink" Target="http://electricalschool.info/spravochnik/electroteh/497-nelinejjnye-jelektricheskie-cepi.html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19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6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785880"/>
            <a:ext cx="8388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нкт-Петербургск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ое бюджетное профессиональн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тельное учр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Индустриально-судостроитель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лицей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071720" y="2214720"/>
            <a:ext cx="724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сивные компон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зис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4932000" y="50475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132000" y="4797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ла: Забара О. В., мастер п/о, преподаватель СПб ГБПОУ ИС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Заголовок 1"/>
          <p:cNvSpPr/>
          <p:nvPr/>
        </p:nvSpPr>
        <p:spPr>
          <a:xfrm>
            <a:off x="928800" y="35712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стоянные резис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8"/>
          <p:cNvGrpSpPr/>
          <p:nvPr/>
        </p:nvGrpSpPr>
        <p:grpSpPr>
          <a:xfrm>
            <a:off x="6571800" y="1474920"/>
            <a:ext cx="1839960" cy="309600"/>
            <a:chOff x="6571800" y="1474920"/>
            <a:chExt cx="1839960" cy="309600"/>
          </a:xfrm>
        </p:grpSpPr>
        <p:grpSp>
          <p:nvGrpSpPr>
            <p:cNvPr id="310" name="Group 19"/>
            <p:cNvGrpSpPr/>
            <p:nvPr/>
          </p:nvGrpSpPr>
          <p:grpSpPr>
            <a:xfrm>
              <a:off x="6571800" y="1474920"/>
              <a:ext cx="1839960" cy="309600"/>
              <a:chOff x="6571800" y="1474920"/>
              <a:chExt cx="1839960" cy="309600"/>
            </a:xfrm>
          </p:grpSpPr>
          <p:sp>
            <p:nvSpPr>
              <p:cNvPr id="311" name="Line 20"/>
              <p:cNvSpPr/>
              <p:nvPr/>
            </p:nvSpPr>
            <p:spPr>
              <a:xfrm flipH="1">
                <a:off x="6571800" y="1628640"/>
                <a:ext cx="18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 rot="10800000">
                <a:off x="7091280" y="1474920"/>
                <a:ext cx="848160" cy="30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Line 22"/>
            <p:cNvSpPr/>
            <p:nvPr/>
          </p:nvSpPr>
          <p:spPr>
            <a:xfrm>
              <a:off x="7461000" y="1534680"/>
              <a:ext cx="2016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7322040" y="1530720"/>
              <a:ext cx="2016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Прямоугольник 28"/>
          <p:cNvSpPr/>
          <p:nvPr/>
        </p:nvSpPr>
        <p:spPr>
          <a:xfrm>
            <a:off x="1071720" y="1928880"/>
            <a:ext cx="635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го примене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чны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цизионн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окочастотны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окоомн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оковоль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Радиаторы"/>
          <p:cNvPicPr/>
          <p:nvPr/>
        </p:nvPicPr>
        <p:blipFill>
          <a:blip r:embed="rId1"/>
          <a:stretch/>
        </p:blipFill>
        <p:spPr>
          <a:xfrm>
            <a:off x="6215040" y="3286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http://www.lingerie-magazin.ru/data/Image/znak2.jpg"/>
          <p:cNvPicPr/>
          <p:nvPr/>
        </p:nvPicPr>
        <p:blipFill>
          <a:blip r:embed="rId2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92880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ременные резис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28"/>
          <p:cNvSpPr/>
          <p:nvPr/>
        </p:nvSpPr>
        <p:spPr>
          <a:xfrm>
            <a:off x="1071720" y="1214280"/>
            <a:ext cx="635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ов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строе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1714680" y="2143080"/>
            <a:ext cx="2086920" cy="986040"/>
            <a:chOff x="1714680" y="2143080"/>
            <a:chExt cx="2086920" cy="986040"/>
          </a:xfrm>
        </p:grpSpPr>
        <p:sp>
          <p:nvSpPr>
            <p:cNvPr id="322" name="Line 5"/>
            <p:cNvSpPr/>
            <p:nvPr/>
          </p:nvSpPr>
          <p:spPr>
            <a:xfrm>
              <a:off x="1714680" y="2940120"/>
              <a:ext cx="20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2250720" y="2750040"/>
              <a:ext cx="962280" cy="37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7"/>
            <p:cNvSpPr/>
            <p:nvPr/>
          </p:nvSpPr>
          <p:spPr>
            <a:xfrm flipV="1">
              <a:off x="2737800" y="2143080"/>
              <a:ext cx="0" cy="61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"/>
          <p:cNvGrpSpPr/>
          <p:nvPr/>
        </p:nvGrpSpPr>
        <p:grpSpPr>
          <a:xfrm>
            <a:off x="1571760" y="4357800"/>
            <a:ext cx="2217240" cy="1431360"/>
            <a:chOff x="1571760" y="4357800"/>
            <a:chExt cx="2217240" cy="1431360"/>
          </a:xfrm>
        </p:grpSpPr>
        <p:sp>
          <p:nvSpPr>
            <p:cNvPr id="326" name="Line 11"/>
            <p:cNvSpPr/>
            <p:nvPr/>
          </p:nvSpPr>
          <p:spPr>
            <a:xfrm>
              <a:off x="1571760" y="5587920"/>
              <a:ext cx="22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2140920" y="5384520"/>
              <a:ext cx="10224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V="1">
              <a:off x="2658600" y="4791240"/>
              <a:ext cx="0" cy="6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2658600" y="507960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5"/>
            <p:cNvSpPr/>
            <p:nvPr/>
          </p:nvSpPr>
          <p:spPr>
            <a:xfrm flipV="1">
              <a:off x="2847960" y="435780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16" descr="Potentiometer"/>
          <p:cNvPicPr/>
          <p:nvPr/>
        </p:nvPicPr>
        <p:blipFill>
          <a:blip r:embed="rId1"/>
          <a:srcRect l="0" t="8218" r="10205" b="15152"/>
          <a:stretch/>
        </p:blipFill>
        <p:spPr>
          <a:xfrm>
            <a:off x="5214960" y="857160"/>
            <a:ext cx="3143160" cy="314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Подстроечные резисторы"/>
          <p:cNvPicPr/>
          <p:nvPr/>
        </p:nvPicPr>
        <p:blipFill>
          <a:blip r:embed="rId2"/>
          <a:stretch/>
        </p:blipFill>
        <p:spPr>
          <a:xfrm>
            <a:off x="4643280" y="4460760"/>
            <a:ext cx="1933560" cy="2397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резистор подстроечный подстроечный 22 ком CA9V"/>
          <p:cNvPicPr/>
          <p:nvPr/>
        </p:nvPicPr>
        <p:blipFill>
          <a:blip r:embed="rId3"/>
          <a:stretch/>
        </p:blipFill>
        <p:spPr>
          <a:xfrm>
            <a:off x="6357960" y="4714920"/>
            <a:ext cx="2500200" cy="18781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http://www.lingerie-magazin.ru/data/Image/znak2.jpg"/>
          <p:cNvPicPr/>
          <p:nvPr/>
        </p:nvPicPr>
        <p:blipFill>
          <a:blip r:embed="rId4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Заголовок 1"/>
          <p:cNvSpPr/>
          <p:nvPr/>
        </p:nvSpPr>
        <p:spPr>
          <a:xfrm>
            <a:off x="92880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резис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8"/>
          <p:cNvSpPr/>
          <p:nvPr/>
        </p:nvSpPr>
        <p:spPr>
          <a:xfrm>
            <a:off x="571680" y="1214280"/>
            <a:ext cx="792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противление нелинейно зависит от внешних фактор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личины приложенного напряжения (варисторы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пературы (терморезисторы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вещения (фоторезисторы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6"/>
          <p:cNvGrpSpPr/>
          <p:nvPr/>
        </p:nvGrpSpPr>
        <p:grpSpPr>
          <a:xfrm>
            <a:off x="7729560" y="3786120"/>
            <a:ext cx="1413360" cy="1595520"/>
            <a:chOff x="7729560" y="3786120"/>
            <a:chExt cx="1413360" cy="1595520"/>
          </a:xfrm>
        </p:grpSpPr>
        <p:grpSp>
          <p:nvGrpSpPr>
            <p:cNvPr id="339" name="Group 57"/>
            <p:cNvGrpSpPr/>
            <p:nvPr/>
          </p:nvGrpSpPr>
          <p:grpSpPr>
            <a:xfrm>
              <a:off x="7729560" y="3786120"/>
              <a:ext cx="1413360" cy="1595520"/>
              <a:chOff x="7729560" y="3786120"/>
              <a:chExt cx="1413360" cy="1595520"/>
            </a:xfrm>
          </p:grpSpPr>
          <p:sp>
            <p:nvSpPr>
              <p:cNvPr id="340" name="Line 58"/>
              <p:cNvSpPr/>
              <p:nvPr/>
            </p:nvSpPr>
            <p:spPr>
              <a:xfrm>
                <a:off x="8663400" y="3786120"/>
                <a:ext cx="0" cy="159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59"/>
              <p:cNvSpPr/>
              <p:nvPr/>
            </p:nvSpPr>
            <p:spPr>
              <a:xfrm rot="5400000">
                <a:off x="8296200" y="4372560"/>
                <a:ext cx="735480" cy="38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60"/>
              <p:cNvSpPr/>
              <p:nvPr/>
            </p:nvSpPr>
            <p:spPr>
              <a:xfrm>
                <a:off x="7729560" y="491436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61"/>
              <p:cNvSpPr/>
              <p:nvPr/>
            </p:nvSpPr>
            <p:spPr>
              <a:xfrm flipV="1">
                <a:off x="8209080" y="4194360"/>
                <a:ext cx="933840" cy="7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Text Box 62"/>
            <p:cNvSpPr/>
            <p:nvPr/>
          </p:nvSpPr>
          <p:spPr>
            <a:xfrm>
              <a:off x="7857360" y="4310280"/>
              <a:ext cx="63648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56"/>
          <p:cNvGrpSpPr/>
          <p:nvPr/>
        </p:nvGrpSpPr>
        <p:grpSpPr>
          <a:xfrm>
            <a:off x="6643800" y="2357280"/>
            <a:ext cx="1413360" cy="1595520"/>
            <a:chOff x="6643800" y="2357280"/>
            <a:chExt cx="1413360" cy="1595520"/>
          </a:xfrm>
        </p:grpSpPr>
        <p:grpSp>
          <p:nvGrpSpPr>
            <p:cNvPr id="346" name="Group 57"/>
            <p:cNvGrpSpPr/>
            <p:nvPr/>
          </p:nvGrpSpPr>
          <p:grpSpPr>
            <a:xfrm>
              <a:off x="6643800" y="2357280"/>
              <a:ext cx="1413360" cy="1595520"/>
              <a:chOff x="6643800" y="2357280"/>
              <a:chExt cx="1413360" cy="1595520"/>
            </a:xfrm>
          </p:grpSpPr>
          <p:sp>
            <p:nvSpPr>
              <p:cNvPr id="347" name="Line 58"/>
              <p:cNvSpPr/>
              <p:nvPr/>
            </p:nvSpPr>
            <p:spPr>
              <a:xfrm>
                <a:off x="7577640" y="2357280"/>
                <a:ext cx="0" cy="159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59"/>
              <p:cNvSpPr/>
              <p:nvPr/>
            </p:nvSpPr>
            <p:spPr>
              <a:xfrm rot="5400000">
                <a:off x="7210440" y="2943720"/>
                <a:ext cx="735480" cy="38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60"/>
              <p:cNvSpPr/>
              <p:nvPr/>
            </p:nvSpPr>
            <p:spPr>
              <a:xfrm>
                <a:off x="6643800" y="348552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61"/>
              <p:cNvSpPr/>
              <p:nvPr/>
            </p:nvSpPr>
            <p:spPr>
              <a:xfrm flipV="1">
                <a:off x="7123320" y="2765520"/>
                <a:ext cx="933840" cy="7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 Box 62"/>
            <p:cNvSpPr/>
            <p:nvPr/>
          </p:nvSpPr>
          <p:spPr>
            <a:xfrm>
              <a:off x="6771600" y="2881440"/>
              <a:ext cx="63648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2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rcRect l="7501" t="40627" r="15834" b="29689"/>
          <a:stretch/>
        </p:blipFill>
        <p:spPr>
          <a:xfrm>
            <a:off x="0" y="1143000"/>
            <a:ext cx="9144000" cy="566568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8"/>
          <p:cNvSpPr/>
          <p:nvPr/>
        </p:nvSpPr>
        <p:spPr>
          <a:xfrm>
            <a:off x="785880" y="2928960"/>
            <a:ext cx="2428920" cy="571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9"/>
          <p:cNvSpPr/>
          <p:nvPr/>
        </p:nvSpPr>
        <p:spPr>
          <a:xfrm>
            <a:off x="7500960" y="2928960"/>
            <a:ext cx="1500120" cy="571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Заголовок 1"/>
          <p:cNvSpPr/>
          <p:nvPr/>
        </p:nvSpPr>
        <p:spPr>
          <a:xfrm>
            <a:off x="64296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материалу рез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6"/>
          <p:cNvSpPr/>
          <p:nvPr/>
        </p:nvSpPr>
        <p:spPr>
          <a:xfrm>
            <a:off x="938160" y="3857760"/>
            <a:ext cx="561960" cy="2786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7"/>
          <p:cNvSpPr/>
          <p:nvPr/>
        </p:nvSpPr>
        <p:spPr>
          <a:xfrm>
            <a:off x="5572080" y="3857760"/>
            <a:ext cx="490680" cy="2786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8"/>
          <p:cNvSpPr/>
          <p:nvPr/>
        </p:nvSpPr>
        <p:spPr>
          <a:xfrm>
            <a:off x="2643120" y="3857760"/>
            <a:ext cx="561960" cy="2786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Параметры резис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642960" y="2786040"/>
            <a:ext cx="8229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1C7B-DED6-47C6-8CCE-9EC482F21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092240"/>
            <a:ext cx="822960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270000" algn="just"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Номинальная мощность рассеяния Р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, Вт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то наибольшая допускаемая мощность, которую резистор может рассеивать при заданных условиях эксплуатации в течение гарантированного срока службы (обычно 10 тыс. час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= 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мощность электрического тока, рассеиваемая резистором, Вт;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к через резистор, А;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R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ическое сопротивление резистора, 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гласно ГОСТ 10318 и ГОСТ 24013 значения номинальных мощностей рассеяния для вновь разрабатываемых резисторов назначаются из ряда 0,01 – 0,025 – 0,05 – 0,062 – 0,125 – 0,25 – 0,5 – 1 – 2 – 3 – 4 – 5 – 8 – 10 – 16 – 25 – 40 – 63 – 80 – 100 – 250 – 500 В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Система обо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Заголовок 1"/>
          <p:cNvSpPr/>
          <p:nvPr/>
        </p:nvSpPr>
        <p:spPr>
          <a:xfrm>
            <a:off x="57168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означение номинальной мо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rcRect l="38021" t="33335" r="16667" b="38336"/>
          <a:stretch/>
        </p:blipFill>
        <p:spPr>
          <a:xfrm>
            <a:off x="1428840" y="4429080"/>
            <a:ext cx="6215040" cy="2428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2"/>
          <a:srcRect l="14583" t="37501" r="43751" b="49171"/>
          <a:stretch/>
        </p:blipFill>
        <p:spPr>
          <a:xfrm>
            <a:off x="857160" y="1000080"/>
            <a:ext cx="7500960" cy="1500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3"/>
          <a:srcRect l="56252" t="37501" r="13021" b="49171"/>
          <a:stretch/>
        </p:blipFill>
        <p:spPr>
          <a:xfrm>
            <a:off x="1785960" y="2571840"/>
            <a:ext cx="5532480" cy="1500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http://www.lingerie-magazin.ru/data/Image/znak2.jpg"/>
          <p:cNvPicPr/>
          <p:nvPr/>
        </p:nvPicPr>
        <p:blipFill>
          <a:blip r:embed="rId4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CF91-D555-419D-8248-B7E132A5CC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469800"/>
            <a:ext cx="822960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оцессе работы резистор нагревается и температура его перегрев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носительно окружающей среды определяется соотнош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K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T = Т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Т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мпература резистора,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 – температура окружающей сре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лощадь поверхности резистора, м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 Вт/К×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коэффициент теплоотдачи с единицы площади поверхности резист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2071800" y="1714680"/>
                <a:ext cx="2255760" cy="14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α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5180-F72A-4685-8CD2-0B3C0B57A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34880" y="194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2520" y="1007640"/>
            <a:ext cx="848664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2. 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Номинальное сопротивление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R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о значение сопротивле-ния, указанное в ТУ на резистор. Согласно ГОСТ 2825 номинальные значения сопротивлений резисторов назначаются из шести десятичных рядов: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6, Е12, Е24, Е48, Е96, Е19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Для переменных резисторов в соответствии с ГОСТ 10318 установлены ряды  Е6 и Е3. Кратные и дольные единицы сопротивления получают путем умножения члена ряда на 10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k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ое положительное или отрицательное чис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ндартные ря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8" name="Object 272"/>
          <p:cNvGraphicFramePr/>
          <p:nvPr/>
        </p:nvGraphicFramePr>
        <p:xfrm>
          <a:off x="357120" y="1428840"/>
          <a:ext cx="854244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9" name="Object 2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428840"/>
                    <a:ext cx="85424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 Box 273"/>
          <p:cNvSpPr/>
          <p:nvPr/>
        </p:nvSpPr>
        <p:spPr>
          <a:xfrm>
            <a:off x="785880" y="6078600"/>
            <a:ext cx="7848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 резистор из ряда E12 может иметь сопротивление 1,2 Ом, 12 Ом, 120 Ом, …, 1,2 МОм, 12 МОм, 1,5 Ом, 15 Ом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http://www.lingerie-magazin.ru/data/Image/znak2.jpg"/>
          <p:cNvPicPr/>
          <p:nvPr/>
        </p:nvPicPr>
        <p:blipFill>
          <a:blip r:embed="rId3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rcRect l="14063" t="21669" r="12501" b="15832"/>
          <a:stretch/>
        </p:blipFill>
        <p:spPr>
          <a:xfrm>
            <a:off x="285840" y="1143000"/>
            <a:ext cx="8501040" cy="4521240"/>
          </a:xfrm>
          <a:prstGeom prst="rect">
            <a:avLst/>
          </a:prstGeom>
          <a:ln w="0">
            <a:noFill/>
          </a:ln>
        </p:spPr>
      </p:pic>
      <p:sp>
        <p:nvSpPr>
          <p:cNvPr id="251" name="Заголовок 1"/>
          <p:cNvSpPr/>
          <p:nvPr/>
        </p:nvSpPr>
        <p:spPr>
          <a:xfrm>
            <a:off x="428760" y="285840"/>
            <a:ext cx="7358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 радиокомпон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7251-EB91-49C2-BB87-76338CA87F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4880" y="194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2520" y="1007640"/>
            <a:ext cx="848664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3. 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Допускаемое отклонение сопротивления от номинального значения (допуск) </a:t>
            </a:r>
            <a:r>
              <a:rPr b="1" i="1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R, %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начения допусков согласованы с номером десятичного ряда, который используется при назначении сопротивления. Согласно ГОСТ 9667 допуски составляют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20%, 10%, 5%, 2%, 1%, 0,5%,..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значений сопротивлений, назначаемых из десятичных рядов Е6...Е192, соответственно. Для прецизионных резисторов разрешается назначать меньшие значения допусков – от 0,25%  до 0,001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4871-3906-4E26-9EF7-A217B37F1C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4. 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Предельное рабочее напряжение U</a:t>
            </a:r>
            <a:r>
              <a:rPr b="1" lang="ru-RU" sz="2800" spc="-1" strike="noStrike" baseline="-25000">
                <a:solidFill>
                  <a:srgbClr val="000099"/>
                </a:solidFill>
                <a:latin typeface="Calibri"/>
              </a:rPr>
              <a:t>пред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напряжение, устанав-ливаемое с учетом тепловых процессов в РЭ, электрической прочности резистора, конструкции и размеров резистора и обеспечения длительной работоспособности. Значение                        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сно ГОСТ 24013 предельные рабочие напряжения  постоянных  резисторов устанавливаются из рядов 25 – 50 – 150 – 200 – 250 – 500 – 750 В и 1 – 1,5 – 2,5 – 3 – 4 – 5 – 10 – 25 – 35 – 40 – 60 к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2286000" y="3214800"/>
                <a:ext cx="2335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ð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ò</m:t>
                            </m:r>
                          </m:e>
                          <m:sub>
                            <m:r>
                              <m:t xml:space="preserve">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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08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2323-E1BF-4B2F-9570-9B584C430D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5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Температурный коэффициент сопротивления резистор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ТКС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дставляет собой относительное изменение сопротивления резистора при изменении его температуры на один граду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К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жно быть таким, чтобы в рабочем диапазоне температур величина сопротивления резистора не выходила за пределы допускаемых отклонений. Для большинства резисторов знач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1500120" y="5286240"/>
                <a:ext cx="2786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b>
                    </m:sSub>
                    <m:r>
                      <m:t xml:space="preserve">»</m:t>
                    </m:r>
                    <m:r>
                      <m:t xml:space="preserve">±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2357280" y="2500200"/>
                <a:ext cx="2222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R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17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E105-9BDB-4249-949B-869E423EA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36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6. 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ЭДС шумов резистора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Е</a:t>
            </a:r>
            <a:r>
              <a:rPr b="1" lang="ru-RU" sz="2800" spc="-1" strike="noStrike" baseline="-25000">
                <a:solidFill>
                  <a:srgbClr val="000099"/>
                </a:solidFill>
                <a:latin typeface="Calibri"/>
              </a:rPr>
              <a:t>ш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параметр, который характеризует уровень электрических шумов, возникающих при протекании электри-ческого тока по резистору вследствие неоднород-ности материала РЭ. Значение ЭДС шумов опреде-ляется соотнош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мкВ/В,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ш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действующее напряжение шума, мк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3784680" y="3724200"/>
                <a:ext cx="199224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</m:t>
                        </m:r>
                      </m:e>
                      <m:sub>
                        <m:r>
                          <m:t xml:space="preserve">ù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ù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ð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2AAE-5D77-4F70-9CA8-406D5DEE7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араметры переменных резисто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228600" y="1116000"/>
            <a:ext cx="4708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7. Функциональная характерис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яет зависимость сопротивлени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ого резистора от угла поворо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ли от величины линейного перемещени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скользящего контакта вдоль РЭ. По виду функциональной характеристики переменные резисторы делятся на следующие группы: линейные (типа А); нелинейные (типа Б – логарифмические и типа В – обратнологарифмические); специального наз-начения (типа И или Е). Функциональные характеристики переменных резисторов представлены на рис. 7.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3"/>
          <p:cNvSpPr/>
          <p:nvPr/>
        </p:nvSpPr>
        <p:spPr>
          <a:xfrm>
            <a:off x="9242280" y="629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2"/>
          <p:cNvGraphicFramePr/>
          <p:nvPr/>
        </p:nvGraphicFramePr>
        <p:xfrm>
          <a:off x="5369040" y="974880"/>
          <a:ext cx="3546360" cy="51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9040" y="974880"/>
                    <a:ext cx="354636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E153-BF31-4071-89B3-77475D3F91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араметры переменных резисто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428760" y="1085760"/>
            <a:ext cx="8057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зносостойк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менных резисторов оценивается максимально допустимым числом поворотов (или циклов перемещения от упора до упора и обратно) подвижной системы, при достижении которого параметры резистора еще остаются в пределах норм 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3"/>
          <p:cNvSpPr/>
          <p:nvPr/>
        </p:nvSpPr>
        <p:spPr>
          <a:xfrm>
            <a:off x="9242280" y="629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Система обо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Заголовок 1"/>
          <p:cNvSpPr/>
          <p:nvPr/>
        </p:nvSpPr>
        <p:spPr>
          <a:xfrm>
            <a:off x="1785960" y="2500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обознач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Система обо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Заголовок 1"/>
          <p:cNvSpPr/>
          <p:nvPr/>
        </p:nvSpPr>
        <p:spPr>
          <a:xfrm>
            <a:off x="57168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обозна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ловно-графическое обозначение на принципиальных схе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rcRect l="17189" t="22500" r="15625" b="29169"/>
          <a:stretch/>
        </p:blipFill>
        <p:spPr>
          <a:xfrm>
            <a:off x="500040" y="2246400"/>
            <a:ext cx="8643960" cy="388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http://www.lingerie-magazin.ru/data/Image/znak2.jpg"/>
          <p:cNvPicPr/>
          <p:nvPr/>
        </p:nvPicPr>
        <p:blipFill>
          <a:blip r:embed="rId2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624E-03D2-4459-8CC3-17C073FCB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Старые системы обозначений резистор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указании типа резистора используется буквенная или буквенно-цифровая система обозначения резисто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 1960 г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означение типа вновь разработанного резистора складывалось из двух-трех букв,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ЛТ – металлодиэлектрический лакированный теплостойк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 – высокостабильный углеродисты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П – бороуглеродистый лакированный прецизио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810A-F767-4CA0-9A32-5294CB988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Старые системы обозначений резистор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Для резисторов, разработанных в 1960–79 гг.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именяется буквенно-цифровая система обозначений, по существу представляющая классификацию резисторов по материалу и конструкции резистивного элемен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1 – непроволочные тонкослойные углеродистые и бороуглеродист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2, СП2 – непроволочные тонкослойные металлодиэлектрические и металлоокисные, с постоянным (С2) и переменным (СП2) сопротивлени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3, СП3 – непроволочные композиционные пленочные, с постоянным (С3) и переменным (СП3) сопротивлени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4, СП4 – непроволочные композиционные объемные, с постоянным (С4) и переменным (СП4) сопротивлени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5, СП5 – проволочные, с постоянным (С5) и переменным (СП5) сопротивлени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6 – непроволочные тонкослойные металлизирован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5555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5555"/>
                </a:solidFill>
                <a:latin typeface="Arial"/>
              </a:rPr>
              <a:t>Элементом электрической цепи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 называют идеализированное устройство, отображающее какое-либо из свойств реальной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электрической цепи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5555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Электрические цепи, в которых параметры всех элементов не зависят от величины и направлений токов и напряжений, т.е. </a:t>
            </a:r>
            <a:r>
              <a:rPr b="1" lang="ru-RU" sz="1800" spc="-1" strike="noStrike">
                <a:solidFill>
                  <a:srgbClr val="555555"/>
                </a:solidFill>
                <a:latin typeface="Arial"/>
              </a:rPr>
              <a:t>графики вольт-амперных характеристик (ВАХ)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 элементов являются прямыми линиями, называются линейными. Соответственно такие элементы называются </a:t>
            </a:r>
            <a:r>
              <a:rPr b="1" lang="ru-RU" sz="1800" spc="-1" strike="noStrike">
                <a:solidFill>
                  <a:srgbClr val="555555"/>
                </a:solidFill>
                <a:latin typeface="Arial"/>
              </a:rPr>
              <a:t>линейными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. 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Когда параметры элементов электрической цепи существенно зависят от тока или напряжения, т.е. графики ВАХ этих элементов имеют криволинейный характер, то такие элементы называют </a:t>
            </a:r>
            <a:r>
              <a:rPr b="1" lang="ru-RU" sz="1800" spc="-1" strike="noStrike">
                <a:solidFill>
                  <a:srgbClr val="555555"/>
                </a:solidFill>
                <a:latin typeface="Arial"/>
              </a:rPr>
              <a:t>нелинейными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. 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Если электрическая цепь содержит хотя бы один нелинейный элемент, то она является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нелинейной электрической цепью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5555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В теории электрических цепей различают </a:t>
            </a:r>
            <a:r>
              <a:rPr b="1" lang="ru-RU" sz="1800" spc="-1" strike="noStrike">
                <a:solidFill>
                  <a:srgbClr val="555555"/>
                </a:solidFill>
                <a:latin typeface="Arial"/>
              </a:rPr>
              <a:t>активные и пассивные элементы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. Первые вносят энергию в электрическую цепь, а вторые ее потребля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5555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CFB4-E14E-418A-A691-B480228C02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 1979 г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по настоящее время система условных обозначений резисторов осуществляется в соответствии с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ОСТ 11.074.009–7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лассификация и система условных обозначений резистор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”. Согласно этому стандарту тип резистора обозначается буквами или буквами и цифро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94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рвый элемент буквенн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Р – постоянный резисто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РП – переменный резистор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РН – набор резисто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94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торой элемент – циф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– непроволочный резистор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– проволочный резис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94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ретий элемен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цифра, обозначающая разновидность констру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Современнная система обозначений резисто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3899-0389-45E1-ACBA-D04E35615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7168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езистор постоянного сопротив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езистор переменного сопротив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1, РП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епроволочные резисто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2, РП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проволочные резисто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абор резисто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терморезистор с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К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&lt;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терморезистор с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К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&gt;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варисто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фоторезисто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Современнная система обозначений резисто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C3F0-0FEC-4FA6-A3D7-5F6F56363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68360" y="1056960"/>
            <a:ext cx="822960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рвы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тип резисто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торо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омер разработки резисто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рети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оминальная мощность рассеяния, В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етвёрты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оминальное сопротив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яты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опускаемое отклонение сопротивления, 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шесто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группа по шум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едьмо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омер ГОСТ или 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Обозначение в перечнях элементов отечественных резис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9FCA-C859-45FC-A3D2-3191E10ED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68360" y="1056960"/>
            <a:ext cx="822960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ример обознач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конструкторской документации постоянного резистора типа МЛТ с номинальной мощностью рассеяния 0,5 Вт, номинальным сопротивлением 680 кОм, допуском на номинал 10 %, группой по шумам А: МЛТ–0,5  680 кО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 % А № 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значение непроволочного резистора переменного сопротивления типа РП1 номера разработки 2, с логарифмической функциональной характеристикой типа В, номинальным сопротивлением 330 Ом, допуском на номинал 30 %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П1–2 - 330 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0 % В  № 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3-9а-16-220 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% ОЖ0.467.012 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Обозначение в перечнях элементов отечественных резис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98CC-9314-4063-9017-022E14D26C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31640" y="210960"/>
            <a:ext cx="822960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Обозначения резисторов зарубежных фир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360" y="625320"/>
            <a:ext cx="8075520" cy="7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alibri"/>
              </a:rPr>
              <a:t>Для резисторов изготовляемых по стандартам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MI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словное обозначение формируется следующим образо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ый элемен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обозначает серию резистора, согласно таблиц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5680" y="1547640"/>
          <a:ext cx="8343720" cy="5002560"/>
        </p:xfrm>
        <a:graphic>
          <a:graphicData uri="http://schemas.openxmlformats.org/drawingml/2006/table">
            <a:tbl>
              <a:tblPr/>
              <a:tblGrid>
                <a:gridCol w="1262160"/>
                <a:gridCol w="5338440"/>
                <a:gridCol w="1743120"/>
              </a:tblGrid>
              <a:tr h="3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е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именование резист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 станд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тандартные металлопленочные резисторы (допуск ±2, ±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226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аллопленочные прецизионные резис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10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щные проволочные резисторы с алюминиевым радиато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185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N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аллопленочные резисторы с уровнем надежности "S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55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L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аллопленочные резисторы с уровнем надежности "Р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39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олочные прецизионные резисторы миниатюрные и субминиатюр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олочные прецизионные резисторы с уровнем надежности "R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39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олочные мощные резисторы для поверхностного монта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NR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N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аллопленочные прецизионные резисторы с герметичным уплотн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55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глеродистые композиционные резис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39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55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олстопленочные кристаллы резисторов с уровнем надежности "R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55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1CA1-7C70-442B-896A-A9F9FC3B2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Обозначения резисторов зарубежных фир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649"/>
          <p:cNvSpPr/>
          <p:nvPr/>
        </p:nvSpPr>
        <p:spPr>
          <a:xfrm>
            <a:off x="527040" y="744840"/>
            <a:ext cx="807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ой, третий, четвертый и пятый эле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цифровой код, обозначающий номинальное сопроти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е номинального сопротивления представляет собой код из четырех цифр, первые три из которых указывают величину номинала сопротивления в Омах, а последняя - число последующих нулей. Для резисторов с допуском более 10% код состоит из трех цифр, в котором значащими являются первые д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стой эле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буквенный код, которым обозначается уровень надежности резисторов в течение 1000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50"/>
          <p:cNvSpPr/>
          <p:nvPr/>
        </p:nvSpPr>
        <p:spPr>
          <a:xfrm>
            <a:off x="79560" y="28342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608040" y="3867120"/>
          <a:ext cx="8016840" cy="1006560"/>
        </p:xfrm>
        <a:graphic>
          <a:graphicData uri="http://schemas.openxmlformats.org/drawingml/2006/table">
            <a:tbl>
              <a:tblPr/>
              <a:tblGrid>
                <a:gridCol w="4432320"/>
                <a:gridCol w="896760"/>
                <a:gridCol w="893880"/>
                <a:gridCol w="897120"/>
                <a:gridCol w="89676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ень надежности (число отказов в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Rectangle 714"/>
          <p:cNvSpPr/>
          <p:nvPr/>
        </p:nvSpPr>
        <p:spPr>
          <a:xfrm>
            <a:off x="622440" y="5021640"/>
            <a:ext cx="80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таллоплёночный резистор с уровнем надёжности 0,001 % , номинальным  сопротивлением 2,2 МОм и допускаемым отклонением сопротивления &lt; ±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5" descr="http://fb.ru/misc/i/gallery/11315/87418.jpg"/>
          <p:cNvPicPr/>
          <p:nvPr/>
        </p:nvPicPr>
        <p:blipFill>
          <a:blip r:embed="rId1"/>
          <a:stretch/>
        </p:blipFill>
        <p:spPr>
          <a:xfrm>
            <a:off x="4143240" y="4929120"/>
            <a:ext cx="3310200" cy="1928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ветовая маркировка резисто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четырёхполосной маркировки обычных резисторов с точностью 5 и 10 % - золотая или серебряная полоска всегда стоит в конц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рёхполосочного кода первая полоска стоит ближе к краю резистора, чем последня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ругих вариантов важно, чтобы получалось значение сопротивления из номинального ряда, если не получается, нужно читать наоборо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езисторов МЛТ-0,125 производства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4 полосками, первой является полоска, нанесённая ближе к кра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ычно она находится на металлическом стаканчике вывода, а остальные три — на более узком керамическом теле резист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0B4B-80DA-4904-A079-1F7BFEB1BC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Пример цветовой маркировки резис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Object 2"/>
          <p:cNvGraphicFramePr/>
          <p:nvPr/>
        </p:nvGraphicFramePr>
        <p:xfrm>
          <a:off x="125280" y="1714680"/>
          <a:ext cx="887580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1714680"/>
                    <a:ext cx="887580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http://electric.nn0v.ru/files/2010/10/resistor.jpg"/>
          <p:cNvPicPr/>
          <p:nvPr/>
        </p:nvPicPr>
        <p:blipFill>
          <a:blip r:embed="rId1"/>
          <a:stretch/>
        </p:blipFill>
        <p:spPr>
          <a:xfrm>
            <a:off x="0" y="0"/>
            <a:ext cx="5724360" cy="54579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http://www.ra4a.ru/_ld/0/29151276.png"/>
          <p:cNvPicPr/>
          <p:nvPr/>
        </p:nvPicPr>
        <p:blipFill>
          <a:blip r:embed="rId2"/>
          <a:stretch/>
        </p:blipFill>
        <p:spPr>
          <a:xfrm>
            <a:off x="5643720" y="3571920"/>
            <a:ext cx="3297240" cy="3286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http://cmuems.com/2011/b/wp-content/uploads/2011/10/color_code.gif"/>
          <p:cNvPicPr/>
          <p:nvPr/>
        </p:nvPicPr>
        <p:blipFill>
          <a:blip r:embed="rId3"/>
          <a:stretch/>
        </p:blipFill>
        <p:spPr>
          <a:xfrm>
            <a:off x="5357880" y="571680"/>
            <a:ext cx="35132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ветовая маркировка резисто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резисторов с точностью 20 % используют маркировку с тремя полосками, для резисторов с точностью 10 % и 5 % маркировку с четырьмя полосками, для более точных резисторов с пятью или шестью полос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ервые две полос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сег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значаю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ервые два знака номина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полосок 3 или 4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ретья полос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знач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есятичный множит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то есть степень десятки, которая умножается на двузначное число, указанное первыми двумя полос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полосок 4, последняя указыв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очность резисто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полосок 5, третья означает третий знак сопротивления, четвёртая — десятичный множитель, пятая — точ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естая полоска, если она есть, указывает температурный коэффициент сопротивления (ТКС). Если эта полоска в 1,5 раза шире остальных, то она указывает надёжность резистора (% отказов на 1000 часов работы)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429760" y="3500280"/>
            <a:ext cx="5428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и, классифик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обозначений и марк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аметры резис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вивалентные сх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трукции резис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истики и приме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проводниковые резис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ветовая маркировка резисто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ет отметить, что иногда встречаются резисторы с 5 полосами, но стандартной (5 или 10 %) точ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ом случае первые две полосы задают первые знаки номинала, третья — множитель, четвёртая — точность, 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ятая — температурный коэффици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8" descr="http://www.lingerie-magazin.ru/data/Image/znak2.jpg"/>
          <p:cNvPicPr/>
          <p:nvPr/>
        </p:nvPicPr>
        <p:blipFill>
          <a:blip r:embed="rId1"/>
          <a:srcRect l="28226" t="9664" r="20153" b="8662"/>
          <a:stretch/>
        </p:blipFill>
        <p:spPr>
          <a:xfrm>
            <a:off x="8215200" y="4714920"/>
            <a:ext cx="3175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5"/>
          <p:cNvGraphicFramePr/>
          <p:nvPr/>
        </p:nvGraphicFramePr>
        <p:xfrm>
          <a:off x="971640" y="260280"/>
          <a:ext cx="7488000" cy="46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0280"/>
                    <a:ext cx="7488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Text Box 6"/>
          <p:cNvSpPr/>
          <p:nvPr/>
        </p:nvSpPr>
        <p:spPr>
          <a:xfrm>
            <a:off x="971640" y="501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устим на резисторе видим 4 полоски коричневую, чёрную, красную, золотую. Первые две полоски дают 1 0, третья 100, четвёртая даёт точность 5 %, итого резистор сопротивлением 10·100 Ом = 1 кОм, с точностью ±5 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ркировка и типоразмер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SMD-резисто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56800" y="3929040"/>
            <a:ext cx="4643640" cy="23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 100 — э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•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м = 10 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 151 — э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•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м = 150 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Picture 7" descr="180px-Smd_rezistory_i_spi4ka"/>
          <p:cNvPicPr/>
          <p:nvPr/>
        </p:nvPicPr>
        <p:blipFill>
          <a:blip r:embed="rId1"/>
          <a:stretch/>
        </p:blipFill>
        <p:spPr>
          <a:xfrm>
            <a:off x="857160" y="1714680"/>
            <a:ext cx="4402080" cy="18572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http://russband.ru/pic/small-8004.jpg"/>
          <p:cNvPicPr/>
          <p:nvPr/>
        </p:nvPicPr>
        <p:blipFill>
          <a:blip r:embed="rId2"/>
          <a:stretch/>
        </p:blipFill>
        <p:spPr>
          <a:xfrm>
            <a:off x="5214960" y="1500120"/>
            <a:ext cx="3643200" cy="3643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http://www.lingerie-magazin.ru/data/Image/znak2.jpg"/>
          <p:cNvPicPr/>
          <p:nvPr/>
        </p:nvPicPr>
        <p:blipFill>
          <a:blip r:embed="rId3"/>
          <a:srcRect l="28178" t="9668" r="20149" b="8660"/>
          <a:stretch/>
        </p:blipFill>
        <p:spPr>
          <a:xfrm>
            <a:off x="0" y="4714920"/>
            <a:ext cx="50004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ировка SMD-резисто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680" y="928440"/>
            <a:ext cx="6286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езисторы» нулевого сопротивления (перемычки на плате) кодируются одной цифрой «0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дирование 3 или 4 циф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бознача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1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•10² Ом = 1 к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BCD обознача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1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м, точность 1 % (ряд E9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0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•10² Ом = 10 к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2" descr="http://obrazki.elektroda.pl/7626695800_1342864860.jpg"/>
          <p:cNvPicPr/>
          <p:nvPr/>
        </p:nvPicPr>
        <p:blipFill>
          <a:blip r:embed="rId1"/>
          <a:srcRect l="9539" t="15561" r="52886" b="11112"/>
          <a:stretch/>
        </p:blipFill>
        <p:spPr>
          <a:xfrm>
            <a:off x="7000920" y="1000080"/>
            <a:ext cx="192888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http://obrazki.elektroda.pl/7626695800_1342864860.jpg"/>
          <p:cNvPicPr/>
          <p:nvPr/>
        </p:nvPicPr>
        <p:blipFill>
          <a:blip r:embed="rId2"/>
          <a:srcRect l="50106" t="15561" r="8146" b="11112"/>
          <a:stretch/>
        </p:blipFill>
        <p:spPr>
          <a:xfrm>
            <a:off x="7000920" y="407196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http://www.lingerie-magazin.ru/data/Image/znak2.jpg"/>
          <p:cNvPicPr/>
          <p:nvPr/>
        </p:nvPicPr>
        <p:blipFill>
          <a:blip r:embed="rId3"/>
          <a:srcRect l="28199" t="9671" r="20156" b="8662"/>
          <a:stretch/>
        </p:blipFill>
        <p:spPr>
          <a:xfrm>
            <a:off x="5572080" y="3714840"/>
            <a:ext cx="5716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9B89-5B3D-4671-958D-A2F7258088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23640" y="184320"/>
            <a:ext cx="839124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Кодированное обозначение сопроти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-201600" y="32140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198360" y="666000"/>
            <a:ext cx="85773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 CYR"/>
              </a:rPr>
              <a:t>Для обозначения сопротивления резистора применяются следующие единицы измер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CYR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или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 CYR"/>
              </a:rPr>
              <a:t>E -  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 CYR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CYR"/>
              </a:rPr>
              <a:t>K -  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м,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м,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-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Arial"/>
              </a:rPr>
              <a:t>3К3F = 3,3 кОм </a:t>
            </a:r>
            <a:r>
              <a:rPr b="0" i="1" lang="en-US" sz="3200" spc="-1" strike="noStrike">
                <a:solidFill>
                  <a:srgbClr val="17375e"/>
                </a:solidFill>
                <a:latin typeface="Arial"/>
              </a:rPr>
              <a:t>±</a:t>
            </a:r>
            <a:r>
              <a:rPr b="0" i="1" lang="ru-RU" sz="3200" spc="-1" strike="noStrike">
                <a:solidFill>
                  <a:srgbClr val="17375e"/>
                </a:solidFill>
                <a:latin typeface="Arial"/>
              </a:rPr>
              <a:t>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680J = 0,68 МО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8" descr="http://www.lingerie-magazin.ru/data/Image/znak2.jpg"/>
          <p:cNvPicPr/>
          <p:nvPr/>
        </p:nvPicPr>
        <p:blipFill>
          <a:blip r:embed="rId1"/>
          <a:srcRect l="28187" t="9676" r="20162" b="8662"/>
          <a:stretch/>
        </p:blipFill>
        <p:spPr>
          <a:xfrm>
            <a:off x="8215200" y="2357280"/>
            <a:ext cx="642960" cy="10144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http://www.lingerie-magazin.ru/data/Image/znak2.jpg"/>
          <p:cNvPicPr/>
          <p:nvPr/>
        </p:nvPicPr>
        <p:blipFill>
          <a:blip r:embed="rId2"/>
          <a:srcRect l="28191" t="9691" r="20144" b="8660"/>
          <a:stretch/>
        </p:blipFill>
        <p:spPr>
          <a:xfrm>
            <a:off x="2428920" y="6072120"/>
            <a:ext cx="361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402C-3E97-4CAA-AE54-965AB48EC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23640" y="184320"/>
            <a:ext cx="839124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Кодированное обозначение сопроти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-201600" y="32140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5"/>
          <p:cNvSpPr/>
          <p:nvPr/>
        </p:nvSpPr>
        <p:spPr>
          <a:xfrm>
            <a:off x="198360" y="686520"/>
            <a:ext cx="8577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ускаемые отклонения сопротивления от номинального  значения (ГОСТ 1107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428760" y="1714680"/>
          <a:ext cx="7929360" cy="1785600"/>
        </p:xfrm>
        <a:graphic>
          <a:graphicData uri="http://schemas.openxmlformats.org/drawingml/2006/table">
            <a:tbl>
              <a:tblPr/>
              <a:tblGrid>
                <a:gridCol w="2295360"/>
                <a:gridCol w="959040"/>
                <a:gridCol w="957240"/>
                <a:gridCol w="958680"/>
                <a:gridCol w="957240"/>
                <a:gridCol w="959040"/>
                <a:gridCol w="842760"/>
              </a:tblGrid>
              <a:tr h="420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ичный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ированное обоз-начение отклонения, лат. (ру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6" name="Rectangle 155"/>
          <p:cNvSpPr/>
          <p:nvPr/>
        </p:nvSpPr>
        <p:spPr>
          <a:xfrm>
            <a:off x="571680" y="3654720"/>
            <a:ext cx="7913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имеры кодированных обозначений резис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20R0D = 220 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5%; 4G7М = 4,7 Г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%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М1К =  1,1 М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https://pp.vk.me/c623230/v623230600/5288b/aHMTt3jMKZg.jpg"/>
          <p:cNvPicPr/>
          <p:nvPr/>
        </p:nvPicPr>
        <p:blipFill>
          <a:blip r:embed="rId1"/>
          <a:srcRect l="0" t="0" r="0" b="47025"/>
          <a:stretch/>
        </p:blipFill>
        <p:spPr>
          <a:xfrm>
            <a:off x="0" y="714240"/>
            <a:ext cx="6886440" cy="43894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" descr="https://pp.vk.me/c623230/v623230600/5288b/aHMTt3jMKZg.jpg"/>
          <p:cNvPicPr/>
          <p:nvPr/>
        </p:nvPicPr>
        <p:blipFill>
          <a:blip r:embed="rId2"/>
          <a:srcRect l="13161" t="52982" r="18423" b="14217"/>
          <a:stretch/>
        </p:blipFill>
        <p:spPr>
          <a:xfrm>
            <a:off x="4809960" y="1428840"/>
            <a:ext cx="4334040" cy="25002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https://pp.vk.me/c623230/v623230600/5288b/aHMTt3jMKZg.jpg"/>
          <p:cNvPicPr/>
          <p:nvPr/>
        </p:nvPicPr>
        <p:blipFill>
          <a:blip r:embed="rId3"/>
          <a:srcRect l="0" t="91258" r="0" b="0"/>
          <a:stretch/>
        </p:blipFill>
        <p:spPr>
          <a:xfrm>
            <a:off x="714240" y="6000840"/>
            <a:ext cx="8143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Object 2"/>
          <p:cNvGraphicFramePr/>
          <p:nvPr/>
        </p:nvGraphicFramePr>
        <p:xfrm>
          <a:off x="142920" y="1285920"/>
          <a:ext cx="888840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285920"/>
                    <a:ext cx="888840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Конструкции резис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8" descr="http://www.lingerie-magazin.ru/data/Image/znak2.jpg"/>
          <p:cNvPicPr/>
          <p:nvPr/>
        </p:nvPicPr>
        <p:blipFill>
          <a:blip r:embed="rId3"/>
          <a:srcRect l="28187" t="9676" r="20162" b="8662"/>
          <a:stretch/>
        </p:blipFill>
        <p:spPr>
          <a:xfrm>
            <a:off x="8286840" y="285840"/>
            <a:ext cx="64296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2013-D29F-4B62-8B72-ECB6489DD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Конструкции непроволочных тонкослойных резис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35"/>
          <p:cNvGrpSpPr/>
          <p:nvPr/>
        </p:nvGrpSpPr>
        <p:grpSpPr>
          <a:xfrm>
            <a:off x="-500040" y="928800"/>
            <a:ext cx="9144000" cy="5023800"/>
            <a:chOff x="-500040" y="928800"/>
            <a:chExt cx="9144000" cy="5023800"/>
          </a:xfrm>
        </p:grpSpPr>
        <p:sp>
          <p:nvSpPr>
            <p:cNvPr id="537" name="Rectangle 6"/>
            <p:cNvSpPr/>
            <p:nvPr/>
          </p:nvSpPr>
          <p:spPr>
            <a:xfrm>
              <a:off x="-500040" y="21063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6"/>
            <p:cNvSpPr/>
            <p:nvPr/>
          </p:nvSpPr>
          <p:spPr>
            <a:xfrm>
              <a:off x="-500040" y="2088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27" descr="рез-ры1"/>
            <p:cNvPicPr/>
            <p:nvPr/>
          </p:nvPicPr>
          <p:blipFill>
            <a:blip r:embed="rId1"/>
            <a:stretch/>
          </p:blipFill>
          <p:spPr>
            <a:xfrm>
              <a:off x="785880" y="928800"/>
              <a:ext cx="3214800" cy="24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28" descr="рез1"/>
            <p:cNvPicPr/>
            <p:nvPr/>
          </p:nvPicPr>
          <p:blipFill>
            <a:blip r:embed="rId2"/>
            <a:stretch/>
          </p:blipFill>
          <p:spPr>
            <a:xfrm rot="5400000">
              <a:off x="461160" y="4181760"/>
              <a:ext cx="202392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30" descr="рез ПТМН-1"/>
            <p:cNvPicPr/>
            <p:nvPr/>
          </p:nvPicPr>
          <p:blipFill>
            <a:blip r:embed="rId3"/>
            <a:stretch/>
          </p:blipFill>
          <p:spPr>
            <a:xfrm rot="16200000">
              <a:off x="3000600" y="3856680"/>
              <a:ext cx="171396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2" name="Picture 5" descr="http://fb.ru/misc/i/gallery/11315/87418.jpg"/>
          <p:cNvPicPr/>
          <p:nvPr/>
        </p:nvPicPr>
        <p:blipFill>
          <a:blip r:embed="rId4"/>
          <a:stretch/>
        </p:blipFill>
        <p:spPr>
          <a:xfrm>
            <a:off x="5929200" y="4429080"/>
            <a:ext cx="2819520" cy="1643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http://allkoreancars.ru/sites/default/files/images/oborudovanie/rezistor.jpg"/>
          <p:cNvPicPr/>
          <p:nvPr/>
        </p:nvPicPr>
        <p:blipFill>
          <a:blip r:embed="rId5"/>
          <a:srcRect l="43503" t="0" r="6248" b="32664"/>
          <a:stretch/>
        </p:blipFill>
        <p:spPr>
          <a:xfrm>
            <a:off x="4572000" y="928800"/>
            <a:ext cx="37893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81EF-BAB1-463D-9387-7467E69A95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ANd9GcQlLu-pzZxrCbHi-mH00OSbVFvEDjhNXUB5ApgJkfyv5I1lMaoBEuPdJgHgww"/>
          <p:cNvPicPr/>
          <p:nvPr/>
        </p:nvPicPr>
        <p:blipFill>
          <a:blip r:embed="rId1"/>
          <a:stretch/>
        </p:blipFill>
        <p:spPr>
          <a:xfrm>
            <a:off x="3794040" y="4135320"/>
            <a:ext cx="1984320" cy="2086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ANd9GcQTKjfXHcON30-2E9x9Cntxx8D7kjxvjB56us1Nm_x077sisYTw1xJnGGZJ"/>
          <p:cNvPicPr/>
          <p:nvPr/>
        </p:nvPicPr>
        <p:blipFill>
          <a:blip r:embed="rId2"/>
          <a:stretch/>
        </p:blipFill>
        <p:spPr>
          <a:xfrm>
            <a:off x="6257880" y="1324080"/>
            <a:ext cx="2241720" cy="20462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alibri"/>
              </a:rPr>
              <a:t>Переменные резис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2" descr="ANd9GcTSFIwj1FlgjeYlLq6GNg8Pc2aF1aE3ZV0aa4GMyBh7PAJK3cj5xShicvbL"/>
          <p:cNvPicPr/>
          <p:nvPr/>
        </p:nvPicPr>
        <p:blipFill>
          <a:blip r:embed="rId3"/>
          <a:stretch/>
        </p:blipFill>
        <p:spPr>
          <a:xfrm>
            <a:off x="558720" y="1482840"/>
            <a:ext cx="2959200" cy="1885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4" descr="20041214_2037_1789a-Leistungswiderstand_mit_Sicherungsloetung"/>
          <p:cNvPicPr/>
          <p:nvPr/>
        </p:nvPicPr>
        <p:blipFill>
          <a:blip r:embed="rId4"/>
          <a:stretch/>
        </p:blipFill>
        <p:spPr>
          <a:xfrm>
            <a:off x="6102360" y="3984480"/>
            <a:ext cx="2774880" cy="2278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6" descr="Potentiometer"/>
          <p:cNvPicPr/>
          <p:nvPr/>
        </p:nvPicPr>
        <p:blipFill>
          <a:blip r:embed="rId5"/>
          <a:stretch/>
        </p:blipFill>
        <p:spPr>
          <a:xfrm>
            <a:off x="3541680" y="1138320"/>
            <a:ext cx="2486160" cy="2913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8" descr="Файл:Electronic component potentiometers.jpg"/>
          <p:cNvPicPr/>
          <p:nvPr/>
        </p:nvPicPr>
        <p:blipFill>
          <a:blip r:embed="rId6"/>
          <a:stretch/>
        </p:blipFill>
        <p:spPr>
          <a:xfrm>
            <a:off x="463680" y="3852720"/>
            <a:ext cx="29811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исто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элемент РЭА, предназначенный для перераспределения и регулирования электрической энергии между элементами схемы. Основной особенностью резистора является то, что электри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ская энергия превращается в нем в тепловую и рассеив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67"/>
          <p:cNvGrpSpPr/>
          <p:nvPr/>
        </p:nvGrpSpPr>
        <p:grpSpPr>
          <a:xfrm>
            <a:off x="5144040" y="4286160"/>
            <a:ext cx="3212640" cy="1569240"/>
            <a:chOff x="5144040" y="4286160"/>
            <a:chExt cx="3212640" cy="1569240"/>
          </a:xfrm>
        </p:grpSpPr>
        <p:grpSp>
          <p:nvGrpSpPr>
            <p:cNvPr id="259" name="Group 18"/>
            <p:cNvGrpSpPr/>
            <p:nvPr/>
          </p:nvGrpSpPr>
          <p:grpSpPr>
            <a:xfrm>
              <a:off x="5144040" y="5332320"/>
              <a:ext cx="3069720" cy="523080"/>
              <a:chOff x="5144040" y="5332320"/>
              <a:chExt cx="3069720" cy="523080"/>
            </a:xfrm>
          </p:grpSpPr>
          <p:grpSp>
            <p:nvGrpSpPr>
              <p:cNvPr id="260" name="Group 19"/>
              <p:cNvGrpSpPr/>
              <p:nvPr/>
            </p:nvGrpSpPr>
            <p:grpSpPr>
              <a:xfrm>
                <a:off x="5144040" y="5332320"/>
                <a:ext cx="3069720" cy="523080"/>
                <a:chOff x="5144040" y="5332320"/>
                <a:chExt cx="3069720" cy="523080"/>
              </a:xfrm>
            </p:grpSpPr>
            <p:sp>
              <p:nvSpPr>
                <p:cNvPr id="261" name="Line 20"/>
                <p:cNvSpPr/>
                <p:nvPr/>
              </p:nvSpPr>
              <p:spPr>
                <a:xfrm flipH="1">
                  <a:off x="5144040" y="5592960"/>
                  <a:ext cx="306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21"/>
                <p:cNvSpPr/>
                <p:nvPr/>
              </p:nvSpPr>
              <p:spPr>
                <a:xfrm rot="10800000">
                  <a:off x="6010200" y="5332320"/>
                  <a:ext cx="1415160" cy="52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Line 22"/>
              <p:cNvSpPr/>
              <p:nvPr/>
            </p:nvSpPr>
            <p:spPr>
              <a:xfrm>
                <a:off x="6627240" y="5433840"/>
                <a:ext cx="336600" cy="31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23"/>
              <p:cNvSpPr/>
              <p:nvPr/>
            </p:nvSpPr>
            <p:spPr>
              <a:xfrm>
                <a:off x="6395400" y="5427360"/>
                <a:ext cx="336600" cy="31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24"/>
            <p:cNvSpPr/>
            <p:nvPr/>
          </p:nvSpPr>
          <p:spPr>
            <a:xfrm>
              <a:off x="5168880" y="4286160"/>
              <a:ext cx="318780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R1  13 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6" descr="Радиаторы"/>
          <p:cNvPicPr/>
          <p:nvPr/>
        </p:nvPicPr>
        <p:blipFill>
          <a:blip r:embed="rId1"/>
          <a:stretch/>
        </p:blipFill>
        <p:spPr>
          <a:xfrm>
            <a:off x="2286000" y="41432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http://www.lingerie-magazin.ru/data/Image/znak2.jpg"/>
          <p:cNvPicPr/>
          <p:nvPr/>
        </p:nvPicPr>
        <p:blipFill>
          <a:blip r:embed="rId2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3534-1613-437B-AEF2-758D709882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4880" y="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Calibri"/>
              </a:rPr>
              <a:t>Эквивалентные схемы замещения резистор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4520" y="461952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сопротивление РЭ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из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1 ГОм – сопротивление изоляции резистора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,1...1 Ом – сопротивление выводов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–10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–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 – индуктивность РЭ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–1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..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–1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Ф – электрическая емкость между выводами резистора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з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–1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Ф – электрическая емкость корпуса резистора относительно земли (общего провод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3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Object 2"/>
          <p:cNvGraphicFramePr/>
          <p:nvPr/>
        </p:nvGraphicFramePr>
        <p:xfrm>
          <a:off x="-316080" y="500040"/>
          <a:ext cx="9460080" cy="43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6080" y="500040"/>
                    <a:ext cx="94600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Rectangle 14"/>
          <p:cNvSpPr/>
          <p:nvPr/>
        </p:nvSpPr>
        <p:spPr>
          <a:xfrm>
            <a:off x="0" y="443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2FFE-383D-46AA-97EC-7778C05BB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Calibri"/>
              </a:rPr>
              <a:t>Характеристики и применение резисторов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4"/>
          <p:cNvSpPr/>
          <p:nvPr/>
        </p:nvSpPr>
        <p:spPr>
          <a:xfrm>
            <a:off x="214200" y="142920"/>
            <a:ext cx="8572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проволочные тонкослойные постоянные резис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езисторы широкого применения с допускам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 %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0 % ил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0 % и мощностью от 0,125 до 2 Вт. К этой же категории относятся резисторы типа МЛТ, МТ и ВС. ТКС МТ и МЛТ не превышает 0,02 % 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ровень шумов для группы А не более 1 мкВ /В, для группы Б – не более 10 мкВ /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Группа С1. У резисторов этой группы токопроводящий слой представляет собой плёнку пиролитического углерода осаждённую на керамическое осн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руппа С2, у резисторов группы токопроводящий слой представляет собой очень тонкую (десятые доли мкм) плёнку сплава металла или оксида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1349280" y="696960"/>
            <a:ext cx="6596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1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С1 характеризуются высокой стабильностью сопроти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Низким уровнем шу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Небольшим отрицательным Т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4. Слабая зависимость сопротивления от част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5. Слабая зависимость от приложенн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ороуглеродистые резисторы БЛП по стабильности сопротивления могут не уступать проволочным резисто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КС = - (0,012…0,025) %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262160" y="4919760"/>
            <a:ext cx="657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1. 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1. Резисторы группы С1 имеют большие габариты, чем С2 при равной мощ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892080" y="587520"/>
            <a:ext cx="753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а С2.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лю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. Имеют меньшие габариты, чем С1 при равной мощности, так как металл обладает большей теплостойкостью чем угле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. Высокая стабильность пара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. Слабая зависимость сопротивления от част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. Слабая зависимость сопротивления от напря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 Высокая надё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06400" y="2809800"/>
            <a:ext cx="75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а С2. </a:t>
            </a: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Мин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c0504d"/>
                </a:solidFill>
                <a:latin typeface="Arial"/>
              </a:rPr>
              <a:t> Для некоторых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– пониженная надёжность при повышенной номинальной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2. Небольшая стойкость к импульсной нагруз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3. Меньший частотный диапазон, чем у углеродистых резисторов. Это потому, что у металлоплёночных резисторов токопроводящий слой толще, чем у углеродистых, поэтому увеличивается паразитная ёмкость между витками резистивной спир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762120" y="5246640"/>
            <a:ext cx="772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С2 создаются прецизионные резисторы с допускам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1%...1%. Прецизионные резисторы имеют большие габариты, чем резисторы общего на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6D26-2814-44C7-B16C-024F16090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Тонкослойные углеродистые резис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35040" y="3630600"/>
          <a:ext cx="8229600" cy="3019320"/>
        </p:xfrm>
        <a:graphic>
          <a:graphicData uri="http://schemas.openxmlformats.org/drawingml/2006/table">
            <a:tbl>
              <a:tblPr/>
              <a:tblGrid>
                <a:gridCol w="1390680"/>
                <a:gridCol w="1350720"/>
                <a:gridCol w="1644840"/>
                <a:gridCol w="1279440"/>
                <a:gridCol w="1096920"/>
                <a:gridCol w="1467000"/>
              </a:tblGrid>
              <a:tr h="688680">
                <a:tc gridSpan="6"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ые значения параметров тонкослойных углеродистых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резисторов общего применения ВС, БЛП, С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5000"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ных мощностей, 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ных сопротив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лений, О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опускаемые отклонения сопротивлений, 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ое напряжение, 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КС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1/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рабочих температур,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640">
                <a:tc>
                  <a:txBody>
                    <a:bodyPr lIns="18000" rIns="1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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;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;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;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;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; 250; 350; 5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6" name="Rectangle 109"/>
          <p:cNvSpPr/>
          <p:nvPr/>
        </p:nvSpPr>
        <p:spPr>
          <a:xfrm>
            <a:off x="573120" y="898920"/>
            <a:ext cx="812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родистые резисторы дешевы, имеют относительно небольшо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К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алый коэффициент напряжения, низкий уровень токовых шумов, удовлетворительную стабильность во времени. Эти резисторы характеризуются высокой стойкостью к радиационным воздействиям, малой чувствительностью к электрическим перегрузкам и импульсным нагрузкам и предназначены для работы в электрических цепях постоянного, переменного и импульсного т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AE45-C16E-498E-BE92-C878EFD31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Тонкослойные металлодиэлектрические и металлоокисные резис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0200" y="944640"/>
            <a:ext cx="881856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основным электрическим характеристикам металлодиэлектрические резисторы превосходят углеродистые, так как они более стабильны, теплостойки и влагостойки. Вследствие лучшего теплоотвода габаритные размеры металлодиэлектрических резисторов при одинаковой номинальной мощности рассеяния в 1,5...2 раза меньше, чем углеродистых. Поэтому всюду, где возможно, металлодиэлектрические резисторы рекомендуется применять вместо других типов резисто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5"/>
          <p:cNvSpPr/>
          <p:nvPr/>
        </p:nvSpPr>
        <p:spPr>
          <a:xfrm>
            <a:off x="2546280" y="2606760"/>
            <a:ext cx="70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1"/>
          <p:cNvSpPr/>
          <p:nvPr/>
        </p:nvSpPr>
        <p:spPr>
          <a:xfrm>
            <a:off x="2546280" y="2606760"/>
            <a:ext cx="67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420840" y="2940120"/>
          <a:ext cx="7983360" cy="3421080"/>
        </p:xfrm>
        <a:graphic>
          <a:graphicData uri="http://schemas.openxmlformats.org/drawingml/2006/table">
            <a:tbl>
              <a:tblPr/>
              <a:tblGrid>
                <a:gridCol w="1347480"/>
                <a:gridCol w="1347840"/>
                <a:gridCol w="1386000"/>
                <a:gridCol w="1335240"/>
                <a:gridCol w="1334880"/>
                <a:gridCol w="1231920"/>
              </a:tblGrid>
              <a:tr h="94140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ые значения параметров тонкослойных металло-диэлектрических  резисторов общего примене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ЛТ, С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ных мощностей, 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ных сопротивле-ний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опускае-мые отклоне-ния сопро-тивлен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-ное напряжение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К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рабочих температур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..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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;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; 250; 350; 500; 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5...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..+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246F-AAA8-4010-89A5-2B9E44788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Физическая природа электросопротивления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тонкослойных непроволочных резисторов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4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34"/>
          <p:cNvSpPr/>
          <p:nvPr/>
        </p:nvSpPr>
        <p:spPr>
          <a:xfrm>
            <a:off x="9250200" y="61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49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52"/>
          <p:cNvGrpSpPr/>
          <p:nvPr/>
        </p:nvGrpSpPr>
        <p:grpSpPr>
          <a:xfrm>
            <a:off x="195120" y="763200"/>
            <a:ext cx="8650440" cy="5892120"/>
            <a:chOff x="195120" y="763200"/>
            <a:chExt cx="8650440" cy="5892120"/>
          </a:xfrm>
        </p:grpSpPr>
        <p:sp>
          <p:nvSpPr>
            <p:cNvPr id="598" name="Rectangle 425"/>
            <p:cNvSpPr/>
            <p:nvPr/>
          </p:nvSpPr>
          <p:spPr>
            <a:xfrm>
              <a:off x="195120" y="763200"/>
              <a:ext cx="4992840" cy="58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дельное электросопротивление границы плен-ки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уменьшается с температурой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по закон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            (7.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де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h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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 нм – ширина границы между отдель-ными зернами, м;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(1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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,5) эВ – работа выхо-да электронов из зерна;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≈0,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коэффициент, учитывающий многократные отражения элект-ронов от поверхности пленки;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1,6×10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</a:rPr>
                <a:t>–19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Кл – заряд электрона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,6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×10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эВ/К – постоянная Больцмана,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8,85×10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</a:rPr>
                <a:t>–1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Ф/м – электрическая постоянная;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станта, зависящая от структуры пленк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тонкой пленки можно рассчитать из выра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           (7.9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9" name="Object 2"/>
            <p:cNvGraphicFramePr/>
            <p:nvPr/>
          </p:nvGraphicFramePr>
          <p:xfrm>
            <a:off x="5386320" y="1103400"/>
            <a:ext cx="3436920" cy="328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86320" y="1103400"/>
                      <a:ext cx="3436920" cy="32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01" name="Object 3"/>
                <p:cNvSpPr txBox="1"/>
                <p:nvPr/>
              </p:nvSpPr>
              <p:spPr>
                <a:xfrm>
                  <a:off x="1752480" y="4594320"/>
                  <a:ext cx="1095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»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f>
                        <m:num>
                          <m:r>
                            <m:t xml:space="preserve">À</m:t>
                          </m:r>
                        </m:num>
                        <m:den>
                          <m:sSup>
                            <m:e>
                              <m:r>
                                <m:t xml:space="preserve">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æ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2" name="Object 4"/>
                <p:cNvSpPr txBox="1"/>
                <p:nvPr/>
              </p:nvSpPr>
              <p:spPr>
                <a:xfrm>
                  <a:off x="1397160" y="5626080"/>
                  <a:ext cx="2412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</m:t>
                          </m:r>
                        </m:den>
                      </m:f>
                      <m:f>
                        <m:num>
                          <m:r>
                            <m:t xml:space="preserve">dρ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»-</m:t>
                      </m:r>
                      <m:f>
                        <m:num>
                          <m:r>
                            <m:t xml:space="preserve">W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3" name="Object 5"/>
                <p:cNvSpPr txBox="1"/>
                <p:nvPr/>
              </p:nvSpPr>
              <p:spPr>
                <a:xfrm>
                  <a:off x="1282680" y="1593720"/>
                  <a:ext cx="2481120" cy="126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eTh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4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e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h</m:t>
                                  </m:r>
                                </m:den>
                              </m:f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04" name="Rectangle 451"/>
            <p:cNvSpPr/>
            <p:nvPr/>
          </p:nvSpPr>
          <p:spPr>
            <a:xfrm>
              <a:off x="5356080" y="4240080"/>
              <a:ext cx="348948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 учетом объемного электро-сопротивления зерна суммарное значение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пленочного РЭ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определяется вкладом двух составляющих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оз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г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  (7.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571680" y="2142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онные резис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группы С3 и С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571680" y="785880"/>
            <a:ext cx="778644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истивный элемент этих резисторов изготовляется на основе композиций, состоящих из смеси порошкообразного проводника (сажа, графит и др.) и органического или неорганического диэлектрика. В зависимости от состава композиционные материалы имеют очень широкий диапазон удельных сопротивлений. В резисторах группы С3 полученную композицию наносят на поверхность изоляционного основания, в резисторах группы С4 композицию спрессовывают в виде объёмного цилиндра или параллелепипеда. Резисторы С4 имеют прямоугольную форму и предназначены для установки на печатных платах. С4 обладают высокой теплостойкостью (до 350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) и имеют небольшие габар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статком композиционных резисторов является высокий уровень токовых шумов, что объясняется их крупнозернистой структурой их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DD7B-444F-433A-BEF2-524AE5661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666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Физическая природа электросопротивления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композиционных непроволочных резисторов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971640"/>
            <a:ext cx="45370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позиционные резистивные элемен-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едставляют собой гетерогенную смесь (композицию), состоящую из неско-льких компонен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одящий компонент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ет электропроводность РЭ.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честве прово-дящего компонента обычно применяются порошок графита или сажа . В качестве на-полнителей обычно применяют корундо-вые, слюдяные, фарфоровые, кварцевые по-рошки, TiО2, ZrO2, тальк, асбест, стекло-волокно. Объемная концентрация напол-нителей составляет 3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5% в пленочных композициях и 5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0% в объемных композициях. Температурный коэффициент сопротивления композиции рав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КС = ТК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               (7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Object 2"/>
          <p:cNvGraphicFramePr/>
          <p:nvPr/>
        </p:nvGraphicFramePr>
        <p:xfrm>
          <a:off x="5330880" y="1535040"/>
          <a:ext cx="306684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0880" y="1535040"/>
                    <a:ext cx="306684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Делитель напряжения - stoom"/>
          <p:cNvPicPr/>
          <p:nvPr/>
        </p:nvPicPr>
        <p:blipFill>
          <a:blip r:embed="rId1"/>
          <a:srcRect l="4408" t="6513" r="7350" b="11683"/>
          <a:stretch/>
        </p:blipFill>
        <p:spPr>
          <a:xfrm>
            <a:off x="4857840" y="3357720"/>
            <a:ext cx="4286160" cy="3500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1.03. Делители напряжения"/>
          <p:cNvPicPr/>
          <p:nvPr/>
        </p:nvPicPr>
        <p:blipFill>
          <a:blip r:embed="rId2"/>
          <a:stretch/>
        </p:blipFill>
        <p:spPr>
          <a:xfrm>
            <a:off x="571680" y="1785960"/>
            <a:ext cx="4357440" cy="41832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8"/>
          <p:cNvSpPr/>
          <p:nvPr/>
        </p:nvSpPr>
        <p:spPr>
          <a:xfrm>
            <a:off x="911520" y="915840"/>
            <a:ext cx="5479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вых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= 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 =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в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 + 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Заголовок 1"/>
          <p:cNvSpPr/>
          <p:nvPr/>
        </p:nvSpPr>
        <p:spPr>
          <a:xfrm>
            <a:off x="78588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литель напря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8"/>
          <p:cNvSpPr/>
          <p:nvPr/>
        </p:nvSpPr>
        <p:spPr>
          <a:xfrm>
            <a:off x="4957200" y="2428920"/>
            <a:ext cx="427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противление нагрузк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1571760" y="696960"/>
            <a:ext cx="59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ёночные композиционные резис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979560" y="2394000"/>
            <a:ext cx="7205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3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. 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Очень высокая надё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3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. 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1. Сильная зависимость сопротивление от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2. Низкая стабильность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EDCB-748D-485E-AC8E-325D9872B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Композиционные пленочные резис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6840" y="934920"/>
            <a:ext cx="8218440" cy="21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озиционные пленочные резисторы характеризуются, как правило, большими значениями номинальных сопротивлений, достигающими 100 ГОм, относительно высокими значениям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КС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ком композиционных пленочных резисторов является довольно высокое значение уровня шумов, достигающее 15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0 мкВ/В. Резисторы предназначены для работы в электрических цепях постоянного и переменного то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84360" y="3143160"/>
          <a:ext cx="7692840" cy="3368880"/>
        </p:xfrm>
        <a:graphic>
          <a:graphicData uri="http://schemas.openxmlformats.org/drawingml/2006/table">
            <a:tbl>
              <a:tblPr/>
              <a:tblGrid>
                <a:gridCol w="1293840"/>
                <a:gridCol w="1292040"/>
                <a:gridCol w="1328760"/>
                <a:gridCol w="1282680"/>
                <a:gridCol w="1271520"/>
                <a:gridCol w="1224000"/>
              </a:tblGrid>
              <a:tr h="744480">
                <a:tc gridSpan="6"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ые значения параметров композиционных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леночных резисторов (С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3160"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мощ-ностей, В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сопро-тивлений, О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опускае-мые откло-нения сопро-тивлений, 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-ное напря-жение, 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КС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рабочих температур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...0,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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 100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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;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;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;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; 100; 200; 350; 1000;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4"/>
          <p:cNvSpPr/>
          <p:nvPr/>
        </p:nvSpPr>
        <p:spPr>
          <a:xfrm>
            <a:off x="1262160" y="806400"/>
            <a:ext cx="6640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4 с органическими связующими материалами.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Высокая стабильность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Пониженный уровень собственных шу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4 с органическими связующими материалами.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1. Сравнительно низкая надёжность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1241280" y="3330720"/>
            <a:ext cx="6748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4 с неорганическими связующими материалами.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Очень высокая надё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Сопротивление этих резисторов практически не зависит от напр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Слабая зависимость от частоты до частоты 50 кГ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4 с неорганическими связующими материалами.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 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1. Низкая стабильность сопроти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0EF9-59A2-4BA7-B3A2-DAED66FED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Композиционные объемные резис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8510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уск постоянных резисторов с объемным резистивным элементом в настоящее время ограничен тремя типами: С4-2, ТВО и С4-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зисторы типа С4-2 и ТВО (теплостойкие, влагостойкие объемные) имеют прямоугольную форму с запрессованными в объемный резистивный элемент осевыми выводами. Диапазон номинальных сопротивлений достигает 1 Ом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 МОм, допускаемые отклонения сопротивлений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0%. Номинальные мощности рассеяния резисторов типа С4-2 находятся в пределах от 0,25 до 2 Вт, а резисторов типа ТВО – от 0,125 до 60 В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изкоомные резисторы С4-3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= 1,8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8 Ом) выполнены в виде колец с наружным диаметром 9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2 мм и нанесенными на торцы контактными площадк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ъемные композиционные резисторы характеризуются сравнительно невысоким уровнем шумов (3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 мкВ/В), хорошо выдерживают импульсные перегруз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4"/>
          <p:cNvSpPr/>
          <p:nvPr/>
        </p:nvSpPr>
        <p:spPr>
          <a:xfrm>
            <a:off x="1143000" y="784080"/>
            <a:ext cx="62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волочные  резисто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групп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870120" y="1503360"/>
            <a:ext cx="7445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лочные резисторы выполняют обычно на цилиндрическом изоляционном основании с одно или многослойной обмоткой из провода высокого сопротивления. Провод и контактные узлы защищают, как правило, эмалевыми покрытиями. Для уменьшения паразитных параметров (большая собственная индуктивность и большая собственная ёмкость) применяют обмотки специальных видов. Для уменьшения индуктивности примен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ифиляр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мотку, при которой обмотку резистора выполняют сдвоенным проводом, благодаря чему магнитные поля расположенных рядом витков направлены навстречу друг другу и вычитаются. Уменьшение индуктивности также достигается намоткой провода на плоский каркас. Недостатком бифилярной намотки является большая собственная ёмк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4"/>
          <p:cNvSpPr/>
          <p:nvPr/>
        </p:nvSpPr>
        <p:spPr>
          <a:xfrm>
            <a:off x="357120" y="50004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лучения малых индуктивности и ёмкости применяют разбивку обмотки на секции, в каждой из которых поочерёдно меняется направление намотки. Проволочные резисторы значительно дороже тонкоплёночных, поэтому применяют их в тех случаях, когда характеристики тонкоплёночных резисторов не удовлетворяют предъявляемым требовани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571680" y="3143160"/>
            <a:ext cx="7912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6"/>
          <p:cNvSpPr/>
          <p:nvPr/>
        </p:nvSpPr>
        <p:spPr>
          <a:xfrm>
            <a:off x="1414440" y="1219320"/>
            <a:ext cx="635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5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Высокая стабильность сопроти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Низкий уровень собственных шу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 Большая номинальная мощ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4. Высокая точность сопроти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1436760" y="3330720"/>
            <a:ext cx="627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5. 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1. Сравнительно большие паразитные реактивные параме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2. Применение на достаточно низких часто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3. Сравнительно высокая сто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2D9F-E3CC-4095-9ACB-9D1A4F63B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Проволочные резисторы постоянного сопротив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773280" y="3298680"/>
          <a:ext cx="8073720" cy="3192480"/>
        </p:xfrm>
        <a:graphic>
          <a:graphicData uri="http://schemas.openxmlformats.org/drawingml/2006/table">
            <a:tbl>
              <a:tblPr/>
              <a:tblGrid>
                <a:gridCol w="1352520"/>
                <a:gridCol w="1350720"/>
                <a:gridCol w="1459080"/>
                <a:gridCol w="1244520"/>
                <a:gridCol w="1387440"/>
                <a:gridCol w="1279440"/>
              </a:tblGrid>
              <a:tr h="64008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ые значения параметров прецизионных проволочных резис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мощно-стей, 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сопро-тивлений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опускаемые отклонения сопро-тивлен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-ное напря-жение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К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1/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рабочих температур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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.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0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Rectangle 105"/>
          <p:cNvSpPr/>
          <p:nvPr/>
        </p:nvSpPr>
        <p:spPr>
          <a:xfrm>
            <a:off x="762120" y="786960"/>
            <a:ext cx="7978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 несколько групп проволочных резисторов постоянного сопроти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чные и прецизионные резис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меняемые в метрологической аппаратуре, в электро- и радиоизмерительных приборах и вычислительной техн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оковольтные проволоч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грузочные (гасящие) проволочные резис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емые для понижения напряжения в цепях постоянного тока радиоэлектрон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4"/>
          <p:cNvSpPr/>
          <p:nvPr/>
        </p:nvSpPr>
        <p:spPr>
          <a:xfrm>
            <a:off x="1214280" y="142920"/>
            <a:ext cx="66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очастотные резисторы и резисторы СВЧ (группа С6 и друг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571680" y="1285920"/>
            <a:ext cx="8143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резисторы имеют небольшие собственную ёмкость и индуктивность. Это обеспечивается отсутствием спиральной нарезки. Сопротивление при этом не превышает 200…300 Ом. В ряде случаев высокочастотные резисторы изготавливают без проволочных выводов и эмалевого покрытия, что уменьшает паразитную индуктивность и шунтирующее действие диэлектрика. Резисторы группы С6 способны работать на частотах до 10 ГГц. К категории высокочастотных относятся также резисторы типов: С2 – 11, С2 – 34, МЛН (металлооксидные незащищённые) и МОУ (металлооксидные ультравысокочастотные). На высоких частотах кроме того применяют микропроволочные малогабаритные резисторы С5 – 32 Т, имеющее длину 6 мм, диаметр 2,6 мм и паразитную индуктивность не более 0,1 мкГн. С5 – 32 Т имеют мощность 0.125 Вт, номинальное сопротивление от 0,24 до 300 Ом и точность 0,5 %; 1 %; 2 %; 5 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3014-0557-43D7-A2B3-E8F205109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Резисторы переменного сопротив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773280" y="3298680"/>
          <a:ext cx="8073720" cy="3192480"/>
        </p:xfrm>
        <a:graphic>
          <a:graphicData uri="http://schemas.openxmlformats.org/drawingml/2006/table">
            <a:tbl>
              <a:tblPr/>
              <a:tblGrid>
                <a:gridCol w="1352520"/>
                <a:gridCol w="1350720"/>
                <a:gridCol w="1459080"/>
                <a:gridCol w="1244520"/>
                <a:gridCol w="1387440"/>
                <a:gridCol w="1279440"/>
              </a:tblGrid>
              <a:tr h="64008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ые значения параметров прецизионных проволочных резис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мощно-стей, 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сопро-тивлений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опускаемые отклонения сопро-тивлен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-ное напря-жение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К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1/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рабочих температур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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.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0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8" name="Rectangle 35"/>
          <p:cNvSpPr/>
          <p:nvPr/>
        </p:nvSpPr>
        <p:spPr>
          <a:xfrm>
            <a:off x="762120" y="786960"/>
            <a:ext cx="7978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 несколько групп проволочных резисторов постоянного сопроти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чные и прецизионные резис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меняемые в метрологической аппаратуре, в электро- и радиоизмерительных приборах и вычислительной техн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оковольтные проволоч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грузочные (гасящие) проволочные резис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емые для понижения напряжения в цепях постоянного тока радиоэлектрон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Заголовок 1"/>
          <p:cNvSpPr/>
          <p:nvPr/>
        </p:nvSpPr>
        <p:spPr>
          <a:xfrm>
            <a:off x="714240" y="285840"/>
            <a:ext cx="7358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литель т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Электроизмерительные приборы"/>
          <p:cNvPicPr/>
          <p:nvPr/>
        </p:nvPicPr>
        <p:blipFill>
          <a:blip r:embed="rId1"/>
          <a:srcRect l="0" t="0" r="0" b="30435"/>
          <a:stretch/>
        </p:blipFill>
        <p:spPr>
          <a:xfrm>
            <a:off x="4537080" y="4338720"/>
            <a:ext cx="4606920" cy="2519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Делитель тока"/>
          <p:cNvPicPr/>
          <p:nvPr/>
        </p:nvPicPr>
        <p:blipFill>
          <a:blip r:embed="rId2"/>
          <a:stretch/>
        </p:blipFill>
        <p:spPr>
          <a:xfrm>
            <a:off x="714240" y="1000080"/>
            <a:ext cx="3714840" cy="4924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5"/>
          <p:cNvSpPr/>
          <p:nvPr/>
        </p:nvSpPr>
        <p:spPr>
          <a:xfrm>
            <a:off x="3736080" y="1000080"/>
            <a:ext cx="48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вых = Iвх  (R1 / R2 + R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FED0-B1DA-4492-95E9-C86121554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Проволочные резисторы постоянного сопротив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7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39"/>
          <p:cNvGrpSpPr/>
          <p:nvPr/>
        </p:nvGrpSpPr>
        <p:grpSpPr>
          <a:xfrm>
            <a:off x="750960" y="840600"/>
            <a:ext cx="7978680" cy="5736240"/>
            <a:chOff x="750960" y="840600"/>
            <a:chExt cx="7978680" cy="5736240"/>
          </a:xfrm>
        </p:grpSpPr>
        <p:sp>
          <p:nvSpPr>
            <p:cNvPr id="655" name="Rectangle 35"/>
            <p:cNvSpPr/>
            <p:nvPr/>
          </p:nvSpPr>
          <p:spPr>
            <a:xfrm>
              <a:off x="750960" y="840600"/>
              <a:ext cx="79786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конструктивным особенностям различают непроволочные и проволочные переменные резисторы с круговым и прямолинейным перемещением подвижного контакта, одноэлементные и многоэлементные (сдвоенные, строенные и т.д.), однооборотные и многооборотные, с выключателем и без выключателя, с фиксацией и без фиксации положения подвижной системы, с дополнительными и без дополнительных отводов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56" name="Object 2"/>
            <p:cNvGraphicFramePr/>
            <p:nvPr/>
          </p:nvGraphicFramePr>
          <p:xfrm>
            <a:off x="1353960" y="3603600"/>
            <a:ext cx="6496200" cy="297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3960" y="3603600"/>
                      <a:ext cx="6496200" cy="297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8" name="Rectangle 38"/>
          <p:cNvSpPr/>
          <p:nvPr/>
        </p:nvSpPr>
        <p:spPr>
          <a:xfrm>
            <a:off x="0" y="42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5142-FAB4-4815-9490-3B52A1D16F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66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Магниторезист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691920"/>
            <a:ext cx="837252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радиокомпоненты,  у которых электросопротивление изменяется под воздействием внешнего магнитного поля.  Регулируя напряженность управляю-щего магнитного поля в зазоре или перемещая магниторезистивный элемент в поле постоянного магнита, можно управлять сопротивлением и другими электри-ческими характеристиками резист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анализа эффекта Холла в полупроводниках следует, что tg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–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где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– подвижность носителей заряда (электронов или дырок). Для малых угло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ожно полагать, чт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 данном случае за время свободного пробега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доль электрического поля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оситель заряда пройдет путь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меньший, чем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имен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В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≈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≈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1-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2)=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1-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2).                            (7.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кольку за время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ситель заряда проходит меньший путь вдоль поля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то это равносильно уменьшению дрейфовой скорости 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д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ли подвижности, а тем самым 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величени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лектросопротивления полупроводни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чевидно, ч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                                 (7.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значи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учитывая статистический разброс времени и длин свободного пробега, окончательно получ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                                        (7.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34"/>
          <p:cNvGrpSpPr/>
          <p:nvPr/>
        </p:nvGrpSpPr>
        <p:grpSpPr>
          <a:xfrm>
            <a:off x="3390840" y="4508640"/>
            <a:ext cx="2691000" cy="1749240"/>
            <a:chOff x="3390840" y="4508640"/>
            <a:chExt cx="2691000" cy="1749240"/>
          </a:xfrm>
        </p:grpSpPr>
        <mc:AlternateContent>
          <mc:Choice xmlns:a14="http://schemas.microsoft.com/office/drawing/2010/main" Requires="a14">
            <p:sp>
              <p:nvSpPr>
                <p:cNvPr id="668" name="Object 2"/>
                <p:cNvSpPr txBox="1"/>
                <p:nvPr/>
              </p:nvSpPr>
              <p:spPr>
                <a:xfrm>
                  <a:off x="3390840" y="4508640"/>
                  <a:ext cx="269100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å</m:t>
                              </m:r>
                            </m:sub>
                          </m:sSub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å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r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å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9" name="Object 3"/>
                <p:cNvSpPr txBox="1"/>
                <p:nvPr/>
              </p:nvSpPr>
              <p:spPr>
                <a:xfrm>
                  <a:off x="3746520" y="5854680"/>
                  <a:ext cx="168912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r</m:t>
                      </m:r>
                      <m:r>
                        <m:t xml:space="preserve">/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å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403C-CA2F-4515-9936-7CD78F20D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Конструкция магниторезис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2"/>
          <p:cNvGraphicFramePr/>
          <p:nvPr/>
        </p:nvGraphicFramePr>
        <p:xfrm>
          <a:off x="1494000" y="954000"/>
          <a:ext cx="6642000" cy="32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954000"/>
                    <a:ext cx="66420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Rectangle 9"/>
          <p:cNvSpPr/>
          <p:nvPr/>
        </p:nvSpPr>
        <p:spPr>
          <a:xfrm>
            <a:off x="357120" y="4382280"/>
            <a:ext cx="8329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магниторезистивных элементов применяют в основном два полупроводниковых соединения из класса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их выраженным магниторезистивным эффектом: антимонид индия (InSb) и арсенид индия (InAs). Эти материалы характеризуются небольшой шириной запрещенной зоны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0,17 эВ и 0,36 эВ, соответственно) и очень высокой подвижностью электроно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7,6 и 3,3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BC49-9EAA-49C7-9D69-6AF3668D4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4600" y="2998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араметры магниторезис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71680" y="1028880"/>
            <a:ext cx="82296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1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Номинальное сопротивление R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опротивление магниторезистора в отсутствие магнитного по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2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Номинальная мощность рассеяния Р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максимально допустимая мощность рассеяния резистора в течение гарантированного срока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3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Отношение сопротивления R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Calibri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в поперечном магнитном поле с определенным значением индук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ычн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,5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к номинальному значению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R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R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Calibri"/>
              </a:rPr>
              <a:t>В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 /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R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4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Функциональная характеристика R = f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B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ависи-мость сопротивления магниторезистора от величины индукции воздействующего магнитного по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5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Температурный коэффициент сопротивления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ТКС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DF31-CF44-464A-96D2-57452B792E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alibri"/>
              </a:rPr>
              <a:t>Проектирование проволочных резисторов</a:t>
            </a:r>
            <a:br>
              <a:rPr sz="4000"/>
            </a:br>
            <a:r>
              <a:rPr b="1" i="1" lang="ru-RU" sz="4000" spc="-1" strike="noStrike">
                <a:solidFill>
                  <a:srgbClr val="cc3300"/>
                </a:solidFill>
                <a:latin typeface="Calibri"/>
              </a:rPr>
              <a:t>постоянного сопроти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380-2B9C-4550-BCB2-464D6C97B2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Техническое задание на проектирование проволочного резис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9"/>
          <p:cNvSpPr/>
          <p:nvPr/>
        </p:nvSpPr>
        <p:spPr>
          <a:xfrm>
            <a:off x="785880" y="1087920"/>
            <a:ext cx="7908840" cy="20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оминальное сопротивление и отклонение от номинала, 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оминальная мощность рассеяния, В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опустимый нагрев резистивного элемента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условия эксплутации по ГОСТ 1515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массогабаритные характеристики (размеры, масс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4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Object 2"/>
          <p:cNvGraphicFramePr/>
          <p:nvPr/>
        </p:nvGraphicFramePr>
        <p:xfrm>
          <a:off x="2214720" y="3646440"/>
          <a:ext cx="451800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3646440"/>
                    <a:ext cx="451800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C992-8A18-4226-A3DB-4343F5C09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85480" y="259920"/>
            <a:ext cx="84121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Порядок проектирования проволочного резисто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8440" y="1033200"/>
            <a:ext cx="8526600" cy="56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ыбор материала провода (манганин, константан, нихром). Производится исходя из условий эксплуатации, допустимой рабочей температуры и требований к стабильности парамет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Расчет диаметра обмоточного провода без изоляци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С этой целью воспользуемся формулой для допустимой плотности ток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ротекающего через резистивный элемен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А/м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                              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– значение тока через резистор, А;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– сечение провода, м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 формулы (7.22)  следует, что диаметр провода резистивного элемента без изоляции раве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                               (7.2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32"/>
          <p:cNvGrpSpPr/>
          <p:nvPr/>
        </p:nvGrpSpPr>
        <p:grpSpPr>
          <a:xfrm>
            <a:off x="3314880" y="3309840"/>
            <a:ext cx="2462040" cy="3043440"/>
            <a:chOff x="3314880" y="3309840"/>
            <a:chExt cx="2462040" cy="3043440"/>
          </a:xfrm>
        </p:grpSpPr>
        <mc:AlternateContent>
          <mc:Choice xmlns:a14="http://schemas.microsoft.com/office/drawing/2010/main" Requires="a14">
            <p:sp>
              <p:nvSpPr>
                <p:cNvPr id="703" name="Object 2"/>
                <p:cNvSpPr txBox="1"/>
                <p:nvPr/>
              </p:nvSpPr>
              <p:spPr>
                <a:xfrm>
                  <a:off x="3340080" y="3309840"/>
                  <a:ext cx="1635120" cy="82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pd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4" name="Object 3"/>
                <p:cNvSpPr txBox="1"/>
                <p:nvPr/>
              </p:nvSpPr>
              <p:spPr>
                <a:xfrm>
                  <a:off x="3314880" y="5499000"/>
                  <a:ext cx="2462040" cy="85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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pj</m:t>
                              </m:r>
                            </m:den>
                          </m:f>
                        </m:e>
                      </m:rad>
                      <m:r>
                        <m:t xml:space="preserve">»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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5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3755-9B95-401D-B8CB-8179AD16D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85480" y="259920"/>
            <a:ext cx="84121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Порядок проектирования проволочного резисто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8440" y="1046160"/>
            <a:ext cx="842508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формуле (7.23) величина ток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через резистивный элемент рассчитывается исходя из номинальной мощности рассеяния резистор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номинального сопротивления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                               (7.2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отность ток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ыбирается в зависимости от допустимого нагрева резистора, диаметра провода и условий охлаждения; для расчетов могут быть приняты следующие значения плотности тока: для стабильных резисторов 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 А/м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для нагрузочных (гасящих) резисторов 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 А/м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для резисторов из микропровода 20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00 А/м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рассчитанному диаметру провод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з справочника выбирается ближайшее стандартное значение диаметра и, в соответствии с допустимой температурой нагрева,  величина диаметра провода в изоляци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из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2546280" y="2606760"/>
            <a:ext cx="70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2546280" y="2606760"/>
            <a:ext cx="67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2"/>
              <p:cNvSpPr txBox="1"/>
              <p:nvPr/>
            </p:nvSpPr>
            <p:spPr>
              <a:xfrm>
                <a:off x="4280040" y="2163600"/>
                <a:ext cx="13572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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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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EB65-2D1B-490C-81A6-4960422B33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Порядок проектирования проволочного резисто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6840" y="934560"/>
            <a:ext cx="821844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Определение длины обмоточного провода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пр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 Для этого воспользуем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пр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=                                      , из которой, после преобразований, следуе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 м,                                         (7.25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– удельное сопротивление провода, Ом×мм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/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4. Расчет площади поверхности охлаждения резистора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охл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иближенно можно считать, что она равна площади наружной поверхности изоляционного основания. Для этого воспользуемся формулой (7.2), из которой получим, чт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                                              (7.2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ля точных резисторов с допусками 0,25; 0,5; 1,0% значение удельной мощности рассеяния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уд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= 5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00 Вт/м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 для резисторов общего применения с допустимой температурой перегрева 5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 величина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уд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 = 100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500 Вт/м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для нагрузочных резисторов (например, в цепях питания аппаратуры)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уд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= 300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000 Вт/м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117"/>
          <p:cNvGrpSpPr/>
          <p:nvPr/>
        </p:nvGrpSpPr>
        <p:grpSpPr>
          <a:xfrm>
            <a:off x="2298600" y="1190520"/>
            <a:ext cx="2732040" cy="3619440"/>
            <a:chOff x="2298600" y="1190520"/>
            <a:chExt cx="2732040" cy="3619440"/>
          </a:xfrm>
        </p:grpSpPr>
        <mc:AlternateContent>
          <mc:Choice xmlns:a14="http://schemas.microsoft.com/office/drawing/2010/main" Requires="a14">
            <p:sp>
              <p:nvSpPr>
                <p:cNvPr id="732" name="Object 2"/>
                <p:cNvSpPr txBox="1"/>
                <p:nvPr/>
              </p:nvSpPr>
              <p:spPr>
                <a:xfrm>
                  <a:off x="3475080" y="3975120"/>
                  <a:ext cx="132408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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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3" name="Object 3"/>
                <p:cNvSpPr txBox="1"/>
                <p:nvPr/>
              </p:nvSpPr>
              <p:spPr>
                <a:xfrm>
                  <a:off x="3441600" y="1612800"/>
                  <a:ext cx="15890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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o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  <m:r>
                            <m:t xml:space="preserve">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4" name="Object 4"/>
                <p:cNvSpPr txBox="1"/>
                <p:nvPr/>
              </p:nvSpPr>
              <p:spPr>
                <a:xfrm>
                  <a:off x="2298600" y="1190520"/>
                  <a:ext cx="215928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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/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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pd</m:t>
                          </m:r>
                        </m:e>
                        <m:sub>
                          <m:sSup>
                            <m:e>
                              <m:r>
                                <m:t xml:space="preserve">o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r>
                        <m:t xml:space="preserve">/</m:t>
                      </m:r>
                      <m:r>
                        <m:t xml:space="preserve">4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1AB2-B064-49DF-A5A7-57D1DB47B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Разработка конструкции резистора</a:t>
            </a: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673200"/>
            <a:ext cx="4038480" cy="59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м длину намотки по форму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          (7.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гасящих резисторов значение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1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 мм, для точных резисто-ров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6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 м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ив длину намотки, следует произвести проверочный расчет размещения обмотки на каркасе, проверив выполнение условия  где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число витков намотки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1,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3 – коэффициент неплотности укладки провода. Число витков намотки можно оценить по форму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      (7.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Group 10"/>
          <p:cNvGrpSpPr/>
          <p:nvPr/>
        </p:nvGrpSpPr>
        <p:grpSpPr>
          <a:xfrm>
            <a:off x="1803240" y="1459080"/>
            <a:ext cx="1420920" cy="4805280"/>
            <a:chOff x="1803240" y="1459080"/>
            <a:chExt cx="1420920" cy="4805280"/>
          </a:xfrm>
        </p:grpSpPr>
        <mc:AlternateContent>
          <mc:Choice xmlns:a14="http://schemas.microsoft.com/office/drawing/2010/main" Requires="a14">
            <p:sp>
              <p:nvSpPr>
                <p:cNvPr id="741" name="Object 3"/>
                <p:cNvSpPr txBox="1"/>
                <p:nvPr/>
              </p:nvSpPr>
              <p:spPr>
                <a:xfrm>
                  <a:off x="1968480" y="1459080"/>
                  <a:ext cx="109080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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D</m:t>
                              </m:r>
                            </m:e>
                            <m:sub>
                              <m:r>
                                <m:t xml:space="preserve">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2" name="Object 4"/>
                <p:cNvSpPr txBox="1"/>
                <p:nvPr/>
              </p:nvSpPr>
              <p:spPr>
                <a:xfrm>
                  <a:off x="1803240" y="5646600"/>
                  <a:ext cx="1420920" cy="61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ð</m:t>
                              </m:r>
                            </m:sub>
                          </m:sSub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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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43" name="Object 2"/>
          <p:cNvGraphicFramePr/>
          <p:nvPr/>
        </p:nvGraphicFramePr>
        <p:xfrm>
          <a:off x="4686480" y="1163520"/>
          <a:ext cx="4216320" cy="34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6480" y="1163520"/>
                    <a:ext cx="421632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Технический форум - Показать сообщение отдельно - Светодиод в 220 вольт"/>
          <p:cNvPicPr/>
          <p:nvPr/>
        </p:nvPicPr>
        <p:blipFill>
          <a:blip r:embed="rId1"/>
          <a:stretch/>
        </p:blipFill>
        <p:spPr>
          <a:xfrm>
            <a:off x="1143000" y="365040"/>
            <a:ext cx="7323120" cy="6492960"/>
          </a:xfrm>
          <a:prstGeom prst="rect">
            <a:avLst/>
          </a:prstGeom>
          <a:ln w="0">
            <a:noFill/>
          </a:ln>
        </p:spPr>
      </p:pic>
      <p:sp>
        <p:nvSpPr>
          <p:cNvPr id="281" name="Заголовок 1"/>
          <p:cNvSpPr/>
          <p:nvPr/>
        </p:nvSpPr>
        <p:spPr>
          <a:xfrm>
            <a:off x="571680" y="35712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Схемы простых регуляторов для паяльника. Как самому сделать паяльную станцию."/>
          <p:cNvPicPr/>
          <p:nvPr/>
        </p:nvPicPr>
        <p:blipFill>
          <a:blip r:embed="rId2"/>
          <a:stretch/>
        </p:blipFill>
        <p:spPr>
          <a:xfrm>
            <a:off x="357120" y="1357200"/>
            <a:ext cx="850428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F0CB-5598-4C2D-B670-E82A91E74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Расчёт производственной погреш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R</a:t>
            </a:r>
            <a:r>
              <a:rPr b="1" lang="ru-RU" sz="2800" spc="-1" strike="noStrike" baseline="-25000">
                <a:solidFill>
                  <a:srgbClr val="cc3300"/>
                </a:solidFill>
                <a:latin typeface="Calibri"/>
              </a:rPr>
              <a:t>н</a:t>
            </a: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и расчет </a:t>
            </a: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ТКС </a:t>
            </a:r>
            <a:r>
              <a:rPr b="1" lang="ru-RU" sz="28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r>
              <a:rPr b="1" i="1" lang="ru-RU" sz="2800" spc="-1" strike="noStrike" baseline="-25000">
                <a:solidFill>
                  <a:srgbClr val="cc3300"/>
                </a:solidFill>
                <a:latin typeface="Calibri"/>
              </a:rPr>
              <a:t>R,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9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19"/>
          <p:cNvGrpSpPr/>
          <p:nvPr/>
        </p:nvGrpSpPr>
        <p:grpSpPr>
          <a:xfrm>
            <a:off x="660240" y="835920"/>
            <a:ext cx="8207640" cy="5918400"/>
            <a:chOff x="660240" y="835920"/>
            <a:chExt cx="8207640" cy="5918400"/>
          </a:xfrm>
        </p:grpSpPr>
        <p:sp>
          <p:nvSpPr>
            <p:cNvPr id="755" name="Rectangle 105"/>
            <p:cNvSpPr/>
            <p:nvPr/>
          </p:nvSpPr>
          <p:spPr>
            <a:xfrm>
              <a:off x="660240" y="835920"/>
              <a:ext cx="8207640" cy="59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Для расчета производственной погрешности сопротивления резистора используем формулу для сопротивления проволочного резистора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Подставляя в эту формулу значение  </a:t>
              </a:r>
              <a:r>
                <a:rPr b="0" i="1" lang="ru-RU" sz="1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ru-RU" sz="1700" spc="-1" strike="noStrike" baseline="-25000">
                  <a:solidFill>
                    <a:srgbClr val="000000"/>
                  </a:solidFill>
                  <a:latin typeface="Arial"/>
                </a:rPr>
                <a:t>пр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ru-RU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700" spc="-1" strike="noStrike" baseline="-25000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, получим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.                                         (7.29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рассчитаем относительные коэффициенты влияния </a:t>
              </a:r>
              <a:r>
                <a:rPr b="0" i="1" lang="ru-RU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ru-RU" sz="17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= 1, = –2, = 1. Таким образом, относительное среднеквадратическое отклонение сопротивления проволочного резистора равн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.                                      (7.30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Полагая, что погрешности входных параметров распределены по нормальному закону (п. 6.3), для производственной погрешности сопротивления проволочного резистора получим следующее выражение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ru-RU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ru-RU" sz="1700" spc="-1" strike="noStrike" baseline="-25000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, %  =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, % .                                (7.31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Температурный коэффициент сопротивления резистора рассчитывается по формуле (7.22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1/К.        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            (7.32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6" name="Object 2"/>
                <p:cNvSpPr txBox="1"/>
                <p:nvPr/>
              </p:nvSpPr>
              <p:spPr>
                <a:xfrm>
                  <a:off x="4343400" y="1465200"/>
                  <a:ext cx="134316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f>
                        <m:num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ð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d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o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7" name="Object 3"/>
                <p:cNvSpPr txBox="1"/>
                <p:nvPr/>
              </p:nvSpPr>
              <p:spPr>
                <a:xfrm>
                  <a:off x="4343400" y="2577960"/>
                  <a:ext cx="152568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f>
                        <m:num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D</m:t>
                              </m:r>
                            </m:e>
                            <m:sub>
                              <m:r>
                                <m:t xml:space="preserve">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o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8" name="Object 4"/>
                <p:cNvSpPr txBox="1"/>
                <p:nvPr/>
              </p:nvSpPr>
              <p:spPr>
                <a:xfrm>
                  <a:off x="3327480" y="3886200"/>
                  <a:ext cx="27432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ρ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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9" name="Object 5"/>
                <p:cNvSpPr txBox="1"/>
                <p:nvPr/>
              </p:nvSpPr>
              <p:spPr>
                <a:xfrm>
                  <a:off x="5600880" y="5308560"/>
                  <a:ext cx="39672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0" name="Object 6"/>
                <p:cNvSpPr txBox="1"/>
                <p:nvPr/>
              </p:nvSpPr>
              <p:spPr>
                <a:xfrm>
                  <a:off x="3090960" y="6087960"/>
                  <a:ext cx="278136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ρ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к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1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B085-1DF4-4E4A-B674-B6B948D6D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ТЭА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3684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6" descr="head-logo"/>
          <p:cNvPicPr/>
          <p:nvPr/>
        </p:nvPicPr>
        <p:blipFill>
          <a:blip r:embed="rId2"/>
          <a:stretch/>
        </p:blipFill>
        <p:spPr>
          <a:xfrm>
            <a:off x="7000920" y="5357880"/>
            <a:ext cx="1861920" cy="79524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5"/>
          <p:cNvSpPr/>
          <p:nvPr/>
        </p:nvSpPr>
        <p:spPr>
          <a:xfrm>
            <a:off x="1071720" y="2428920"/>
            <a:ext cx="72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Заголовок 1"/>
          <p:cNvSpPr/>
          <p:nvPr/>
        </p:nvSpPr>
        <p:spPr>
          <a:xfrm>
            <a:off x="928800" y="35712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стоя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полупроводников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67"/>
          <p:cNvGrpSpPr/>
          <p:nvPr/>
        </p:nvGrpSpPr>
        <p:grpSpPr>
          <a:xfrm>
            <a:off x="5928840" y="857160"/>
            <a:ext cx="1925280" cy="926280"/>
            <a:chOff x="5928840" y="857160"/>
            <a:chExt cx="1925280" cy="926280"/>
          </a:xfrm>
        </p:grpSpPr>
        <p:grpSp>
          <p:nvGrpSpPr>
            <p:cNvPr id="286" name="Group 18"/>
            <p:cNvGrpSpPr/>
            <p:nvPr/>
          </p:nvGrpSpPr>
          <p:grpSpPr>
            <a:xfrm>
              <a:off x="5928840" y="1474200"/>
              <a:ext cx="1839240" cy="309240"/>
              <a:chOff x="5928840" y="1474200"/>
              <a:chExt cx="1839240" cy="309240"/>
            </a:xfrm>
          </p:grpSpPr>
          <p:grpSp>
            <p:nvGrpSpPr>
              <p:cNvPr id="287" name="Group 19"/>
              <p:cNvGrpSpPr/>
              <p:nvPr/>
            </p:nvGrpSpPr>
            <p:grpSpPr>
              <a:xfrm>
                <a:off x="5928840" y="1474200"/>
                <a:ext cx="1839240" cy="309240"/>
                <a:chOff x="5928840" y="1474200"/>
                <a:chExt cx="1839240" cy="309240"/>
              </a:xfrm>
            </p:grpSpPr>
            <p:sp>
              <p:nvSpPr>
                <p:cNvPr id="288" name="Line 20"/>
                <p:cNvSpPr/>
                <p:nvPr/>
              </p:nvSpPr>
              <p:spPr>
                <a:xfrm flipH="1">
                  <a:off x="5928840" y="1628280"/>
                  <a:ext cx="183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21"/>
                <p:cNvSpPr/>
                <p:nvPr/>
              </p:nvSpPr>
              <p:spPr>
                <a:xfrm rot="10800000">
                  <a:off x="6447960" y="1474200"/>
                  <a:ext cx="84780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Line 22"/>
              <p:cNvSpPr/>
              <p:nvPr/>
            </p:nvSpPr>
            <p:spPr>
              <a:xfrm>
                <a:off x="6817680" y="1534320"/>
                <a:ext cx="20160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3"/>
              <p:cNvSpPr/>
              <p:nvPr/>
            </p:nvSpPr>
            <p:spPr>
              <a:xfrm>
                <a:off x="6678720" y="1530360"/>
                <a:ext cx="20160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24"/>
            <p:cNvSpPr/>
            <p:nvPr/>
          </p:nvSpPr>
          <p:spPr>
            <a:xfrm>
              <a:off x="5944320" y="857160"/>
              <a:ext cx="190980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R1  5,6 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"/>
          <p:cNvGrpSpPr/>
          <p:nvPr/>
        </p:nvGrpSpPr>
        <p:grpSpPr>
          <a:xfrm>
            <a:off x="5572080" y="2143080"/>
            <a:ext cx="3677760" cy="1203120"/>
            <a:chOff x="5572080" y="2143080"/>
            <a:chExt cx="3677760" cy="1203120"/>
          </a:xfrm>
        </p:grpSpPr>
        <p:grpSp>
          <p:nvGrpSpPr>
            <p:cNvPr id="294" name="Group 4"/>
            <p:cNvGrpSpPr/>
            <p:nvPr/>
          </p:nvGrpSpPr>
          <p:grpSpPr>
            <a:xfrm>
              <a:off x="5572080" y="2360160"/>
              <a:ext cx="2087280" cy="986040"/>
              <a:chOff x="5572080" y="2360160"/>
              <a:chExt cx="2087280" cy="986040"/>
            </a:xfrm>
          </p:grpSpPr>
          <p:sp>
            <p:nvSpPr>
              <p:cNvPr id="295" name="Line 5"/>
              <p:cNvSpPr/>
              <p:nvPr/>
            </p:nvSpPr>
            <p:spPr>
              <a:xfrm>
                <a:off x="5572080" y="3157200"/>
                <a:ext cx="20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"/>
              <p:cNvSpPr/>
              <p:nvPr/>
            </p:nvSpPr>
            <p:spPr>
              <a:xfrm>
                <a:off x="6108120" y="2967120"/>
                <a:ext cx="962280" cy="37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7"/>
              <p:cNvSpPr/>
              <p:nvPr/>
            </p:nvSpPr>
            <p:spPr>
              <a:xfrm flipV="1">
                <a:off x="6595200" y="2360160"/>
                <a:ext cx="0" cy="6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Text Box 8"/>
            <p:cNvSpPr/>
            <p:nvPr/>
          </p:nvSpPr>
          <p:spPr>
            <a:xfrm>
              <a:off x="6627600" y="2143080"/>
              <a:ext cx="262224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R14  100 К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6"/>
          <p:cNvGrpSpPr/>
          <p:nvPr/>
        </p:nvGrpSpPr>
        <p:grpSpPr>
          <a:xfrm>
            <a:off x="6229440" y="3833640"/>
            <a:ext cx="1413360" cy="1595520"/>
            <a:chOff x="6229440" y="3833640"/>
            <a:chExt cx="1413360" cy="1595520"/>
          </a:xfrm>
        </p:grpSpPr>
        <p:grpSp>
          <p:nvGrpSpPr>
            <p:cNvPr id="300" name="Group 57"/>
            <p:cNvGrpSpPr/>
            <p:nvPr/>
          </p:nvGrpSpPr>
          <p:grpSpPr>
            <a:xfrm>
              <a:off x="6229440" y="3833640"/>
              <a:ext cx="1413360" cy="1595520"/>
              <a:chOff x="6229440" y="3833640"/>
              <a:chExt cx="1413360" cy="1595520"/>
            </a:xfrm>
          </p:grpSpPr>
          <p:sp>
            <p:nvSpPr>
              <p:cNvPr id="301" name="Line 58"/>
              <p:cNvSpPr/>
              <p:nvPr/>
            </p:nvSpPr>
            <p:spPr>
              <a:xfrm>
                <a:off x="7163280" y="3833640"/>
                <a:ext cx="0" cy="159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9"/>
              <p:cNvSpPr/>
              <p:nvPr/>
            </p:nvSpPr>
            <p:spPr>
              <a:xfrm rot="5400000">
                <a:off x="6796080" y="4420080"/>
                <a:ext cx="735480" cy="38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60"/>
              <p:cNvSpPr/>
              <p:nvPr/>
            </p:nvSpPr>
            <p:spPr>
              <a:xfrm>
                <a:off x="6229440" y="496188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61"/>
              <p:cNvSpPr/>
              <p:nvPr/>
            </p:nvSpPr>
            <p:spPr>
              <a:xfrm flipV="1">
                <a:off x="6708960" y="4241880"/>
                <a:ext cx="933840" cy="7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62"/>
            <p:cNvSpPr/>
            <p:nvPr/>
          </p:nvSpPr>
          <p:spPr>
            <a:xfrm>
              <a:off x="6357240" y="4357800"/>
              <a:ext cx="63648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4:50:59Z</dcterms:created>
  <dc:creator>Admin</dc:creator>
  <dc:description/>
  <dc:language>en-US</dc:language>
  <cp:lastModifiedBy>Пользователь</cp:lastModifiedBy>
  <dcterms:modified xsi:type="dcterms:W3CDTF">2017-10-17T10:23:09Z</dcterms:modified>
  <cp:revision>114</cp:revision>
  <dc:subject/>
  <dc:title>Омский государственный технический университет каф. Технология электронной аппаратуры</dc:title>
</cp:coreProperties>
</file>