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7B2-E29F-4513-991A-6BEDBA58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65D-A42B-4E38-B9BD-D41C3909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DFB-3285-44AD-B9A0-8E9106A8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C8E-8F53-4ADD-9636-9447BAFF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7AC3-6CE7-4534-92D3-458DD50A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AECD-CFDB-4CE2-BA6B-480E60F3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D085-D936-46BC-8093-B65198D4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AB42-1294-4514-A2AE-807E8B29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B56F-E511-4345-A765-83BBF10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F5A9-AABD-4B4A-B0DC-784CDC76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70D8-1BA3-40F6-8FD3-1298134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DDA-9C29-419F-B8DC-FAB9CE6A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CD3A-2520-4038-91B1-830AC899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B141-0A7C-40CC-B7D9-FE10F08E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2041-3580-44DC-BE6F-FD2ECF33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3DFE-97BE-45C3-A94E-9952DD91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097B-2419-4A32-8A02-31570274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5BB-87F2-42B6-9316-6DD4C4CC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3FE-3AF8-4CCC-BCCC-5552F6D2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090-4732-44F2-9CD1-B778880D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BC3-EC67-4972-B683-50426EBB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FB6-A7FA-43CB-A2BF-B1E2185E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02A-E13A-4F76-A422-E33B4914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45F-7B6B-4371-8BDE-A11385C2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1F03-08EF-4B24-A740-2E726482A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BA81-D842-4F41-8CC9-C6A8ACFC46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алют Побе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6730ca334e73[1]"/>
          <p:cNvPicPr/>
          <p:nvPr/>
        </p:nvPicPr>
        <p:blipFill>
          <a:blip r:embed="rId1"/>
          <a:stretch/>
        </p:blipFill>
        <p:spPr>
          <a:xfrm>
            <a:off x="611280" y="1341360"/>
            <a:ext cx="7993080" cy="4940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 каждом городе, селе есть памятники погибшим воинам. Мы гордимся своими героями и будем помнить о них всег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img013"/>
          <p:cNvPicPr/>
          <p:nvPr/>
        </p:nvPicPr>
        <p:blipFill>
          <a:blip r:embed="rId1"/>
          <a:srcRect l="-7386" t="0" r="0" b="0"/>
          <a:stretch/>
        </p:blipFill>
        <p:spPr>
          <a:xfrm>
            <a:off x="2987640" y="1700280"/>
            <a:ext cx="3608280" cy="49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9 мая наша страна празднует День Побе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17" descr="1510"/>
          <p:cNvPicPr/>
          <p:nvPr/>
        </p:nvPicPr>
        <p:blipFill>
          <a:blip r:embed="rId1"/>
          <a:stretch/>
        </p:blipFill>
        <p:spPr>
          <a:xfrm>
            <a:off x="755640" y="1773360"/>
            <a:ext cx="3672000" cy="4464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0742"/>
          <p:cNvPicPr/>
          <p:nvPr/>
        </p:nvPicPr>
        <p:blipFill>
          <a:blip r:embed="rId2"/>
          <a:stretch/>
        </p:blipFill>
        <p:spPr>
          <a:xfrm>
            <a:off x="4859280" y="1844640"/>
            <a:ext cx="34578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C:\Users\Лилия\Desktop\работа 258\замещение\изо\9 мая\5291_800.jpg"/>
          <p:cNvPicPr/>
          <p:nvPr/>
        </p:nvPicPr>
        <p:blipFill>
          <a:blip r:embed="rId3"/>
          <a:stretch/>
        </p:blipFill>
        <p:spPr>
          <a:xfrm>
            <a:off x="-214200" y="3191040"/>
            <a:ext cx="5137200" cy="3666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Лилия\Desktop\работа 258\замещение\изо\9 мая\409762309.jpg"/>
          <p:cNvPicPr/>
          <p:nvPr/>
        </p:nvPicPr>
        <p:blipFill>
          <a:blip r:embed="rId4"/>
          <a:stretch/>
        </p:blipFill>
        <p:spPr>
          <a:xfrm>
            <a:off x="1357200" y="357120"/>
            <a:ext cx="5031000" cy="284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Users\Лилия\Desktop\работа 258\замещение\изо\9 мая\936258673.jpg"/>
          <p:cNvPicPr/>
          <p:nvPr/>
        </p:nvPicPr>
        <p:blipFill>
          <a:blip r:embed="rId5"/>
          <a:stretch/>
        </p:blipFill>
        <p:spPr>
          <a:xfrm>
            <a:off x="936720" y="4802040"/>
            <a:ext cx="182520" cy="103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Лилия\Desktop\работа 258\замещение\изо\9 мая\imgs-171467.jpg"/>
          <p:cNvPicPr/>
          <p:nvPr/>
        </p:nvPicPr>
        <p:blipFill>
          <a:blip r:embed="rId6"/>
          <a:stretch/>
        </p:blipFill>
        <p:spPr>
          <a:xfrm>
            <a:off x="4786200" y="3429000"/>
            <a:ext cx="45579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C:\Users\Лилия\Desktop\работа 258\замещение\изо\9 мая\5c5aebaa6d8c99169038166716aa61bf.jpg"/>
          <p:cNvPicPr/>
          <p:nvPr/>
        </p:nvPicPr>
        <p:blipFill>
          <a:blip r:embed="rId3"/>
          <a:stretch/>
        </p:blipFill>
        <p:spPr>
          <a:xfrm>
            <a:off x="243000" y="1428840"/>
            <a:ext cx="8901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C:\Users\Лилия\Desktop\работа 258\замещение\изо\9 мая\755a5b6b493d8e6998cd1929ba20e458.jpg"/>
          <p:cNvPicPr/>
          <p:nvPr/>
        </p:nvPicPr>
        <p:blipFill>
          <a:blip r:embed="rId3"/>
          <a:stretch/>
        </p:blipFill>
        <p:spPr>
          <a:xfrm>
            <a:off x="428760" y="863640"/>
            <a:ext cx="83692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C:\Users\Лилия\Desktop\работа 258\замещение\изо\9 мая\images.jpg"/>
          <p:cNvPicPr/>
          <p:nvPr/>
        </p:nvPicPr>
        <p:blipFill>
          <a:blip r:embed="rId3"/>
          <a:stretch/>
        </p:blipFill>
        <p:spPr>
          <a:xfrm>
            <a:off x="214200" y="714240"/>
            <a:ext cx="829332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6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этот радостный день раздаются залпы салютов в городах - героях, в городах воинской сла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8" descr="0_219fb_d60f216c_XL[1]"/>
          <p:cNvPicPr/>
          <p:nvPr/>
        </p:nvPicPr>
        <p:blipFill>
          <a:blip r:embed="rId1"/>
          <a:stretch/>
        </p:blipFill>
        <p:spPr>
          <a:xfrm>
            <a:off x="2411280" y="2637000"/>
            <a:ext cx="4465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25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общение темы и цели урок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мы с вами попробуем нарисовать салют Побе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salut[1]"/>
          <p:cNvPicPr/>
          <p:nvPr/>
        </p:nvPicPr>
        <p:blipFill>
          <a:blip r:embed="rId1"/>
          <a:stretch/>
        </p:blipFill>
        <p:spPr>
          <a:xfrm>
            <a:off x="1332000" y="2781360"/>
            <a:ext cx="6335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fireworks1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LT%2050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900000" y="476280"/>
            <a:ext cx="66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2 июня 1941 года фашистская Германия без объявления войны напала на Советский Сою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1526"/>
          <p:cNvPicPr/>
          <p:nvPr/>
        </p:nvPicPr>
        <p:blipFill>
          <a:blip r:embed="rId1"/>
          <a:stretch/>
        </p:blipFill>
        <p:spPr>
          <a:xfrm>
            <a:off x="1476360" y="2349360"/>
            <a:ext cx="6048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алют – это очень красивое зрелищ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1230913689_fireworks-show-02[1]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9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121036263413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ставай, страна огромна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256568[1]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60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2274"/>
          <p:cNvPicPr/>
          <p:nvPr/>
        </p:nvPicPr>
        <p:blipFill>
          <a:blip r:embed="rId3"/>
          <a:stretch/>
        </p:blipFill>
        <p:spPr>
          <a:xfrm>
            <a:off x="4859280" y="1557360"/>
            <a:ext cx="388944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ашисты разрушили и сожгли 70 тысяч городов, поселков и деревень нашей Род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0672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4535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0950"/>
          <p:cNvPicPr/>
          <p:nvPr/>
        </p:nvPicPr>
        <p:blipFill>
          <a:blip r:embed="rId2"/>
          <a:stretch/>
        </p:blipFill>
        <p:spPr>
          <a:xfrm>
            <a:off x="4788000" y="1557360"/>
            <a:ext cx="396072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4 страшных года длилась Великая Отечественная вой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1821"/>
          <p:cNvPicPr/>
          <p:nvPr/>
        </p:nvPicPr>
        <p:blipFill>
          <a:blip r:embed="rId1"/>
          <a:stretch/>
        </p:blipFill>
        <p:spPr>
          <a:xfrm>
            <a:off x="525600" y="1631880"/>
            <a:ext cx="4262400" cy="4424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0410"/>
          <p:cNvPicPr/>
          <p:nvPr/>
        </p:nvPicPr>
        <p:blipFill>
          <a:blip r:embed="rId2"/>
          <a:stretch/>
        </p:blipFill>
        <p:spPr>
          <a:xfrm>
            <a:off x="4859280" y="1628640"/>
            <a:ext cx="371340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ашисты не щадили никого: убивали детей, женщин и стариков, сжигали целые дерев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2" descr="0231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53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4" descr="0627"/>
          <p:cNvPicPr/>
          <p:nvPr/>
        </p:nvPicPr>
        <p:blipFill>
          <a:blip r:embed="rId3"/>
          <a:stretch/>
        </p:blipFill>
        <p:spPr>
          <a:xfrm>
            <a:off x="46836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одину защищали все от мала до вел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2199"/>
          <p:cNvPicPr/>
          <p:nvPr/>
        </p:nvPicPr>
        <p:blipFill>
          <a:blip r:embed="rId1"/>
          <a:stretch/>
        </p:blipFill>
        <p:spPr>
          <a:xfrm>
            <a:off x="474840" y="1703520"/>
            <a:ext cx="3736800" cy="4387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2236"/>
          <p:cNvPicPr/>
          <p:nvPr/>
        </p:nvPicPr>
        <p:blipFill>
          <a:blip r:embed="rId2"/>
          <a:stretch/>
        </p:blipFill>
        <p:spPr>
          <a:xfrm>
            <a:off x="4427640" y="1700280"/>
            <a:ext cx="4465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беда нашему народу досталась дорогой ценой. Война унесла почти  27 миллионов жизней советских людей. Наш народ не только выстоял в такой жестокой войне, но и разгромил фашизм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0519"/>
          <p:cNvPicPr/>
          <p:nvPr/>
        </p:nvPicPr>
        <p:blipFill>
          <a:blip r:embed="rId1"/>
          <a:stretch/>
        </p:blipFill>
        <p:spPr>
          <a:xfrm>
            <a:off x="1187280" y="2637000"/>
            <a:ext cx="67327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 все вернулись с войны. Они погибли защищая свою Родину, своих родных, своих детей, для того, чтобы мы жили мирно и счастливо. Они – геро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20090617-dozhdalas[1]"/>
          <p:cNvPicPr/>
          <p:nvPr/>
        </p:nvPicPr>
        <p:blipFill>
          <a:blip r:embed="rId1"/>
          <a:stretch/>
        </p:blipFill>
        <p:spPr>
          <a:xfrm>
            <a:off x="1152360" y="2492280"/>
            <a:ext cx="68392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16:21Z</dcterms:created>
  <dc:creator>Админчик</dc:creator>
  <dc:description/>
  <dc:language>en-US</dc:language>
  <cp:lastModifiedBy>Лилия</cp:lastModifiedBy>
  <dcterms:modified xsi:type="dcterms:W3CDTF">2016-05-03T20:42:35Z</dcterms:modified>
  <cp:revision>16</cp:revision>
  <dc:subject/>
  <dc:title>Салют Победы</dc:title>
</cp:coreProperties>
</file>