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32F5-4327-4D91-B408-6C6BFCD4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7CA2-7AC1-4088-BC7C-78FED9EF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7441-59EE-4CDB-B6CC-C68F82E9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4B82-08C7-4374-90F7-E6807FEB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BB46-FC0A-4605-A959-32C62C79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6E40-9528-4F64-B2B8-F2A987C5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BC94-4339-41BF-BB81-314FF85B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9BBB-69E4-4D4D-A39F-E07C60A8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B1AD-255D-4603-86AF-98DE6562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5D29-2C47-454C-B8A1-C174A75C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5F4B-C224-4DEC-B95E-80797737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97C7-72B0-43B1-8AF1-C2F1E866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549B-7BA1-4D01-8820-F41317DA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07AE-3C6D-484C-A963-DEC211E8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6B33-36C0-4518-9F15-CE4EAD280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8093-73DC-4C14-95E6-6063C8E5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DE13-D04E-41E8-9F58-93279796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539C-F022-4D16-BCFE-803C3A30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8462-5DAE-47F3-A5B2-44AC0710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F1DC-F99E-4BE8-8C30-FDCEF722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669F-5CFF-481D-B95A-13402FFAF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E16-0860-499A-BAED-416AA9F4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A110-3030-4913-AE18-F14225D2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342F-5110-4D08-A38D-D954A7E3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0FD1-E8F2-478E-BDE5-70FF3AFE31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AFF8-585A-4681-A044-123C3A965B8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алют Побед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7" descr="6730ca334e73[1]"/>
          <p:cNvPicPr/>
          <p:nvPr/>
        </p:nvPicPr>
        <p:blipFill>
          <a:blip r:embed="rId1"/>
          <a:stretch/>
        </p:blipFill>
        <p:spPr>
          <a:xfrm>
            <a:off x="611280" y="1341360"/>
            <a:ext cx="7993080" cy="4940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В каждом городе, селе есть памятники погибшим воинам. Мы гордимся своими героями и будем помнить о них всег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5" descr="img013"/>
          <p:cNvPicPr/>
          <p:nvPr/>
        </p:nvPicPr>
        <p:blipFill>
          <a:blip r:embed="rId1"/>
          <a:srcRect l="-7386" t="0" r="0" b="0"/>
          <a:stretch/>
        </p:blipFill>
        <p:spPr>
          <a:xfrm>
            <a:off x="2987640" y="1700280"/>
            <a:ext cx="3608280" cy="49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9 мая наша страна празднует День Побе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17" descr="1510"/>
          <p:cNvPicPr/>
          <p:nvPr/>
        </p:nvPicPr>
        <p:blipFill>
          <a:blip r:embed="rId1"/>
          <a:stretch/>
        </p:blipFill>
        <p:spPr>
          <a:xfrm>
            <a:off x="755640" y="1773360"/>
            <a:ext cx="3672000" cy="4464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8" descr="0742"/>
          <p:cNvPicPr/>
          <p:nvPr/>
        </p:nvPicPr>
        <p:blipFill>
          <a:blip r:embed="rId2"/>
          <a:stretch/>
        </p:blipFill>
        <p:spPr>
          <a:xfrm>
            <a:off x="4859280" y="1844640"/>
            <a:ext cx="345780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" descr="C:\Users\Лилия\Desktop\работа 258\замещение\изо\9 мая\5291_800.jpg"/>
          <p:cNvPicPr/>
          <p:nvPr/>
        </p:nvPicPr>
        <p:blipFill>
          <a:blip r:embed="rId3"/>
          <a:stretch/>
        </p:blipFill>
        <p:spPr>
          <a:xfrm>
            <a:off x="-214200" y="3191040"/>
            <a:ext cx="5137200" cy="36669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Users\Лилия\Desktop\работа 258\замещение\изо\9 мая\409762309.jpg"/>
          <p:cNvPicPr/>
          <p:nvPr/>
        </p:nvPicPr>
        <p:blipFill>
          <a:blip r:embed="rId4"/>
          <a:stretch/>
        </p:blipFill>
        <p:spPr>
          <a:xfrm>
            <a:off x="1357200" y="357120"/>
            <a:ext cx="5031000" cy="2843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Users\Лилия\Desktop\работа 258\замещение\изо\9 мая\936258673.jpg"/>
          <p:cNvPicPr/>
          <p:nvPr/>
        </p:nvPicPr>
        <p:blipFill>
          <a:blip r:embed="rId5"/>
          <a:stretch/>
        </p:blipFill>
        <p:spPr>
          <a:xfrm>
            <a:off x="936720" y="4802040"/>
            <a:ext cx="182520" cy="1033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Users\Лилия\Desktop\работа 258\замещение\изо\9 мая\imgs-171467.jpg"/>
          <p:cNvPicPr/>
          <p:nvPr/>
        </p:nvPicPr>
        <p:blipFill>
          <a:blip r:embed="rId6"/>
          <a:stretch/>
        </p:blipFill>
        <p:spPr>
          <a:xfrm>
            <a:off x="4786200" y="3429000"/>
            <a:ext cx="45579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2" descr="C:\Users\Лилия\Desktop\работа 258\замещение\изо\9 мая\5c5aebaa6d8c99169038166716aa61bf.jpg"/>
          <p:cNvPicPr/>
          <p:nvPr/>
        </p:nvPicPr>
        <p:blipFill>
          <a:blip r:embed="rId3"/>
          <a:stretch/>
        </p:blipFill>
        <p:spPr>
          <a:xfrm>
            <a:off x="243000" y="1428840"/>
            <a:ext cx="89010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2" descr="C:\Users\Лилия\Desktop\работа 258\замещение\изо\9 мая\755a5b6b493d8e6998cd1929ba20e458.jpg"/>
          <p:cNvPicPr/>
          <p:nvPr/>
        </p:nvPicPr>
        <p:blipFill>
          <a:blip r:embed="rId3"/>
          <a:stretch/>
        </p:blipFill>
        <p:spPr>
          <a:xfrm>
            <a:off x="428760" y="863640"/>
            <a:ext cx="83692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C:\Users\Лилия\Desktop\работа 258\замещение\изо\9 мая\images.jpg"/>
          <p:cNvPicPr/>
          <p:nvPr/>
        </p:nvPicPr>
        <p:blipFill>
          <a:blip r:embed="rId3"/>
          <a:stretch/>
        </p:blipFill>
        <p:spPr>
          <a:xfrm>
            <a:off x="214200" y="714240"/>
            <a:ext cx="8293320" cy="56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6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В этот радостный день раздаются залпы салютов в городах - героях, в городах воинской слав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18" descr="0_219fb_d60f216c_XL[1]"/>
          <p:cNvPicPr/>
          <p:nvPr/>
        </p:nvPicPr>
        <p:blipFill>
          <a:blip r:embed="rId1"/>
          <a:stretch/>
        </p:blipFill>
        <p:spPr>
          <a:xfrm>
            <a:off x="2411280" y="2637000"/>
            <a:ext cx="446580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25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общение темы и цели урока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годня мы с вами попробуем нарисовать салют Побед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8" descr="salut[1]"/>
          <p:cNvPicPr/>
          <p:nvPr/>
        </p:nvPicPr>
        <p:blipFill>
          <a:blip r:embed="rId1"/>
          <a:stretch/>
        </p:blipFill>
        <p:spPr>
          <a:xfrm>
            <a:off x="1332000" y="2781360"/>
            <a:ext cx="63356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fireworks1[2]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5" descr="LT%20506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6"/>
          <p:cNvSpPr/>
          <p:nvPr/>
        </p:nvSpPr>
        <p:spPr>
          <a:xfrm>
            <a:off x="900000" y="476280"/>
            <a:ext cx="669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22 июня 1941 года фашистская Германия без объявления войны напала на Советский Союз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7" descr="1526"/>
          <p:cNvPicPr/>
          <p:nvPr/>
        </p:nvPicPr>
        <p:blipFill>
          <a:blip r:embed="rId1"/>
          <a:stretch/>
        </p:blipFill>
        <p:spPr>
          <a:xfrm>
            <a:off x="1476360" y="2349360"/>
            <a:ext cx="604836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Салют – это очень красивое зрелищ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7" descr="1230913689_fireworks-show-02[1]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5" descr="91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5" descr="121036263413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Вставай, страна огромная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256568[1]"/>
          <p:cNvPicPr/>
          <p:nvPr/>
        </p:nvPicPr>
        <p:blipFill>
          <a:blip r:embed="rId2"/>
          <a:stretch/>
        </p:blipFill>
        <p:spPr>
          <a:xfrm>
            <a:off x="468360" y="1557360"/>
            <a:ext cx="4032360" cy="4606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2274"/>
          <p:cNvPicPr/>
          <p:nvPr/>
        </p:nvPicPr>
        <p:blipFill>
          <a:blip r:embed="rId3"/>
          <a:stretch/>
        </p:blipFill>
        <p:spPr>
          <a:xfrm>
            <a:off x="4859280" y="1557360"/>
            <a:ext cx="388944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Фашисты разрушили и сожгли 70 тысяч городов, поселков и деревень нашей Роди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7" descr="0672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4535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0950"/>
          <p:cNvPicPr/>
          <p:nvPr/>
        </p:nvPicPr>
        <p:blipFill>
          <a:blip r:embed="rId2"/>
          <a:stretch/>
        </p:blipFill>
        <p:spPr>
          <a:xfrm>
            <a:off x="4788000" y="1557360"/>
            <a:ext cx="396072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4 страшных года длилась Великая Отечественная вой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9" descr="1821"/>
          <p:cNvPicPr/>
          <p:nvPr/>
        </p:nvPicPr>
        <p:blipFill>
          <a:blip r:embed="rId1"/>
          <a:stretch/>
        </p:blipFill>
        <p:spPr>
          <a:xfrm>
            <a:off x="525600" y="1631880"/>
            <a:ext cx="4262400" cy="4424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0410"/>
          <p:cNvPicPr/>
          <p:nvPr/>
        </p:nvPicPr>
        <p:blipFill>
          <a:blip r:embed="rId2"/>
          <a:stretch/>
        </p:blipFill>
        <p:spPr>
          <a:xfrm>
            <a:off x="4859280" y="1628640"/>
            <a:ext cx="3713400" cy="44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Фашисты не щадили никого: убивали детей, женщин и стариков, сжигали целые дерев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12" descr="0231"/>
          <p:cNvPicPr/>
          <p:nvPr/>
        </p:nvPicPr>
        <p:blipFill>
          <a:blip r:embed="rId1"/>
          <a:stretch/>
        </p:blipFill>
        <p:spPr>
          <a:xfrm>
            <a:off x="4643280" y="1628640"/>
            <a:ext cx="4105440" cy="45370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14" descr="0627"/>
          <p:cNvPicPr/>
          <p:nvPr/>
        </p:nvPicPr>
        <p:blipFill>
          <a:blip r:embed="rId3"/>
          <a:stretch/>
        </p:blipFill>
        <p:spPr>
          <a:xfrm>
            <a:off x="468360" y="1557360"/>
            <a:ext cx="403236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одину защищали все от мала до вел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9" descr="2199"/>
          <p:cNvPicPr/>
          <p:nvPr/>
        </p:nvPicPr>
        <p:blipFill>
          <a:blip r:embed="rId1"/>
          <a:stretch/>
        </p:blipFill>
        <p:spPr>
          <a:xfrm>
            <a:off x="474840" y="1703520"/>
            <a:ext cx="3736800" cy="4387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2236"/>
          <p:cNvPicPr/>
          <p:nvPr/>
        </p:nvPicPr>
        <p:blipFill>
          <a:blip r:embed="rId2"/>
          <a:stretch/>
        </p:blipFill>
        <p:spPr>
          <a:xfrm>
            <a:off x="4427640" y="1700280"/>
            <a:ext cx="4465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Победа нашему народу досталась дорогой ценой. Война унесла почти  27 миллионов жизней советских людей. Наш народ не только выстоял в такой жестокой войне, но и разгромил фашизм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0519"/>
          <p:cNvPicPr/>
          <p:nvPr/>
        </p:nvPicPr>
        <p:blipFill>
          <a:blip r:embed="rId1"/>
          <a:stretch/>
        </p:blipFill>
        <p:spPr>
          <a:xfrm>
            <a:off x="1187280" y="2637000"/>
            <a:ext cx="673272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Не все вернулись с войны. Они погибли защищая свою Родину, своих родных, своих детей, для того, чтобы мы жили мирно и счастливо. Они – герои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5" descr="20090617-dozhdalas[1]"/>
          <p:cNvPicPr/>
          <p:nvPr/>
        </p:nvPicPr>
        <p:blipFill>
          <a:blip r:embed="rId1"/>
          <a:stretch/>
        </p:blipFill>
        <p:spPr>
          <a:xfrm>
            <a:off x="1152360" y="2492280"/>
            <a:ext cx="6839280" cy="4032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9T15:16:21Z</dcterms:created>
  <dc:creator>Админчик</dc:creator>
  <dc:description/>
  <dc:language>en-US</dc:language>
  <cp:lastModifiedBy>Лилия</cp:lastModifiedBy>
  <dcterms:modified xsi:type="dcterms:W3CDTF">2016-05-03T20:42:35Z</dcterms:modified>
  <cp:revision>16</cp:revision>
  <dc:subject/>
  <dc:title>Салют Победы</dc:title>
</cp:coreProperties>
</file>