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C387-821C-49B6-B312-2FB06B4AF4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CB8E-C414-4C4A-A32A-812DAFA7E5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145-2AC1-419E-9769-3463B4E28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82B2-98D6-44E6-AFBD-737FE407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A1A-407C-4918-9979-5AF32545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D34A-FD30-4B74-AB66-B643F598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D16C-65CA-4795-8C6D-3B14AD3B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FF97-E5C6-487E-A0A4-478B3AD3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5DF0-33F0-47FA-BD16-48687DB1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4EB-96A5-435A-97E0-B1D8506F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D00-8F8A-4549-A1E2-A344096D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965-EB2E-4F09-B35C-3C8FC4B3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716-9098-4A20-A5FB-4D5B600D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185-FA89-4B59-AB49-4A45833E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83A5-05B1-413F-9309-36B2DD0CF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428560"/>
            <a:ext cx="7772400" cy="19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Monotype Corsiva"/>
              </a:rPr>
              <a:t>СЕМЕЙНЫЕ ЦЕННОСТИ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6" descr="4a9d3dab2552.jpg"/>
          <p:cNvPicPr/>
          <p:nvPr/>
        </p:nvPicPr>
        <p:blipFill>
          <a:blip r:embed="rId1"/>
          <a:srcRect l="0" t="0" r="998" b="12004"/>
          <a:stretch/>
        </p:blipFill>
        <p:spPr>
          <a:xfrm>
            <a:off x="5214960" y="4095720"/>
            <a:ext cx="3929040" cy="2619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1" descr="c8c811885505.jpg"/>
          <p:cNvPicPr/>
          <p:nvPr/>
        </p:nvPicPr>
        <p:blipFill>
          <a:blip r:embed="rId2"/>
          <a:stretch/>
        </p:blipFill>
        <p:spPr>
          <a:xfrm>
            <a:off x="2286000" y="0"/>
            <a:ext cx="3500280" cy="26258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920" y="2857320"/>
            <a:ext cx="428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ТРАД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0_a727f_995a4178_XL.jpeg"/>
          <p:cNvPicPr/>
          <p:nvPr/>
        </p:nvPicPr>
        <p:blipFill>
          <a:blip r:embed="rId3"/>
          <a:stretch/>
        </p:blipFill>
        <p:spPr>
          <a:xfrm>
            <a:off x="2928960" y="4500720"/>
            <a:ext cx="3143160" cy="23572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4" descr="0_a7289_18a5f7fa_XL.jpeg"/>
          <p:cNvPicPr/>
          <p:nvPr/>
        </p:nvPicPr>
        <p:blipFill>
          <a:blip r:embed="rId4"/>
          <a:stretch/>
        </p:blipFill>
        <p:spPr>
          <a:xfrm>
            <a:off x="5715000" y="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d72ad3d2349a.jpg"/>
          <p:cNvPicPr/>
          <p:nvPr/>
        </p:nvPicPr>
        <p:blipFill>
          <a:blip r:embed="rId5"/>
          <a:srcRect l="0" t="0" r="22685" b="12004"/>
          <a:stretch/>
        </p:blipFill>
        <p:spPr>
          <a:xfrm>
            <a:off x="0" y="0"/>
            <a:ext cx="2928960" cy="25002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6c0016d68c32.jpg"/>
          <p:cNvPicPr/>
          <p:nvPr/>
        </p:nvPicPr>
        <p:blipFill>
          <a:blip r:embed="rId6"/>
          <a:srcRect l="0" t="0" r="14687" b="13334"/>
          <a:stretch/>
        </p:blipFill>
        <p:spPr>
          <a:xfrm>
            <a:off x="0" y="45720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9" descr="46dfdf2c6997.jpg"/>
          <p:cNvPicPr/>
          <p:nvPr/>
        </p:nvPicPr>
        <p:blipFill>
          <a:blip r:embed="rId7"/>
          <a:srcRect l="0" t="0" r="0" b="12054"/>
          <a:stretch/>
        </p:blipFill>
        <p:spPr>
          <a:xfrm>
            <a:off x="4357800" y="2214720"/>
            <a:ext cx="33573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одержимое 3" descr="60172_or.jpg"/>
          <p:cNvPicPr/>
          <p:nvPr/>
        </p:nvPicPr>
        <p:blipFill>
          <a:blip r:embed="rId1"/>
          <a:stretch/>
        </p:blipFill>
        <p:spPr>
          <a:xfrm>
            <a:off x="285840" y="357120"/>
            <a:ext cx="5357880" cy="621828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5929200" y="1285920"/>
            <a:ext cx="2928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Раньше жили семьями больши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абушка и дедуш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Содержимое 3" descr="_preview.jpg"/>
          <p:cNvPicPr/>
          <p:nvPr/>
        </p:nvPicPr>
        <p:blipFill>
          <a:blip r:embed="rId1"/>
          <a:stretch/>
        </p:blipFill>
        <p:spPr>
          <a:xfrm>
            <a:off x="5500800" y="2000160"/>
            <a:ext cx="314784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family.jpg"/>
          <p:cNvPicPr/>
          <p:nvPr/>
        </p:nvPicPr>
        <p:blipFill>
          <a:blip r:embed="rId2"/>
          <a:stretch/>
        </p:blipFill>
        <p:spPr>
          <a:xfrm>
            <a:off x="500040" y="3429000"/>
            <a:ext cx="470520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3" descr="1306884111_den-zaschity-detey.jpg"/>
          <p:cNvPicPr/>
          <p:nvPr/>
        </p:nvPicPr>
        <p:blipFill>
          <a:blip r:embed="rId1"/>
          <a:stretch/>
        </p:blipFill>
        <p:spPr>
          <a:xfrm>
            <a:off x="714240" y="1428840"/>
            <a:ext cx="757260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9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 Black"/>
              </a:rPr>
              <a:t>МА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С_мамой7.jpg"/>
          <p:cNvPicPr/>
          <p:nvPr/>
        </p:nvPicPr>
        <p:blipFill>
          <a:blip r:embed="rId1"/>
          <a:stretch/>
        </p:blipFill>
        <p:spPr>
          <a:xfrm>
            <a:off x="285840" y="3143160"/>
            <a:ext cx="3017880" cy="352584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Материнская_нежность.jpg"/>
          <p:cNvPicPr/>
          <p:nvPr/>
        </p:nvPicPr>
        <p:blipFill>
          <a:blip r:embed="rId2"/>
          <a:stretch/>
        </p:blipFill>
        <p:spPr>
          <a:xfrm>
            <a:off x="3286080" y="1643040"/>
            <a:ext cx="3143160" cy="47624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С_мамой6.jpg"/>
          <p:cNvPicPr/>
          <p:nvPr/>
        </p:nvPicPr>
        <p:blipFill>
          <a:blip r:embed="rId3"/>
          <a:stretch/>
        </p:blipFill>
        <p:spPr>
          <a:xfrm>
            <a:off x="6429240" y="285840"/>
            <a:ext cx="243864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Как звучит слово «мама» на разных языках ми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28440" y="1999800"/>
            <a:ext cx="70722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Италия и Испания – мадрэ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Франция и Персия – мама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Украина и Болгария – маты или мам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Литва – мамит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58ed5"/>
                </a:solidFill>
                <a:latin typeface="Calibri"/>
              </a:rPr>
              <a:t>Английский – мам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гадай мелод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143240" y="2143080"/>
            <a:ext cx="468648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 улыбки хмурый день светлей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 улыбки даже радуга проснётся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делись улыбкою своей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она к тебе не раз ещё вернётся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тогда, наверняка, вдруг запляшут обла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кузнечик запиликает на скрипке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голубого ручейка начинается ре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у а дружба начинается с улыбки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голубого ручейка начинается ре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у а дружба начинается с улыбки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1428840" y="1500120"/>
            <a:ext cx="50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сенка о том, с чего начинается друж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x_cc1d607b.jpg"/>
          <p:cNvPicPr/>
          <p:nvPr/>
        </p:nvPicPr>
        <p:blipFill>
          <a:blip r:embed="rId1"/>
          <a:stretch/>
        </p:blipFill>
        <p:spPr>
          <a:xfrm>
            <a:off x="357120" y="2857680"/>
            <a:ext cx="357192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гадай мелод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00360" y="2071440"/>
            <a:ext cx="41432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траве сидел кузнечик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траве сидел кузнечик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овсем как огуречик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елененький он был.</a:t>
            </a:r>
            <a:br>
              <a:rPr sz="2700"/>
            </a:b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  Представьте себе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  представьте себе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  Совсем как огуречик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  Представьте себе,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  представьте себе,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  Зелененький он был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1143000" y="142884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сня о животном, который погиб от прожорливости друг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4" descr="kuznechik.jpg"/>
          <p:cNvPicPr/>
          <p:nvPr/>
        </p:nvPicPr>
        <p:blipFill>
          <a:blip r:embed="rId1"/>
          <a:stretch/>
        </p:blipFill>
        <p:spPr>
          <a:xfrm>
            <a:off x="714240" y="2571840"/>
            <a:ext cx="3810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14760" y="2071440"/>
            <a:ext cx="5929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Спасибо за внимание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57120" y="4286160"/>
            <a:ext cx="64008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Семья – это то, что мы делим на всех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Всем понемножку: и слезы и смех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Семья – это то, что с тобою всегд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Пусть мчатся секунды, недели, года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Но стены родные, отчий твой дом –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Calibri"/>
              </a:rPr>
              <a:t>Сердце навеки останется в нем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Горизонтальный свиток 3"/>
          <p:cNvSpPr/>
          <p:nvPr/>
        </p:nvSpPr>
        <p:spPr>
          <a:xfrm>
            <a:off x="3000240" y="357120"/>
            <a:ext cx="5643720" cy="2071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7d4eb"/>
              </a:gs>
              <a:gs pos="100000">
                <a:srgbClr val="e0f1f8"/>
              </a:gs>
            </a:gsLst>
            <a:lin ang="2700000"/>
          </a:gradFill>
          <a:ln w="25560">
            <a:solidFill>
              <a:srgbClr val="357d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357720" y="713880"/>
            <a:ext cx="4643280" cy="15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семейном кругу мы с вами растё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Основа основ – родительский дом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 семейном кругу все корни тво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И в жизнь ты выходишь из семьи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СЕМЬЯ – это семь 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2l.jpg"/>
          <p:cNvPicPr/>
          <p:nvPr/>
        </p:nvPicPr>
        <p:blipFill>
          <a:blip r:embed="rId1"/>
          <a:stretch/>
        </p:blipFill>
        <p:spPr>
          <a:xfrm>
            <a:off x="571680" y="1270080"/>
            <a:ext cx="8286480" cy="541008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 rot="633600">
            <a:off x="776880" y="124200"/>
            <a:ext cx="192888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0" spc="-1" strike="noStrike">
                <a:solidFill>
                  <a:srgbClr val="8eb4e3"/>
                </a:solidFill>
                <a:latin typeface="Arial"/>
                <a:ea typeface="Arial"/>
              </a:rPr>
              <a:t>7</a:t>
            </a:r>
            <a:endParaRPr b="0" lang="en-US" sz="4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3" descr="1292586779_12-kopija.jpg"/>
          <p:cNvPicPr/>
          <p:nvPr/>
        </p:nvPicPr>
        <p:blipFill>
          <a:blip r:embed="rId2"/>
          <a:srcRect l="0" t="0" r="0" b="6582"/>
          <a:stretch/>
        </p:blipFill>
        <p:spPr>
          <a:xfrm>
            <a:off x="147600" y="500040"/>
            <a:ext cx="4210200" cy="6072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5760" y="1642680"/>
            <a:ext cx="53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f6228"/>
                </a:solidFill>
                <a:latin typeface="Georgia"/>
              </a:rPr>
              <a:t>Поним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Arial Black"/>
              </a:rPr>
              <a:t>Добр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3" descr="normal_400-1024.jpg"/>
          <p:cNvPicPr/>
          <p:nvPr/>
        </p:nvPicPr>
        <p:blipFill>
          <a:blip r:embed="rId1"/>
          <a:stretch/>
        </p:blipFill>
        <p:spPr>
          <a:xfrm>
            <a:off x="1428840" y="1500120"/>
            <a:ext cx="6372000" cy="47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rozov.jpg"/>
          <p:cNvPicPr/>
          <p:nvPr/>
        </p:nvPicPr>
        <p:blipFill>
          <a:blip r:embed="rId2"/>
          <a:stretch/>
        </p:blipFill>
        <p:spPr>
          <a:xfrm>
            <a:off x="357120" y="357120"/>
            <a:ext cx="2784600" cy="3429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3357720" y="3643200"/>
            <a:ext cx="5429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«Счастье – это отсутствие несчастий!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714240" y="400068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С. Ро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4" descr="b747634cd688.jpg"/>
          <p:cNvPicPr/>
          <p:nvPr/>
        </p:nvPicPr>
        <p:blipFill>
          <a:blip r:embed="rId1"/>
          <a:srcRect l="0" t="0" r="-396" b="18837"/>
          <a:stretch/>
        </p:blipFill>
        <p:spPr>
          <a:xfrm>
            <a:off x="3214800" y="3286080"/>
            <a:ext cx="5929200" cy="3386160"/>
          </a:xfrm>
          <a:prstGeom prst="rect">
            <a:avLst/>
          </a:prstGeom>
          <a:ln w="0">
            <a:noFill/>
          </a:ln>
        </p:spPr>
      </p:pic>
      <p:pic>
        <p:nvPicPr>
          <p:cNvPr id="63" name="Содержимое 3" descr="1297200479-clip-15kb.jpg"/>
          <p:cNvPicPr/>
          <p:nvPr/>
        </p:nvPicPr>
        <p:blipFill>
          <a:blip r:embed="rId2"/>
          <a:stretch/>
        </p:blipFill>
        <p:spPr>
          <a:xfrm>
            <a:off x="571680" y="857160"/>
            <a:ext cx="4248000" cy="23241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42720" y="142560"/>
            <a:ext cx="4900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Calibri"/>
              </a:rPr>
              <a:t>Терпим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5" descr="b-2.jpg"/>
          <p:cNvPicPr/>
          <p:nvPr/>
        </p:nvPicPr>
        <p:blipFill>
          <a:blip r:embed="rId3"/>
          <a:srcRect l="9374" t="5244" r="9997" b="6426"/>
          <a:stretch/>
        </p:blipFill>
        <p:spPr>
          <a:xfrm>
            <a:off x="214200" y="2928960"/>
            <a:ext cx="3071880" cy="39290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kidsaroundtheworld.gif"/>
          <p:cNvPicPr/>
          <p:nvPr/>
        </p:nvPicPr>
        <p:blipFill>
          <a:blip r:embed="rId4"/>
          <a:stretch/>
        </p:blipFill>
        <p:spPr>
          <a:xfrm>
            <a:off x="5357880" y="1082520"/>
            <a:ext cx="3214800" cy="2241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02_thumb1.jpg"/>
          <p:cNvPicPr/>
          <p:nvPr/>
        </p:nvPicPr>
        <p:blipFill>
          <a:blip r:embed="rId5"/>
          <a:stretch/>
        </p:blipFill>
        <p:spPr>
          <a:xfrm>
            <a:off x="3286080" y="2286000"/>
            <a:ext cx="2068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4" descr="15c62a59ed6b.jpg"/>
          <p:cNvPicPr/>
          <p:nvPr/>
        </p:nvPicPr>
        <p:blipFill>
          <a:blip r:embed="rId1"/>
          <a:srcRect l="0" t="0" r="688" b="8325"/>
          <a:stretch/>
        </p:blipFill>
        <p:spPr>
          <a:xfrm>
            <a:off x="357120" y="928800"/>
            <a:ext cx="8072640" cy="5587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9000" y="357120"/>
            <a:ext cx="5500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c000"/>
                </a:solidFill>
                <a:latin typeface="Calibri"/>
              </a:rPr>
              <a:t>Опор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00:36:05Z</dcterms:created>
  <dc:creator>Grey Wolf</dc:creator>
  <dc:description/>
  <dc:language>en-US</dc:language>
  <cp:lastModifiedBy>Пользователь</cp:lastModifiedBy>
  <dcterms:modified xsi:type="dcterms:W3CDTF">2017-10-17T12:43:22Z</dcterms:modified>
  <cp:revision>28</cp:revision>
  <dc:subject/>
  <dc:title>СЕМЕЙНЫЕ ЦЕННОСТИ</dc:title>
</cp:coreProperties>
</file>