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8A2-AC06-4C2E-AD8D-8BBD00C9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471-8AB9-40F0-A19A-FDF11956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48E-C88A-4639-8EB9-22392DCD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3FA-0FA8-4FC4-B7B0-F8294896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ACBC-C863-4486-872D-F70B1367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3E99-7A91-49F4-87BE-6740A8BB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7994-4CFF-48B5-A132-871D58E8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1676-6330-457C-9EC9-9603D5F7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A215-24CA-4393-B6C3-37DE1D8E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0220-5D96-4B09-8B9E-4F363F91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8C88-95DF-4F5B-AB73-13A6179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9B3-9E06-4EF8-92CB-DB97B49F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C6DC-BBF0-4611-A391-950B81A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9B4F-5519-4345-B15C-39BB2DC8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E146-95D7-4BB8-812A-B19DD064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125F-6AF9-4878-97CC-1EAB40AB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813D-2193-4E52-BBAE-7E56279F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187-932C-45E0-8E47-C1A2E490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273-2A09-40F6-AE09-43882ECF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A87-5FD1-4420-A569-1BD8E1C9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352-7A4D-473B-A9A0-D167AB9F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893-D70F-4AD9-A79E-80D41FB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7C2-F092-4389-A836-37AEC72C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592-B7C3-4621-A061-C2559BD7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272E-3AE1-4393-9F51-AFB8DD7F9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4042-E8D6-4010-A603-1A0BB5CA0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трессы в педагогической деятельности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пособы саморегуляции в ситуации стрес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«Резистенция»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Неадекватное избирательное эмоциональное реагир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Эмоционально-нравственная дезориент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Расширение сферы экономии эмо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.Редукция профессиональных обязан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Истощение»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.Эмоциннальный дефиц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.Эмоциональная отстране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.Личностная отстраненность (деперсонализация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.Психосоматические и психовегетативные нару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00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7440" y="1628640"/>
            <a:ext cx="86756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3068640"/>
            <a:ext cx="78710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ичто для человека не является такой сильной нагрузкой и таким сильным испытанием, как другой человек.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424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рес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это ответ организма на любое предъявленное ему требование, и этот ответ представляет собой напряжение организма, направленное на преодоление возникающих трудностей и приспособление к возросшим требованиям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азы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тресса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по Г. Селье: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реакция тревог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фаза сопротивлени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фаза истощ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льтурный стре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ый стре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моциональный стре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есс без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79930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Дистресс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– это чрезмерное напряжение, понижающее возможности организма адекватно реагировать на требования окружающей среды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Эустресс – положительный стресс.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Эмоциональное выгорание – состояние физического, эмоционального и умственного истощения, проявляющееся в профессиях социальной сферы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апряжение»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ереживание психотравмирующих обстоятель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еудовлетворенность соб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гнанность в клет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ревога и депресс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4:08:13Z</dcterms:created>
  <dc:creator>user</dc:creator>
  <dc:description/>
  <dc:language>en-US</dc:language>
  <cp:lastModifiedBy>Юрий Великолепный</cp:lastModifiedBy>
  <dcterms:modified xsi:type="dcterms:W3CDTF">2011-12-14T16:01:45Z</dcterms:modified>
  <cp:revision>3</cp:revision>
  <dc:subject/>
  <dc:title>Стрессы в педагогической деятельности.</dc:title>
</cp:coreProperties>
</file>