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5761-A3AA-4C3C-BE84-FC5C7018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3696-4496-4192-8C01-72D7A3A9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96C5-4E86-4FF6-A153-E11FEF5D6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152-FCB6-4EA8-8E32-32696D6C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8C21-1F86-42D5-801D-EFF73177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0DFB-62E0-43E1-B352-2F78962A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5E9BE-7D36-4455-B547-B331846C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249F-A383-4E6E-9723-310B7C9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6F51-8081-420A-92FB-0EF62F34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BD26-9F46-4806-B71A-AA111513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3260-3F64-4A68-91C8-624EED4E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B3F-5B02-4641-9B84-5C463686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F20C-74A0-4D0A-816E-FF04B621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85448-8788-4D39-96E9-F7D904B6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4DC6-CE70-47EA-835F-75281C0C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3390-C59A-4530-8858-F5F9486F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3209-0639-490B-ADFF-69909CA3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1C7-BF27-4EC0-BB67-212A39FB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525-804C-49E2-A494-71A16AAF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E8DF-EFA6-4CC2-B154-E230115C4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B092-B0EB-459A-8106-DF43C21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AE4C-E5C0-47EC-9DD0-A5F150CB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FD77-9829-402A-9A68-F20CB08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12B-6CD2-4B7E-80D6-485CAB44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C761-F33A-4FF1-B44F-D25C6A669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BBE8-3708-4257-A839-593C065BA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Стрессы в педагогической деятельности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пособы саморегуляции в ситуации стрес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«Резистенция»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.Неадекватное избирательное эмоциональное реагир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Эмоционально-нравственная дезориентац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Расширение сферы экономии эмоц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.Редукция профессиональных обязанност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Истощение»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.Эмоциннальный дефиц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.Эмоциональная отстраненнос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1.Личностная отстраненность (деперсонализация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.Психосоматические и психовегетативные наруш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77007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7440" y="1628640"/>
            <a:ext cx="86756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068640"/>
            <a:ext cx="7871040" cy="2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Ничто для человека не является такой сильной нагрузкой и таким сильным испытанием, как другой человек.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42472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Стресс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– это ответ организма на любое предъявленное ему требование, и этот ответ представляет собой напряжение организма, направленное на преодоление возникающих трудностей и приспособление к возросшим требованиям.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Фазы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тресса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по Г. Селье: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реакция тревоги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фаза сопротивления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фаза истощ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Виды стресса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льтурный ст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нформационный ст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моциональный стре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тресс бездеятель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280" y="1125000"/>
            <a:ext cx="7993080" cy="49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Дистресс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– это чрезмерное напряжение, понижающее возможности организма адекватно реагировать на требования окружающей среды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44440"/>
            <a:ext cx="8518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Эустресс – положительный стресс.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Эмоциональное выгорание – состояние физического, эмоционального и умственного истощения, проявляющееся в профессиях социальной сферы.</a:t>
            </a:r>
            <a:endParaRPr b="1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«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пряжение»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ереживание психотравмирующих обстоятель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Неудовлетворенность соб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Загнанность в клетк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66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ревога и депресс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4:08:13Z</dcterms:created>
  <dc:creator>user</dc:creator>
  <dc:description/>
  <dc:language>en-US</dc:language>
  <cp:lastModifiedBy>Юрий Великолепный</cp:lastModifiedBy>
  <dcterms:modified xsi:type="dcterms:W3CDTF">2011-12-14T16:01:45Z</dcterms:modified>
  <cp:revision>3</cp:revision>
  <dc:subject/>
  <dc:title>Стрессы в педагогической деятельности.</dc:title>
</cp:coreProperties>
</file>