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B9F5-FC5E-4AC8-BBC7-8A04934D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F82-D45E-43D3-9FD3-C290D9D9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BB2-6812-4BE3-B963-4C10099E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989E-6C75-4D9A-9989-07199E2D2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7C77-4BF1-4330-8DF7-C9297B22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BF30-E4EA-46E4-B919-4D8ABD01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F22-7C01-44F1-A1E7-8041E1FD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A2F2-872E-49A8-AC7B-5585C1BCD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6DC-952E-4CB5-9405-E22F806D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23A-C79C-49B0-9D34-5354B291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4BB-E85D-4031-ABB9-53266FBD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8F6-C983-463C-A1EE-47207D87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B9DD-BB5E-4D8E-B389-CECE87972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Транспортировка пострадавш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66"/>
                </a:solidFill>
                <a:latin typeface="Times New Roman"/>
              </a:rPr>
              <a:t>Средства транспортировки пострадавш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5"/>
          <p:cNvGraphicFramePr/>
          <p:nvPr/>
        </p:nvGraphicFramePr>
        <p:xfrm>
          <a:off x="0" y="-4680"/>
          <a:ext cx="9144000" cy="68626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68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339966"/>
                </a:solidFill>
                <a:latin typeface="Times New Roman"/>
              </a:rPr>
              <a:t>ТОЛЬКО СИДЯ ИЛИ ПОЛУСИД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1. При проникающих ранениях грудной кл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2. При ранениях ше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3. При затрудненном дыхании после уто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4. При переломах ру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18186"/>
          <p:cNvPicPr/>
          <p:nvPr/>
        </p:nvPicPr>
        <p:blipFill>
          <a:blip r:embed="rId3"/>
          <a:stretch/>
        </p:blipFill>
        <p:spPr>
          <a:xfrm>
            <a:off x="4643280" y="2133720"/>
            <a:ext cx="331164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0" y="-41400"/>
          <a:ext cx="9144000" cy="689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41400"/>
                    <a:ext cx="9144000" cy="689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66"/>
                </a:solidFill>
                <a:latin typeface="Times New Roman"/>
              </a:rPr>
              <a:t>Основными мероприятиями при транспортировке пострадавших являются следующ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определение способа транспортир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подготовка пострадавших, специальных и подручных транспортных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выбор маршру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обеспечение безопасности пострадавших и спасателей при транспортиров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преодоление препятствий, контроль за состоянием пострадавших, организация отдых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- погрузка пострадавших в транспортные сре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Object 4"/>
          <p:cNvGraphicFramePr/>
          <p:nvPr/>
        </p:nvGraphicFramePr>
        <p:xfrm>
          <a:off x="0" y="0"/>
          <a:ext cx="9356760" cy="7016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56760" cy="701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0755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Ведущую роль при выборе способа, средств, положений, в которых будут транспортироваться пострадавшие, играют виды травм, их локализация, состояние людей, характер заболевания. Правильно выбранные решения спасут жизнь пострадавшим, облегчат их страдания, обеспечат быстрое выздоров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4"/>
          <p:cNvGraphicFramePr/>
          <p:nvPr/>
        </p:nvGraphicFramePr>
        <p:xfrm>
          <a:off x="6480" y="-139680"/>
          <a:ext cx="9137520" cy="68547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-139680"/>
                    <a:ext cx="9137520" cy="68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339966"/>
                </a:solidFill>
                <a:latin typeface="Times New Roman"/>
              </a:rPr>
              <a:t>Правильный выбор очередности транспортировки пострадавш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В первоочередном порядке транспортируются дети и пострадавшие в бессознательном и шоковом состоянии, с внутренними кровотечениями, ампутированными конечностями, открытыми переломами, ожогами, синдромом длительного сдавливания, послеоперационные больные. Затем транспортируются пострадавшие с закрытыми переломами, наружными кровотечениями. Последними транспортируются пострадавшие с небольшими кровотечениями, ушибами, вывих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4"/>
          <p:cNvGraphicFramePr/>
          <p:nvPr/>
        </p:nvGraphicFramePr>
        <p:xfrm>
          <a:off x="-324000" y="-208080"/>
          <a:ext cx="9468000" cy="7102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-208080"/>
                    <a:ext cx="9468000" cy="710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9966"/>
                </a:solidFill>
                <a:latin typeface="Times New Roman"/>
              </a:rPr>
              <a:t>Общие правила транспортировки пострадавши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15"/>
          <p:cNvGraphicFramePr/>
          <p:nvPr/>
        </p:nvGraphicFramePr>
        <p:xfrm>
          <a:off x="-34920" y="0"/>
          <a:ext cx="9178920" cy="69292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4920" y="0"/>
                    <a:ext cx="9178920" cy="69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9966"/>
                </a:solidFill>
                <a:latin typeface="Times New Roman"/>
              </a:rPr>
              <a:t>Поза для транспортировки пострадавших определяется с учетом вида травмы и состояния пострадав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trsp11"/>
          <p:cNvPicPr/>
          <p:nvPr/>
        </p:nvPicPr>
        <p:blipFill>
          <a:blip r:embed="rId3"/>
          <a:stretch/>
        </p:blipFill>
        <p:spPr>
          <a:xfrm>
            <a:off x="3132000" y="3068640"/>
            <a:ext cx="155268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trsp1"/>
          <p:cNvPicPr/>
          <p:nvPr/>
        </p:nvPicPr>
        <p:blipFill>
          <a:blip r:embed="rId4"/>
          <a:stretch/>
        </p:blipFill>
        <p:spPr>
          <a:xfrm>
            <a:off x="5796000" y="3141720"/>
            <a:ext cx="628560" cy="952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trsp2"/>
          <p:cNvPicPr/>
          <p:nvPr/>
        </p:nvPicPr>
        <p:blipFill>
          <a:blip r:embed="rId5"/>
          <a:stretch/>
        </p:blipFill>
        <p:spPr>
          <a:xfrm>
            <a:off x="1979640" y="4797360"/>
            <a:ext cx="63828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trsp3"/>
          <p:cNvPicPr/>
          <p:nvPr/>
        </p:nvPicPr>
        <p:blipFill>
          <a:blip r:embed="rId6"/>
          <a:stretch/>
        </p:blipFill>
        <p:spPr>
          <a:xfrm>
            <a:off x="3851280" y="1844640"/>
            <a:ext cx="6858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trsp4"/>
          <p:cNvPicPr/>
          <p:nvPr/>
        </p:nvPicPr>
        <p:blipFill>
          <a:blip r:embed="rId7"/>
          <a:stretch/>
        </p:blipFill>
        <p:spPr>
          <a:xfrm>
            <a:off x="5435640" y="1989000"/>
            <a:ext cx="54288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trsp5"/>
          <p:cNvPicPr/>
          <p:nvPr/>
        </p:nvPicPr>
        <p:blipFill>
          <a:blip r:embed="rId8"/>
          <a:stretch/>
        </p:blipFill>
        <p:spPr>
          <a:xfrm>
            <a:off x="3564000" y="4653000"/>
            <a:ext cx="170496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trsp6"/>
          <p:cNvPicPr/>
          <p:nvPr/>
        </p:nvPicPr>
        <p:blipFill>
          <a:blip r:embed="rId9"/>
          <a:stretch/>
        </p:blipFill>
        <p:spPr>
          <a:xfrm>
            <a:off x="6084720" y="4724280"/>
            <a:ext cx="87660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trsp7"/>
          <p:cNvPicPr/>
          <p:nvPr/>
        </p:nvPicPr>
        <p:blipFill>
          <a:blip r:embed="rId10"/>
          <a:stretch/>
        </p:blipFill>
        <p:spPr>
          <a:xfrm>
            <a:off x="7451640" y="3645000"/>
            <a:ext cx="676440" cy="952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trsp10"/>
          <p:cNvPicPr/>
          <p:nvPr/>
        </p:nvPicPr>
        <p:blipFill>
          <a:blip r:embed="rId11"/>
          <a:stretch/>
        </p:blipFill>
        <p:spPr>
          <a:xfrm>
            <a:off x="6877080" y="2133720"/>
            <a:ext cx="1247760" cy="1238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trsp"/>
          <p:cNvPicPr/>
          <p:nvPr/>
        </p:nvPicPr>
        <p:blipFill>
          <a:blip r:embed="rId12"/>
          <a:stretch/>
        </p:blipFill>
        <p:spPr>
          <a:xfrm>
            <a:off x="900000" y="3357720"/>
            <a:ext cx="1238400" cy="1238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trsp8"/>
          <p:cNvPicPr/>
          <p:nvPr/>
        </p:nvPicPr>
        <p:blipFill>
          <a:blip r:embed="rId13"/>
          <a:stretch/>
        </p:blipFill>
        <p:spPr>
          <a:xfrm>
            <a:off x="826920" y="2205000"/>
            <a:ext cx="1524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9966"/>
                </a:solidFill>
                <a:latin typeface="Times New Roman"/>
              </a:rPr>
              <a:t>ТОЛЬКО НА ЖИВОТ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1. В состоянии ко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2. При частой рв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3. В случаях ожогов спины и ягоди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905506"/>
                </a:solidFill>
                <a:latin typeface="Times New Roman"/>
              </a:rPr>
              <a:t>4. При подозрении на повреждение спинного мозга, когда в наличии есть только брезентовые носи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pologeniye_postr_4"/>
          <p:cNvPicPr/>
          <p:nvPr/>
        </p:nvPicPr>
        <p:blipFill>
          <a:blip r:embed="rId3"/>
          <a:stretch/>
        </p:blipFill>
        <p:spPr>
          <a:xfrm>
            <a:off x="1476360" y="4724280"/>
            <a:ext cx="70041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339966"/>
                </a:solidFill>
                <a:latin typeface="Times New Roman"/>
              </a:rPr>
              <a:t>ТОЛЬКО НА СПИНЕ (с приподнятыми или согнутыми в коленях нога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1. При проникающих ранениях брюшной пол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2. При большой кровопотере или подозрении на внутреннее кровоте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905506"/>
                </a:solidFill>
                <a:latin typeface="Times New Roman"/>
              </a:rPr>
              <a:t>3. При переломах нижних конеч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transportirovka_perevozka_lezhachih_bolnyh_s_podemom_na_etazh_24581188_1_F"/>
          <p:cNvPicPr/>
          <p:nvPr/>
        </p:nvPicPr>
        <p:blipFill>
          <a:blip r:embed="rId3"/>
          <a:stretch/>
        </p:blipFill>
        <p:spPr>
          <a:xfrm>
            <a:off x="755640" y="1989000"/>
            <a:ext cx="36892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6"/>
          <p:cNvGraphicFramePr/>
          <p:nvPr/>
        </p:nvGraphicFramePr>
        <p:xfrm>
          <a:off x="-38160" y="-82440"/>
          <a:ext cx="9182160" cy="6940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160" y="-82440"/>
                    <a:ext cx="9182160" cy="694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66"/>
                </a:solidFill>
                <a:latin typeface="Times New Roman"/>
              </a:rPr>
              <a:t>В ПОЗЕ "ЛЯГУШКИ" (с подложенным под колени валиком или на вакуумном матрас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1. При подозрении на перелом костей 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2. При подозрении на перелом верхней трети бедренной кости, костей тазобедренного суст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3. При подозрении на повреждение позвоночника, спинного моз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550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905506"/>
                </a:solidFill>
                <a:latin typeface="Times New Roman"/>
              </a:rPr>
              <a:t>При травмах позвоночника, таза - переносить только на твердых носилках, на щите, двери или на вакуумных матра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ris1"/>
          <p:cNvPicPr/>
          <p:nvPr/>
        </p:nvPicPr>
        <p:blipFill>
          <a:blip r:embed="rId3"/>
          <a:stretch/>
        </p:blipFill>
        <p:spPr>
          <a:xfrm>
            <a:off x="900000" y="1628640"/>
            <a:ext cx="3756240" cy="194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fai0060l"/>
          <p:cNvPicPr/>
          <p:nvPr/>
        </p:nvPicPr>
        <p:blipFill>
          <a:blip r:embed="rId4"/>
          <a:stretch/>
        </p:blipFill>
        <p:spPr>
          <a:xfrm>
            <a:off x="826920" y="4149720"/>
            <a:ext cx="403236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7:00:35Z</dcterms:created>
  <dc:creator>Лариса</dc:creator>
  <dc:description/>
  <dc:language>en-US</dc:language>
  <cp:lastModifiedBy>Пользователь Windows</cp:lastModifiedBy>
  <dcterms:modified xsi:type="dcterms:W3CDTF">2014-05-16T07:11:47Z</dcterms:modified>
  <cp:revision>2</cp:revision>
  <dc:subject/>
  <dc:title>Транспортировка пострадавших</dc:title>
</cp:coreProperties>
</file>