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5.wmf" ContentType="image/x-wmf"/>
  <Override PartName="/ppt/media/image7.gif" ContentType="image/gif"/>
  <Override PartName="/ppt/media/image14.wmf" ContentType="image/x-wmf"/>
  <Override PartName="/ppt/media/image6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8.gif" ContentType="image/gif"/>
  <Override PartName="/ppt/media/image9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428-8064-472D-AB3E-1CCC3AA8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711-BD0C-4C70-BA05-279B3C60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CDD-A906-418E-8A8B-D240431B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F4C-855D-4733-A0FD-67E50020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A0F-D17D-43CE-8CC5-834F9882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A8F-A745-4A90-84C6-6424AFB4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B4C-19C8-4709-99DF-E56129BB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F66-995E-44F0-AFD8-934A6FB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985-E782-4585-B127-3499027B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56A-341D-49EE-B1D1-FCBD2A2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93A-5558-48C7-AECA-9D9C6FF3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315-4A4A-4CDC-B3F1-C9125173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AD52-FBB5-4D7E-A7DB-FF80081EE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0570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Трудности адаптации первоклассников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в школ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18018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40"/>
                            </p:stCondLst>
                            <p:childTnLst>
                              <p:par>
                                <p:cTn id="18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64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6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4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2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74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74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2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84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84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6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36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28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28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48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Правила, которые помогут ребёнку в общ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отнимай чужого, но и своё не отд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просили - дай, пытаются отнять - защищ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дерись без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овут играть – иди, не зовут – спроси разрешения играть вместе, это не сты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грай честно, не подводи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дразни никого, не канючь, не выпрашивай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-за отметок не плачь, будь гордым. С учителем из-за отметок не спорь и не обиж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райся всё делать вовремя и думай о хороших результатах.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ябедничай и не наговаривай ни на 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чаще говори: давай дружить, давай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flipH="1">
            <a:off x="8135640" y="0"/>
            <a:ext cx="88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92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2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32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96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4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8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12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52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48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10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становиш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такой же как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4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44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32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64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28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92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76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48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44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2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2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92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48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88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48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Несколько советов психолога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«Как прожить хотя бы один день без нервотрёп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Не торопитесь. Умение расчитать время –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аша задач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Если вам это плохо удаётся, вины ребё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е прощайтесь, предупреждая и направляя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«Смотри, не балуйся!», «Чтобы сегодня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е было отметок!»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Если Вы видите, что ребёнок огорчён, молчит – не допытывайтесь; пусть успокоится и тогда расскажет всё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После школы не торопитесь садиться за уроки. Ребёнку необходимо 2 часа отдыха. Занятия вечерами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680"/>
                            </p:stCondLst>
                            <p:childTnLst>
                              <p:par>
                                <p:cTn id="4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68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8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44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664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36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32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88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46920" y="4537080"/>
            <a:ext cx="3097080" cy="2320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е заставляйте делать все упражнения сразу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 минут занятий – 10 минут перер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о время приготовления уроков не сиди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над душой»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 общении с ребёнком старайтесь избегать условий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Если ты сделаешь, то.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айдите в течение дня хотя бы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лчаса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огда будете принадлежать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только ребёнк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ыбирай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диную тактик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общения с ребёнком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сех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зрослых в семье. Вс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разногласи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о поводу педтактики решай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ез нег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Будьте внимательны к жалобам ребёнка на головную боль, усталость, плохое самочувствие. Чаще всего это объективные показатели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ере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Учтите, что даж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большие дети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8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6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32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416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840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340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732720" y="3586320"/>
            <a:ext cx="2411280" cy="32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44880" cy="2606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109520" y="228600"/>
            <a:ext cx="692496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 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нии дете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еюсь на взаимное сотрудничество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я</cp:lastModifiedBy>
  <dcterms:modified xsi:type="dcterms:W3CDTF">2010-08-27T12:45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