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15.wmf" ContentType="image/x-wmf"/>
  <Override PartName="/ppt/media/image7.gif" ContentType="image/gif"/>
  <Override PartName="/ppt/media/image14.wmf" ContentType="image/x-wmf"/>
  <Override PartName="/ppt/media/image6.gif" ContentType="image/gi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8.gif" ContentType="image/gif"/>
  <Override PartName="/ppt/media/image9.gif" ContentType="image/gif"/>
  <Override PartName="/ppt/media/image10.gif" ContentType="image/gi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00-71F0-43B6-9380-A74C943D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E79-F32B-4F34-9417-59235A51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3BB3-2093-4143-B45B-2F01EC6A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0E2-516A-4B68-8E3A-35706896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39AB-1F87-40BD-8F0C-B5F027E0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9F3E-E48D-4269-A854-EF7DA5C2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3292-5A0E-466F-8F80-FE2FBFEB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0B4-BE72-4E8B-A0EF-FB69B1C4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FE5-49B2-4DB1-8C54-D589369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327A-7B59-4C6F-B931-8243B06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0ED-FF7C-4D20-B1AD-030805C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D106-86B0-4784-AE29-D6C2A8D2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59D9-7897-4FF0-BB6D-B192BAAAA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8960" y="2057040"/>
            <a:ext cx="662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Трудности адаптации первоклассников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в школе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Штурмуйте каждую проблему с энтузиазмом…как если бы от этого зависела Ваша жиз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.Кью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180180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640"/>
                            </p:stCondLst>
                            <p:childTnLst>
                              <p:par>
                                <p:cTn id="18" nodeType="afterEffect" fill="hold" presetClass="emph" presetID="3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640"/>
                            </p:stCondLst>
                            <p:childTnLst>
                              <p:par>
                                <p:cTn id="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64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48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83908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Comic Sans MS"/>
              </a:rPr>
              <a:t>Условия адаптаци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60093"/>
                </a:solidFill>
                <a:latin typeface="Comic Sans MS"/>
              </a:rPr>
              <a:t>Физиологические           Психолог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Изменение режима дня                           -психологический климат в сем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Необходимость игры                              - самооценк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Правильная посадка                               - самоценность ребёнка для 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рганизация правильного питания       - формирование интереса к шк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Развитие двигательной активности       - дружеское общение с одноклассни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Воспитание самостоятельности и         - недопустимость физического воздейст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ответственности                                          - предоставление самосто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учёт темперамента ребё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организация контроля за учёб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поощрение за успехи и дости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моральное стимулир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                                                                      </a:t>
            </a:r>
            <a:r>
              <a:rPr b="0" lang="ru-RU" sz="1600" spc="-1" strike="noStrike">
                <a:solidFill>
                  <a:srgbClr val="3333cc"/>
                </a:solidFill>
                <a:latin typeface="Comic Sans MS"/>
              </a:rPr>
              <a:t>- развитие самоконтроля и само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4572000"/>
            <a:ext cx="1233720" cy="18111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62800" y="0"/>
            <a:ext cx="1535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240"/>
                            </p:stCondLst>
                            <p:childTnLst>
                              <p:par>
                                <p:cTn id="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74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874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31840" cy="178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Взаимоотношения с ребёнком в семь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Шкала общения родителей с ребёнк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ложительные эмоции    отрицательные эмо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хвалили                                   -упрек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поощряли                                -подавл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добряли                                 -униж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целовали                                 -обвиня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бнимали                                -осужд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ласкали                                   -отверг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сопереживали                         -позор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улыбались                               -читали но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восхищались                           -лишали чего-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делали подарки                      -ставили  в у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90920" y="2590920"/>
            <a:ext cx="1485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781680" y="1752480"/>
            <a:ext cx="15192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280"/>
                            </p:stCondLst>
                            <p:childTnLst>
                              <p:par>
                                <p:cTn id="1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84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560"/>
                            </p:stCondLst>
                            <p:childTnLst>
                              <p:par>
                                <p:cTn id="1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8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360"/>
                            </p:stCondLst>
                            <p:childTnLst>
                              <p:par>
                                <p:cTn id="1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8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784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600"/>
                            </p:stCondLst>
                            <p:childTnLst>
                              <p:par>
                                <p:cTn id="1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936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28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280"/>
                            </p:stCondLst>
                            <p:childTnLst>
                              <p:par>
                                <p:cTn id="1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236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480"/>
                            </p:stCondLst>
                            <p:childTnLst>
                              <p:par>
                                <p:cTn id="1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-360"/>
            <a:ext cx="89917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Правила, которые помогут ребёнку в обще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отнимай чужого, но и своё не отдав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просили - дай, пытаются отнять - защищ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ерись без при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овут играть – иди, не зовут – спроси разрешения играть вместе, это не стыд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грай честно, не подводи своих товарищ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дразни никого, не канючь, не выпрашивай нич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з-за отметок не плачь, будь гордым. С учителем из-за отметок не спорь и не обижай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всё делать вовремя и думай о хороших результатах. Они обязательно у тебя буд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ябедничай и не наговаривай ни на 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арайся быть акку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чаще говори: давай дружить, давай игр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мни! Ты не лучше всех, ты не хуже всех! Ты – неповторимый для самого себя, родителей, учителей, друзе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 flipH="1">
            <a:off x="8135640" y="0"/>
            <a:ext cx="88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6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920"/>
                            </p:stCondLst>
                            <p:childTnLst>
                              <p:par>
                                <p:cTn id="2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520"/>
                            </p:stCondLst>
                            <p:childTnLst>
                              <p:par>
                                <p:cTn id="2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320"/>
                            </p:stCondLst>
                            <p:childTnLst>
                              <p:par>
                                <p:cTn id="2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8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7960"/>
                            </p:stCondLst>
                            <p:childTnLst>
                              <p:par>
                                <p:cTn id="2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4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408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120"/>
                            </p:stCondLst>
                            <p:childTnLst>
                              <p:par>
                                <p:cTn id="2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8520"/>
                            </p:stCondLst>
                            <p:childTnLst>
                              <p:par>
                                <p:cTn id="2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9480"/>
                            </p:stCondLst>
                            <p:childTnLst>
                              <p:par>
                                <p:cTn id="2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1040"/>
                            </p:stCondLst>
                            <p:childTnLst>
                              <p:par>
                                <p:cTn id="2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Не 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Я тысячу раз говорил тебе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Неужели тебе трудно запомнить, ч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становишь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Ты такой же как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-Почему Лена(Настя, Вася и т.д.) такая, а ты - нет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99240" y="4876920"/>
            <a:ext cx="1544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2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400"/>
                            </p:stCondLst>
                            <p:childTnLst>
                              <p:par>
                                <p:cTn id="2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440"/>
                            </p:stCondLst>
                            <p:childTnLst>
                              <p:par>
                                <p:cTn id="2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32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640"/>
                            </p:stCondLst>
                            <p:childTnLst>
                              <p:par>
                                <p:cTn id="3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280"/>
                            </p:stCondLst>
                            <p:childTnLst>
                              <p:par>
                                <p:cTn id="3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8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92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8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776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480"/>
                            </p:stCondLst>
                            <p:childTnLst>
                              <p:par>
                                <p:cTn id="3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Comic Sans MS"/>
              </a:rPr>
              <a:t>Рекомендуемые фразы для общ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умный, красивый(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, что  у меня есть 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Ты у меня молод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Я тебя очень люб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Как хорошо ты это сделал, научи и меня эт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Спасибо тебе, я тебе очень благодар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Если бы не ты, я бы никогда с этим не справил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29718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200"/>
                            </p:stCondLst>
                            <p:childTnLst>
                              <p:par>
                                <p:cTn id="3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440"/>
                            </p:stCondLst>
                            <p:childTnLst>
                              <p:par>
                                <p:cTn id="3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2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200"/>
                            </p:stCondLst>
                            <p:childTnLst>
                              <p:par>
                                <p:cTn id="3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920"/>
                            </p:stCondLst>
                            <p:childTnLst>
                              <p:par>
                                <p:cTn id="3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6480"/>
                            </p:stCondLst>
                            <p:childTnLst>
                              <p:par>
                                <p:cTn id="3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880"/>
                            </p:stCondLst>
                            <p:childTnLst>
                              <p:par>
                                <p:cTn id="3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8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9480"/>
                            </p:stCondLst>
                            <p:childTnLst>
                              <p:par>
                                <p:cTn id="3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Несколько советов психолога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Comic Sans MS"/>
              </a:rPr>
              <a:t>«Как прожить хотя бы один день без нервотрёп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Будите ребёнка спокойно. Проснувшись, он должен увидеть Вашу улыбку и услышать ваш голо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Не торопитесь. Умение расчитать время –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Ваша задача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Если вам это плохо удаётся, вины ребёнка в этом н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Не прощайтесь, предупреждая и направляя: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«Смотри, не балуйся!», «Чтобы сегодня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не было отметок!»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Пожелайте удачи, найдите несколько ласковых с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Забудьте фразу: «Что ты сегодня получил?». Встречая ребёнка после школы, не обрушивайте на него тысячу вопросов, дайте немного расслабиться, вспомните, как Вы сами чувствуете себя после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Если Вы видите, что ребёнок огорчён, молчит – не допытывайтесь; пусть успокоится и тогда расскажет всё с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Выслушав замечания учителя, не торопитесь устраивать взбучку. Постарайтесь, чтобы Ваш разговор с учителем проходил без ребё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 После школы не торопитесь садиться за уроки. Ребёнку необходимо 2 часа отдыха. Занятия вечерами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бесполез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680"/>
                            </p:stCondLst>
                            <p:childTnLst>
                              <p:par>
                                <p:cTn id="4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68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8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44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6640"/>
                            </p:stCondLst>
                            <p:childTnLst>
                              <p:par>
                                <p:cTn id="4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8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360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32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880"/>
                            </p:stCondLst>
                            <p:childTnLst>
                              <p:par>
                                <p:cTn id="4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46920" y="4537080"/>
            <a:ext cx="3097080" cy="2320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е заставляйте делать все упражнения сразу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0 минут занятий – 10 минут переры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о время приготовления уроков не сиди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над душой»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Дайте ребёнку работать самому. Если нужна Ваша помощь – наберитесь терпения: спокойный тон, поддержка необход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 общении с ребёнком старайтесь избегать условий: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Если ты сделаешь, то.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Найдите в течение дня хотя бы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часа,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когда будете принадлежать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только ребён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Выбир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единую тактику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бщения с ребёнком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всех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взрослых в семье. Все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разногласия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по поводу педтактики решайт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без него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Будьте внимательны к жалобам ребёнка на головную боль, усталость, плохое самочувствие. Чаще всего это объективные показатели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ереутом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-Учтите, что даже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«большие дети»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очень любят сказку перед сном, песенку, ласковое поглаживание. Всё это успокоит ребёнка и поможет снять напряжение, накопившееся за д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80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64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1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160"/>
                            </p:stCondLst>
                            <p:childTnLst>
                              <p:par>
                                <p:cTn id="4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8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8400"/>
                            </p:stCondLst>
                            <p:childTnLst>
                              <p:par>
                                <p:cTn id="4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3400"/>
                            </p:stCondLst>
                            <p:childTnLst>
                              <p:par>
                                <p:cTn id="4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8,-115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8" dur="8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32720" y="3586320"/>
            <a:ext cx="2411280" cy="327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44880" cy="26067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1109520" y="228600"/>
            <a:ext cx="6924960" cy="556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 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итании детей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деюсь на взаимное сотрудничество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500"/>
                            </p:stCondLst>
                            <p:childTnLst>
                              <p:par>
                                <p:cTn id="5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я</cp:lastModifiedBy>
  <dcterms:modified xsi:type="dcterms:W3CDTF">2010-08-27T12:45:0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