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6A4-576F-4132-A9A2-ADCDD764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009-ED39-4828-889C-65C81EB2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35C-BD1F-4462-830F-D88D6D4B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BD9-42FD-49BC-BA1F-AAD998B9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AB0-37F5-4953-912D-D266F62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BD3-9309-4ED8-BCCF-9C703150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2D5-A4D2-448F-B0CE-F4819388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586-ED98-47C9-9771-BF362F2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79E-1486-4D01-82F0-3A67FB0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5CC-81E7-41B1-90FD-039261F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089-A07A-44A6-A377-999C070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645-2236-4062-9A37-E7C37F4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42E6-E948-4C2E-A481-660F56252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esktopwallpapers_org_ua-295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250920" y="1773360"/>
            <a:ext cx="518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Я и мир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с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971640" y="981000"/>
            <a:ext cx="41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000160" y="5214960"/>
            <a:ext cx="554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Воспита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Каплина Н.В. 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МБОУ СОШ №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структурное подразделение - детский с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923640" y="64292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Воронеж 201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6904759_PLAKAT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ages_220614"/>
          <p:cNvPicPr/>
          <p:nvPr/>
        </p:nvPicPr>
        <p:blipFill>
          <a:blip r:embed="rId1"/>
          <a:stretch/>
        </p:blipFill>
        <p:spPr>
          <a:xfrm>
            <a:off x="1500120" y="2142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11280" y="515772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чей называют «Вестниками весны» В народе говорят: Грач на горе – весна во дв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kvorec4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105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84360" y="4941720"/>
            <a:ext cx="65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ворец за морем жил зим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вернулся он дом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ано утром в тишин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ел о солнце и весн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b-591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_7954e_9b22c95c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_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411280" y="40464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РАСКИ ВЕ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83639_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299068849_1-704"/>
          <p:cNvPicPr/>
          <p:nvPr/>
        </p:nvPicPr>
        <p:blipFill>
          <a:blip r:embed="rId1"/>
          <a:stretch/>
        </p:blipFill>
        <p:spPr>
          <a:xfrm>
            <a:off x="928800" y="1357200"/>
            <a:ext cx="3533760" cy="44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103210269_large_1354444883_gifkiraspuskayuschiesyacvety7"/>
          <p:cNvPicPr/>
          <p:nvPr/>
        </p:nvPicPr>
        <p:blipFill>
          <a:blip r:embed="rId2"/>
          <a:stretch/>
        </p:blipFill>
        <p:spPr>
          <a:xfrm>
            <a:off x="5072040" y="1357200"/>
            <a:ext cx="3441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885960" y="620640"/>
            <a:ext cx="74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ознакомить детей с сезонными изменениями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огащать активный словарный запас по да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крепить знания о приметах весны, названиях весенних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окружающе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llfons_ru-18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286000" y="981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ж тает снег, бегут руч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кно повеяло весною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свищут скоро солов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лес оденется листво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ста небесная лазу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ей и ярче солнце ст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а метелей злых и бу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ять надолго миновал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Алексей Плеще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130742_large"/>
          <p:cNvPicPr/>
          <p:nvPr/>
        </p:nvPicPr>
        <p:blipFill>
          <a:blip r:embed="rId1"/>
          <a:stretch/>
        </p:blipFill>
        <p:spPr>
          <a:xfrm>
            <a:off x="-209520" y="0"/>
            <a:ext cx="935352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39640" y="90792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на – природа пробужд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do_vesenneu_listvoj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928960" y="1571760"/>
            <a:ext cx="3097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МА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АПР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М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litefon_ru-1656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116000" y="476280"/>
            <a:ext cx="61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сходят в неживой природе и как они влияют на пробуждения живой природ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6cfe52cf8106c558c233a9f02680a3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0" y="2214720"/>
            <a:ext cx="4429080" cy="51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ало теп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ё 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бразовались прота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нь увели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ёд на реке 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тицы прилетают с 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стья распус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049-049-Vot-vesennie-tsvety-ili-pervotsve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7da1129c6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5643720"/>
            <a:ext cx="33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дснеж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9:13:34Z</dcterms:created>
  <dc:creator>1</dc:creator>
  <dc:description/>
  <dc:language>en-US</dc:language>
  <cp:lastModifiedBy>User</cp:lastModifiedBy>
  <dcterms:modified xsi:type="dcterms:W3CDTF">2017-10-16T21:01:04Z</dcterms:modified>
  <cp:revision>41</cp:revision>
  <dc:subject/>
  <dc:title>Слайд 1</dc:title>
</cp:coreProperties>
</file>