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jpeg" ContentType="image/jpeg"/>
  <Override PartName="/ppt/media/image15.jpeg" ContentType="image/jpeg"/>
  <Override PartName="/ppt/media/image1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CCA2-1159-4BBE-903C-01A674CA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4C5A-38A0-4E9F-AFA6-C5372531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600-B6EB-469D-982D-5539B544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2E59-4F51-4E13-83E1-2E4F3B3D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4137-8B0B-4D25-AB09-AEB4D6E7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4B3-2D12-47E9-94FA-CEC6AC66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341E-4B5D-4C1B-A3B4-81EAFF12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9942-8280-415C-AD4B-09A7A32A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A3D2-9E4D-4C8E-AA26-29A83621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4D8B-4B1D-4F2C-8E8A-AE704B2A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2810-F033-4F95-95BE-F45CD6CB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1961-1613-43CA-BCB4-F0BCDBEA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F907-971C-475E-BE92-BECB717A0A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desktopwallpapers_org_ua-295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250920" y="1773360"/>
            <a:ext cx="5184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кружающий ми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Я и мир вокр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с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971640" y="981000"/>
            <a:ext cx="41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2000160" y="5214960"/>
            <a:ext cx="5543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Воспитател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Каплина Н.В. </a:t>
            </a:r>
            <a:br>
              <a:rPr sz="1400"/>
            </a:b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МБОУ СОШ №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структурное подразделение - детский с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3923640" y="642924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d0d0d"/>
                </a:solidFill>
                <a:latin typeface="Arial"/>
              </a:rPr>
              <a:t>Воронеж 2017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86904759_PLAKAT"/>
          <p:cNvPicPr/>
          <p:nvPr/>
        </p:nvPicPr>
        <p:blipFill>
          <a:blip r:embed="rId1"/>
          <a:stretch/>
        </p:blipFill>
        <p:spPr>
          <a:xfrm>
            <a:off x="2050920" y="0"/>
            <a:ext cx="511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images_220614"/>
          <p:cNvPicPr/>
          <p:nvPr/>
        </p:nvPicPr>
        <p:blipFill>
          <a:blip r:embed="rId1"/>
          <a:stretch/>
        </p:blipFill>
        <p:spPr>
          <a:xfrm>
            <a:off x="1500120" y="2142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611280" y="5157720"/>
            <a:ext cx="7777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чей называют «Вестниками весны» В народе говорят: Грач на горе – весна во дв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skvorec4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4105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84360" y="4941720"/>
            <a:ext cx="655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ворец за морем жил зимой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перь вернулся он домой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рано утром в тишин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ел о солнце и весне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b-5910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0_7954e_9b22c95c_X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_l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2411280" y="404640"/>
            <a:ext cx="33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КРАСКИ ВЕС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283639_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1299068849_1-704"/>
          <p:cNvPicPr/>
          <p:nvPr/>
        </p:nvPicPr>
        <p:blipFill>
          <a:blip r:embed="rId1"/>
          <a:stretch/>
        </p:blipFill>
        <p:spPr>
          <a:xfrm>
            <a:off x="928800" y="1357200"/>
            <a:ext cx="3533760" cy="4429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103210269_large_1354444883_gifkiraspuskayuschiesyacvety7"/>
          <p:cNvPicPr/>
          <p:nvPr/>
        </p:nvPicPr>
        <p:blipFill>
          <a:blip r:embed="rId2"/>
          <a:stretch/>
        </p:blipFill>
        <p:spPr>
          <a:xfrm>
            <a:off x="5072040" y="1357200"/>
            <a:ext cx="344160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885960" y="620640"/>
            <a:ext cx="7465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познакомить детей с сезонными изменениями в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богащать активный словарный запас по данной те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закрепить знания о приметах весны, названиях весенних месяц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оспитывать бережное отношение к окружающей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llfons_ru-189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2286000" y="98100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ж тает снег, бегут ручь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окно повеяло весною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свищут скоро соловь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 лес оденется листво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иста небесная лазур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еплей и ярче солнце ста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ра метелей злых и бу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ять надолго миновал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Алексей Плещее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3130742_large"/>
          <p:cNvPicPr/>
          <p:nvPr/>
        </p:nvPicPr>
        <p:blipFill>
          <a:blip r:embed="rId1"/>
          <a:stretch/>
        </p:blipFill>
        <p:spPr>
          <a:xfrm>
            <a:off x="-209520" y="0"/>
            <a:ext cx="9353520" cy="6838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539640" y="907920"/>
            <a:ext cx="741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сна – природа пробужд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ido_vesenneu_listvoj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2928960" y="1571760"/>
            <a:ext cx="309708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МАР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АПРЕ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ffff"/>
                </a:solidFill>
                <a:uFillTx/>
                <a:latin typeface="Arial"/>
              </a:rPr>
              <a:t>МА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litefon_ru-16564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1116000" y="476280"/>
            <a:ext cx="61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ие изменения происходят в неживой природе и как они влияют на пробуждения живой природы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6cfe52cf8106c558c233a9f02680a33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4572000" y="2214720"/>
            <a:ext cx="4429080" cy="51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тало тепл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сё 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бразовались прота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ень увеличив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ёд на реке т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тицы прилетают с ю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Листья распуск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049-049-Vot-vesennie-tsvety-ili-pervotsvet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b7da1129c6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"/>
          <p:cNvSpPr/>
          <p:nvPr/>
        </p:nvSpPr>
        <p:spPr>
          <a:xfrm>
            <a:off x="0" y="5643720"/>
            <a:ext cx="33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Подснеж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6T19:13:34Z</dcterms:created>
  <dc:creator>1</dc:creator>
  <dc:description/>
  <dc:language>en-US</dc:language>
  <cp:lastModifiedBy>User</cp:lastModifiedBy>
  <dcterms:modified xsi:type="dcterms:W3CDTF">2017-10-16T21:01:04Z</dcterms:modified>
  <cp:revision>41</cp:revision>
  <dc:subject/>
  <dc:title>Слайд 1</dc:title>
</cp:coreProperties>
</file>