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4.jpeg" ContentType="image/jpeg"/>
  <Override PartName="/ppt/media/image33.png" ContentType="image/png"/>
  <Override PartName="/ppt/media/image7.jpeg" ContentType="image/jpeg"/>
  <Override PartName="/ppt/media/image64.jpeg" ContentType="image/jpeg"/>
  <Override PartName="/ppt/media/image38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18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65.jpeg" ContentType="image/jpeg"/>
  <Override PartName="/ppt/media/image8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png" ContentType="image/png"/>
  <Override PartName="/ppt/media/image3.png" ContentType="image/png"/>
  <Override PartName="/ppt/media/image56.jpeg" ContentType="image/jpeg"/>
  <Override PartName="/ppt/media/image17.jpeg" ContentType="image/jpeg"/>
  <Override PartName="/ppt/media/image16.jpeg" ContentType="image/jpeg"/>
  <Override PartName="/ppt/media/image60.jpeg" ContentType="image/jpeg"/>
  <Override PartName="/ppt/media/image11.jpeg" ContentType="image/jpeg"/>
  <Override PartName="/ppt/media/image24.png" ContentType="image/png"/>
  <Override PartName="/ppt/media/image26.jpeg" ContentType="image/jpeg"/>
  <Override PartName="/ppt/media/image62.jpeg" ContentType="image/jpeg"/>
  <Override PartName="/ppt/media/image22.png" ContentType="image/png"/>
  <Override PartName="/ppt/media/image19.jpeg" ContentType="image/jpeg"/>
  <Override PartName="/ppt/media/image34.png" ContentType="image/png"/>
  <Override PartName="/ppt/media/image55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8.png" ContentType="image/png"/>
  <Override PartName="/ppt/media/image43.jpeg" ContentType="image/jpeg"/>
  <Override PartName="/ppt/media/image39.jpeg" ContentType="image/jpeg"/>
  <Override PartName="/ppt/media/image5.png" ContentType="image/png"/>
  <Override PartName="/ppt/media/image27.jpeg" ContentType="image/jpeg"/>
  <Override PartName="/ppt/media/image1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jpeg" ContentType="image/jpeg"/>
  <Override PartName="/ppt/media/image36.png" ContentType="image/png"/>
  <Override PartName="/ppt/media/image37.png" ContentType="image/pn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C4AF-97E9-436B-96D8-7BE88C5DC24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1955-8956-4477-A4CD-3553712DB7E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B584-B7D0-4C89-8A01-5FE9C3D57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FBF-A0E8-4796-875F-D25B86E7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EC4-0998-4AA3-B9D1-4099742B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28B-3DFE-44E0-857C-4C004731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5C5D-12F3-48B9-A8E0-588668D7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2630-EA88-4586-93D1-8BF2A5D0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5CD6-59AE-4158-9B89-C59DBC93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9ED-6D85-4245-A53A-82B2948D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EF2C-7BEC-4A34-A34D-50E757F6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107-9238-4C6A-BB83-1EDA149F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61B1-0F61-4147-ADEB-4AE984D6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6E0D-512D-4571-8A57-04B5C943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1B24-01A0-452A-895C-FB1A43A9C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7560" y="664200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Блок-схема: документ 7"/>
          <p:cNvSpPr/>
          <p:nvPr/>
        </p:nvSpPr>
        <p:spPr>
          <a:xfrm>
            <a:off x="179280" y="189000"/>
            <a:ext cx="8785440" cy="6669000"/>
          </a:xfrm>
          <a:prstGeom prst="flowChartDocument">
            <a:avLst/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8" descr="10-1.png"/>
          <p:cNvPicPr/>
          <p:nvPr/>
        </p:nvPicPr>
        <p:blipFill>
          <a:blip r:embed="rId3"/>
          <a:stretch/>
        </p:blipFill>
        <p:spPr>
          <a:xfrm>
            <a:off x="179280" y="189000"/>
            <a:ext cx="878544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9.jpeg"/><Relationship Id="rId9" Type="http://schemas.openxmlformats.org/officeDocument/2006/relationships/image" Target="../media/image40.jpeg"/><Relationship Id="rId10" Type="http://schemas.openxmlformats.org/officeDocument/2006/relationships/image" Target="../media/image41.jpeg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image" Target="../media/image48.jpeg"/><Relationship Id="rId7" Type="http://schemas.openxmlformats.org/officeDocument/2006/relationships/image" Target="../media/image49.jpeg"/><Relationship Id="rId8" Type="http://schemas.openxmlformats.org/officeDocument/2006/relationships/image" Target="../media/image50.jpeg"/><Relationship Id="rId9" Type="http://schemas.openxmlformats.org/officeDocument/2006/relationships/image" Target="../media/image51.jpeg"/><Relationship Id="rId10" Type="http://schemas.openxmlformats.org/officeDocument/2006/relationships/image" Target="../media/image52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61.jpeg"/><Relationship Id="rId8" Type="http://schemas.openxmlformats.org/officeDocument/2006/relationships/image" Target="../media/image37.png"/><Relationship Id="rId9" Type="http://schemas.openxmlformats.org/officeDocument/2006/relationships/image" Target="../media/image62.jpe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63.jpeg"/><Relationship Id="rId3" Type="http://schemas.openxmlformats.org/officeDocument/2006/relationships/image" Target="../media/image18.jpeg"/><Relationship Id="rId4" Type="http://schemas.openxmlformats.org/officeDocument/2006/relationships/image" Target="../media/image64.jpeg"/><Relationship Id="rId5" Type="http://schemas.openxmlformats.org/officeDocument/2006/relationships/image" Target="../media/image19.jpeg"/><Relationship Id="rId6" Type="http://schemas.openxmlformats.org/officeDocument/2006/relationships/image" Target="../media/image65.jpeg"/><Relationship Id="rId7" Type="http://schemas.openxmlformats.org/officeDocument/2006/relationships/image" Target="../media/image4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12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«</a:t>
            </a:r>
            <a:r>
              <a:rPr b="1" lang="ru-RU" sz="6000" spc="-1" strike="noStrike">
                <a:solidFill>
                  <a:srgbClr val="333399"/>
                </a:solidFill>
                <a:latin typeface="Times New Roman"/>
              </a:rPr>
              <a:t>Знатоки  спорта</a:t>
            </a:r>
            <a:r>
              <a:rPr b="1" lang="ru-RU" sz="5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364000" y="4056120"/>
            <a:ext cx="3168720" cy="2117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i"/>
          <p:cNvPicPr/>
          <p:nvPr/>
        </p:nvPicPr>
        <p:blipFill>
          <a:blip r:embed="rId2"/>
          <a:stretch/>
        </p:blipFill>
        <p:spPr>
          <a:xfrm rot="20628600">
            <a:off x="657360" y="2050920"/>
            <a:ext cx="706320" cy="871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"/>
          <p:cNvPicPr/>
          <p:nvPr/>
        </p:nvPicPr>
        <p:blipFill>
          <a:blip r:embed="rId3"/>
          <a:stretch/>
        </p:blipFill>
        <p:spPr>
          <a:xfrm rot="20628600">
            <a:off x="4387320" y="4070160"/>
            <a:ext cx="679680" cy="839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"/>
          <p:cNvPicPr/>
          <p:nvPr/>
        </p:nvPicPr>
        <p:blipFill>
          <a:blip r:embed="rId4"/>
          <a:stretch/>
        </p:blipFill>
        <p:spPr>
          <a:xfrm rot="20628600">
            <a:off x="6180120" y="1481040"/>
            <a:ext cx="601560" cy="744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i"/>
          <p:cNvPicPr/>
          <p:nvPr/>
        </p:nvPicPr>
        <p:blipFill>
          <a:blip r:embed="rId5"/>
          <a:stretch/>
        </p:blipFill>
        <p:spPr>
          <a:xfrm rot="20628600">
            <a:off x="2587320" y="50176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i"/>
          <p:cNvPicPr/>
          <p:nvPr/>
        </p:nvPicPr>
        <p:blipFill>
          <a:blip r:embed="rId6"/>
          <a:stretch/>
        </p:blipFill>
        <p:spPr>
          <a:xfrm rot="20628600">
            <a:off x="1696680" y="3375000"/>
            <a:ext cx="504720" cy="623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i"/>
          <p:cNvPicPr/>
          <p:nvPr/>
        </p:nvPicPr>
        <p:blipFill>
          <a:blip r:embed="rId7"/>
          <a:stretch/>
        </p:blipFill>
        <p:spPr>
          <a:xfrm rot="20628600">
            <a:off x="7749720" y="254592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i"/>
          <p:cNvPicPr/>
          <p:nvPr/>
        </p:nvPicPr>
        <p:blipFill>
          <a:blip r:embed="rId8"/>
          <a:stretch/>
        </p:blipFill>
        <p:spPr>
          <a:xfrm rot="20628600">
            <a:off x="888480" y="4998960"/>
            <a:ext cx="505080" cy="623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i"/>
          <p:cNvPicPr/>
          <p:nvPr/>
        </p:nvPicPr>
        <p:blipFill>
          <a:blip r:embed="rId9"/>
          <a:stretch/>
        </p:blipFill>
        <p:spPr>
          <a:xfrm rot="20628600">
            <a:off x="6366960" y="3691080"/>
            <a:ext cx="505080" cy="6238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" descr=""/>
          <p:cNvPicPr/>
          <p:nvPr/>
        </p:nvPicPr>
        <p:blipFill>
          <a:blip r:embed="rId10"/>
          <a:stretch/>
        </p:blipFill>
        <p:spPr>
          <a:xfrm>
            <a:off x="6093000" y="3003480"/>
            <a:ext cx="20080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6" descr="i?id=275813202-63-72&amp;n=21"/>
          <p:cNvPicPr/>
          <p:nvPr/>
        </p:nvPicPr>
        <p:blipFill>
          <a:blip r:embed="rId1"/>
          <a:srcRect l="0" t="4535" r="37736" b="0"/>
          <a:stretch/>
        </p:blipFill>
        <p:spPr>
          <a:xfrm rot="2266800">
            <a:off x="394920" y="1267920"/>
            <a:ext cx="777960" cy="100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i?id=275813202-63-72&amp;n=21"/>
          <p:cNvPicPr/>
          <p:nvPr/>
        </p:nvPicPr>
        <p:blipFill>
          <a:blip r:embed="rId2"/>
          <a:srcRect l="61810" t="0" r="0" b="38372"/>
          <a:stretch/>
        </p:blipFill>
        <p:spPr>
          <a:xfrm rot="2266800">
            <a:off x="4355640" y="5084280"/>
            <a:ext cx="534960" cy="64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i?id=275813202-63-72&amp;n=21"/>
          <p:cNvPicPr/>
          <p:nvPr/>
        </p:nvPicPr>
        <p:blipFill>
          <a:blip r:embed="rId3"/>
          <a:srcRect l="61810" t="0" r="0" b="38372"/>
          <a:stretch/>
        </p:blipFill>
        <p:spPr>
          <a:xfrm rot="2266800">
            <a:off x="4932360" y="3068280"/>
            <a:ext cx="534960" cy="647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i?id=275813202-63-72&amp;n=21"/>
          <p:cNvPicPr/>
          <p:nvPr/>
        </p:nvPicPr>
        <p:blipFill>
          <a:blip r:embed="rId4"/>
          <a:srcRect l="61810" t="0" r="0" b="38372"/>
          <a:stretch/>
        </p:blipFill>
        <p:spPr>
          <a:xfrm rot="2266800">
            <a:off x="7956720" y="2133360"/>
            <a:ext cx="53496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i?id=275813202-63-72&amp;n=21"/>
          <p:cNvPicPr/>
          <p:nvPr/>
        </p:nvPicPr>
        <p:blipFill>
          <a:blip r:embed="rId5"/>
          <a:srcRect l="61810" t="0" r="0" b="38372"/>
          <a:stretch/>
        </p:blipFill>
        <p:spPr>
          <a:xfrm rot="2266800">
            <a:off x="8316720" y="4723920"/>
            <a:ext cx="534960" cy="648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1" descr="i?id=275813202-63-72&amp;n=21"/>
          <p:cNvPicPr/>
          <p:nvPr/>
        </p:nvPicPr>
        <p:blipFill>
          <a:blip r:embed="rId6"/>
          <a:srcRect l="0" t="4535" r="37736" b="0"/>
          <a:stretch/>
        </p:blipFill>
        <p:spPr>
          <a:xfrm rot="2266800">
            <a:off x="394920" y="4149360"/>
            <a:ext cx="777960" cy="1003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i?id=275813202-63-72&amp;n=21"/>
          <p:cNvPicPr/>
          <p:nvPr/>
        </p:nvPicPr>
        <p:blipFill>
          <a:blip r:embed="rId7"/>
          <a:srcRect l="0" t="4535" r="37736" b="0"/>
          <a:stretch/>
        </p:blipFill>
        <p:spPr>
          <a:xfrm rot="2266800">
            <a:off x="3850920" y="1773000"/>
            <a:ext cx="777960" cy="100332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13"/>
          <p:cNvSpPr/>
          <p:nvPr/>
        </p:nvSpPr>
        <p:spPr>
          <a:xfrm>
            <a:off x="736560" y="115920"/>
            <a:ext cx="792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является эмблемой Олимпийских игр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8"/>
          <a:stretch/>
        </p:blipFill>
        <p:spPr>
          <a:xfrm>
            <a:off x="784080" y="1650960"/>
            <a:ext cx="2644920" cy="26431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9"/>
          <a:stretch/>
        </p:blipFill>
        <p:spPr>
          <a:xfrm>
            <a:off x="5594400" y="4262400"/>
            <a:ext cx="3085920" cy="2048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10"/>
          <a:stretch/>
        </p:blipFill>
        <p:spPr>
          <a:xfrm>
            <a:off x="5357880" y="1763640"/>
            <a:ext cx="2867040" cy="20480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"/>
          <p:cNvPicPr/>
          <p:nvPr/>
        </p:nvPicPr>
        <p:blipFill>
          <a:blip r:embed="rId11"/>
          <a:stretch/>
        </p:blipFill>
        <p:spPr>
          <a:xfrm>
            <a:off x="968400" y="4538520"/>
            <a:ext cx="26859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</a:rPr>
              <a:t>«Снаряди хоккеиста»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index0"/>
          <p:cNvPicPr/>
          <p:nvPr/>
        </p:nvPicPr>
        <p:blipFill>
          <a:blip r:embed="rId1"/>
          <a:stretch/>
        </p:blipFill>
        <p:spPr>
          <a:xfrm>
            <a:off x="3492360" y="155736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ages"/>
          <p:cNvPicPr/>
          <p:nvPr/>
        </p:nvPicPr>
        <p:blipFill>
          <a:blip r:embed="rId2"/>
          <a:stretch/>
        </p:blipFill>
        <p:spPr>
          <a:xfrm>
            <a:off x="7959600" y="1341360"/>
            <a:ext cx="1005120" cy="100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images11"/>
          <p:cNvPicPr/>
          <p:nvPr/>
        </p:nvPicPr>
        <p:blipFill>
          <a:blip r:embed="rId3"/>
          <a:stretch/>
        </p:blipFill>
        <p:spPr>
          <a:xfrm>
            <a:off x="3925800" y="5300640"/>
            <a:ext cx="1177920" cy="1173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images12"/>
          <p:cNvPicPr/>
          <p:nvPr/>
        </p:nvPicPr>
        <p:blipFill>
          <a:blip r:embed="rId4"/>
          <a:stretch/>
        </p:blipFill>
        <p:spPr>
          <a:xfrm>
            <a:off x="7740720" y="5375160"/>
            <a:ext cx="1055520" cy="10605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ndex8"/>
          <p:cNvPicPr/>
          <p:nvPr/>
        </p:nvPicPr>
        <p:blipFill>
          <a:blip r:embed="rId5"/>
          <a:stretch/>
        </p:blipFill>
        <p:spPr>
          <a:xfrm>
            <a:off x="7483320" y="3068640"/>
            <a:ext cx="1192320" cy="1081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index 5"/>
          <p:cNvPicPr/>
          <p:nvPr/>
        </p:nvPicPr>
        <p:blipFill>
          <a:blip r:embed="rId6"/>
          <a:stretch/>
        </p:blipFill>
        <p:spPr>
          <a:xfrm>
            <a:off x="468360" y="1628640"/>
            <a:ext cx="1022400" cy="93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55114266_hokkeynaya_forma_Vankuver"/>
          <p:cNvPicPr/>
          <p:nvPr/>
        </p:nvPicPr>
        <p:blipFill>
          <a:blip r:embed="rId7"/>
          <a:stretch/>
        </p:blipFill>
        <p:spPr>
          <a:xfrm>
            <a:off x="539640" y="551484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images13"/>
          <p:cNvPicPr/>
          <p:nvPr/>
        </p:nvPicPr>
        <p:blipFill>
          <a:blip r:embed="rId8"/>
          <a:stretch/>
        </p:blipFill>
        <p:spPr>
          <a:xfrm>
            <a:off x="6084720" y="5475240"/>
            <a:ext cx="863640" cy="987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C:\Users\HomePK\Desktop\Наташенька\повышение квалификации\СИПКРО\сипкро, инвариант. 19.05-30.05. 2014г\рабочие материалы\выбираем-коньки.jpg"/>
          <p:cNvPicPr/>
          <p:nvPr/>
        </p:nvPicPr>
        <p:blipFill>
          <a:blip r:embed="rId9"/>
          <a:stretch/>
        </p:blipFill>
        <p:spPr>
          <a:xfrm>
            <a:off x="2556000" y="5373720"/>
            <a:ext cx="936360" cy="93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images9"/>
          <p:cNvPicPr/>
          <p:nvPr/>
        </p:nvPicPr>
        <p:blipFill>
          <a:blip r:embed="rId10"/>
          <a:stretch/>
        </p:blipFill>
        <p:spPr>
          <a:xfrm>
            <a:off x="468360" y="3429000"/>
            <a:ext cx="93492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469 -0.00509 L 0.14114 -0.5192 E">
                                      <p:cBhvr>
                                        <p:cTn id="353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45 0.04857 L -0.01545 -0.35013 E">
                                      <p:cBhvr>
                                        <p:cTn id="357" dur="3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5412 L -0.51823 -0.35522 E">
                                      <p:cBhvr>
                                        <p:cTn id="361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717 L -0.28733 0.03677 E">
                                      <p:cBhvr>
                                        <p:cTn id="36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2128 L 0.3033 0.01087 E">
                                      <p:cBhvr>
                                        <p:cTn id="36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944 -0.08557 L 0.23472 -0.61008 E">
                                      <p:cBhvr>
                                        <p:cTn id="37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34968E-006 L 0.11823 -0.1575 E">
                                      <p:cBhvr>
                                        <p:cTn id="37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i"/>
          <p:cNvPicPr/>
          <p:nvPr/>
        </p:nvPicPr>
        <p:blipFill>
          <a:blip r:embed="rId1"/>
          <a:stretch/>
        </p:blipFill>
        <p:spPr>
          <a:xfrm rot="20628600">
            <a:off x="684000" y="18442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i"/>
          <p:cNvPicPr/>
          <p:nvPr/>
        </p:nvPicPr>
        <p:blipFill>
          <a:blip r:embed="rId2"/>
          <a:stretch/>
        </p:blipFill>
        <p:spPr>
          <a:xfrm rot="20628600">
            <a:off x="4140000" y="12679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i"/>
          <p:cNvPicPr/>
          <p:nvPr/>
        </p:nvPicPr>
        <p:blipFill>
          <a:blip r:embed="rId3"/>
          <a:stretch/>
        </p:blipFill>
        <p:spPr>
          <a:xfrm rot="4506600">
            <a:off x="7836480" y="1748520"/>
            <a:ext cx="647640" cy="83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i"/>
          <p:cNvPicPr/>
          <p:nvPr/>
        </p:nvPicPr>
        <p:blipFill>
          <a:blip r:embed="rId4"/>
          <a:stretch/>
        </p:blipFill>
        <p:spPr>
          <a:xfrm rot="20628600">
            <a:off x="2410920" y="580500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i"/>
          <p:cNvPicPr/>
          <p:nvPr/>
        </p:nvPicPr>
        <p:blipFill>
          <a:blip r:embed="rId5"/>
          <a:stretch/>
        </p:blipFill>
        <p:spPr>
          <a:xfrm rot="1959000">
            <a:off x="7986240" y="4610160"/>
            <a:ext cx="505080" cy="62388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1"/>
          <p:cNvSpPr/>
          <p:nvPr/>
        </p:nvSpPr>
        <p:spPr>
          <a:xfrm>
            <a:off x="395280" y="260280"/>
            <a:ext cx="8562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Как называются деревянные доски, присоединенные к ногам, на которых очень легко кататься по снег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6"/>
          <a:stretch/>
        </p:blipFill>
        <p:spPr>
          <a:xfrm>
            <a:off x="784080" y="1793880"/>
            <a:ext cx="3048120" cy="20480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4" descr=""/>
          <p:cNvPicPr/>
          <p:nvPr/>
        </p:nvPicPr>
        <p:blipFill>
          <a:blip r:embed="rId7"/>
          <a:stretch/>
        </p:blipFill>
        <p:spPr>
          <a:xfrm>
            <a:off x="5526000" y="4437000"/>
            <a:ext cx="3140280" cy="19224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5" descr=""/>
          <p:cNvPicPr/>
          <p:nvPr/>
        </p:nvPicPr>
        <p:blipFill>
          <a:blip r:embed="rId8"/>
          <a:stretch/>
        </p:blipFill>
        <p:spPr>
          <a:xfrm>
            <a:off x="784080" y="4437000"/>
            <a:ext cx="3495960" cy="1908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"/>
          <p:cNvPicPr/>
          <p:nvPr/>
        </p:nvPicPr>
        <p:blipFill>
          <a:blip r:embed="rId9"/>
          <a:stretch/>
        </p:blipFill>
        <p:spPr>
          <a:xfrm>
            <a:off x="5526000" y="1793880"/>
            <a:ext cx="308628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i?id=275813202-63-72&amp;n=21"/>
          <p:cNvPicPr/>
          <p:nvPr/>
        </p:nvPicPr>
        <p:blipFill>
          <a:blip r:embed="rId1"/>
          <a:stretch/>
        </p:blipFill>
        <p:spPr>
          <a:xfrm rot="2266800">
            <a:off x="4859280" y="4652640"/>
            <a:ext cx="1400400" cy="105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i?id=275813202-63-72&amp;n=21"/>
          <p:cNvPicPr/>
          <p:nvPr/>
        </p:nvPicPr>
        <p:blipFill>
          <a:blip r:embed="rId2"/>
          <a:stretch/>
        </p:blipFill>
        <p:spPr>
          <a:xfrm rot="20399400">
            <a:off x="468000" y="1988640"/>
            <a:ext cx="1328760" cy="99720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2"/>
          <p:cNvSpPr/>
          <p:nvPr/>
        </p:nvSpPr>
        <p:spPr>
          <a:xfrm>
            <a:off x="736560" y="345960"/>
            <a:ext cx="79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является символом всех Олимпийских игр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3" descr=""/>
          <p:cNvPicPr/>
          <p:nvPr/>
        </p:nvPicPr>
        <p:blipFill>
          <a:blip r:embed="rId3"/>
          <a:stretch/>
        </p:blipFill>
        <p:spPr>
          <a:xfrm>
            <a:off x="736560" y="191448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"/>
          <p:cNvPicPr/>
          <p:nvPr/>
        </p:nvPicPr>
        <p:blipFill>
          <a:blip r:embed="rId4"/>
          <a:stretch/>
        </p:blipFill>
        <p:spPr>
          <a:xfrm>
            <a:off x="5148360" y="4405320"/>
            <a:ext cx="3638520" cy="2048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"/>
          <p:cNvPicPr/>
          <p:nvPr/>
        </p:nvPicPr>
        <p:blipFill>
          <a:blip r:embed="rId5"/>
          <a:stretch/>
        </p:blipFill>
        <p:spPr>
          <a:xfrm>
            <a:off x="5964120" y="1932120"/>
            <a:ext cx="2090880" cy="22032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7" descr=""/>
          <p:cNvPicPr/>
          <p:nvPr/>
        </p:nvPicPr>
        <p:blipFill>
          <a:blip r:embed="rId6"/>
          <a:stretch/>
        </p:blipFill>
        <p:spPr>
          <a:xfrm>
            <a:off x="736560" y="4365720"/>
            <a:ext cx="36385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kurshevel_leh_cermatt"/>
          <p:cNvPicPr/>
          <p:nvPr/>
        </p:nvPicPr>
        <p:blipFill>
          <a:blip r:embed="rId1"/>
          <a:stretch/>
        </p:blipFill>
        <p:spPr>
          <a:xfrm>
            <a:off x="1106640" y="3994200"/>
            <a:ext cx="3054240" cy="2278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i"/>
          <p:cNvPicPr/>
          <p:nvPr/>
        </p:nvPicPr>
        <p:blipFill>
          <a:blip r:embed="rId2"/>
          <a:stretch/>
        </p:blipFill>
        <p:spPr>
          <a:xfrm rot="1259400">
            <a:off x="8172000" y="4508280"/>
            <a:ext cx="679680" cy="8395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"/>
          <p:cNvPicPr/>
          <p:nvPr/>
        </p:nvPicPr>
        <p:blipFill>
          <a:blip r:embed="rId3"/>
          <a:stretch/>
        </p:blipFill>
        <p:spPr>
          <a:xfrm rot="20628600">
            <a:off x="4066920" y="14839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i"/>
          <p:cNvPicPr/>
          <p:nvPr/>
        </p:nvPicPr>
        <p:blipFill>
          <a:blip r:embed="rId4"/>
          <a:stretch/>
        </p:blipFill>
        <p:spPr>
          <a:xfrm rot="20628600">
            <a:off x="323640" y="57337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i"/>
          <p:cNvPicPr/>
          <p:nvPr/>
        </p:nvPicPr>
        <p:blipFill>
          <a:blip r:embed="rId5"/>
          <a:stretch/>
        </p:blipFill>
        <p:spPr>
          <a:xfrm rot="5848200">
            <a:off x="3715200" y="334872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i"/>
          <p:cNvPicPr/>
          <p:nvPr/>
        </p:nvPicPr>
        <p:blipFill>
          <a:blip r:embed="rId6"/>
          <a:stretch/>
        </p:blipFill>
        <p:spPr>
          <a:xfrm rot="20628600">
            <a:off x="3708000" y="50842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7"/>
          <a:stretch/>
        </p:blipFill>
        <p:spPr>
          <a:xfrm>
            <a:off x="1001880" y="1195560"/>
            <a:ext cx="3159000" cy="2233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8"/>
          <a:stretch/>
        </p:blipFill>
        <p:spPr>
          <a:xfrm>
            <a:off x="5435640" y="1309680"/>
            <a:ext cx="3205080" cy="211932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2" descr=""/>
          <p:cNvPicPr/>
          <p:nvPr/>
        </p:nvPicPr>
        <p:blipFill>
          <a:blip r:embed="rId9"/>
          <a:stretch/>
        </p:blipFill>
        <p:spPr>
          <a:xfrm>
            <a:off x="5499000" y="4160880"/>
            <a:ext cx="3076560" cy="2047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5"/>
          <p:cNvSpPr/>
          <p:nvPr/>
        </p:nvSpPr>
        <p:spPr>
          <a:xfrm>
            <a:off x="736560" y="4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 не является зимним видом спор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«Снаряди биатлонист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5" descr="12"/>
          <p:cNvPicPr/>
          <p:nvPr/>
        </p:nvPicPr>
        <p:blipFill>
          <a:blip r:embed="rId1"/>
          <a:stretch/>
        </p:blipFill>
        <p:spPr>
          <a:xfrm>
            <a:off x="826920" y="479736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C:\Documents and Settings\Admin\Рабочий стол\неиспользуемые\Мои рисунки\Рисунок14.jpg"/>
          <p:cNvPicPr/>
          <p:nvPr/>
        </p:nvPicPr>
        <p:blipFill>
          <a:blip r:embed="rId2"/>
          <a:stretch/>
        </p:blipFill>
        <p:spPr>
          <a:xfrm>
            <a:off x="3708360" y="1413000"/>
            <a:ext cx="2374920" cy="2265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index"/>
          <p:cNvPicPr/>
          <p:nvPr/>
        </p:nvPicPr>
        <p:blipFill>
          <a:blip r:embed="rId3"/>
          <a:stretch/>
        </p:blipFill>
        <p:spPr>
          <a:xfrm>
            <a:off x="250920" y="1413000"/>
            <a:ext cx="2089080" cy="7826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index 3"/>
          <p:cNvPicPr/>
          <p:nvPr/>
        </p:nvPicPr>
        <p:blipFill>
          <a:blip r:embed="rId4"/>
          <a:stretch/>
        </p:blipFill>
        <p:spPr>
          <a:xfrm>
            <a:off x="7232760" y="4653000"/>
            <a:ext cx="1011240" cy="1063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index 6"/>
          <p:cNvPicPr/>
          <p:nvPr/>
        </p:nvPicPr>
        <p:blipFill>
          <a:blip r:embed="rId5"/>
          <a:stretch/>
        </p:blipFill>
        <p:spPr>
          <a:xfrm>
            <a:off x="8028000" y="1916280"/>
            <a:ext cx="909720" cy="912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10"/>
          <p:cNvPicPr/>
          <p:nvPr/>
        </p:nvPicPr>
        <p:blipFill>
          <a:blip r:embed="rId6"/>
          <a:stretch/>
        </p:blipFill>
        <p:spPr>
          <a:xfrm>
            <a:off x="3564000" y="5373720"/>
            <a:ext cx="1944720" cy="9637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index8"/>
          <p:cNvPicPr/>
          <p:nvPr/>
        </p:nvPicPr>
        <p:blipFill>
          <a:blip r:embed="rId7"/>
          <a:stretch/>
        </p:blipFill>
        <p:spPr>
          <a:xfrm>
            <a:off x="324000" y="3141720"/>
            <a:ext cx="122364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3.20999E-006 L 0.18907 -0.25185 E">
                                      <p:cBhvr>
                                        <p:cTn id="497" dur="3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91397E-006 L -0.17309 -0.52452 E">
                                      <p:cBhvr>
                                        <p:cTn id="501" dur="3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10823E-006 L 0.25191 -0.03145 E">
                                      <p:cBhvr>
                                        <p:cTn id="505" dur="3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0"/>
          <p:cNvSpPr/>
          <p:nvPr/>
        </p:nvSpPr>
        <p:spPr>
          <a:xfrm>
            <a:off x="736560" y="4428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Зачем нам нужны зимние виды спорт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3010680" y="5300640"/>
            <a:ext cx="58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спортивны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Arial"/>
              </a:rPr>
              <a:t>и здоровы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12"/>
          <p:cNvSpPr/>
          <p:nvPr/>
        </p:nvSpPr>
        <p:spPr>
          <a:xfrm>
            <a:off x="2067840" y="3141720"/>
            <a:ext cx="658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больным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13"/>
          <p:cNvSpPr/>
          <p:nvPr/>
        </p:nvSpPr>
        <p:spPr>
          <a:xfrm>
            <a:off x="209880" y="1700280"/>
            <a:ext cx="697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Arial"/>
              </a:rPr>
              <a:t>Чтобы быть ответственны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715320" y="2119320"/>
            <a:ext cx="7960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Молодцы ребят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все справились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1"/>
          <p:cNvSpPr/>
          <p:nvPr/>
        </p:nvSpPr>
        <p:spPr>
          <a:xfrm>
            <a:off x="2147040" y="1844640"/>
            <a:ext cx="5060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Спасибо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за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2060"/>
                </a:solidFill>
                <a:latin typeface="Times New Roman"/>
                <a:ea typeface="Arial"/>
              </a:rPr>
              <a:t>внимание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Скажите, какого талисмана Олимпийских игр не хватает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Объект 8" descr=""/>
          <p:cNvPicPr/>
          <p:nvPr/>
        </p:nvPicPr>
        <p:blipFill>
          <a:blip r:embed="rId1"/>
          <a:stretch/>
        </p:blipFill>
        <p:spPr>
          <a:xfrm>
            <a:off x="496800" y="1700280"/>
            <a:ext cx="3959280" cy="4537080"/>
          </a:xfrm>
          <a:prstGeom prst="rect">
            <a:avLst/>
          </a:prstGeom>
          <a:ln w="0">
            <a:noFill/>
          </a:ln>
        </p:spPr>
      </p:pic>
      <p:pic>
        <p:nvPicPr>
          <p:cNvPr id="64" name="Объект 9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538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Назовите правильно зимние виды спорт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7" descr="C:\Documents and Settings\Admin\Рабочий стол\неиспользуемые\Мои рисунки\Рисунок4.jpg"/>
          <p:cNvPicPr/>
          <p:nvPr/>
        </p:nvPicPr>
        <p:blipFill>
          <a:blip r:embed="rId1"/>
          <a:stretch/>
        </p:blipFill>
        <p:spPr>
          <a:xfrm>
            <a:off x="3708360" y="1125360"/>
            <a:ext cx="1440000" cy="1913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:\Documents and Settings\Admin\Рабочий стол\неиспользуемые\Мои рисунки\Рисунок5.jpg"/>
          <p:cNvPicPr/>
          <p:nvPr/>
        </p:nvPicPr>
        <p:blipFill>
          <a:blip r:embed="rId2"/>
          <a:stretch/>
        </p:blipFill>
        <p:spPr>
          <a:xfrm>
            <a:off x="7159680" y="4711680"/>
            <a:ext cx="1852560" cy="130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C:\Documents and Settings\Admin\Рабочий стол\неиспользуемые\Мои рисунки\Рисунок10.jpg"/>
          <p:cNvPicPr/>
          <p:nvPr/>
        </p:nvPicPr>
        <p:blipFill>
          <a:blip r:embed="rId3"/>
          <a:stretch/>
        </p:blipFill>
        <p:spPr>
          <a:xfrm>
            <a:off x="250920" y="3429000"/>
            <a:ext cx="2016000" cy="153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Admin\Рабочий стол\неиспользуемые\Мои рисунки\Рисунок8.jpg"/>
          <p:cNvPicPr/>
          <p:nvPr/>
        </p:nvPicPr>
        <p:blipFill>
          <a:blip r:embed="rId4"/>
          <a:stretch/>
        </p:blipFill>
        <p:spPr>
          <a:xfrm>
            <a:off x="6372360" y="1593720"/>
            <a:ext cx="2232000" cy="1677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C:\Documents and Settings\Admin\Рабочий стол\неиспользуемые\Мои рисунки\Рисунок16.jpg"/>
          <p:cNvPicPr/>
          <p:nvPr/>
        </p:nvPicPr>
        <p:blipFill>
          <a:blip r:embed="rId5"/>
          <a:stretch/>
        </p:blipFill>
        <p:spPr>
          <a:xfrm>
            <a:off x="684360" y="1351080"/>
            <a:ext cx="2098440" cy="150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Admin\Рабочий стол\неиспользуемые\Мои рисунки\Рисунок23.jpg"/>
          <p:cNvPicPr/>
          <p:nvPr/>
        </p:nvPicPr>
        <p:blipFill>
          <a:blip r:embed="rId6"/>
          <a:stretch/>
        </p:blipFill>
        <p:spPr>
          <a:xfrm>
            <a:off x="2771640" y="5157720"/>
            <a:ext cx="2160720" cy="1443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C:\Documents and Settings\Admin\Рабочий стол\неиспользуемые\Мои рисунки\Рисунок25.jpg"/>
          <p:cNvPicPr/>
          <p:nvPr/>
        </p:nvPicPr>
        <p:blipFill>
          <a:blip r:embed="rId7"/>
          <a:stretch/>
        </p:blipFill>
        <p:spPr>
          <a:xfrm>
            <a:off x="5580000" y="4508640"/>
            <a:ext cx="1295640" cy="1935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8"/>
          <a:stretch/>
        </p:blipFill>
        <p:spPr>
          <a:xfrm>
            <a:off x="3348000" y="3213000"/>
            <a:ext cx="13795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4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i"/>
          <p:cNvPicPr/>
          <p:nvPr/>
        </p:nvPicPr>
        <p:blipFill>
          <a:blip r:embed="rId1"/>
          <a:stretch/>
        </p:blipFill>
        <p:spPr>
          <a:xfrm rot="1454400">
            <a:off x="8027640" y="310500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i"/>
          <p:cNvPicPr/>
          <p:nvPr/>
        </p:nvPicPr>
        <p:blipFill>
          <a:blip r:embed="rId2"/>
          <a:stretch/>
        </p:blipFill>
        <p:spPr>
          <a:xfrm rot="20628600">
            <a:off x="4074840" y="149508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i"/>
          <p:cNvPicPr/>
          <p:nvPr/>
        </p:nvPicPr>
        <p:blipFill>
          <a:blip r:embed="rId3"/>
          <a:stretch/>
        </p:blipFill>
        <p:spPr>
          <a:xfrm rot="18844800">
            <a:off x="4075560" y="2843640"/>
            <a:ext cx="679320" cy="839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i"/>
          <p:cNvPicPr/>
          <p:nvPr/>
        </p:nvPicPr>
        <p:blipFill>
          <a:blip r:embed="rId4"/>
          <a:stretch/>
        </p:blipFill>
        <p:spPr>
          <a:xfrm rot="20628600">
            <a:off x="2193480" y="3722400"/>
            <a:ext cx="679680" cy="839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"/>
          <p:cNvPicPr/>
          <p:nvPr/>
        </p:nvPicPr>
        <p:blipFill>
          <a:blip r:embed="rId5"/>
          <a:stretch/>
        </p:blipFill>
        <p:spPr>
          <a:xfrm rot="20628600">
            <a:off x="4613040" y="5435280"/>
            <a:ext cx="679320" cy="839880"/>
          </a:xfrm>
          <a:prstGeom prst="rect">
            <a:avLst/>
          </a:prstGeom>
          <a:ln w="0">
            <a:noFill/>
          </a:ln>
        </p:spPr>
      </p:pic>
      <p:sp>
        <p:nvSpPr>
          <p:cNvPr id="7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«Определи, какой спортивный инвентарь нужен для этого зимнего вида спорта?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Рисунок 12" descr="C:\Documents and Settings\Admin\Рабочий стол\неиспользуемые\Мои рисунки\Рисунок16.jpg"/>
          <p:cNvPicPr/>
          <p:nvPr/>
        </p:nvPicPr>
        <p:blipFill>
          <a:blip r:embed="rId6"/>
          <a:stretch/>
        </p:blipFill>
        <p:spPr>
          <a:xfrm>
            <a:off x="3132000" y="2133720"/>
            <a:ext cx="2952720" cy="21081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index7"/>
          <p:cNvPicPr/>
          <p:nvPr/>
        </p:nvPicPr>
        <p:blipFill>
          <a:blip r:embed="rId7"/>
          <a:stretch/>
        </p:blipFill>
        <p:spPr>
          <a:xfrm>
            <a:off x="579600" y="2027160"/>
            <a:ext cx="1919160" cy="1709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5" descr="12"/>
          <p:cNvPicPr/>
          <p:nvPr/>
        </p:nvPicPr>
        <p:blipFill>
          <a:blip r:embed="rId8"/>
          <a:stretch/>
        </p:blipFill>
        <p:spPr>
          <a:xfrm>
            <a:off x="6588000" y="4297320"/>
            <a:ext cx="1855800" cy="1855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ndex"/>
          <p:cNvPicPr/>
          <p:nvPr/>
        </p:nvPicPr>
        <p:blipFill>
          <a:blip r:embed="rId9"/>
          <a:stretch/>
        </p:blipFill>
        <p:spPr>
          <a:xfrm>
            <a:off x="652320" y="4797360"/>
            <a:ext cx="2876760" cy="10778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index 6"/>
          <p:cNvPicPr/>
          <p:nvPr/>
        </p:nvPicPr>
        <p:blipFill>
          <a:blip r:embed="rId10"/>
          <a:stretch/>
        </p:blipFill>
        <p:spPr>
          <a:xfrm>
            <a:off x="6804000" y="2098800"/>
            <a:ext cx="1182600" cy="11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96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Как называют спортсменов, которые не просто катаются на коньках, а еще и выполняют различные красивые фигуры, вращения и поддержк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5" descr="i?id=142288306-11-72&amp;n=21"/>
          <p:cNvPicPr/>
          <p:nvPr/>
        </p:nvPicPr>
        <p:blipFill>
          <a:blip r:embed="rId1"/>
          <a:stretch/>
        </p:blipFill>
        <p:spPr>
          <a:xfrm rot="895800">
            <a:off x="3787560" y="3176280"/>
            <a:ext cx="144144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2"/>
          <a:stretch/>
        </p:blipFill>
        <p:spPr>
          <a:xfrm>
            <a:off x="1297080" y="4390920"/>
            <a:ext cx="2152440" cy="185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"/>
          <p:cNvPicPr/>
          <p:nvPr/>
        </p:nvPicPr>
        <p:blipFill>
          <a:blip r:embed="rId3"/>
          <a:stretch/>
        </p:blipFill>
        <p:spPr>
          <a:xfrm>
            <a:off x="900000" y="2124000"/>
            <a:ext cx="2948040" cy="181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4"/>
          <a:stretch/>
        </p:blipFill>
        <p:spPr>
          <a:xfrm>
            <a:off x="5670720" y="4508640"/>
            <a:ext cx="2657160" cy="1769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5"/>
          <a:stretch/>
        </p:blipFill>
        <p:spPr>
          <a:xfrm>
            <a:off x="5634000" y="2065320"/>
            <a:ext cx="27306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ид спорта, где спортсмены едут на лыжах и стреляют по мишеням, а за промах им назначают штрафной круг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0" descr=""/>
          <p:cNvPicPr/>
          <p:nvPr/>
        </p:nvPicPr>
        <p:blipFill>
          <a:blip r:embed="rId1"/>
          <a:stretch/>
        </p:blipFill>
        <p:spPr>
          <a:xfrm>
            <a:off x="900000" y="1890720"/>
            <a:ext cx="3116520" cy="2079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kurshevel_leh_cermatt"/>
          <p:cNvPicPr/>
          <p:nvPr/>
        </p:nvPicPr>
        <p:blipFill>
          <a:blip r:embed="rId2"/>
          <a:stretch/>
        </p:blipFill>
        <p:spPr>
          <a:xfrm>
            <a:off x="5508720" y="4292640"/>
            <a:ext cx="3224160" cy="21366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3116520" cy="204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4"/>
          <a:stretch/>
        </p:blipFill>
        <p:spPr>
          <a:xfrm>
            <a:off x="5508720" y="2060640"/>
            <a:ext cx="3224160" cy="19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«Какими медалями награждают спортсменов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35"/>
          <p:cNvPicPr/>
          <p:nvPr/>
        </p:nvPicPr>
        <p:blipFill>
          <a:blip r:embed="rId1"/>
          <a:stretch/>
        </p:blipFill>
        <p:spPr>
          <a:xfrm>
            <a:off x="2556000" y="2852640"/>
            <a:ext cx="4105080" cy="331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11"/>
          <p:cNvPicPr/>
          <p:nvPr/>
        </p:nvPicPr>
        <p:blipFill>
          <a:blip r:embed="rId2"/>
          <a:stretch/>
        </p:blipFill>
        <p:spPr>
          <a:xfrm>
            <a:off x="7236000" y="4292640"/>
            <a:ext cx="1527120" cy="2232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22"/>
          <p:cNvPicPr/>
          <p:nvPr/>
        </p:nvPicPr>
        <p:blipFill>
          <a:blip r:embed="rId3"/>
          <a:stretch/>
        </p:blipFill>
        <p:spPr>
          <a:xfrm>
            <a:off x="395280" y="4724280"/>
            <a:ext cx="1557360" cy="1656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23"/>
          <p:cNvPicPr/>
          <p:nvPr/>
        </p:nvPicPr>
        <p:blipFill>
          <a:blip r:embed="rId4"/>
          <a:stretch/>
        </p:blipFill>
        <p:spPr>
          <a:xfrm>
            <a:off x="179280" y="1484280"/>
            <a:ext cx="165600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5.27778E-006 -2.40518E-007 C -0.00591 -0.00393 -0.00765 -0.00879 -0.01303 -0.01365 C -0.01963 -0.02683 -0.01546 -0.02382 -0.0231 -0.02706 C -0.02605 -0.03793 -0.0224 -0.02891 -0.029 -0.03492 C -0.03612 -0.0414 -0.03907 -0.04718 -0.04775 -0.05042 C -0.04827 -0.05227 -0.04827 -0.05481 -0.04931 -0.0562 C -0.05036 -0.05759 -0.05244 -0.05689 -0.05365 -0.05805 C -0.05678 -0.06083 -0.05921 -0.06499 -0.06233 -0.06776 C -0.06893 -0.08141 -0.08525 -0.08326 -0.09567 -0.09089 C -0.09966 -0.0939 -0.10174 -0.09806 -0.10574 -0.1006 C -0.10799 -0.10222 -0.11077 -0.10245 -0.11303 -0.1043 C -0.12483 -0.11379 -0.13456 -0.12905 -0.14775 -0.13529 C -0.15122 -0.13853 -0.15452 -0.14177 -0.15799 -0.14501 C -0.16147 -0.14824 -0.1665 -0.14871 -0.16945 -0.15264 C -0.1764 -0.16189 -0.18456 -0.17021 -0.19272 -0.17762 C -0.19931 -0.18363 -0.20938 -0.19635 -0.21737 -0.19889 C -0.22327 -0.20675 -0.22709 -0.21462 -0.23473 -0.21832 C -0.2389 -0.22387 -0.24549 -0.23358 -0.2507 -0.23566 C -0.25556 -0.24006 -0.26008 -0.24491 -0.26511 -0.24908 C -0.26858 -0.25578 -0.27206 -0.25948 -0.27674 -0.26457 C -0.28178 -0.27012 -0.28421 -0.27706 -0.28977 -0.28192 C -0.29081 -0.28377 -0.29133 -0.28631 -0.29272 -0.2877 C -0.29393 -0.28909 -0.29602 -0.28839 -0.29706 -0.28978 C -0.29949 -0.29302 -0.30036 -0.29811 -0.30279 -0.30134 C -0.31147 -0.31291 -0.32049 -0.32424 -0.33039 -0.33418 C -0.33247 -0.3395 -0.33525 -0.35338 -0.34046 -0.35338 E">
                                      <p:cBhvr>
                                        <p:cTn id="220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2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0.01424 -0.06799 C -0.01129 -0.07447 -0.00903 -0.07655 -0.00399 -0.07886 C -0.00104 -0.08534 1.38889000000008E-006 -0.09343 0.00364 -0.09898 C 0.01597 -0.11679 0.0276 -0.12581 0.0434 -0.13529 C 0.05208 -0.14038 0.05052 -0.14223 0.06128 -0.14431 C 0.06753 -0.14801 0.07413 -0.15032 0.08055 -0.15356 C 0.0901 -0.16674 0.10173 -0.17206 0.1125 -0.18247 C 0.11562 -0.18871 0.11962 -0.19102 0.12292 -0.19704 C 0.12465 -0.20051 0.12621 -0.20421 0.12795 -0.20791 C 0.12969 -0.21161 0.13559 -0.21508 0.13559 -0.21485 C 0.14167 -0.22733 0.14288 -0.22849 0.15087 -0.23705 C 0.15364 -0.24769 0.15903 -0.25509 0.16649 -0.25879 C 0.17222 -0.27151 0.18455 -0.28631 0.19444 -0.29301 C 0.19722 -0.2988 0.19566 -0.29856 0.19844 -0.29856 E">
                                      <p:cBhvr>
                                        <p:cTn id="223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5" nodeType="after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4.72222E-006 3.05273E-006 C 0.00643 0.00208 0.0099 0.00693 0.01598 0.00971 C 0.01789 0.01156 0.01997 0.01341 0.02171 0.01549 C 0.02327 0.01734 0.02448 0.01965 0.02605 0.02127 C 0.03125 0.02682 0.02917 0.02335 0.03473 0.02705 C 0.03941 0.03006 0.04289 0.03654 0.04792 0.03862 C 0.05625 0.04209 0.06407 0.04671 0.07257 0.05018 C 0.07344 0.05203 0.07396 0.05481 0.07535 0.05596 C 0.07743 0.05781 0.09254 0.06267 0.09566 0.0636 C 0.09983 0.0673 0.10382 0.06961 0.10868 0.07146 C 0.1125 0.07285 0.12032 0.07516 0.12032 0.07516 C 0.12882 0.08094 0.13698 0.08372 0.14636 0.08672 C 0.14827 0.08742 0.15035 0.08811 0.15226 0.0888 C 0.15417 0.0895 0.15799 0.09065 0.15799 0.09065 C 0.16546 0.09736 0.1724 0.09875 0.18125 0.10037 C 0.18837 0.10337 0.19566 0.1043 0.20278 0.10615 C 0.20921 0.11031 0.21337 0.11193 0.22032 0.11378 C 0.229 0.11979 0.23837 0.1228 0.24792 0.12534 C 0.25643 0.13298 0.26823 0.13483 0.2783 0.13714 C 0.2875 0.14639 0.29809 0.14755 0.30868 0.1524 C 0.33299 0.1635 0.35747 0.17437 0.38264 0.18154 C 0.39167 0.18755 0.39827 0.19125 0.40868 0.1931 C 0.42032 0.19796 0.4316 0.2012 0.44358 0.20467 C 0.45556 0.21438 0.44601 0.2086 0.46372 0.2123 C 0.46806 0.21323 0.46945 0.21577 0.47379 0.21808 C 0.48178 0.22201 0.49046 0.22433 0.49844 0.22779 C 0.50608 0.2345 0.52917 0.24121 0.53768 0.24121 E">
                                      <p:cBhvr>
                                        <p:cTn id="22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Вид спорта, где спортсмены спускаются с горы с большого трамплина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3" descr=""/>
          <p:cNvPicPr/>
          <p:nvPr/>
        </p:nvPicPr>
        <p:blipFill>
          <a:blip r:embed="rId1"/>
          <a:stretch/>
        </p:blipFill>
        <p:spPr>
          <a:xfrm>
            <a:off x="5076720" y="3924360"/>
            <a:ext cx="3751200" cy="2313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" descr=""/>
          <p:cNvPicPr/>
          <p:nvPr/>
        </p:nvPicPr>
        <p:blipFill>
          <a:blip r:embed="rId2"/>
          <a:stretch/>
        </p:blipFill>
        <p:spPr>
          <a:xfrm>
            <a:off x="741240" y="4076640"/>
            <a:ext cx="3168720" cy="216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3"/>
          <a:stretch/>
        </p:blipFill>
        <p:spPr>
          <a:xfrm>
            <a:off x="5141880" y="1630440"/>
            <a:ext cx="3103560" cy="2076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4"/>
          <a:stretch/>
        </p:blipFill>
        <p:spPr>
          <a:xfrm>
            <a:off x="885960" y="1644480"/>
            <a:ext cx="3047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  <a:ea typeface="Arial"/>
              </a:rPr>
              <a:t>Назовите командные виды спор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5218200" y="1889280"/>
            <a:ext cx="3220920" cy="211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3"/>
          <a:stretch/>
        </p:blipFill>
        <p:spPr>
          <a:xfrm>
            <a:off x="5348160" y="4487760"/>
            <a:ext cx="3090960" cy="2043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703440" y="4365720"/>
            <a:ext cx="3168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4:53:15Z</dcterms:created>
  <dc:creator>Мажура Ю.М.</dc:creator>
  <dc:description/>
  <dc:language>en-US</dc:language>
  <cp:lastModifiedBy>7</cp:lastModifiedBy>
  <dcterms:modified xsi:type="dcterms:W3CDTF">2017-10-17T14:01:37Z</dcterms:modified>
  <cp:revision>36</cp:revision>
  <dc:subject/>
  <dc:title>Зимние виды спорта</dc:title>
</cp:coreProperties>
</file>