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29E-D349-4F79-9820-09F023A8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E34-7B2C-4C65-B6CF-C2775240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1AE7-1558-45F3-92E4-32E93597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058E-77F8-4EF4-B89B-39BDBD62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5BF-919B-4FA9-A01D-7C9A96F8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8AF0-80E9-42F0-8A25-D73B6785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BE65-DD51-4B43-87E0-1B82E4B0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065-A240-49E3-8BC6-B5C167E0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2F0A-99BE-4F82-96C9-82433B46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8566-1FA3-4CB9-8F85-9A3B018A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A82-D496-4CFD-AA86-F7AA7661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6CE-67D3-4D2D-9517-ADAF8503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FD9D-67E2-43F2-91AF-51A8E15E9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3889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стер-класс для родителей с детьми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Кукла-оберег. Домашняя Масленица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3" descr="[Изображение: 0_6afb6_ce61e566_XL.jpg]"/>
          <p:cNvPicPr/>
          <p:nvPr/>
        </p:nvPicPr>
        <p:blipFill>
          <a:blip r:embed="rId3"/>
          <a:stretch/>
        </p:blipFill>
        <p:spPr>
          <a:xfrm>
            <a:off x="4284720" y="549360"/>
            <a:ext cx="46432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7" descr="[Изображение: 0_6afb0_663ed5f0_XL.jpg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b Привязав обе руки, нитки не отрываем либо оставляем длинные концы для закрепления юбки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" descr="[Изображение: 0_6afb1_88e48f64_XL.jpg]"/>
          <p:cNvPicPr/>
          <p:nvPr/>
        </p:nvPicPr>
        <p:blipFill>
          <a:blip r:embed="rId2"/>
          <a:stretch/>
        </p:blipFill>
        <p:spPr>
          <a:xfrm>
            <a:off x="2268360" y="2924280"/>
            <a:ext cx="4859640" cy="3765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-360" y="0"/>
            <a:ext cx="236520" cy="4525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Лоскуты для юбки складываем по диагонали. Нижний лоскут кладется горизонтально прямым углом вниз, верхний лоскут вертикально, прямым углом по левую руку куклы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Загибаем нижний лоскут к центр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9" descr="[Изображение: 0_6afb2_9f59f322_XL.jpg]"/>
          <p:cNvPicPr/>
          <p:nvPr/>
        </p:nvPicPr>
        <p:blipFill>
          <a:blip r:embed="rId2"/>
          <a:stretch/>
        </p:blipFill>
        <p:spPr>
          <a:xfrm>
            <a:off x="1835280" y="1484280"/>
            <a:ext cx="544644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Верхний лоскут загибаем от левой руки к правой (на кукле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0" descr="[Изображение: 0_6afb3_21f76c05_XL.jpg]"/>
          <p:cNvPicPr/>
          <p:nvPr/>
        </p:nvPicPr>
        <p:blipFill>
          <a:blip r:embed="rId1"/>
          <a:stretch/>
        </p:blipFill>
        <p:spPr>
          <a:xfrm>
            <a:off x="2050920" y="2133720"/>
            <a:ext cx="5143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76720" y="2276280"/>
            <a:ext cx="374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 Верхний лоску загибаем за спину. Юбку можно делать из ткани одной расцвет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2" descr="[Изображение: 0_6afb5_bafda4b0_XL.jpg]"/>
          <p:cNvPicPr/>
          <p:nvPr/>
        </p:nvPicPr>
        <p:blipFill>
          <a:blip r:embed="rId2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43196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Надеваем косынку. Домашняя Масленица готова, встречаем весну, пробуждаемся и обновляемся вместе с природой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3" descr="[Изображение: 0_6afb6_ce61e566_XL.jpg]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486720"/>
            <a:ext cx="604836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 родителей и детей с русской традицией изготовления народных тряпичных кукол. Создать условия для совместной деятельности детей, родителей, воспитател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пробудить  у родителей и детей интерес к русской народной куль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познакомить с русскими традиц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научить изготавливать обрядовую куклу «Домашняя Маслени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ериалы и оборудов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ор, экран, компьютер, диск с записями русских народных песен, презентация «Последовательность изготовления куклы-масленицы (Домашняя Масленица), ткань, ни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86440" y="-5234040"/>
            <a:ext cx="745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готовим для головы лоскут двунити или саржи 20х20 см, два лоскута для рук 10х12 см, два цветных лоскута 20х20 см для юбки, лоскут для косынки (лучше из красной ткани) и немного синтепона или ветоши для голо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59280" y="23320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84320" y="626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[Изображение: 0_6afab_d86193fe_XL.jpg]"/>
          <p:cNvPicPr/>
          <p:nvPr/>
        </p:nvPicPr>
        <p:blipFill>
          <a:blip r:embed="rId3"/>
          <a:stretch/>
        </p:blipFill>
        <p:spPr>
          <a:xfrm>
            <a:off x="1835280" y="2492280"/>
            <a:ext cx="57960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[Изображение: 0_6afac_e1a19db0_XL.jpg]"/>
          <p:cNvPicPr/>
          <p:nvPr/>
        </p:nvPicPr>
        <p:blipFill>
          <a:blip r:embed="rId2"/>
          <a:stretch/>
        </p:blipFill>
        <p:spPr>
          <a:xfrm>
            <a:off x="2124000" y="1916280"/>
            <a:ext cx="485316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87280" y="392040"/>
            <a:ext cx="684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В белый лоскут помещаем наполни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формляем голову. Так как руки из этого лоскута делать не надо, то лицо легко оформляем без складок, убирая ткань на затылок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32720" y="6300720"/>
            <a:ext cx="10656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[Изображение: 0_6afad_2e76a27_XL.jpg]"/>
          <p:cNvPicPr/>
          <p:nvPr/>
        </p:nvPicPr>
        <p:blipFill>
          <a:blip r:embed="rId2"/>
          <a:stretch/>
        </p:blipFill>
        <p:spPr>
          <a:xfrm>
            <a:off x="1763640" y="2421000"/>
            <a:ext cx="57610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5" descr="[Изображение: 0_6afae_3210870_XL.jpg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Делаем скрутку для рук с угол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6" descr="[Изображение: 0_6afaf_75686103_XL.jpg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a Скрутку для рук привязываем в районе ше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8T16:46:25Z</dcterms:created>
  <dc:creator>User</dc:creator>
  <dc:description/>
  <dc:language>en-US</dc:language>
  <cp:lastModifiedBy>katya_milto@outlook.com</cp:lastModifiedBy>
  <dcterms:modified xsi:type="dcterms:W3CDTF">2017-10-18T14:07:52Z</dcterms:modified>
  <cp:revision>3</cp:revision>
  <dc:subject/>
  <dc:title>Мастер-класс для родителей с детьми. «Кукла-оберег. Домашняя Масленица.»</dc:title>
</cp:coreProperties>
</file>