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C357-EA79-4E15-B145-FC8ABF63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66E0-1F89-4E33-8EA5-6F11997B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A134-5909-4CF4-A588-AC3D85E8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A138-EEDA-42DD-89D2-8B1A5CD0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6B05-8F6C-45EA-AA51-16D52866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0BDF-6D41-4491-846F-8527A564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80EF-9AF9-4F47-948D-FC5D04EB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9939-29AF-4BEB-9871-F5621D78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9D82-9F76-47DD-A4AE-ED3B78DC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D1E5-FD54-413A-9431-0DBE5A30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6990-08D5-4D57-A70F-4D37DD3A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EE3B-772C-4902-BD8A-67348C69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3695-865E-4F49-9E79-8BEF0622A1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3889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стер-класс для родителей с детьми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Кукла-оберег. Домашняя Масленица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13" descr="[Изображение: 0_6afb6_ce61e566_XL.jpg]"/>
          <p:cNvPicPr/>
          <p:nvPr/>
        </p:nvPicPr>
        <p:blipFill>
          <a:blip r:embed="rId3"/>
          <a:stretch/>
        </p:blipFill>
        <p:spPr>
          <a:xfrm>
            <a:off x="4284720" y="549360"/>
            <a:ext cx="46432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7" descr="[Изображение: 0_6afb0_663ed5f0_XL.jpg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b Привязав обе руки, нитки не отрываем либо оставляем длинные концы для закрепления юбки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8" descr="[Изображение: 0_6afb1_88e48f64_XL.jpg]"/>
          <p:cNvPicPr/>
          <p:nvPr/>
        </p:nvPicPr>
        <p:blipFill>
          <a:blip r:embed="rId2"/>
          <a:stretch/>
        </p:blipFill>
        <p:spPr>
          <a:xfrm>
            <a:off x="2268360" y="2924280"/>
            <a:ext cx="4859640" cy="37656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-360" y="0"/>
            <a:ext cx="236520" cy="45259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Лоскуты для юбки складываем по диагонали. Нижний лоскут кладется горизонтально прямым углом вниз, верхний лоскут вертикально, прямым углом по левую руку куклы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Загибаем нижний лоскут к центр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9" descr="[Изображение: 0_6afb2_9f59f322_XL.jpg]"/>
          <p:cNvPicPr/>
          <p:nvPr/>
        </p:nvPicPr>
        <p:blipFill>
          <a:blip r:embed="rId2"/>
          <a:stretch/>
        </p:blipFill>
        <p:spPr>
          <a:xfrm>
            <a:off x="1835280" y="1484280"/>
            <a:ext cx="544644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Верхний лоскут загибаем от левой руки к правой (на кукле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10" descr="[Изображение: 0_6afb3_21f76c05_XL.jpg]"/>
          <p:cNvPicPr/>
          <p:nvPr/>
        </p:nvPicPr>
        <p:blipFill>
          <a:blip r:embed="rId1"/>
          <a:stretch/>
        </p:blipFill>
        <p:spPr>
          <a:xfrm>
            <a:off x="2050920" y="2133720"/>
            <a:ext cx="5143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76720" y="2276280"/>
            <a:ext cx="374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 Верхний лоску загибаем за спину. Юбку можно делать из ткани одной расцвет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2" descr="[Изображение: 0_6afb5_bafda4b0_XL.jpg]"/>
          <p:cNvPicPr/>
          <p:nvPr/>
        </p:nvPicPr>
        <p:blipFill>
          <a:blip r:embed="rId2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431964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 Надеваем косынку. Домашняя Масленица готова, встречаем весну, пробуждаемся и обновляемся вместе с природой!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3" descr="[Изображение: 0_6afb6_ce61e566_XL.jpg]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486720"/>
            <a:ext cx="604836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знакомить родителей и детей с русской традицией изготовления народных тряпичных кукол. Создать условия для совместной деятельности детей, родителей, воспитател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пробудить  у родителей и детей интерес к русской народной культ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познакомить с русскими традици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научить изготавливать обрядовую куклу «Домашняя Маслениц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териалы и оборудов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ектор, экран, компьютер, диск с записями русских народных песен, презентация «Последовательность изготовления куклы-масленицы (Домашняя Масленица), ткань, ни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86440" y="-5234040"/>
            <a:ext cx="745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25992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риготовим для головы лоскут двунити или саржи 20х20 см, два лоскута для рук 10х12 см, два цветных лоскута 20х20 см для юбки, лоскут для косынки (лучше из красной ткани) и немного синтепона или ветоши для голов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859280" y="233208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84320" y="626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2" descr="[Изображение: 0_6afab_d86193fe_XL.jpg]"/>
          <p:cNvPicPr/>
          <p:nvPr/>
        </p:nvPicPr>
        <p:blipFill>
          <a:blip r:embed="rId3"/>
          <a:stretch/>
        </p:blipFill>
        <p:spPr>
          <a:xfrm>
            <a:off x="1835280" y="2492280"/>
            <a:ext cx="57960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[Изображение: 0_6afac_e1a19db0_XL.jpg]"/>
          <p:cNvPicPr/>
          <p:nvPr/>
        </p:nvPicPr>
        <p:blipFill>
          <a:blip r:embed="rId2"/>
          <a:stretch/>
        </p:blipFill>
        <p:spPr>
          <a:xfrm>
            <a:off x="2124000" y="1916280"/>
            <a:ext cx="4853160" cy="4525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87280" y="392040"/>
            <a:ext cx="684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В белый лоскут помещаем наполнит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Оформляем голову. Так как руки из этого лоскута делать не надо, то лицо легко оформляем без складок, убирая ткань на затылок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32720" y="6300720"/>
            <a:ext cx="10656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Рисунок 4" descr="[Изображение: 0_6afad_2e76a27_XL.jpg]"/>
          <p:cNvPicPr/>
          <p:nvPr/>
        </p:nvPicPr>
        <p:blipFill>
          <a:blip r:embed="rId2"/>
          <a:stretch/>
        </p:blipFill>
        <p:spPr>
          <a:xfrm>
            <a:off x="1763640" y="2421000"/>
            <a:ext cx="576108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5" descr="[Изображение: 0_6afae_3210870_XL.jpg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Делаем скрутку для рук с уголк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6" descr="[Изображение: 0_6afaf_75686103_XL.jpg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a Скрутку для рук привязываем в районе ше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8T16:46:25Z</dcterms:created>
  <dc:creator>User</dc:creator>
  <dc:description/>
  <dc:language>en-US</dc:language>
  <cp:lastModifiedBy>katya_milto@outlook.com</cp:lastModifiedBy>
  <dcterms:modified xsi:type="dcterms:W3CDTF">2017-10-18T14:07:52Z</dcterms:modified>
  <cp:revision>3</cp:revision>
  <dc:subject/>
  <dc:title>Мастер-класс для родителей с детьми. «Кукла-оберег. Домашняя Масленица.»</dc:title>
</cp:coreProperties>
</file>