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11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D37C-E6C2-4262-BD5B-298A676B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AB3-19E4-4D07-8D0D-D7D17930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778-4332-4EB5-B8FB-3F41B58E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F45-C6DA-492D-B121-9825D9B0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ECD3-0795-4B18-B724-4773E65B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E230-BAF4-4B4B-95F2-193C1CA4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F8C6-B91D-4338-BCE2-795F3827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526B-C018-4665-A2EA-363858DB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2394-2F2B-45BA-9811-506422DA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E579-3920-4F8F-98FD-32956AF9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359F-30D7-4683-9028-A55E197A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92A3-1540-49C0-B7B7-7295D273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571F-CE8D-4421-916B-B0FB4BE8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5501-06A1-40FE-9048-BC7E07E4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2FA1-EDE9-41EE-AABA-292C68E3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E68C-BA06-4748-A718-BB80BD57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4B20-62A9-4AB1-99B0-A121B4C6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F11-438F-4A51-9FF3-69482E50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D57-0A4E-429A-B234-4E78876C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36D-35C0-4F9F-A6C1-43503691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8A30-5C85-42B7-ABD9-E3B7C24A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1784-2A45-4189-BF92-88B1DE1C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2765-D077-4A6C-B5C0-D769DF13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9B6-9971-40A8-A136-36937F7E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b5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85d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fd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b539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dfd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b53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b53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6B9A-4FED-4692-8B8C-1C04F008D1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0b5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21b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85d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fd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b539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dfd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b53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b53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415E-509D-4FEB-B22F-2388FB6AEC9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gi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bf5f9"/>
                </a:solidFill>
                <a:latin typeface="Times New Roman"/>
              </a:rPr>
              <a:t>               </a:t>
            </a: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547640" y="2981520"/>
            <a:ext cx="695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alibri"/>
              </a:rPr>
              <a:t>УРОК МАТЕМАТИКИ             В 4-А КЛАСС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alibri"/>
              </a:rPr>
              <a:t>1 марта 2017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Times New Roman"/>
              </a:rPr>
              <a:t>Раскрасьте солнышко</a:t>
            </a: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pic>
        <p:nvPicPr>
          <p:cNvPr id="190" name="Picture 4" descr="sun003"/>
          <p:cNvPicPr/>
          <p:nvPr/>
        </p:nvPicPr>
        <p:blipFill>
          <a:blip r:embed="rId2"/>
          <a:stretch/>
        </p:blipFill>
        <p:spPr>
          <a:xfrm>
            <a:off x="2693880" y="1600200"/>
            <a:ext cx="4213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«Дорогу осилит идущий,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а математику - мыслящий».</a:t>
            </a: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pic>
        <p:nvPicPr>
          <p:cNvPr id="192" name="Picture 6" descr="j0344849"/>
          <p:cNvPicPr/>
          <p:nvPr/>
        </p:nvPicPr>
        <p:blipFill>
          <a:blip r:embed="rId2"/>
          <a:stretch/>
        </p:blipFill>
        <p:spPr>
          <a:xfrm rot="657000">
            <a:off x="4067280" y="2924280"/>
            <a:ext cx="1700280" cy="3046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dacat"/>
          <p:cNvPicPr/>
          <p:nvPr/>
        </p:nvPicPr>
        <p:blipFill>
          <a:blip r:embed="rId3"/>
          <a:stretch/>
        </p:blipFill>
        <p:spPr>
          <a:xfrm>
            <a:off x="1476360" y="3213000"/>
            <a:ext cx="1890720" cy="2303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90813197_72088983_solnyshko"/>
          <p:cNvPicPr/>
          <p:nvPr/>
        </p:nvPicPr>
        <p:blipFill>
          <a:blip r:embed="rId4"/>
          <a:stretch/>
        </p:blipFill>
        <p:spPr>
          <a:xfrm>
            <a:off x="6877080" y="1628640"/>
            <a:ext cx="210024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-2376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71385524_58564708_7ea9b1b0a44f591591b72a26ec4040be"/>
          <p:cNvPicPr/>
          <p:nvPr/>
        </p:nvPicPr>
        <p:blipFill>
          <a:blip r:embed="rId2"/>
          <a:stretch/>
        </p:blipFill>
        <p:spPr>
          <a:xfrm>
            <a:off x="900000" y="765000"/>
            <a:ext cx="77756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63"/>
          <p:cNvGrpSpPr/>
          <p:nvPr/>
        </p:nvGrpSpPr>
        <p:grpSpPr>
          <a:xfrm>
            <a:off x="1258920" y="189000"/>
            <a:ext cx="1395360" cy="1989000"/>
            <a:chOff x="1258920" y="189000"/>
            <a:chExt cx="1395360" cy="1989000"/>
          </a:xfrm>
        </p:grpSpPr>
        <p:pic>
          <p:nvPicPr>
            <p:cNvPr id="104" name="Picture 4" descr="j0336789"/>
            <p:cNvPicPr/>
            <p:nvPr/>
          </p:nvPicPr>
          <p:blipFill>
            <a:blip r:embed="rId2"/>
            <a:stretch/>
          </p:blipFill>
          <p:spPr>
            <a:xfrm>
              <a:off x="1258920" y="189000"/>
              <a:ext cx="1311120" cy="19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3"/>
            <p:cNvSpPr/>
            <p:nvPr/>
          </p:nvSpPr>
          <p:spPr>
            <a:xfrm>
              <a:off x="1430280" y="44928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90 . 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Group 61"/>
          <p:cNvGrpSpPr/>
          <p:nvPr/>
        </p:nvGrpSpPr>
        <p:grpSpPr>
          <a:xfrm>
            <a:off x="4140360" y="189000"/>
            <a:ext cx="1655280" cy="1962000"/>
            <a:chOff x="4140360" y="189000"/>
            <a:chExt cx="1655280" cy="1962000"/>
          </a:xfrm>
        </p:grpSpPr>
        <p:pic>
          <p:nvPicPr>
            <p:cNvPr id="107" name="Picture 6" descr="j0336789"/>
            <p:cNvPicPr/>
            <p:nvPr/>
          </p:nvPicPr>
          <p:blipFill>
            <a:blip r:embed="rId3"/>
            <a:stretch/>
          </p:blipFill>
          <p:spPr>
            <a:xfrm>
              <a:off x="4140360" y="189000"/>
              <a:ext cx="129204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4"/>
            <p:cNvSpPr/>
            <p:nvPr/>
          </p:nvSpPr>
          <p:spPr>
            <a:xfrm>
              <a:off x="4427280" y="476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60 . 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Group 59"/>
          <p:cNvGrpSpPr/>
          <p:nvPr/>
        </p:nvGrpSpPr>
        <p:grpSpPr>
          <a:xfrm>
            <a:off x="7429680" y="189000"/>
            <a:ext cx="1454040" cy="1844640"/>
            <a:chOff x="7429680" y="189000"/>
            <a:chExt cx="1454040" cy="1844640"/>
          </a:xfrm>
        </p:grpSpPr>
        <p:pic>
          <p:nvPicPr>
            <p:cNvPr id="110" name="Picture 7" descr="j0336789"/>
            <p:cNvPicPr/>
            <p:nvPr/>
          </p:nvPicPr>
          <p:blipFill>
            <a:blip r:embed="rId4"/>
            <a:stretch/>
          </p:blipFill>
          <p:spPr>
            <a:xfrm>
              <a:off x="7667640" y="189000"/>
              <a:ext cx="121608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5"/>
            <p:cNvSpPr/>
            <p:nvPr/>
          </p:nvSpPr>
          <p:spPr>
            <a:xfrm>
              <a:off x="7429680" y="449280"/>
              <a:ext cx="13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42 0: 7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Group 57"/>
          <p:cNvGrpSpPr/>
          <p:nvPr/>
        </p:nvGrpSpPr>
        <p:grpSpPr>
          <a:xfrm>
            <a:off x="179280" y="2060640"/>
            <a:ext cx="1224000" cy="1601640"/>
            <a:chOff x="179280" y="2060640"/>
            <a:chExt cx="1224000" cy="1601640"/>
          </a:xfrm>
        </p:grpSpPr>
        <p:pic>
          <p:nvPicPr>
            <p:cNvPr id="113" name="Picture 5" descr="j0336789"/>
            <p:cNvPicPr/>
            <p:nvPr/>
          </p:nvPicPr>
          <p:blipFill>
            <a:blip r:embed="rId5"/>
            <a:stretch/>
          </p:blipFill>
          <p:spPr>
            <a:xfrm>
              <a:off x="179280" y="2060640"/>
              <a:ext cx="1055880" cy="16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6"/>
            <p:cNvSpPr/>
            <p:nvPr/>
          </p:nvSpPr>
          <p:spPr>
            <a:xfrm>
              <a:off x="324000" y="220500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22 . 4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55"/>
          <p:cNvGrpSpPr/>
          <p:nvPr/>
        </p:nvGrpSpPr>
        <p:grpSpPr>
          <a:xfrm>
            <a:off x="2268360" y="2133720"/>
            <a:ext cx="1411200" cy="1962000"/>
            <a:chOff x="2268360" y="2133720"/>
            <a:chExt cx="1411200" cy="1962000"/>
          </a:xfrm>
        </p:grpSpPr>
        <p:pic>
          <p:nvPicPr>
            <p:cNvPr id="116" name="Picture 8" descr="j0336789"/>
            <p:cNvPicPr/>
            <p:nvPr/>
          </p:nvPicPr>
          <p:blipFill>
            <a:blip r:embed="rId6"/>
            <a:stretch/>
          </p:blipFill>
          <p:spPr>
            <a:xfrm>
              <a:off x="2268360" y="2133720"/>
              <a:ext cx="129240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7"/>
            <p:cNvSpPr/>
            <p:nvPr/>
          </p:nvSpPr>
          <p:spPr>
            <a:xfrm>
              <a:off x="2527200" y="242064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4 . 1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53"/>
          <p:cNvGrpSpPr/>
          <p:nvPr/>
        </p:nvGrpSpPr>
        <p:grpSpPr>
          <a:xfrm>
            <a:off x="5651640" y="1916280"/>
            <a:ext cx="1439280" cy="1800000"/>
            <a:chOff x="5651640" y="1916280"/>
            <a:chExt cx="1439280" cy="1800000"/>
          </a:xfrm>
        </p:grpSpPr>
        <p:pic>
          <p:nvPicPr>
            <p:cNvPr id="119" name="Picture 9" descr="j0336789"/>
            <p:cNvPicPr/>
            <p:nvPr/>
          </p:nvPicPr>
          <p:blipFill>
            <a:blip r:embed="rId7"/>
            <a:stretch/>
          </p:blipFill>
          <p:spPr>
            <a:xfrm>
              <a:off x="5651640" y="1916280"/>
              <a:ext cx="118548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8"/>
            <p:cNvSpPr/>
            <p:nvPr/>
          </p:nvSpPr>
          <p:spPr>
            <a:xfrm>
              <a:off x="5867280" y="2131920"/>
              <a:ext cx="12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880 : 8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Group 51"/>
          <p:cNvGrpSpPr/>
          <p:nvPr/>
        </p:nvGrpSpPr>
        <p:grpSpPr>
          <a:xfrm>
            <a:off x="324000" y="4365720"/>
            <a:ext cx="1532880" cy="2104920"/>
            <a:chOff x="324000" y="4365720"/>
            <a:chExt cx="1532880" cy="2104920"/>
          </a:xfrm>
        </p:grpSpPr>
        <p:pic>
          <p:nvPicPr>
            <p:cNvPr id="122" name="Picture 11" descr="j0336789"/>
            <p:cNvPicPr/>
            <p:nvPr/>
          </p:nvPicPr>
          <p:blipFill>
            <a:blip r:embed="rId8"/>
            <a:stretch/>
          </p:blipFill>
          <p:spPr>
            <a:xfrm>
              <a:off x="324000" y="4365720"/>
              <a:ext cx="138708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9"/>
            <p:cNvSpPr/>
            <p:nvPr/>
          </p:nvSpPr>
          <p:spPr>
            <a:xfrm>
              <a:off x="500040" y="4653000"/>
              <a:ext cx="13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550 : 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34"/>
          <p:cNvGrpSpPr/>
          <p:nvPr/>
        </p:nvGrpSpPr>
        <p:grpSpPr>
          <a:xfrm>
            <a:off x="6804000" y="3716280"/>
            <a:ext cx="1719360" cy="2610000"/>
            <a:chOff x="6804000" y="3716280"/>
            <a:chExt cx="1719360" cy="2610000"/>
          </a:xfrm>
        </p:grpSpPr>
        <p:pic>
          <p:nvPicPr>
            <p:cNvPr id="125" name="Picture 12" descr="j0336789"/>
            <p:cNvPicPr/>
            <p:nvPr/>
          </p:nvPicPr>
          <p:blipFill>
            <a:blip r:embed="rId9"/>
            <a:stretch/>
          </p:blipFill>
          <p:spPr>
            <a:xfrm>
              <a:off x="6804000" y="3716280"/>
              <a:ext cx="171936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20"/>
            <p:cNvSpPr/>
            <p:nvPr/>
          </p:nvSpPr>
          <p:spPr>
            <a:xfrm>
              <a:off x="7143840" y="4076640"/>
              <a:ext cx="12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630 : 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Group 50"/>
          <p:cNvGrpSpPr/>
          <p:nvPr/>
        </p:nvGrpSpPr>
        <p:grpSpPr>
          <a:xfrm>
            <a:off x="3857760" y="4221000"/>
            <a:ext cx="1361880" cy="1818000"/>
            <a:chOff x="3857760" y="4221000"/>
            <a:chExt cx="1361880" cy="1818000"/>
          </a:xfrm>
        </p:grpSpPr>
        <p:pic>
          <p:nvPicPr>
            <p:cNvPr id="128" name="Picture 10" descr="j0336789"/>
            <p:cNvPicPr/>
            <p:nvPr/>
          </p:nvPicPr>
          <p:blipFill>
            <a:blip r:embed="rId10"/>
            <a:stretch/>
          </p:blipFill>
          <p:spPr>
            <a:xfrm>
              <a:off x="3922560" y="4221000"/>
              <a:ext cx="1196640" cy="181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21"/>
            <p:cNvSpPr/>
            <p:nvPr/>
          </p:nvSpPr>
          <p:spPr>
            <a:xfrm>
              <a:off x="3857760" y="443700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500 : 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Group 64"/>
          <p:cNvGrpSpPr/>
          <p:nvPr/>
        </p:nvGrpSpPr>
        <p:grpSpPr>
          <a:xfrm>
            <a:off x="1476360" y="981000"/>
            <a:ext cx="1008000" cy="792360"/>
            <a:chOff x="1476360" y="981000"/>
            <a:chExt cx="1008000" cy="792360"/>
          </a:xfrm>
        </p:grpSpPr>
        <p:sp>
          <p:nvSpPr>
            <p:cNvPr id="131" name="AutoShape 46"/>
            <p:cNvSpPr/>
            <p:nvPr/>
          </p:nvSpPr>
          <p:spPr>
            <a:xfrm>
              <a:off x="1476360" y="981000"/>
              <a:ext cx="792000" cy="792360"/>
            </a:xfrm>
            <a:prstGeom prst="su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Text Box 22"/>
            <p:cNvSpPr/>
            <p:nvPr/>
          </p:nvSpPr>
          <p:spPr>
            <a:xfrm>
              <a:off x="1620720" y="112392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Black"/>
                </a:rPr>
                <a:t>99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oup 62"/>
          <p:cNvGrpSpPr/>
          <p:nvPr/>
        </p:nvGrpSpPr>
        <p:grpSpPr>
          <a:xfrm>
            <a:off x="4572000" y="981000"/>
            <a:ext cx="936720" cy="792360"/>
            <a:chOff x="4572000" y="981000"/>
            <a:chExt cx="936720" cy="792360"/>
          </a:xfrm>
        </p:grpSpPr>
        <p:sp>
          <p:nvSpPr>
            <p:cNvPr id="134" name="AutoShape 45"/>
            <p:cNvSpPr/>
            <p:nvPr/>
          </p:nvSpPr>
          <p:spPr>
            <a:xfrm>
              <a:off x="4572000" y="981000"/>
              <a:ext cx="792000" cy="792360"/>
            </a:xfrm>
            <a:prstGeom prst="su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23"/>
            <p:cNvSpPr/>
            <p:nvPr/>
          </p:nvSpPr>
          <p:spPr>
            <a:xfrm>
              <a:off x="4716360" y="119700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Black"/>
                </a:rPr>
                <a:t>6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Group 60"/>
          <p:cNvGrpSpPr/>
          <p:nvPr/>
        </p:nvGrpSpPr>
        <p:grpSpPr>
          <a:xfrm>
            <a:off x="7885080" y="620640"/>
            <a:ext cx="934920" cy="863640"/>
            <a:chOff x="7885080" y="620640"/>
            <a:chExt cx="934920" cy="863640"/>
          </a:xfrm>
        </p:grpSpPr>
        <p:sp>
          <p:nvSpPr>
            <p:cNvPr id="137" name="AutoShape 44"/>
            <p:cNvSpPr/>
            <p:nvPr/>
          </p:nvSpPr>
          <p:spPr>
            <a:xfrm>
              <a:off x="7885080" y="620640"/>
              <a:ext cx="863640" cy="863640"/>
            </a:xfrm>
            <a:prstGeom prst="su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24"/>
            <p:cNvSpPr/>
            <p:nvPr/>
          </p:nvSpPr>
          <p:spPr>
            <a:xfrm>
              <a:off x="8028000" y="836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Black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Group 58"/>
          <p:cNvGrpSpPr/>
          <p:nvPr/>
        </p:nvGrpSpPr>
        <p:grpSpPr>
          <a:xfrm>
            <a:off x="179280" y="2637000"/>
            <a:ext cx="863640" cy="792000"/>
            <a:chOff x="179280" y="2637000"/>
            <a:chExt cx="863640" cy="792000"/>
          </a:xfrm>
        </p:grpSpPr>
        <p:sp>
          <p:nvSpPr>
            <p:cNvPr id="140" name="AutoShape 43"/>
            <p:cNvSpPr/>
            <p:nvPr/>
          </p:nvSpPr>
          <p:spPr>
            <a:xfrm>
              <a:off x="179280" y="2637000"/>
              <a:ext cx="792360" cy="792000"/>
            </a:xfrm>
            <a:prstGeom prst="su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26"/>
            <p:cNvSpPr/>
            <p:nvPr/>
          </p:nvSpPr>
          <p:spPr>
            <a:xfrm>
              <a:off x="324000" y="29242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Black"/>
                </a:rPr>
                <a:t>88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Group 56"/>
          <p:cNvGrpSpPr/>
          <p:nvPr/>
        </p:nvGrpSpPr>
        <p:grpSpPr>
          <a:xfrm>
            <a:off x="2556000" y="3032280"/>
            <a:ext cx="1224000" cy="792000"/>
            <a:chOff x="2556000" y="3032280"/>
            <a:chExt cx="1224000" cy="792000"/>
          </a:xfrm>
        </p:grpSpPr>
        <p:sp>
          <p:nvSpPr>
            <p:cNvPr id="143" name="AutoShape 42"/>
            <p:cNvSpPr/>
            <p:nvPr/>
          </p:nvSpPr>
          <p:spPr>
            <a:xfrm>
              <a:off x="2556000" y="3032280"/>
              <a:ext cx="792000" cy="792000"/>
            </a:xfrm>
            <a:prstGeom prst="su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27"/>
            <p:cNvSpPr/>
            <p:nvPr/>
          </p:nvSpPr>
          <p:spPr>
            <a:xfrm>
              <a:off x="2700360" y="314172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Black"/>
                </a:rPr>
                <a:t>48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Group 54"/>
          <p:cNvGrpSpPr/>
          <p:nvPr/>
        </p:nvGrpSpPr>
        <p:grpSpPr>
          <a:xfrm>
            <a:off x="5940360" y="2852640"/>
            <a:ext cx="1224000" cy="792360"/>
            <a:chOff x="5940360" y="2852640"/>
            <a:chExt cx="1224000" cy="792360"/>
          </a:xfrm>
        </p:grpSpPr>
        <p:sp>
          <p:nvSpPr>
            <p:cNvPr id="146" name="AutoShape 41"/>
            <p:cNvSpPr/>
            <p:nvPr/>
          </p:nvSpPr>
          <p:spPr>
            <a:xfrm>
              <a:off x="5940360" y="2852640"/>
              <a:ext cx="792360" cy="792360"/>
            </a:xfrm>
            <a:prstGeom prst="su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28"/>
            <p:cNvSpPr/>
            <p:nvPr/>
          </p:nvSpPr>
          <p:spPr>
            <a:xfrm>
              <a:off x="6156360" y="3068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Black"/>
                </a:rPr>
                <a:t>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Group 52"/>
          <p:cNvGrpSpPr/>
          <p:nvPr/>
        </p:nvGrpSpPr>
        <p:grpSpPr>
          <a:xfrm>
            <a:off x="684360" y="4869000"/>
            <a:ext cx="1150920" cy="792000"/>
            <a:chOff x="684360" y="4869000"/>
            <a:chExt cx="1150920" cy="792000"/>
          </a:xfrm>
        </p:grpSpPr>
        <p:sp>
          <p:nvSpPr>
            <p:cNvPr id="149" name="AutoShape 40"/>
            <p:cNvSpPr/>
            <p:nvPr/>
          </p:nvSpPr>
          <p:spPr>
            <a:xfrm>
              <a:off x="684360" y="4869000"/>
              <a:ext cx="792000" cy="792000"/>
            </a:xfrm>
            <a:prstGeom prst="su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29"/>
            <p:cNvSpPr/>
            <p:nvPr/>
          </p:nvSpPr>
          <p:spPr>
            <a:xfrm>
              <a:off x="826920" y="508464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Black"/>
                </a:rPr>
                <a:t>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Group 48"/>
          <p:cNvGrpSpPr/>
          <p:nvPr/>
        </p:nvGrpSpPr>
        <p:grpSpPr>
          <a:xfrm>
            <a:off x="4175280" y="5084640"/>
            <a:ext cx="1260360" cy="792360"/>
            <a:chOff x="4175280" y="5084640"/>
            <a:chExt cx="1260360" cy="792360"/>
          </a:xfrm>
        </p:grpSpPr>
        <p:sp>
          <p:nvSpPr>
            <p:cNvPr id="152" name="AutoShape 39"/>
            <p:cNvSpPr/>
            <p:nvPr/>
          </p:nvSpPr>
          <p:spPr>
            <a:xfrm>
              <a:off x="4175280" y="5084640"/>
              <a:ext cx="792000" cy="792360"/>
            </a:xfrm>
            <a:prstGeom prst="su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30"/>
            <p:cNvSpPr/>
            <p:nvPr/>
          </p:nvSpPr>
          <p:spPr>
            <a:xfrm>
              <a:off x="4211640" y="530064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Black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Group 47"/>
          <p:cNvGrpSpPr/>
          <p:nvPr/>
        </p:nvGrpSpPr>
        <p:grpSpPr>
          <a:xfrm>
            <a:off x="7308720" y="4797360"/>
            <a:ext cx="1224000" cy="792360"/>
            <a:chOff x="7308720" y="4797360"/>
            <a:chExt cx="1224000" cy="792360"/>
          </a:xfrm>
        </p:grpSpPr>
        <p:sp>
          <p:nvSpPr>
            <p:cNvPr id="155" name="AutoShape 35"/>
            <p:cNvSpPr/>
            <p:nvPr/>
          </p:nvSpPr>
          <p:spPr>
            <a:xfrm>
              <a:off x="7308720" y="4797360"/>
              <a:ext cx="792360" cy="792360"/>
            </a:xfrm>
            <a:prstGeom prst="su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31"/>
            <p:cNvSpPr/>
            <p:nvPr/>
          </p:nvSpPr>
          <p:spPr>
            <a:xfrm>
              <a:off x="7451640" y="501336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Black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WordArt 32"/>
          <p:cNvSpPr txBox="1"/>
          <p:nvPr/>
        </p:nvSpPr>
        <p:spPr>
          <a:xfrm>
            <a:off x="1000080" y="1714680"/>
            <a:ext cx="7358040" cy="26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устный счё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bf5f9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dbf5f9"/>
                </a:solidFill>
                <a:latin typeface="Times New Roman"/>
              </a:rPr>
              <a:t>	</a:t>
            </a: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Чей ряд быстрее</a:t>
            </a: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5dfd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1 ряд              2 ряд         3 ря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dfd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5 х 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2 :  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150 + 12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dfd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3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х 15               :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dfd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5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: 40                :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dfd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1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х 90               х 50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dfd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х 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+ 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- 1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90813197_72088983_solnyshko"/>
          <p:cNvPicPr/>
          <p:nvPr/>
        </p:nvPicPr>
        <p:blipFill>
          <a:blip r:embed="rId2"/>
          <a:stretch/>
        </p:blipFill>
        <p:spPr>
          <a:xfrm>
            <a:off x="755640" y="189000"/>
            <a:ext cx="1728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Результаты т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1 вариант                            2 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 -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 -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2 -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Б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2 -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3 -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Г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        3 -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4 -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Б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4 -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90813197_72088983_solnyshko"/>
          <p:cNvPicPr/>
          <p:nvPr/>
        </p:nvPicPr>
        <p:blipFill>
          <a:blip r:embed="rId2"/>
          <a:stretch/>
        </p:blipFill>
        <p:spPr>
          <a:xfrm>
            <a:off x="826920" y="189000"/>
            <a:ext cx="1204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9"/>
          <p:cNvSpPr/>
          <p:nvPr/>
        </p:nvSpPr>
        <p:spPr>
          <a:xfrm>
            <a:off x="1116000" y="2060640"/>
            <a:ext cx="7331040" cy="4059000"/>
          </a:xfrm>
          <a:prstGeom prst="pie">
            <a:avLst/>
          </a:prstGeom>
          <a:solidFill>
            <a:srgbClr val="ccff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900000" y="1484280"/>
            <a:ext cx="7274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ФИЗКУЛЬТМИНУТ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195640" y="2997360"/>
            <a:ext cx="5113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Раз, два – выше голов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Три, четыре – руки ши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Пять, шесть – тихо се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Посидим отдохн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И дальше считать начнё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Diskoteka_Avariya_Modnyj_tanets_Aram_zam_zam.mp3" descr=""/>
          <p:cNvPicPr/>
          <p:nvPr/>
        </p:nvPicPr>
        <p:blipFill>
          <a:blip r:embed="rId2"/>
          <a:stretch/>
        </p:blipFill>
        <p:spPr>
          <a:xfrm>
            <a:off x="8839080" y="5072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90813197_72088983_solnyshko"/>
          <p:cNvPicPr/>
          <p:nvPr/>
        </p:nvPicPr>
        <p:blipFill>
          <a:blip r:embed="rId3"/>
          <a:stretch/>
        </p:blipFill>
        <p:spPr>
          <a:xfrm>
            <a:off x="684360" y="0"/>
            <a:ext cx="2100240" cy="14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2 0.014 -0.02797 0.021 -0.04661 C 0.04 -0.09988 0.045 -0.15182 0.031 -0.15982 C 0.017 -0.16914 -0.01 -0.13185 -0.029 -0.07858 C -0.039 -0.05061 -0.045 -0.02397 -0.047 -0.004 C -0.05 0.01199 -0.051 0.02797 -0.051 0.04661 C -0.051 0.10654 -0.038 0.15582 -0.023 0.15582 C -0.008 0.15582 0.005 0.10654 0.005 0.04661 C 0.005 0.01865 0.002 -0.00799 -0.003 -0.02664 C -0.005 -0.04262 -0.01 -0.05993 -0.016 -0.07724 C -0.036 -0.13185 -0.063 -0.16914 -0.077 -0.15982 C -0.091 -0.15049 -0.086 -0.09988 -0.066 -0.04528 C -0.058 -0.01998 -0.047 0.00133 -0.036 0.01598 C -0.028 0.0293 -0.019 0.04129 -0.007 0.05327 C 0.029 0.09189 0.065 0.10921 0.075 0.09323 C 0.084 0.07724 0.064 0.03329 0.028 -0.004 C 0.013 -0.01998 -0.003 -0.03196 -0.016 -0.03995 C -0.028 -0.04794 -0.043 -0.0546 -0.059 -0.0586 C -0.103 -0.07192 -0.141 -0.06792 -0.144 -0.04661 C -0.148 -0.02664 -0.115 0 -0.071 0.01332 C -0.051 0.01865 -0.032 0.02131 -0.017 0.01998 C -0.004 0.01998 0.01 0.01731 0.025 0.01332 C 0.069 0 0.102 -0.02797 0.098 -0.04794 C 0.095 -0.06792 0.057 -0.07325 0.013 -0.05993 C -0.008 -0.05327 -0.027 -0.04395 -0.04 -0.03329 C -0.051 -0.0253 -0.062 -0.01598 -0.074 -0.004 C -0.109 0.03463 -0.13 0.07724 -0.12 0.09323 C -0.111 0.10921 -0.074 0.09189 -0.039 0.0546 C -0.022 0.03596 -0.008 0.01731 0 0 Z">
                                      <p:cBhvr>
                                        <p:cTn id="11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255108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            </a:t>
            </a: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Реши задачу</a:t>
            </a: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5dfd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На лодке – 28 к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5dfd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Пешком -  ¼               76 к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5dfd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На лошадях -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5651640" y="2637000"/>
            <a:ext cx="215640" cy="1873080"/>
          </a:xfrm>
          <a:custGeom>
            <a:avLst/>
            <a:gdLst>
              <a:gd name="textAreaLeft" fmla="*/ 0 w 215640"/>
              <a:gd name="textAreaRight" fmla="*/ 77760 w 21564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6" descr="90813197_72088983_solnyshko"/>
          <p:cNvPicPr/>
          <p:nvPr/>
        </p:nvPicPr>
        <p:blipFill>
          <a:blip r:embed="rId2"/>
          <a:stretch/>
        </p:blipFill>
        <p:spPr>
          <a:xfrm>
            <a:off x="684360" y="0"/>
            <a:ext cx="210024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bf5f9"/>
                </a:solidFill>
                <a:latin typeface="Times New Roman"/>
              </a:rPr>
              <a:t>ОСТРОВ ГЕОМЕТРИИ</a:t>
            </a: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pic>
        <p:nvPicPr>
          <p:cNvPr id="173" name="Рисунок 3" descr="Картинки по запросу картинки геометрические шуточные"/>
          <p:cNvPicPr/>
          <p:nvPr/>
        </p:nvPicPr>
        <p:blipFill>
          <a:blip r:embed="rId2"/>
          <a:stretch/>
        </p:blipFill>
        <p:spPr>
          <a:xfrm>
            <a:off x="835200" y="1573200"/>
            <a:ext cx="79246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6"/>
          <p:cNvSpPr/>
          <p:nvPr/>
        </p:nvSpPr>
        <p:spPr>
          <a:xfrm>
            <a:off x="3851280" y="2744640"/>
            <a:ext cx="1440000" cy="136872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851280" y="2833560"/>
            <a:ext cx="14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Arial"/>
              </a:rPr>
              <a:t>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 rot="20622000">
            <a:off x="5127120" y="403200"/>
            <a:ext cx="3614760" cy="1892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 rot="20622000">
            <a:off x="9000" y="4219200"/>
            <a:ext cx="3841920" cy="201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 rot="20622000">
            <a:off x="5178600" y="4022640"/>
            <a:ext cx="3995640" cy="20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 rot="20622000">
            <a:off x="0" y="764640"/>
            <a:ext cx="4100400" cy="186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 rot="19896000">
            <a:off x="5335920" y="512280"/>
            <a:ext cx="31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Узнал</a:t>
            </a:r>
            <a:r>
              <a:rPr b="1" lang="ru-RU" sz="3200" spc="-1" strike="noStrike">
                <a:solidFill>
                  <a:srgbClr val="85dfd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dfd0"/>
                </a:solidFill>
                <a:latin typeface="Arial"/>
              </a:rPr>
              <a:t>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 rot="20349600">
            <a:off x="-7560" y="4552200"/>
            <a:ext cx="375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вторил</a:t>
            </a:r>
            <a:r>
              <a:rPr b="1" lang="ru-RU" sz="3200" spc="-1" strike="noStrike">
                <a:solidFill>
                  <a:srgbClr val="85dfd0"/>
                </a:solidFill>
                <a:latin typeface="Arial"/>
              </a:rPr>
              <a:t>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dfd0"/>
                </a:solidFill>
                <a:latin typeface="Arial"/>
              </a:rPr>
              <a:t>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 rot="20361000">
            <a:off x="5583600" y="4101840"/>
            <a:ext cx="326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Меня удивля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dfd0"/>
                </a:solidFill>
                <a:latin typeface="Arial"/>
              </a:rPr>
              <a:t>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dfd0"/>
                </a:solidFill>
                <a:latin typeface="Arial"/>
              </a:rPr>
              <a:t>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 rot="20322600">
            <a:off x="382680" y="92196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Научился</a:t>
            </a:r>
            <a:r>
              <a:rPr b="1" lang="ru-RU" sz="3200" spc="-1" strike="noStrike">
                <a:solidFill>
                  <a:srgbClr val="85dfd0"/>
                </a:solidFill>
                <a:latin typeface="Arial"/>
              </a:rPr>
              <a:t>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dfd0"/>
                </a:solidFill>
                <a:latin typeface="Arial"/>
              </a:rPr>
              <a:t>_____________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1"/>
          <p:cNvSpPr/>
          <p:nvPr/>
        </p:nvSpPr>
        <p:spPr>
          <a:xfrm flipV="1">
            <a:off x="5003640" y="2276640"/>
            <a:ext cx="576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2"/>
          <p:cNvSpPr/>
          <p:nvPr/>
        </p:nvSpPr>
        <p:spPr>
          <a:xfrm>
            <a:off x="5003640" y="4005360"/>
            <a:ext cx="1224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3"/>
          <p:cNvSpPr/>
          <p:nvPr/>
        </p:nvSpPr>
        <p:spPr>
          <a:xfrm flipH="1">
            <a:off x="3419640" y="4005360"/>
            <a:ext cx="79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4"/>
          <p:cNvSpPr/>
          <p:nvPr/>
        </p:nvSpPr>
        <p:spPr>
          <a:xfrm flipH="1" flipV="1">
            <a:off x="2626920" y="2491920"/>
            <a:ext cx="129708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25" descr="j0233583"/>
          <p:cNvPicPr/>
          <p:nvPr/>
        </p:nvPicPr>
        <p:blipFill>
          <a:blip r:embed="rId2"/>
          <a:stretch/>
        </p:blipFill>
        <p:spPr>
          <a:xfrm>
            <a:off x="3560760" y="4778280"/>
            <a:ext cx="20224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09:10:36Z</dcterms:created>
  <dc:creator>Customer</dc:creator>
  <dc:description/>
  <dc:language>en-US</dc:language>
  <cp:lastModifiedBy>Customer</cp:lastModifiedBy>
  <dcterms:modified xsi:type="dcterms:W3CDTF">2017-02-28T17:25:56Z</dcterms:modified>
  <cp:revision>26</cp:revision>
  <dc:subject/>
  <dc:title>Слайд 1</dc:title>
</cp:coreProperties>
</file>