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EB03-7499-425F-B07D-1F6F302AF7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B85B3-00E1-44F8-A230-1281ED06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E9629-1CE3-47B5-A078-0CD7972C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512240"/>
            <a:ext cx="264852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7D488-9A5F-4A1B-A35C-7D93D472E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4EF71-D562-41A3-8AE1-E8275E02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71BC6-C442-4BE4-B047-9D0B5955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6193-446C-428B-BDC1-B9FFBB78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B764-02C1-459C-A578-6A31E495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63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0140D-D6E5-4C87-BAE4-4E2549B0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F2F0-AA47-4E69-9BA8-8E8F1CD3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5122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E574-D0AC-42DA-A75C-5F8E3995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512240"/>
            <a:ext cx="8226360" cy="26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D4BD-4FC3-4113-B9E6-B6885149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63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55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304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82005-4E67-42C0-BF41-FDB3559C7D70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meshariki.ru/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92200"/>
            <a:ext cx="77724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Безопасное путешествие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5157720"/>
            <a:ext cx="39528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Подготовил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Преподаватель ИКТ МБОУ «НШДС №13»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г. Байкальска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898989"/>
                </a:solidFill>
                <a:latin typeface="Calibri"/>
              </a:rPr>
              <a:t>Хотилович Н.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0" r="0" b="26992"/>
          <a:stretch/>
        </p:blipFill>
        <p:spPr>
          <a:xfrm>
            <a:off x="5364000" y="2637000"/>
            <a:ext cx="2664000" cy="1973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26920" y="2637000"/>
            <a:ext cx="3889440" cy="378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79640" y="-93600"/>
            <a:ext cx="554508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Социальные с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457200" y="2565360"/>
            <a:ext cx="822960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1306ba"/>
                </a:solidFill>
                <a:latin typeface="Calibri"/>
              </a:rPr>
              <a:t>Детские социальные се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. «Смешарики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5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Smeshariki.ru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ориентирован на дошкольный возраст и начальные классы.  Игры и мультики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«Бибигон» 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Karusel-tv.ru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создан для детей школьного возраста . Здесь, кроме общения и развития, дети могут принять участие в конкурсах с настоящими призами, играть в различные развлекательные и обучающие игры. 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«Твиди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Tvidi.ru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предназначен для подросткового возраста и отличается от других большим количеством контента и более взрослыми темами. В данной детской социальной сети подростки обсуждают свои проблемы, общаются на темы игр, моды, кино, образования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«Класснет»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Сlassnet.ru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– школьная социальная сеть создана для общения молодых людей с 1 по 9 класс. Здесь можно найти друзей обсудить школьную программу поучаствовать в школьном КВНе и проверить себя в интеллектуальными тестами. </a:t>
            </a:r>
            <a:br>
              <a:rPr sz="1500"/>
            </a:b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. «Страна друзей» </a:t>
            </a:r>
            <a:r>
              <a:rPr b="0" lang="ru-RU" sz="1500" spc="-1" strike="noStrike" u="sng">
                <a:solidFill>
                  <a:srgbClr val="000000"/>
                </a:solidFill>
                <a:uFillTx/>
                <a:latin typeface="Calibri"/>
              </a:rPr>
              <a:t>Stranadruzey.ru</a:t>
            </a: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 – детская социальная сеть общего развития, всестороннее развитие ребёнка школа и домашние дела, важные поручения родителей и личное пространств, здесь можно обсудить всё и найти ответы на все подростковые вопросы. 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7164360" y="5493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rcRect l="24609" t="3516" r="24203" b="3516"/>
          <a:stretch/>
        </p:blipFill>
        <p:spPr>
          <a:xfrm>
            <a:off x="2556000" y="1125360"/>
            <a:ext cx="1271520" cy="1295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rcRect l="20660" t="0" r="21462" b="0"/>
          <a:stretch/>
        </p:blipFill>
        <p:spPr>
          <a:xfrm>
            <a:off x="5256360" y="1197000"/>
            <a:ext cx="1143000" cy="13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Угрозы сети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3645000"/>
            <a:ext cx="8362800" cy="27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187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еконтролируемые покуп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смотря на то, что покупки через Интернет пока еще являются экзотикой для большинства из нас, однако недалек тот час, когда эта угроза может стать весьма актуально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же сейчас дети пытаются оплачивать карточкой родителей покупку игры, общение с виртуальными друзьями, даже автомобиль или путешествие вокруг света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003640" y="1413000"/>
            <a:ext cx="3148200" cy="2087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>
            <a:lum bright="-10000"/>
          </a:blip>
          <a:stretch/>
        </p:blipFill>
        <p:spPr>
          <a:xfrm>
            <a:off x="900000" y="1413000"/>
            <a:ext cx="3311640" cy="215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Угрозы сети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413000"/>
            <a:ext cx="807588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18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Угроза заражения вредоносным программным обеспечением (вирусы, шпионские программы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1872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15185" t="13675" r="14287" b="6325"/>
          <a:stretch/>
        </p:blipFill>
        <p:spPr>
          <a:xfrm>
            <a:off x="846000" y="2664000"/>
            <a:ext cx="70027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2602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Угрозы сети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157720"/>
            <a:ext cx="77151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ем опасны вирусы для тебя и твоего компьютер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95280" y="1123920"/>
            <a:ext cx="4105440" cy="33559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572000" y="1341360"/>
            <a:ext cx="3533760" cy="353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Защити свой компьюте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59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становите лицензионное антивирусное и антишпионское программное обеспеч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тоянно обновляйте программное обеспечение (обновление антивирусов, переустановка устаревшей операционной системы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вставляйте неизвестные флеш-накопители в свой компьют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ереходите по подозрительным ссылкам и не нажимайте кнопки всплывающих сообщ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732640"/>
            <a:ext cx="8245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Антивирусные программы: Касперский, доктор Веб, Авира, НОД и друг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6516720" cy="52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95280" y="-395280"/>
            <a:ext cx="8229600" cy="21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306ba"/>
                </a:solidFill>
                <a:latin typeface="Calibri"/>
              </a:rPr>
              <a:t>Безопасность при навигации по сайтам и по приему почты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268280"/>
            <a:ext cx="8229600" cy="56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Не ходите на незнакомые сай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Если ходите, то выключайте (на всякий случай) поддержку языка Java и использование cook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Если к вам по почте пришел файл Word или Excel, даже от знакомого лица, прежде чем открыть, обязательно проверьте его на макровирус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Если пришел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exe-фай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даже от знакомого, ни в коем случае не запускайте его, а лучше сразу удалите и очистите корзину в вашей программе чтения почты. Бывали случаи рассылки вирусов. Вот недавно хакерами был вскрыт один из крупнейших узлов бесплатной почты Hotmail. Так что не исключено, что с адреса вашего знакомого придет вирус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Не заходите на сайты, где предлагают бесплатный Интернет (не бесплатный e-mail, это разные вещи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Никогда, никому не посылайте свой паро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Старайтесь использовать для паролей трудно запоминаемый набор цифр и букв. А еще лучше сгенерите его специальной программой или попросите сделать это своего провайдер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92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Мы 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5877000"/>
            <a:ext cx="82296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226040" cy="423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268280"/>
            <a:ext cx="8229600" cy="74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) Можно ли размещать личную информацию о себе в интернет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ожно ли играть в азартные игры в интернет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3)Если компьютер стал странно работать кому надо сообщить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4) Стоит ли верить всему что пишут в интернет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Можно ли размещать чужие фотографии в социальных сетях без разрешения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6) Как уберечь компьютер от заражения вирусам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9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1306ba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1600200"/>
            <a:ext cx="822960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1200" indent="-511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ети в интернете.  - http://www.internet-kontrol.ru/stati/deti-v-internete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Угрозы сети интернет. - http://www.oszone.net/62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Компьютерная безопасность для самых маленьких. - http://www.ya-roditel.ru/parents/base/lecture/kompyuternaya-bezopasnost-dlya-samykh-malenkikh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зентация «Безопасность детей в интернете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 u="sng">
                <a:solidFill>
                  <a:srgbClr val="1306ba"/>
                </a:solidFill>
                <a:uFillTx/>
                <a:latin typeface="Calibri"/>
              </a:rPr>
              <a:t>http://www.</a:t>
            </a:r>
            <a:r>
              <a:rPr b="0" lang="en-US" sz="2000" spc="-1" strike="noStrike" u="sng">
                <a:solidFill>
                  <a:srgbClr val="1306ba"/>
                </a:solidFill>
                <a:uFillTx/>
                <a:latin typeface="Calibri"/>
              </a:rPr>
              <a:t>myshahed.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799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799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1200" indent="-511200">
              <a:spcBef>
                <a:spcPts val="799"/>
              </a:spcBef>
              <a:tabLst>
                <a:tab algn="l" pos="0"/>
                <a:tab algn="l" pos="511200"/>
                <a:tab algn="l" pos="958680"/>
                <a:tab algn="l" pos="1407960"/>
                <a:tab algn="l" pos="1857240"/>
                <a:tab algn="l" pos="2306520"/>
                <a:tab algn="l" pos="2755800"/>
                <a:tab algn="l" pos="3205080"/>
                <a:tab algn="l" pos="3654360"/>
                <a:tab algn="l" pos="4103640"/>
                <a:tab algn="l" pos="4552920"/>
                <a:tab algn="l" pos="5002200"/>
                <a:tab algn="l" pos="5451480"/>
                <a:tab algn="l" pos="5900760"/>
                <a:tab algn="l" pos="6350040"/>
                <a:tab algn="l" pos="6799320"/>
                <a:tab algn="l" pos="7248600"/>
                <a:tab algn="l" pos="7697880"/>
                <a:tab algn="l" pos="8147160"/>
                <a:tab algn="l" pos="8596440"/>
                <a:tab algn="l" pos="9045720"/>
                <a:tab algn="l" pos="9495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6754" t="0" r="13074" b="7951"/>
          <a:stretch/>
        </p:blipFill>
        <p:spPr>
          <a:xfrm>
            <a:off x="395280" y="260280"/>
            <a:ext cx="8209080" cy="63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907920"/>
            <a:ext cx="822960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ctr">
              <a:spcBef>
                <a:spcPts val="13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1306ba"/>
                </a:solidFill>
                <a:latin typeface="Calibri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87480" y="309564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125360"/>
            <a:ext cx="604836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Если ранее чтобы увидеть мир и встретить новых людей человек отправлялся в путешествие, то сейчас люди сначала знакомятся с миром и с другими людьми по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нтернету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Интернет является наиболее быстро развивающимся средством массовой коммуникации в истории. Количество его пользователей постоянно растет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олько дети младше 14 лет составляют в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оссии девятимиллионную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аудиторию Интернет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867280" y="5084640"/>
            <a:ext cx="3097440" cy="162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516720" y="2565360"/>
            <a:ext cx="2376360" cy="1843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659640" y="692280"/>
            <a:ext cx="1908000" cy="158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Что такое </a:t>
            </a:r>
            <a:r>
              <a:rPr b="1" lang="en-US" sz="4400" spc="-1" strike="noStrike">
                <a:solidFill>
                  <a:srgbClr val="1306ba"/>
                </a:solidFill>
                <a:latin typeface="Calibri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554040" y="1224000"/>
            <a:ext cx="8229600" cy="56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Интернет (англ. Internet)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это глобальная сеть компьютеров, соединенных в группы на удаленных серверах, которую используют для получения и передачи информации, рекламы продуктов и услуг, развлечения и общ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ногие путают саму электронную сеть (Internet) с World Wide Web (WWW), которая представляет собой взаимосвязанную информационную базу в Inter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8360" y="4869000"/>
            <a:ext cx="8229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мпьютеры распределены в пространстве и связь между ними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изическ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существляется через сетевые соединения (кабель, оптоволокно, спутниковую связь и др.) и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рограммно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– через механизм сообщений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494840" cy="44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Зачем нам нужен Интерн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4136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14007"/>
          <a:stretch/>
        </p:blipFill>
        <p:spPr>
          <a:xfrm>
            <a:off x="4356000" y="2205000"/>
            <a:ext cx="4611960" cy="3965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3635280" cy="3635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5445000"/>
            <a:ext cx="424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ужбы интерн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Возможности Интернет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413000"/>
            <a:ext cx="8229600" cy="74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ежие новости, поиск нужного материала для учебы и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et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агазины (возможность купить продукты, бытовую технику, книги, программное обеспечение и детские товары, лекарства не выходя из дом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можность забронировать и купить билеты на любой вид транспорта, забронировать гостиницу, купить билеты в теат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ние (электронная почта, форумы, чат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ine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ры, книги, кино, телевидение, телефонная связ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 работы, устройство на рабо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Угрозы сети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268280"/>
            <a:ext cx="8229600" cy="54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 algn="ctr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Доступ детей к неподходящей информации (контенту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освященные продаже контрабандных товаров или другой незаконной деятельност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размещающие изображения порнографического или иного неприемлемого сексуального контента, к которым дети могут легко получить доступ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 с рекламой табака и алкоголя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освященные изготовлению взрывчатых веществ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ропагандирующие наркотики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ропагандирующие насилие и нетерпимость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убликующие  дезинформацию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где продают оружие, наркотики, отравляющие вещества, алкоголь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позволяющие детям принимать участие в азартных играх онлайн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Calibri"/>
                <a:ea typeface="Droid Sans Fallback"/>
              </a:rPr>
              <a:t>сайты, на которых могут собирать и продавать частную информацию о Вас и Вашей семье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1306ba"/>
                </a:solidFill>
                <a:latin typeface="Calibri"/>
              </a:rPr>
              <a:t>Угрозы сети Интерн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341360"/>
            <a:ext cx="5699160" cy="61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Контакты с незнакомыми людьми с помощью чатов и социальных сете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чаще и чаще злоумышленники используют эти каналы для того, чтобы заставить детей выдать личную информа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ругих случаях это могут быть педофилы, которые ищут новые жертвы. Выдавая себя за сверстника жертвы, они могут выведывать личную информацию и искать личной встре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012000" y="1700280"/>
            <a:ext cx="2881080" cy="19209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13657" r="0" b="0"/>
          <a:stretch/>
        </p:blipFill>
        <p:spPr>
          <a:xfrm>
            <a:off x="6018120" y="4149720"/>
            <a:ext cx="2874960" cy="1860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2T01:28:05Z</dcterms:created>
  <dc:creator>buch</dc:creator>
  <dc:description/>
  <dc:language>en-US</dc:language>
  <cp:lastModifiedBy>home</cp:lastModifiedBy>
  <dcterms:modified xsi:type="dcterms:W3CDTF">2016-09-15T01:36:50Z</dcterms:modified>
  <cp:revision>81</cp:revision>
  <dc:subject/>
  <dc:title>Слайд 1</dc:title>
</cp:coreProperties>
</file>