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C457-491B-4804-8AE6-13BB994C9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D2EFE-299F-4BFA-90E8-44BABEB4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03BB-C2F9-4657-93D6-A5357387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673F-D7D9-4DF2-A70B-7DCDA78D1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8E16-7B21-4861-9635-9848CF80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16E4-E317-44C7-9B7D-C9AB9684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A124-2226-407E-A763-D0D9C104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23A5-001A-4B62-A153-3E5DC576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3236-2D84-403D-ACF6-7EBA1B4D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E99F-F19F-4AA8-AD51-578FC54E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E850-1CC2-4166-A168-944487AA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2055-852E-4C36-8F70-98344AC0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BA0BC-A866-4C9B-934A-0FCEAB23B5D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meshariki.ru/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922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Безопасное путешествие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5157720"/>
            <a:ext cx="39528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Подготовил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Преподаватель ИКТ МБОУ «НШДС №13»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г. Байкальска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Хотилович Н.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26992"/>
          <a:stretch/>
        </p:blipFill>
        <p:spPr>
          <a:xfrm>
            <a:off x="5364000" y="2637000"/>
            <a:ext cx="2664000" cy="1973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3889440" cy="37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79640" y="-93600"/>
            <a:ext cx="55450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Социальные с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65360"/>
            <a:ext cx="822960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306ba"/>
                </a:solidFill>
                <a:latin typeface="Calibri"/>
              </a:rPr>
              <a:t>Детские социальные с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. «Смешарики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5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Smeshariki.ru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ориентирован на дошкольный возраст и начальные классы.  Игры и мультики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«Бибигон» 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Karusel-tv.ru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создан для детей школьного возраста . Здесь, кроме общения и развития, дети могут принять участие в конкурсах с настоящими призами, играть в различные развлекательные и обучающие игры. 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«Твиди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Tvidi.ru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предназначен для подросткового возраста и отличается от других большим количеством контента и более взрослыми темами. В данной детской социальной сети подростки обсуждают свои проблемы, общаются на темы игр, моды, кино, образования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«Класснет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Сlassnet.ru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– школьная социальная сеть создана для общения молодых людей с 1 по 9 класс. Здесь можно найти друзей обсудить школьную программу поучаствовать в школьном КВНе и проверить себя в интеллектуальными тестами. 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. «Страна друзей» 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Stranadruzey.ru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– детская социальная сеть общего развития, всестороннее развитие ребёнка школа и домашние дела, важные поручения родителей и личное пространств, здесь можно обсудить всё и найти ответы на все подростковые вопросы.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164360" y="549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rcRect l="24609" t="3516" r="24203" b="3516"/>
          <a:stretch/>
        </p:blipFill>
        <p:spPr>
          <a:xfrm>
            <a:off x="2556000" y="1125360"/>
            <a:ext cx="1271520" cy="12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rcRect l="20660" t="0" r="21462" b="0"/>
          <a:stretch/>
        </p:blipFill>
        <p:spPr>
          <a:xfrm>
            <a:off x="5256360" y="1197000"/>
            <a:ext cx="1143000" cy="13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Угрозы сети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645000"/>
            <a:ext cx="8362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18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контролируемые покуп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смотря на то, что покупки через Интернет пока еще являются экзотикой для большинства из нас, однако недалек тот час, когда эта угроза может стать весьма актуально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же сейчас дети пытаются оплачивать карточкой родителей покупку игры, общение с виртуальными друзьями, даже автомобиль или путешествие вокруг света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148200" cy="2087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900000" y="1413000"/>
            <a:ext cx="331164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Угрозы сети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413000"/>
            <a:ext cx="80758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18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Угроза заражения вредоносным программным обеспечением (вирусы, шпионские программы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15185" t="13675" r="14287" b="6325"/>
          <a:stretch/>
        </p:blipFill>
        <p:spPr>
          <a:xfrm>
            <a:off x="846000" y="2664000"/>
            <a:ext cx="70027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2602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Угрозы сети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157720"/>
            <a:ext cx="7715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ем опасны вирусы для тебя и твоего компьютер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4105440" cy="335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3533760" cy="35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Защити свой компью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ите лицензионное антивирусное и антишпионское программное обеспеч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оянно обновляйте программное обеспечение (обновление антивирусов, переустановка устаревшей операционной систем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вставляйте неизвестные флеш-накопители в свой компью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ереходите по подозрительным ссылкам и не нажимайте кнопки всплывающих сообщ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732640"/>
            <a:ext cx="8245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нтивирусные программы: Касперский, доктор Веб, Авира, НОД и друг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651672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-39528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306ba"/>
                </a:solidFill>
                <a:latin typeface="Calibri"/>
              </a:rPr>
              <a:t>Безопасность при навигации по сайтам и по приему почты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268280"/>
            <a:ext cx="822960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е ходите на незнакомые сай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Если ходите, то выключайте (на всякий случай) поддержку языка Java и использование cook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Если к вам по почте пришел файл Word или Excel, даже от знакомого лица, прежде чем открыть, обязательно проверьте его на макровирус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Если пришел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exe-фай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даже от знакомого, ни в коем случае не запускайте его, а лучше сразу удалите и очистите корзину в вашей программе чтения почты. Бывали случаи рассылки вирусов. Вот недавно хакерами был вскрыт один из крупнейших узлов бесплатной почты Hotmail. Так что не исключено, что с адреса вашего знакомого придет виру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Не заходите на сайты, где предлагают бесплатный Интернет (не бесплатный e-mail, это разные вещ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Никогда, никому не посылайте свой паро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Старайтесь использовать для паролей трудно запоминаемый набор цифр и букв. А еще лучше сгенерите его специальной программой или попросите сделать это своего провайде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Мы 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877000"/>
            <a:ext cx="822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22604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268280"/>
            <a:ext cx="822960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) Можно ли размещать личную информацию о себе в интернет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но ли играть в азартные игры в интернет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)Если компьютер стал странно работать кому надо сообщ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) Стоит ли верить всему что пишут в интернет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Можно ли размещать чужие фотографии в социальных сетях без разрешения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6) Как уберечь компьютер от заражения вирус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306ba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00200"/>
            <a:ext cx="822960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ети в интернете.  - http://www.internet-kontrol.ru/stati/deti-v-internete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грозы сети интернет. - http://www.oszone.net/62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Компьютерная безопасность для самых маленьких. - http://www.ya-roditel.ru/parents/base/lecture/kompyuternaya-bezopasnost-dlya-samykh-malenkikh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зентация «Безопасность детей в интернете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 u="sng">
                <a:solidFill>
                  <a:srgbClr val="1306ba"/>
                </a:solidFill>
                <a:uFillTx/>
                <a:latin typeface="Calibri"/>
              </a:rPr>
              <a:t>http://www.</a:t>
            </a:r>
            <a:r>
              <a:rPr b="0" lang="en-US" sz="2000" spc="-1" strike="noStrike" u="sng">
                <a:solidFill>
                  <a:srgbClr val="1306ba"/>
                </a:solidFill>
                <a:uFillTx/>
                <a:latin typeface="Calibri"/>
              </a:rPr>
              <a:t>myshahed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799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799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799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6754" t="0" r="13074" b="7951"/>
          <a:stretch/>
        </p:blipFill>
        <p:spPr>
          <a:xfrm>
            <a:off x="395280" y="260280"/>
            <a:ext cx="8209080" cy="63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9079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spcBef>
                <a:spcPts val="1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1306ba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87480" y="309564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125360"/>
            <a:ext cx="604836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ранее чтобы увидеть мир и встретить новых людей человек отправлялся в путешествие, то сейчас люди сначала знакомятся с миром и с другими людьми по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нтернет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тернет является наиболее быстро развивающимся средством массовой коммуникации в истории. Количество его пользователей постоянно расте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олько дети младше 14 лет составляют 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ссии девятимиллионную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удиторию Интернет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3097440" cy="162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16720" y="2565360"/>
            <a:ext cx="2376360" cy="18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659640" y="692280"/>
            <a:ext cx="190800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Что такое </a:t>
            </a:r>
            <a:r>
              <a:rPr b="1" lang="en-US" sz="4400" spc="-1" strike="noStrike">
                <a:solidFill>
                  <a:srgbClr val="1306ba"/>
                </a:solidFill>
                <a:latin typeface="Calibri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554040" y="1224000"/>
            <a:ext cx="8229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нтернет (англ. Internet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это глобальная сеть компьютеров, соединенных в группы на удаленных серверах, которую используют для получения и передачи информации, рекламы продуктов и услуг, развлечения и общ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ногие путают саму электронную сеть (Internet) с World Wide Web (WWW), которая представляет собой взаимосвязанную информационную базу в Inter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4869000"/>
            <a:ext cx="8229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мпьютеры распределены в пространстве и связь между ними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изичес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существляется через сетевые соединения (кабель, оптоволокно, спутниковую связь и др.) и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граммн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через механизм сообщени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494840" cy="44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Зачем нам нужен Интерн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4007"/>
          <a:stretch/>
        </p:blipFill>
        <p:spPr>
          <a:xfrm>
            <a:off x="4356000" y="2205000"/>
            <a:ext cx="4611960" cy="3965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635280" cy="3635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5445000"/>
            <a:ext cx="42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жбы интерн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Возможности Интерне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413000"/>
            <a:ext cx="8229600" cy="74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жие новости, поиск нужного материала для учебы и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газины (возможность купить продукты, бытовую технику, книги, программное обеспечение и детские товары, лекарства не выходя из до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забронировать и купить билеты на любой вид транспорта, забронировать гостиницу, купить билеты в теат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ние (электронная почта, форумы, ча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ры, книги, кино, телевидение, телефонная связ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 работы, устройство на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Угрозы сети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268280"/>
            <a:ext cx="822960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оступ детей к неподходящей информации (контенту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освященные продаже контрабандных товаров или другой незаконной деятельност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размещающие изображения порнографического или иного неприемлемого сексуального контента, к которым дети могут легко получить доступ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 с рекламой табака и алкогол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освященные изготовлению взрывчатых вещест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ропагандирующие наркоти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ропагандирующие насилие и нетерпимость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убликующие  дезинформацию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где продают оружие, наркотики, отравляющие вещества, алкоголь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озволяющие детям принимать участие в азартных играх онлайн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на которых могут собирать и продавать частную информацию о Вас и Вашей семье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Угрозы сети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341360"/>
            <a:ext cx="569916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Контакты с незнакомыми людьми с помощью чатов и социальных сет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чаще и чаще злоумышленники используют эти каналы для того, чтобы заставить детей выдать личную информа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ругих случаях это могут быть педофилы, которые ищут новые жертвы. Выдавая себя за сверстника жертвы, они могут выведывать личную информацию и искать личной вст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881080" cy="1920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13657" r="0" b="0"/>
          <a:stretch/>
        </p:blipFill>
        <p:spPr>
          <a:xfrm>
            <a:off x="6018120" y="4149720"/>
            <a:ext cx="2874960" cy="186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2T01:28:05Z</dcterms:created>
  <dc:creator>buch</dc:creator>
  <dc:description/>
  <dc:language>en-US</dc:language>
  <cp:lastModifiedBy>home</cp:lastModifiedBy>
  <dcterms:modified xsi:type="dcterms:W3CDTF">2016-09-15T01:36:50Z</dcterms:modified>
  <cp:revision>81</cp:revision>
  <dc:subject/>
  <dc:title>Слайд 1</dc:title>
</cp:coreProperties>
</file>