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DD8-DA7E-4CAE-A148-082E81C0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13B-8CA2-4E39-9F9E-68453BB5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333-EA89-4ECB-9FB9-02DF1FC8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3F1-93EF-4877-B77E-F4993A95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DF5-CE17-4CD2-8419-36E59BD8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3968-D772-4E95-BF24-A59318B5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1505-6993-4D8B-9101-7810835C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BA59-F82E-4690-8554-A63543DB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FD05-A4BE-4818-85A0-FB4FE0EA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B528-E18B-4538-B96B-B3903AA6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04D-8B05-4918-B92A-7E80E69C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C68-E984-4C08-B2C1-A3057C4B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F133-5802-4090-9F8B-0A95EDFD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44F-8B63-4CA2-BCF0-84C0042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C69-7611-47F0-95E4-3D56144B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9F81-C45B-434E-A0D8-054D1723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DD1F-63BB-458F-81B9-E90EAF70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616-C2EB-4891-8254-850BB53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447-A20F-41AB-8B52-856B295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03E-D693-41BF-AAD1-EE7A3E6A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55F-D5B1-4111-AB95-FADB3DA3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B07-CF50-4D23-A0E9-21B21EB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235-C923-4421-9737-8EC622F1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EAB-9685-4C5F-BBA0-3172FAC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ABA1-88CE-40E9-96F6-F4EFC594B4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21F-1F14-4604-B558-24B48B9FD4A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mallbay.narod.ru/images2/perov0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7;&#1089;&#1090;&#1085;&#1099;&#1081;_&#1093;&#1086;&#1076;_&#1074;_&#1050;&#1091;&#1088;&#1089;&#1082;&#1086;&#1081;_&#1075;&#1091;&#1073;&#1077;&#1088;&#1085;&#1080;&#1080;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gallerix.ru/pic/_EX/1189127576/763601684.jpe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7620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образительное искусств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Автор: </a:t>
            </a: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Котова Галина Ивановна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учитель изобразительного искусств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МКОУ «Новоозерская СОШ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Станция Озерки Тальменского района Алтайского кра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914400" y="2133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9af7d"/>
                  </a:solidFill>
                  <a:miter/>
                </a:ln>
                <a:solidFill>
                  <a:srgbClr val="d5b78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ДВИЖНИКИ</a:t>
            </a:r>
            <a:endParaRPr b="0" lang="en-US" sz="1800" spc="1" strike="noStrike">
              <a:ln w="9360">
                <a:solidFill>
                  <a:srgbClr val="79af7d"/>
                </a:solidFill>
                <a:miter/>
              </a:ln>
              <a:solidFill>
                <a:srgbClr val="d5b78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391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1870 год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"товарищество передвижников"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же утвержденное правительством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ачало свою деятельность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7737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7d47d"/>
                </a:solidFill>
                <a:latin typeface="Times New Roman"/>
              </a:rPr>
              <a:t>Фотография ТПХВ 1885 год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Times New Roman"/>
              </a:rPr>
              <a:t>Группа членов Товарищества передвижных художественных выстав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400px-Peredvizhniki"/>
          <p:cNvPicPr/>
          <p:nvPr/>
        </p:nvPicPr>
        <p:blipFill>
          <a:blip r:embed="rId1"/>
          <a:stretch/>
        </p:blipFill>
        <p:spPr>
          <a:xfrm>
            <a:off x="380880" y="1905120"/>
            <a:ext cx="716292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сцвет деятельност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оварищества передвиж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ишелся на 1870—1880-е годы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состав передвижников в разно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ремя входили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7386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 Е. Репи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И. Сур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Е. Маковски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 М. Прянишн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 К. Саврас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 И. Шишкин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М. Максим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. А. Савицки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A. M. и В. М. Васнецовы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 И. Куиндж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. И. Кели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Д. Полен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. А. Ярошенко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. С. Левицки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 И. Левита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А. Сер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 М. Кори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 Е. Архип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 В. Морав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 Н. Крамск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914040"/>
            <a:ext cx="73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Большую роль в развитии искусств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ов сыгра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вестный исследователь искусств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критик В. В. Стасов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Главное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чего прежде всего сумели добиться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и передвижник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2f13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 устройств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амостоятельных выставок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передвижение их по городам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осси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икогда - ни до, ни после этого –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ворчество русских худож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 было так близко и понятн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ародным массам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8377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и стремилис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скрыть в своих картинах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стинную живую жизн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гнетенного крестьянства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традающего от власти помещ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богачей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 было основной задачей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ов В.Г. </a:t>
            </a: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"Чаепитие в Мытищах, близ Москвы"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62)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Василий Перов"/>
          <p:cNvPicPr/>
          <p:nvPr/>
        </p:nvPicPr>
        <p:blipFill>
          <a:blip r:embed="rId1"/>
          <a:stretch/>
        </p:blipFill>
        <p:spPr>
          <a:xfrm>
            <a:off x="1371600" y="1676520"/>
            <a:ext cx="51814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304560"/>
            <a:ext cx="7386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XIX веке петербургска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кадемия художеств оставалас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центром творческой жизни стран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 было достаточн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онсервативное учреждение "…с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царившими здесь устаревши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ормами эстетики, потерявши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вязь с передовой русско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ественной культурой…"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ов В.Г.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Times New Roman"/>
                <a:hlinkClick r:id="rId1"/>
              </a:rPr>
              <a:t>"Тройка. Ученики-мастеровые везут воду"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66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4" descr="Василий Перов"/>
          <p:cNvPicPr/>
          <p:nvPr/>
        </p:nvPicPr>
        <p:blipFill>
          <a:blip r:embed="rId2"/>
          <a:stretch/>
        </p:blipFill>
        <p:spPr>
          <a:xfrm>
            <a:off x="1295280" y="1676520"/>
            <a:ext cx="518184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Е.Репин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«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Times New Roman"/>
                <a:hlinkClick r:id="rId1"/>
              </a:rPr>
              <a:t>Крестный ход в Курской губернии</a:t>
            </a: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80—1883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400px-Kurskaya_korennaya"/>
          <p:cNvPicPr/>
          <p:nvPr/>
        </p:nvPicPr>
        <p:blipFill>
          <a:blip r:embed="rId2"/>
          <a:stretch/>
        </p:blipFill>
        <p:spPr>
          <a:xfrm>
            <a:off x="457200" y="1828800"/>
            <a:ext cx="6934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3520" y="6858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произведен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ов писались с натур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стиле жанровой живописи, друг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боты писались под воображением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т реальной жизни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 появлением товариществ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ов новое искусств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звивается в едином русле с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овой русской литературо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узыкой, театром, общественн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ыслью, образуя мощный поток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ой демократической культуры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духотворенной передовым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циальными идеями своег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ремен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рядах передвиж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жглись и навечно засия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ярчайшие звезды русской живописи –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аврасов, Суриков, Репин, Левитан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уинджи, Поленов, Нестеров, Серов 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другие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Алексей Кондратьевич Саврасов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(1830—1897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астер лирического русского пейзажа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Грачи прилетели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(1879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грачи прилетели"/>
          <p:cNvPicPr/>
          <p:nvPr/>
        </p:nvPicPr>
        <p:blipFill>
          <a:blip r:embed="rId1"/>
          <a:stretch/>
        </p:blipFill>
        <p:spPr>
          <a:xfrm>
            <a:off x="1981080" y="1371600"/>
            <a:ext cx="3857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585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 сумел раскрыт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этой картин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сю тонкую красоту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ого пейзажа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авеянного необычайным лиризмом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что перевернуло у современ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сякие представления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 родной русской природе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Василий Иванович Суриков (1848—1916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мечательный русски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, прекрасный мастер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цвета и колорита красок 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живописных приемов, очен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орошо знавший русский быт 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равы прошедших эпох.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о многих своих произведениях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уриков избрал трагически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фрагменты русской истории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-36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9 ноября 1863 го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14 самых выдающихся уче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мператорской Академии художеств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допущенных до соревнован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 первую золотую медаль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братились в Совет Академии с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осьб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Боярыня Морозова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87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Боярыня Морозова - В.И. Суриков - 800x600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63520" y="6858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Илья Ефимович Репин  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44—1930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Его картины отличаются своей разносторонностью. Репин написал ряд монументальных жанровых полотен, получивших огромную популярность у современников, чем произвел сильное впечатление на общественность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6858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утешествуя по Волг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н написал много этюдов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оторые в последстви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спользовал для написания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воей известной картины «Бурлаки на Волге»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сле этой работы Репин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ишла ошеломляюща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вестность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63520" y="6858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Бурлаки на Волге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(1870-73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repin05"/>
          <p:cNvPicPr/>
          <p:nvPr/>
        </p:nvPicPr>
        <p:blipFill>
          <a:blip r:embed="rId1"/>
          <a:stretch/>
        </p:blipFill>
        <p:spPr>
          <a:xfrm>
            <a:off x="380880" y="2057400"/>
            <a:ext cx="72392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епину удалос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сихологически правдоподобн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писать характеристику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ждого персонажа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 остави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начительный сле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истории русской живописи 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Исаак Ильич Левитан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60—1900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еликолепный мастер тихих 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покойных пейзажей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Золотая осень»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95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4" descr="Золотая осень. 1895 год"/>
          <p:cNvPicPr/>
          <p:nvPr/>
        </p:nvPicPr>
        <p:blipFill>
          <a:blip r:embed="rId1"/>
          <a:stretch/>
        </p:blipFill>
        <p:spPr>
          <a:xfrm>
            <a:off x="380880" y="1600200"/>
            <a:ext cx="6858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63520" y="304560"/>
            <a:ext cx="7585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ртины Левитан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ребуют внимательной вдумчивости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х нельзя быстро рассмотреть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 осмыслив всего замысл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го известного художника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ставившего нам св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повторимый сле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искусстве пейзажной живописи.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 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Иван Иванович Шишкин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32—1898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наменитый художник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никальный мастер по лесным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йзажам, его картины известн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чень широкой публике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63520" y="990360"/>
            <a:ext cx="7386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Шишкин любил природу лес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 его колоритными оттенками стволов деревьев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яркими полянами, освещенны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лнцем и воздушностью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7239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менит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онкурсное задание (написани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ртины по заданному сюжету из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кандинавской мифологи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«Пир бога Одина в Валгалле»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а свободное задани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(написание картины на избранную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амим художником тему)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Рожь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89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4" descr="shishkin10"/>
          <p:cNvPicPr/>
          <p:nvPr/>
        </p:nvPicPr>
        <p:blipFill>
          <a:blip r:embed="rId1"/>
          <a:stretch/>
        </p:blipFill>
        <p:spPr>
          <a:xfrm>
            <a:off x="380880" y="1600200"/>
            <a:ext cx="70866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63520" y="8377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икто ранее до Шишкина с так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шеломляющей откровенностью н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ведал зрител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 своей любви к родн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ой природе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Крамской Иван Николаевич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37 - 1887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вестный живописец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дин из главных реформаторов 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скусстве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опагандирующий в пользу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вободного развития молодых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ов. Крамской главны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чредитель и основатель ТПХВ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7386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Его знаменитая картин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«Христос в пустыне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ызвала бурю эмоци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долго не утихавшую полемику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этой картин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рамской хотел показат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драматическу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итуацию нравственного выбора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котором нет отступления о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ыбранного пути.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Христос в пустыне»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72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Picture 5" descr="kramskoy30"/>
          <p:cNvPicPr/>
          <p:nvPr/>
        </p:nvPicPr>
        <p:blipFill>
          <a:blip r:embed="rId1"/>
          <a:stretch/>
        </p:blipFill>
        <p:spPr>
          <a:xfrm>
            <a:off x="1143000" y="1600200"/>
            <a:ext cx="55627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Василий Григорьевич Пер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34—1882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Его картины наполнены подлинным трагизмом. Многие ранние работы мастера проникнуты критическим, обличительным восприятием, представляя собой живописные карикатуры, в котором задействовано и духовенство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Сельский крестный ход на Пасхе»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61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9" name="Picture 9" descr="Wassilij_Grigorjewitsch_Perow_006"/>
          <p:cNvPicPr/>
          <p:nvPr/>
        </p:nvPicPr>
        <p:blipFill>
          <a:blip r:embed="rId1"/>
          <a:stretch/>
        </p:blipFill>
        <p:spPr>
          <a:xfrm>
            <a:off x="990720" y="1828800"/>
            <a:ext cx="59436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 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Валентин Александрович Серов (1865—1911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чень модный художник своего времени, славу ему принесли его портреты, хотя он также писал пейзажи и картины по историческим сюжетам, иногда работал как театральный художник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еров как ни кто другой знал, чт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акое портрет и как его рисовать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астерски рисова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рандашом с натуры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ему очень много позировали известные меценаты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ртисты и писатели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Девочка с персиками»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87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Picture 5" descr="Девочка с персиками (Портрет В. С. Мамонтовой). 1887. Серов Валентин Александрович (1865-191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295280"/>
            <a:ext cx="477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7239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м было категорическ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тказано, после чего многи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и демонстративн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кинули академию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914040"/>
            <a:ext cx="73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художники передвижни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последствии преподава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Московском Училище живописи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аяния и зодчества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оварищество Передвижных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ественных Выставок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спалось в 1923 году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 время его существован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начение живопис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жизни в русского обществ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достигло своей  кульминаци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6929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ледует отметить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что никогда больш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ая живопис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 достигала таких высот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к во второй половине 19 века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914040"/>
            <a:ext cx="73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даже в лучшие год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ветской власт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 смогло достигнут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ежних высот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картин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ов передвижнико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купалис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вестным меценатом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авлом Михайловичем Третьяковым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7650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. М. Третья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иобретая в свою галере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оизведения передвижн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казывал им важную материальную 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оральную поддержку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из рабо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были сделаны по его заказу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н трепетно относился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 живописи и искусств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важал нелегкий труд художн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чти все свое  состояние  вложи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их картины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егодня это известная всему мир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ретьяковская галерея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ней и поныне хранится важны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документ в архиве рукописей 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здании членов товариществ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крепленный 23 подписям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наменитых художников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78487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нтернет- ресурсы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ote4estvo.ru/sobytiya-xviii-xix/797-hudozhniki-peredvizhniki.htm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«http://ru.wikipedia.org/w/index.php?title=Товарищество_передвижных_художественных_выставок&amp;oldid=48839034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tphv.ru/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www.art-portrets.ru/hudojniki_peredvijniki.htm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webstarco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narod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ru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union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frend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ешение было такое: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обходимо образоват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амостоятельную артель худож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 типу комму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зависиму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т академической монопол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(союз русских художников)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 событие вошло в истори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к «Бунт четырнадцати»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менно они организова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«Санкт-Петербургску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ртель художников»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990360"/>
            <a:ext cx="7386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авда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осуществовала она не долг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распалась через 7 лет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конце 1869 год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осковские художник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ясоедов Г. Г., Перов В. Г.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аковский В. Е.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янишников И.М., Саврасов А. К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едложили петербургской Арте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единиться всем вмест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образовать новое общество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10-18T19:30:56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