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43A7-EAFC-491C-BC97-216B27D9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5784-CD63-4C30-8A10-5D212161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01EA-D507-4C83-A688-D5E7A18C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0515-1784-4C0B-A1D1-5A7622BC1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15C2-2FEA-4682-868E-B813E96A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26AA-B832-4ED4-B336-A007D50B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7999-3B1C-46FE-BB8A-73CA8ACD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B5B9-91E3-425B-BC7B-BCC22F8A1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32E6-77AC-41B9-A669-BA148E79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BAEA-65FC-4F7D-AA8C-2D43453F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F690-B1A8-4E3B-85DB-16B6B224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AC14-3F7C-4A9D-A392-30543E4E6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BDDC-D3EB-4C51-B033-F56FAC6E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69F9-8298-4372-9C5F-F57445AA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73F8-1861-4C37-A20A-F187657A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71CA-1AE5-4B9B-825C-1E813306D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D26A-57DC-4F50-803F-F776D10F4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2090-0DF5-4649-8275-FA5775A1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B1C9-2C81-4CD1-9358-C92495D5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006F-BFCE-4667-9BEC-D3E4455B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6C31-6D22-40C0-9630-A341E23B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A93C-C2C3-4F70-AB50-BD08EBAC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C6E6-B396-4B72-BC96-A0485C75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93DD-D1AE-4CEE-B7AD-79C69465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5D99-A098-44F1-A114-86E506882F6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ABC0-E76D-4048-BD11-C9958113555F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mallbay.narod.ru/images2/perov02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8;&#1077;&#1089;&#1090;&#1085;&#1099;&#1081;_&#1093;&#1086;&#1076;_&#1074;_&#1050;&#1091;&#1088;&#1089;&#1082;&#1086;&#1081;_&#1075;&#1091;&#1073;&#1077;&#1088;&#1085;&#1080;&#1080;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gallerix.ru/pic/_EX/1189127576/763601684.jpe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80520" y="533520"/>
            <a:ext cx="76201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зобразительное искусство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Автор: </a:t>
            </a:r>
            <a:r>
              <a:rPr b="1" lang="ru-RU" sz="2800" spc="-1" strike="noStrike">
                <a:solidFill>
                  <a:srgbClr val="2f1311"/>
                </a:solidFill>
                <a:latin typeface="Times New Roman"/>
              </a:rPr>
              <a:t>Котова Галина Ивановна-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учитель изобразительного искусств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МКОУ «Новоозерская СОШ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Станция Озерки Тальменского района Алтайского края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914400" y="2133720"/>
            <a:ext cx="60199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79af7d"/>
                  </a:solidFill>
                  <a:miter/>
                </a:ln>
                <a:solidFill>
                  <a:srgbClr val="d5b781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ЕРЕДВИЖНИКИ</a:t>
            </a:r>
            <a:endParaRPr b="0" lang="en-US" sz="1800" spc="1" strike="noStrike">
              <a:ln w="9360">
                <a:solidFill>
                  <a:srgbClr val="79af7d"/>
                </a:solidFill>
                <a:miter/>
              </a:ln>
              <a:solidFill>
                <a:srgbClr val="d5b781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380880" y="533520"/>
            <a:ext cx="73915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 1870 году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"товарищество передвижников"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уже утвержденное правительством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начало свою деятельность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77374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7d47d"/>
                </a:solidFill>
                <a:latin typeface="Times New Roman"/>
              </a:rPr>
              <a:t>Фотография ТПХВ 1885 год</a:t>
            </a:r>
            <a:br>
              <a:rPr sz="3200"/>
            </a:br>
            <a:r>
              <a:rPr b="0" lang="ru-RU" sz="3200" spc="-1" strike="noStrike">
                <a:solidFill>
                  <a:srgbClr val="f7d47d"/>
                </a:solidFill>
                <a:latin typeface="Times New Roman"/>
              </a:rPr>
              <a:t>Группа членов Товарищества передвижных художественных выставок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Picture 4" descr="400px-Peredvizhniki"/>
          <p:cNvPicPr/>
          <p:nvPr/>
        </p:nvPicPr>
        <p:blipFill>
          <a:blip r:embed="rId1"/>
          <a:stretch/>
        </p:blipFill>
        <p:spPr>
          <a:xfrm>
            <a:off x="380880" y="1905120"/>
            <a:ext cx="7162920" cy="45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63520" y="762120"/>
            <a:ext cx="7386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Расцвет деятельности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Товарищества передвижников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ришелся на 1870—1880-е годы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 состав передвижников в разное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ремя входили: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73868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. Е. Репин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. И. Суриков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. Е. Маковский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. М. Прянишников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А. К. Саврасов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. И. Шишкин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. М. Максимов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К. А. Савицкий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A. M. и В. М. Васнецовы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А. И. Куинджи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63520" y="304920"/>
            <a:ext cx="73864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. И. Келин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. Д. Поленов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Н. А. Ярошенко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Р. С. Левицкий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. И. Левитан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. А. Серов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А. М. Корин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А. Е. Архипов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А. В. Моравов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. Н. Крамской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63520" y="914040"/>
            <a:ext cx="7386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Большую роль в развитии искусств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ередвижников сыграл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звестный исследователь искусств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 критик В. В. Стасов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380880" y="533520"/>
            <a:ext cx="74678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Главное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чего прежде всего сумели добиться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художники передвижники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2f1311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это устройство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амостоятельных выставок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 передвижение их по городам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России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80880" y="533520"/>
            <a:ext cx="74678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Никогда - ни до, ни после этого –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творчество русских художников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не было так близко и понятно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народным массам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63520" y="837720"/>
            <a:ext cx="7386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ередвижники стремились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раскрыть в своих картинах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стинную живую жизнь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угнетенного крестьянства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традающего от власти помещиков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 богачей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Это было основной задачей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63520" y="38052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еров В.Г. </a:t>
            </a:r>
            <a:r>
              <a:rPr b="1" lang="ru-RU" sz="3600" spc="-1" strike="noStrike">
                <a:solidFill>
                  <a:srgbClr val="f7d47d"/>
                </a:solidFill>
                <a:latin typeface="Times New Roman"/>
              </a:rPr>
              <a:t>"Чаепитие в Мытищах, близ Москвы"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(1862)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3" name="Picture 4" descr="Василий Перов"/>
          <p:cNvPicPr/>
          <p:nvPr/>
        </p:nvPicPr>
        <p:blipFill>
          <a:blip r:embed="rId1"/>
          <a:stretch/>
        </p:blipFill>
        <p:spPr>
          <a:xfrm>
            <a:off x="1371600" y="1676520"/>
            <a:ext cx="518148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63520" y="304560"/>
            <a:ext cx="738648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 XIX веке петербургская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Академия художеств оставалась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центром творческой жизни страны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Это было достаточно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консервативное учреждение "…с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царившими здесь устаревшим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нормами эстетики, потерявшим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вязь с передовой русской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художественной культурой…"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63520" y="456840"/>
            <a:ext cx="7386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еров В.Г.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 u="sng">
                <a:solidFill>
                  <a:srgbClr val="f0b854"/>
                </a:solidFill>
                <a:uFillTx/>
                <a:latin typeface="Times New Roman"/>
                <a:hlinkClick r:id="rId1"/>
              </a:rPr>
              <a:t>"Тройка. Ученики-мастеровые везут воду"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 (1866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5" name="Picture 4" descr="Василий Перов"/>
          <p:cNvPicPr/>
          <p:nvPr/>
        </p:nvPicPr>
        <p:blipFill>
          <a:blip r:embed="rId2"/>
          <a:stretch/>
        </p:blipFill>
        <p:spPr>
          <a:xfrm>
            <a:off x="1295280" y="1676520"/>
            <a:ext cx="518184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263520" y="533160"/>
            <a:ext cx="7386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.Е.Репин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  </a:t>
            </a:r>
            <a:r>
              <a:rPr b="1" lang="ru-RU" sz="3600" spc="-1" strike="noStrike" u="sng">
                <a:solidFill>
                  <a:srgbClr val="f7d47d"/>
                </a:solidFill>
                <a:uFillTx/>
                <a:latin typeface="Times New Roman"/>
              </a:rPr>
              <a:t>«</a:t>
            </a:r>
            <a:r>
              <a:rPr b="0" lang="ru-RU" sz="3600" spc="-1" strike="noStrike" u="sng">
                <a:solidFill>
                  <a:srgbClr val="f0b854"/>
                </a:solidFill>
                <a:uFillTx/>
                <a:latin typeface="Times New Roman"/>
                <a:hlinkClick r:id="rId1"/>
              </a:rPr>
              <a:t>Крестный ход в Курской губернии</a:t>
            </a:r>
            <a:r>
              <a:rPr b="1" lang="ru-RU" sz="3600" spc="-1" strike="noStrike">
                <a:solidFill>
                  <a:srgbClr val="f7d47d"/>
                </a:solidFill>
                <a:latin typeface="Times New Roman"/>
              </a:rPr>
              <a:t>»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 (1880—1883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7" name="Picture 4" descr="400px-Kurskaya_korennaya"/>
          <p:cNvPicPr/>
          <p:nvPr/>
        </p:nvPicPr>
        <p:blipFill>
          <a:blip r:embed="rId2"/>
          <a:stretch/>
        </p:blipFill>
        <p:spPr>
          <a:xfrm>
            <a:off x="457200" y="1828800"/>
            <a:ext cx="69343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63520" y="685800"/>
            <a:ext cx="7386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Многие произведения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ередвижников писались с натуры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 стиле жанровой живописи, другие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работы писались под воображением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от реальной жизни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63520" y="38052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 появлением товарищества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ередвижников новое искусство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развивается в едином русле с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ередовой русской литературой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музыкой, театром, общественной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мыслью, образуя мощный поток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русской демократической культуры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одухотворенной передовыми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оциальными идеями своего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ремени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78487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 рядах передвижников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зажглись и навечно засияли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ярчайшие звезды русской живописи –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аврасов, Суриков, Репин, Левитан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Куинджи, Поленов, Нестеров, Серов 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многие другие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263520" y="456840"/>
            <a:ext cx="7386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Алексей Кондратьевич Саврасов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(1830—1897)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Мастер лирического русского пейзажа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63520" y="609480"/>
            <a:ext cx="7386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Times New Roman"/>
              </a:rPr>
              <a:t>«Грачи прилетели»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  (1879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3" name="Picture 4" descr="грачи прилетели"/>
          <p:cNvPicPr/>
          <p:nvPr/>
        </p:nvPicPr>
        <p:blipFill>
          <a:blip r:embed="rId1"/>
          <a:stretch/>
        </p:blipFill>
        <p:spPr>
          <a:xfrm>
            <a:off x="1981080" y="1371600"/>
            <a:ext cx="385776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63520" y="533160"/>
            <a:ext cx="7585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Художник сумел раскрыть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 этой картине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сю тонкую красоту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русского пейзажа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навеянного необычайным лиризмом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что перевернуло у современников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сякие представления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о родной русской природе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63520" y="609480"/>
            <a:ext cx="7386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 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 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Василий Иванович Суриков (1848—1916)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Замечательный русский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художник, прекрасный мастер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цвета и колорита красок и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живописных приемов, очень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хорошо знавший русский быт 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нравы прошедших эпох.</a:t>
            </a: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о многих своих произведениях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уриков избрал трагические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фрагменты русской истории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-360" y="3805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9 ноября 1863 год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14 самых выдающихся учеников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мператорской Академии художеств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допущенных до соревнования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за первую золотую медаль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обратились в Совет Академии с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росьбой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63520" y="609480"/>
            <a:ext cx="7386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Times New Roman"/>
              </a:rPr>
              <a:t>«Боярыня Морозова»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 (1887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8" name="Picture 4" descr="Боярыня Морозова - В.И. Суриков - 800x600"/>
          <p:cNvPicPr/>
          <p:nvPr/>
        </p:nvPicPr>
        <p:blipFill>
          <a:blip r:embed="rId1"/>
          <a:stretch/>
        </p:blipFill>
        <p:spPr>
          <a:xfrm>
            <a:off x="304920" y="1600200"/>
            <a:ext cx="73152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63520" y="685800"/>
            <a:ext cx="7386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Илья Ефимович Репин  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(1844—1930)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Его картины отличаются своей разносторонностью. Репин написал ряд монументальных жанровых полотен, получивших огромную популярность у современников, чем произвел сильное впечатление на общественность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63520" y="685800"/>
            <a:ext cx="7386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утешествуя по Волге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он написал много этюдов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которые в последствии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спользовал для написания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воей известной картины «Бурлаки на Волге»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осле этой работы Репину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ришла ошеломляющая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звестность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63520" y="685800"/>
            <a:ext cx="7386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Times New Roman"/>
              </a:rPr>
              <a:t>«Бурлаки на Волге»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  (1870-73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2" name="Picture 4" descr="repin05"/>
          <p:cNvPicPr/>
          <p:nvPr/>
        </p:nvPicPr>
        <p:blipFill>
          <a:blip r:embed="rId1"/>
          <a:stretch/>
        </p:blipFill>
        <p:spPr>
          <a:xfrm>
            <a:off x="380880" y="2057400"/>
            <a:ext cx="723924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263520" y="456840"/>
            <a:ext cx="7386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Репину удалось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сихологически правдоподобно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описать характеристику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каждого персонажа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Художник оставил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значительный след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 истории русской живописи 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63520" y="533160"/>
            <a:ext cx="7386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Исаак Ильич Левитан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(1860—1900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еликолепный мастер тихих 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покойных пейзажей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63520" y="609480"/>
            <a:ext cx="7386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Times New Roman"/>
              </a:rPr>
              <a:t>«Золотая осень» 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 (1895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6" name="Picture 4" descr="Золотая осень. 1895 год"/>
          <p:cNvPicPr/>
          <p:nvPr/>
        </p:nvPicPr>
        <p:blipFill>
          <a:blip r:embed="rId1"/>
          <a:stretch/>
        </p:blipFill>
        <p:spPr>
          <a:xfrm>
            <a:off x="380880" y="1600200"/>
            <a:ext cx="6858000" cy="44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63520" y="304560"/>
            <a:ext cx="75852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Картины Левитана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требуют внимательной вдумчивости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х нельзя быстро рассмотреть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не осмыслив всего замысла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этого известного художника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оставившего нам свой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неповторимый след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 искусстве пейзажной живописи.</a:t>
            </a: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263520" y="456840"/>
            <a:ext cx="7386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  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Иван Иванович Шишкин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(1832—1898)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Знаменитый художник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уникальный мастер по лесным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ейзажам, его картины известны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очень широкой публике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63520" y="990360"/>
            <a:ext cx="7386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Шишкин любил природу леса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 его колоритными оттенками стволов деревьев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яркими полянами, освещенным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олнцем и воздушностью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80520" y="533520"/>
            <a:ext cx="72392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заменить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конкурсное задание (написание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картины по заданному сюжету из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кандинавской мифологии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«Пир бога Одина в Валгалле»)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на свободное задание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(написание картины на избранную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амим художником тему)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263520" y="609480"/>
            <a:ext cx="7386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Times New Roman"/>
              </a:rPr>
              <a:t>«Рожь»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 (1889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1" name="Picture 4" descr="shishkin10"/>
          <p:cNvPicPr/>
          <p:nvPr/>
        </p:nvPicPr>
        <p:blipFill>
          <a:blip r:embed="rId1"/>
          <a:stretch/>
        </p:blipFill>
        <p:spPr>
          <a:xfrm>
            <a:off x="380880" y="1600200"/>
            <a:ext cx="70866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263520" y="837720"/>
            <a:ext cx="7386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Никто ранее до Шишкина с такой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ошеломляющей откровенностью не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оведал зрителю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о своей любви к родной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Русской природе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263520" y="38052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 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Крамской Иван Николаевич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(1837 - 1887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звестный живописец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один из главных реформаторов в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скусстве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ропагандирующий в пользу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вободного развития молодых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художников. Крамской главный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учредитель и основатель ТПХВ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7386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  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Его знаменитая картина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«Христос в пустыне»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ызвала бурю эмоций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 долго не утихавшую полемику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 этой картине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Крамской хотел показать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драматическую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итуацию нравственного выбора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 котором нет отступления от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ыбранного пути.</a:t>
            </a:r>
            <a:br>
              <a:rPr sz="3600"/>
            </a:br>
            <a:br>
              <a:rPr sz="2400"/>
            </a:b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63520" y="304920"/>
            <a:ext cx="73864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Times New Roman"/>
              </a:rPr>
              <a:t>«Христос в пустыне» 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(1872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6" name="Picture 5" descr="kramskoy30"/>
          <p:cNvPicPr/>
          <p:nvPr/>
        </p:nvPicPr>
        <p:blipFill>
          <a:blip r:embed="rId1"/>
          <a:stretch/>
        </p:blipFill>
        <p:spPr>
          <a:xfrm>
            <a:off x="1143000" y="1600200"/>
            <a:ext cx="5562720" cy="48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263520" y="533160"/>
            <a:ext cx="7386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Arial"/>
              </a:rPr>
              <a:t> 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 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Василий Григорьевич Перов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(1834—1882)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Его картины наполнены подлинным трагизмом. Многие ранние работы мастера проникнуты критическим, обличительным восприятием, представляя собой живописные карикатуры, в котором задействовано и духовенство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263520" y="533160"/>
            <a:ext cx="7386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Times New Roman"/>
              </a:rPr>
              <a:t>«Сельский крестный ход на Пасхе» 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(1861)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9" name="Picture 9" descr="Wassilij_Grigorjewitsch_Perow_006"/>
          <p:cNvPicPr/>
          <p:nvPr/>
        </p:nvPicPr>
        <p:blipFill>
          <a:blip r:embed="rId1"/>
          <a:stretch/>
        </p:blipFill>
        <p:spPr>
          <a:xfrm>
            <a:off x="990720" y="1828800"/>
            <a:ext cx="594360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263520" y="533160"/>
            <a:ext cx="7386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  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Валентин Александрович Серов (1865—1911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Очень модный художник своего времени, славу ему принесли его портреты, хотя он также писал пейзажи и картины по историческим сюжетам, иногда работал как театральный художник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263520" y="533160"/>
            <a:ext cx="7386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еров как ни кто другой знал, что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такое портрет и как его рисовать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мастерски рисовал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карандашом с натуры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ему очень много позировали известные меценаты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артисты и писатели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263520" y="609480"/>
            <a:ext cx="7386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Times New Roman"/>
              </a:rPr>
              <a:t>«Девочка с персиками» </a:t>
            </a:r>
            <a:r>
              <a:rPr b="1" lang="ru-RU" sz="3600" spc="-1" strike="noStrike">
                <a:solidFill>
                  <a:srgbClr val="2f1311"/>
                </a:solidFill>
                <a:latin typeface="Times New Roman"/>
              </a:rPr>
              <a:t> (1887)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3" name="Picture 5" descr="Девочка с персиками (Портрет В. С. Мамонтовой). 1887. Серов Валентин Александрович (1865-1911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295280"/>
            <a:ext cx="47750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380520" y="533520"/>
            <a:ext cx="72392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м было категорически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отказано, после чего многие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художники демонстративно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окинули академию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263520" y="914040"/>
            <a:ext cx="7386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Многие художники передвижник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последствии преподавали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 Московском Училище живописи,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аяния и зодчества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263520" y="762120"/>
            <a:ext cx="73864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Товарищество Передвижных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Художественных Выставок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распалось в 1923 году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За время его существования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значение живописи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 жизни в русского обществ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достигло своей  кульминации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6929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ледует отметить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что никогда больше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русская живопись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не достигала таких высот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как во второй половине 19 века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263520" y="914040"/>
            <a:ext cx="7386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 даже в лучшие годы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оветской власти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не смогло достигнуть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режних высот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0" y="533520"/>
            <a:ext cx="7848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Многие картины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художников передвижников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окупались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звестным меценатом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авлом Михайловичем Третьяковым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0" y="609480"/>
            <a:ext cx="7650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. М. Третьяков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риобретая в свою галерею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роизведения передвижников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оказывал им важную материальную и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моральную поддержку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Многие из работ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были сделаны по его заказу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0" y="533520"/>
            <a:ext cx="7848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Он трепетно относился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к живописи и искусству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ередвижников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уважал нелегкий труд художников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очти все свое  состояние  вложил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 их картины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380880" y="533520"/>
            <a:ext cx="74678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егодня это известная всему миру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Третьяковская галерея 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 ней и поныне хранится важный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документ в архиве рукописей о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оздании членов товариществ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закрепленный 23 подписями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знаменитых художников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0" y="304920"/>
            <a:ext cx="78487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нтернет- ресурсы: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ote4estvo.ru/sobytiya-xviii-xix/797-hudozhniki-peredvizhniki.html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«http://ru.wikipedia.org/w/index.php?title=Товарищество_передвижных_художественных_выставок&amp;oldid=48839034»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tphv.ru/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www.art-portrets.ru/hudojniki_peredvijniki.html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webstarco</a:t>
            </a: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narod</a:t>
            </a: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ru</a:t>
            </a: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union</a:t>
            </a: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frend</a:t>
            </a: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2f1311"/>
                </a:solidFill>
                <a:latin typeface="Times New Roman"/>
              </a:rPr>
              <a:t>html</a:t>
            </a: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2f131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0" y="685440"/>
            <a:ext cx="76960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Решение было такое: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необходимо образовать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амостоятельную артель художников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о типу коммун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независимую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от академической монополи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(союз русских художников)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380880" y="533520"/>
            <a:ext cx="74678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Это событие вошло в историю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как «Бунт четырнадцати»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менно они организовали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«Санкт-Петербургскую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артель художников»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63520" y="990360"/>
            <a:ext cx="7386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равда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росуществовала она не долго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 распалась через 7 лет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80880" y="533520"/>
            <a:ext cx="74678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В конце 1869 года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Московские художники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Мясоедов Г. Г., Перов В. Г.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Маковский В. Е.,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рянишников И.М., Саврасов А. К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предложили петербургской Артели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соединиться всем вместе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f1311"/>
                </a:solidFill>
                <a:latin typeface="Times New Roman"/>
              </a:rPr>
              <a:t>и образовать новое общество.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7-10-18T19:30:56Z</dcterms:modified>
  <cp:revision>6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