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13F5-315B-4243-ADC7-C0E4604F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9723-4C29-4BFB-A015-AA09CB9F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DD1D-025E-4764-BE2D-F6FAE345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D56-5962-4C62-A8A3-6F4BC638A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8BC-DAD1-4C4D-BDD2-DE0EB8E8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4AC5-3BBD-4FD0-A3E3-56C12A21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5CC9-15F7-48C3-82F8-453CA4FF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161-4127-4B87-9ABB-D203B36F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3CB-BB1D-4FDE-A10A-D07FDD32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D298-4DDD-489E-B01F-D8935DAB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EBF7-7B38-423F-9A61-F565BEF5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24C-71B9-4F85-9A02-2F1A0729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63D0-BF5D-44B5-9FF9-F71D2ED505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0" y="836280"/>
            <a:ext cx="518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Нормы сочетания слов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 их нарушение в реч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3568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вместо слова «до свиданья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говорит он ничего, или заявит на прощань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Ну, я пошел… Пока! Всего!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скажет он друзьям по школ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ёша, Петя, Ваня, Толя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воих друзей зовёт он только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ёшка, Петька, Ванька, Толь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ебята, мы не поможем тут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азать вам как его зовут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ы честно вас предупреждаем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имени его не знае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 имя что? Ведь суть не в нём –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ам этот школьник не знаком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635680" cy="58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Грамматические нормы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итературного языка соответствуют строго установленной системе речевого строя, включающего в себя образование грамматических норм и употребление этих норм в устной и письменной реч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рамматические нормы в основном сводятся к использованию законов грамматики, то есть определённых правил изменения и сочетания слов и предложений. Пренебрежительное отношение к законам грамматики приводит говорящего к неряшливому построению предложения, к нарушению в нём логически мотивированной связи и последовательности мысл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зная грамматических законов и правил, говорящий нарушает согласование слов и предложений, неправильно употребляет падежи, предлоги, причастия, деепричастные обор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63568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изводные предлоги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благодаря, согласно, вопреки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управляют формой дательного падежа существительного или местоимени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благодаря вовремя принятому решению; благодаря ему (ей, им); согласно вашему заявлению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шибки в образовании местоимений: «Я пошёл к ему», «ихний дом», а надо «Я пошёл к нему», «их дом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потребление лишнего предлога «Жажда к славе», правильно – «жажда славы».  «Я учу уроки на столе», правильно – «…учу уроки за столом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35680" cy="525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сть и такие ошибки – употребление знаменательных и служебных слов без учета их семантики: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«Благодаря пожару, вспыхнувшему от костра, сгорел большой участок леса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современном русском языке предлог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благодар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сохраняет известную смысловую связь с глаголом благодарить и употребляется обычно лишь в тех случаях, когда говорится о причинах, вызывающих желательный результат: благодаря чьей-нибудь помощи, поддержке. Ошибка возникает в связи со смысловым отвлечением предлога от исходного глагола благодарить.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 этом предложении предлог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лагодаря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 следует заменить на один из следующих: из-за, в результате, вследств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3280" y="620640"/>
            <a:ext cx="39560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м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: упр 6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2" descr=""/>
          <p:cNvPicPr/>
          <p:nvPr/>
        </p:nvPicPr>
        <p:blipFill>
          <a:blip r:embed="rId1"/>
          <a:stretch/>
        </p:blipFill>
        <p:spPr>
          <a:xfrm>
            <a:off x="1258920" y="1366920"/>
            <a:ext cx="397188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635680" cy="504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Словарный диктант (15 слов)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 Прочитайте предложения со знаками препинания (определив, чем осложнено), назовите грамматическую основу (устно)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. Генерал – лейтенант вернувшийся с учений рассказал курсантам о новых двигателях  экспериментально используемых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. Ира ты сможешь испечь вернувшись с тренировки для бабушки пирог с яблоками?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. Бабушка запыхавшись сообщила о купленных фруктах киви бананах винограде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636040" cy="54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Словарный диктант (15 слов). Проверяем, поменявшись тетрадями и взяв красные чернила: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нтеллигент, архитектор, ландшафтный, комментарий,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есс – конференция, искусственный, аккомпанемент, собеседник, привилегированный, мировоззрение, почерк, поссориться, львиный, исписанный, поскользнуться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Определите вид подчинительной связи (согласование, управление, примыкание)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ирюзовый плед,  фотовыставка в галерее, выглядеть расстроенной, быстро сдам, будущая професси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928000" cy="41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школе вы получаете основные знания о русском языке. После школы вас ждёт множество увлекательных профессий. И где бы вы ни трудились — на заводе, в поле, в исследовательской лаборатории,— всюду вам необходимо глубокое знание языка, умение точно, ясно и ярко выражать свои мысли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лово — одежда мысл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 Без высокой культуры речи, без соблюдения норм речевого этикета нет культурного челове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3059280" y="3230640"/>
            <a:ext cx="44496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63568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усский язык неоднороден по своему составу. В нём, прежде всего, выделяется язык литературный. Это высшая форма национального языка, определяемая целой системой норм. Эти нормы охватывают все уровни языка: письменную и устную речь; произношение, лексику, словообразование, грамматику. Например, в литературном языке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льзя употреблять такие формы, как «вы хочете», «моё фамилие», «они побегли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надо говорить «вы хотите», «моя фамилия», «они побежали»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; нельзя пользоваться вместо слова «хорошо» диалектным словом «баско»,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не следует произносить е[г]о, ску[ч]но, 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надо произносить е[в]о, ску[ш]н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и так далее. Нормы описываются в учебниках,  справочниках, словарях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928000" cy="554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Я знаю двух близнецов — пресимпатичных ребят. Побывав летом в деревне у бабушки в Псковской области, они вернулись и поразили всех в школе и дома. Стали в свою речь ввёртывать великое множество никому неизвестных слов. Белых бабочек-капустниц они теперь именовали «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яклышам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», сереньких ночных мотыльков — «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популяшкам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». Почему? Потому что там, в окрестностях Пскова, люди старшего поколения ещё говорят не на обыкновенном русском, общем для всех людей языке, а на наречии, а оно иной раз довольно сильно отличается от нашей речи. Парень хохочет, рассказывает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Наша тетя Нюта чудит — со всей комнаты шум в тюшку запахивает»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то же может понять, что эта фраза значит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«мусор заметает в щёлку пол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»? Хоть переводи с псковского языка на русский» (По Л.Успенскому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85168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 раннего детства и до глубокой старости жизнь человека неразрывно связана с языком. С детства люди впитывают родную речь, узнают всё новые и новые слова и выражения, постигают их связи и сочетания. Всюду необходимо глубокое знание родного языка, умение ясно и ярко выражать свои мысли. Помните слова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А.Н. Толстого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: «Можно с уверенностью сказать, что человек, говорящий на хорошем, чистом, богатом языке, богаче мыслит, чем человек, который говорит на плохом и бедном языке». «Чтобы повысить качество своего языка, нужно повысить качество своего сердца, своего интеллекта,»- говорил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К.И.Чуковский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3413160" y="4076640"/>
            <a:ext cx="2849400" cy="25210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2" descr=""/>
          <p:cNvPicPr/>
          <p:nvPr/>
        </p:nvPicPr>
        <p:blipFill>
          <a:blip r:embed="rId2"/>
          <a:stretch/>
        </p:blipFill>
        <p:spPr>
          <a:xfrm>
            <a:off x="7020000" y="4467240"/>
            <a:ext cx="146376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0400" cy="583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читайте отрывок из стихотворения </a:t>
            </a:r>
            <a:br>
              <a:rPr sz="2400"/>
            </a:b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«Как зовут» В.Масса и М.Червинског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его зовут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рузья, вот вам на всякий случа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ихи о школьнике одно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го зовут… а впрочем, лучш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ы здесь его не назове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Спасибо», «здравствуйте», «простите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износить он не привык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стого слова «извините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одолел его язык…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му бывает часто лен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казать при встрече «добрый день»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залось бы простое слово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он стесняется, молчит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в лучшем случае «здорово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н вместо «здравствуйте» бубнит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04T03:47:10Z</dcterms:created>
  <dc:creator>Пользователь Windows</dc:creator>
  <dc:description/>
  <dc:language>en-US</dc:language>
  <cp:lastModifiedBy>Пользователь Windows</cp:lastModifiedBy>
  <dcterms:modified xsi:type="dcterms:W3CDTF">2017-10-18T10:22:47Z</dcterms:modified>
  <cp:revision>19</cp:revision>
  <dc:subject/>
  <dc:title>Нормы сочетания слов  и их нарушение в речи.</dc:title>
</cp:coreProperties>
</file>