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175-9E42-4291-AC6F-5E2DC575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A85-0A28-4B54-9B05-CA82D72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A0B-4EC3-4D0E-9E16-6F24044A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5A0-22CD-42D0-ADA2-C2E94B71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2023-F9A8-4D5C-BBC5-055EE23C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F8B4-830D-44AA-90A8-C07041B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4631-E7F4-47C9-8401-54AE32A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7D4-DCC3-4DCA-BF69-69102C5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512B-96F4-4300-A2BB-9ACF1B56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FCE8-0FAA-476C-B721-FD3DD81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B53-7184-4332-934B-AC6782EF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14F-3AB2-47F9-B0CC-50EC543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CF8B-576E-4131-8FF7-DCAD5FD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726-3BA0-4D58-BAD0-91851CC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E61F-1E8A-4E47-8844-67AD96E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3712-B03D-4898-B847-9EF49185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D2B9-0C41-4042-AF95-C9228128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BD88-55DE-418F-96AB-305D9CFC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8F5A-34FE-4242-A492-30CECAE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595D-5D35-410E-BEA9-F9EC96E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3D12-340B-43F1-945F-BCB6603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82F4-E514-4166-9EEB-BD1894A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843-ED58-4758-A1DF-9EE5EBB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658D-93D7-4D65-AF3C-4B145D36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C720-E72A-433A-B7E8-45B65FC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ADAF-7513-4184-A5E5-C49F25B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08C5-14CD-432A-9659-0CF1216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0EC7-FA16-45B6-B30C-97A3694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42AC-A365-442C-A1E7-EC44C688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CB84-7BD5-4CBC-B591-540FD77A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0325-861C-457A-8D59-D7C2C7FE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43A9-198B-4625-91D0-BCCB7A0B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FE38-20B0-4C96-AF2F-EB6ED2C9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E36-4E43-4ACB-9CEE-138FFB9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56E6-2591-45AC-B6E6-961DF35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53F4-4209-4698-9DEE-981DFA5F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04D7-FF6A-40E0-8F01-885BFE3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24CB-E1E6-496C-B89A-3861AAD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C38FF-778A-451E-AE67-22D1401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E44E-7708-49A1-AE2A-F9299BC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1562-9951-4A84-B13C-901F1459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CD96-7462-42CB-972F-4EF29C64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013A-F78D-4F2D-88D0-5A4149A1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423C-51A0-4A1E-B1D5-AD2354EC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8B4-E3D7-48B4-824D-E3E904D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3419-34E8-4466-BCD6-6BF0F0EF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5107-8E0A-4E81-8D4C-636D4B99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A4C04-3BDB-469A-9511-C263DC19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FFF3-E348-48AE-A276-9A08723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9D93-3B7C-4514-A188-6B565F0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A0E5-25CB-43DC-B23E-1CAF141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D345-A041-4B69-9AC8-5842E3C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32EA-AF83-4D1F-9436-A63135D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3D5D-FEF1-4C87-8642-7889A941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13AB-875B-4547-90CF-F53B2551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590-4C3C-46C5-91EC-D2F05A7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5EB9-6BB0-427C-AFF8-5FC3A29D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67E1-21EE-48CD-827A-621BE2B5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A27F-2F08-4BF0-9B90-2B89814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62C5-E6E3-4D04-A6ED-DAE6B76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4758-D3A3-4765-855D-0E7FC95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0405-E850-45C2-8B93-9DFD6FA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9E0D-C4D4-49A6-B008-7B7B8DD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4F37-5EFE-45B9-9A70-41D5924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1F83-B0FE-482B-B191-0527BAD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BEA5-A27E-4942-8B99-0AFCE25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6AC-A62C-4CD5-8C10-C6F3F2C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24DE2-6EBB-4022-99E5-81A30EC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B2BC-A3AE-47B8-A6C4-7845AA69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3DF2-603D-427B-BF9D-0357224C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BA151-44A2-41EE-BD78-D6578485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CAFC-0699-47A6-87A4-73D7B7EC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1CED-7964-4828-8EA2-3A80634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D73C-29D9-4E62-9E54-BCC45BC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C959-565C-43C4-BF66-405FB1D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6820F-BCE0-44C1-A413-0E44C05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8A38-9525-439F-B7E5-8DF65FC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75E-9FD1-44B1-A1D3-319FB838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38D6-AD50-4C22-8861-84173EB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A6BB2-86D4-45E0-AB2E-D8F398F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0A0F-4472-418D-9B27-DE98531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2DA6-AFDE-462F-8DD4-E2B0055F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0F0C-0DC7-44FD-A904-8CFB0476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5FA45-873A-4251-B017-21DE1FA7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8BEA8-8104-414F-9619-016D3ED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ED0C-E80E-447F-B9FD-DED14B54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143E-72A8-4E2E-A314-83B8CBC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7ABC0-DE15-4680-A08F-BC6DBFE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2DF-C490-491D-9248-5E8ED5F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E720-102D-44D5-A7C9-D30B3322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3B48-1295-4960-9D6B-6C885DA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FC02-C022-480D-8CD9-0569E99C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C100-D98A-4985-B6C9-487198A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0B00-D7AE-4848-A2E5-0A60CA2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1C5E-6B6E-4CEB-A834-7730851C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B2D6-B1B4-43D6-93D3-5162384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FCF1-B255-49FD-810C-EB3AC13A13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18"/>
              <p:cNvSpPr/>
              <p:nvPr/>
            </p:nvSpPr>
            <p:spPr>
              <a:xfrm>
                <a:off x="8280" y="5000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B52-069B-471A-8739-197105488D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B55-3AE1-48FA-8C8F-C09AD56CB7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E497-0DDD-44AF-8FB2-0BFEF7AABA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19A-E115-4C81-B997-44CBC96511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AD8-5EE7-48A0-AB01-CDBED6D999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D98-7DDA-4B1F-9982-72FDDD6EC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649B-BDFD-48EF-80E4-966B9E4476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5" descr=""/>
          <p:cNvPicPr/>
          <p:nvPr/>
        </p:nvPicPr>
        <p:blipFill>
          <a:blip r:embed="rId2"/>
          <a:stretch/>
        </p:blipFill>
        <p:spPr>
          <a:xfrm>
            <a:off x="0" y="2000160"/>
            <a:ext cx="8602560" cy="1225800"/>
          </a:xfrm>
          <a:prstGeom prst="rect">
            <a:avLst/>
          </a:prstGeom>
          <a:ln w="0">
            <a:noFill/>
          </a:ln>
        </p:spPr>
      </p:pic>
      <p:sp>
        <p:nvSpPr>
          <p:cNvPr id="396" name="Содержимое 2"/>
          <p:cNvSpPr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85840" y="1571760"/>
          <a:ext cx="8286840" cy="3887640"/>
        </p:xfrm>
        <a:graphic>
          <a:graphicData uri="http://schemas.openxmlformats.org/drawingml/2006/table">
            <a:tbl>
              <a:tblPr/>
              <a:tblGrid>
                <a:gridCol w="714240"/>
                <a:gridCol w="1928880"/>
                <a:gridCol w="1924200"/>
                <a:gridCol w="2147760"/>
                <a:gridCol w="1571760"/>
              </a:tblGrid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 сухого термо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 влажного термо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ность показаний сухого и влажного термо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цен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Box 3"/>
          <p:cNvSpPr/>
          <p:nvPr/>
        </p:nvSpPr>
        <p:spPr>
          <a:xfrm>
            <a:off x="357120" y="9288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табл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5"/>
          <p:cNvSpPr/>
          <p:nvPr/>
        </p:nvSpPr>
        <p:spPr>
          <a:xfrm>
            <a:off x="214200" y="1143000"/>
            <a:ext cx="842976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ыполните лабораторну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Определение влажности воздуха в классной комнат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285840" y="107172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 и запишите ответ в таблиц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428840" y="1928880"/>
          <a:ext cx="5643360" cy="3047760"/>
        </p:xfrm>
        <a:graphic>
          <a:graphicData uri="http://schemas.openxmlformats.org/drawingml/2006/table">
            <a:tbl>
              <a:tblPr/>
              <a:tblGrid>
                <a:gridCol w="2881080"/>
                <a:gridCol w="2762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о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ариант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91960" y="35388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2"/>
          <p:cNvSpPr/>
          <p:nvPr/>
        </p:nvSpPr>
        <p:spPr>
          <a:xfrm>
            <a:off x="714240" y="1714680"/>
            <a:ext cx="7715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19, вопросы на стр.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: определить влажность воздуха в вашей кварт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2462040"/>
            <a:ext cx="8852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Насыщенный пар"/>
          <p:cNvPicPr/>
          <p:nvPr/>
        </p:nvPicPr>
        <p:blipFill>
          <a:blip r:embed="rId1"/>
          <a:stretch/>
        </p:blipFill>
        <p:spPr>
          <a:xfrm>
            <a:off x="2357280" y="714240"/>
            <a:ext cx="4929480" cy="381960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4" descr=""/>
          <p:cNvPicPr/>
          <p:nvPr/>
        </p:nvPicPr>
        <p:blipFill>
          <a:blip r:embed="rId2"/>
          <a:stretch/>
        </p:blipFill>
        <p:spPr>
          <a:xfrm>
            <a:off x="706320" y="-66600"/>
            <a:ext cx="7231320" cy="865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4297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р, находящийся в динамическом равновесии со своей жидкостью, называется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насыщенным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р, не находящийся в состоянии равновесия со своей жидкостью,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ненасыщенным.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оказывает, сколько граммов водяного пара содержится в воздухе объемом 1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при данных условиях, т.е. плотность водяного пар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rcRect l="28911" t="0" r="48609" b="58691"/>
          <a:stretch/>
        </p:blipFill>
        <p:spPr>
          <a:xfrm>
            <a:off x="7500960" y="57168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28760" y="164304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называется отношение абсолютной влажности воздуха     к плотности насыщенного пара при той же температуре, выраженное в процента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66320" cy="1494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2286000" y="4929120"/>
            <a:ext cx="4448160" cy="172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3"/>
          <a:srcRect l="0" t="28934" r="88760" b="33893"/>
          <a:stretch/>
        </p:blipFill>
        <p:spPr>
          <a:xfrm>
            <a:off x="5715000" y="8571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4"/>
          <a:srcRect l="28911" t="0" r="48609" b="58691"/>
          <a:stretch/>
        </p:blipFill>
        <p:spPr>
          <a:xfrm>
            <a:off x="8143920" y="2071800"/>
            <a:ext cx="1000080" cy="71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5"/>
          <a:srcRect l="27303" t="49596" r="48609" b="0"/>
          <a:stretch/>
        </p:blipFill>
        <p:spPr>
          <a:xfrm>
            <a:off x="8072280" y="2500200"/>
            <a:ext cx="1071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07880" y="652320"/>
            <a:ext cx="8291520" cy="20671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2" descr=""/>
          <p:cNvPicPr/>
          <p:nvPr/>
        </p:nvPicPr>
        <p:blipFill>
          <a:blip r:embed="rId2"/>
          <a:stretch/>
        </p:blipFill>
        <p:spPr>
          <a:xfrm>
            <a:off x="500040" y="3143160"/>
            <a:ext cx="3776760" cy="32148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3" descr=""/>
          <p:cNvPicPr/>
          <p:nvPr/>
        </p:nvPicPr>
        <p:blipFill>
          <a:blip r:embed="rId3"/>
          <a:stretch/>
        </p:blipFill>
        <p:spPr>
          <a:xfrm>
            <a:off x="5000760" y="3143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Скругленный прямоугольник 2"/>
          <p:cNvSpPr/>
          <p:nvPr/>
        </p:nvSpPr>
        <p:spPr>
          <a:xfrm>
            <a:off x="2214720" y="571680"/>
            <a:ext cx="5786280" cy="107136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особы определения влажност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3"/>
          <p:cNvSpPr/>
          <p:nvPr/>
        </p:nvSpPr>
        <p:spPr>
          <a:xfrm>
            <a:off x="1285920" y="2286000"/>
            <a:ext cx="2857320" cy="71424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гигрометры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4"/>
          <p:cNvSpPr/>
          <p:nvPr/>
        </p:nvSpPr>
        <p:spPr>
          <a:xfrm>
            <a:off x="5429160" y="2286000"/>
            <a:ext cx="2857680" cy="71424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сихр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Прямая со стрелкой 6"/>
          <p:cNvCxnSpPr/>
          <p:nvPr/>
        </p:nvCxnSpPr>
        <p:spPr>
          <a:xfrm flipH="1">
            <a:off x="2571120" y="1643040"/>
            <a:ext cx="178668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Прямая со стрелкой 8"/>
          <p:cNvCxnSpPr/>
          <p:nvPr/>
        </p:nvCxnSpPr>
        <p:spPr>
          <a:xfrm>
            <a:off x="5285880" y="1643040"/>
            <a:ext cx="17866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13"/>
          <p:cNvCxnSpPr>
            <a:stCxn id="415" idx="2"/>
            <a:endCxn id="420" idx="0"/>
          </p:cNvCxnSpPr>
          <p:nvPr/>
        </p:nvCxnSpPr>
        <p:spPr>
          <a:xfrm flipH="1">
            <a:off x="1714320" y="2999880"/>
            <a:ext cx="10008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14"/>
          <p:cNvCxnSpPr>
            <a:stCxn id="415" idx="2"/>
          </p:cNvCxnSpPr>
          <p:nvPr/>
        </p:nvCxnSpPr>
        <p:spPr>
          <a:xfrm>
            <a:off x="2713680" y="2999880"/>
            <a:ext cx="192924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0" name="Скругленный прямоугольник 15"/>
          <p:cNvSpPr/>
          <p:nvPr/>
        </p:nvSpPr>
        <p:spPr>
          <a:xfrm>
            <a:off x="0" y="4429080"/>
            <a:ext cx="3429000" cy="64296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денсаци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6"/>
          <p:cNvSpPr/>
          <p:nvPr/>
        </p:nvSpPr>
        <p:spPr>
          <a:xfrm>
            <a:off x="3857760" y="4429080"/>
            <a:ext cx="2857320" cy="71460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лосной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8" descr=""/>
          <p:cNvPicPr/>
          <p:nvPr/>
        </p:nvPicPr>
        <p:blipFill>
          <a:blip r:embed="rId1"/>
          <a:stretch/>
        </p:blipFill>
        <p:spPr>
          <a:xfrm>
            <a:off x="-122400" y="1706400"/>
            <a:ext cx="4449960" cy="20844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6" descr="C:\Documents and Settings\Алла\Мои документы\Мои рисунки\img2.jpg"/>
          <p:cNvPicPr/>
          <p:nvPr/>
        </p:nvPicPr>
        <p:blipFill>
          <a:blip r:embed="rId2"/>
          <a:stretch/>
        </p:blipFill>
        <p:spPr>
          <a:xfrm>
            <a:off x="3929040" y="500040"/>
            <a:ext cx="50068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5" descr=""/>
          <p:cNvPicPr/>
          <p:nvPr/>
        </p:nvPicPr>
        <p:blipFill>
          <a:blip r:embed="rId1"/>
          <a:stretch/>
        </p:blipFill>
        <p:spPr>
          <a:xfrm>
            <a:off x="4000680" y="357120"/>
            <a:ext cx="4929120" cy="6313680"/>
          </a:xfrm>
          <a:prstGeom prst="rect">
            <a:avLst/>
          </a:prstGeom>
          <a:ln w="0">
            <a:noFill/>
          </a:ln>
        </p:spPr>
      </p:pic>
      <p:pic>
        <p:nvPicPr>
          <p:cNvPr id="426" name="Заголовок 2" descr=""/>
          <p:cNvPicPr/>
          <p:nvPr/>
        </p:nvPicPr>
        <p:blipFill>
          <a:blip r:embed="rId2"/>
          <a:stretch/>
        </p:blipFill>
        <p:spPr>
          <a:xfrm>
            <a:off x="353880" y="2279520"/>
            <a:ext cx="3297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5" descr=""/>
          <p:cNvPicPr/>
          <p:nvPr/>
        </p:nvPicPr>
        <p:blipFill>
          <a:blip r:embed="rId1"/>
          <a:stretch/>
        </p:blipFill>
        <p:spPr>
          <a:xfrm>
            <a:off x="219240" y="2457360"/>
            <a:ext cx="4071600" cy="7621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http://www.fizika.ru/theory/tema-08/08l-i2.gif"/>
          <p:cNvPicPr/>
          <p:nvPr/>
        </p:nvPicPr>
        <p:blipFill>
          <a:blip r:embed="rId2"/>
          <a:stretch/>
        </p:blipFill>
        <p:spPr>
          <a:xfrm>
            <a:off x="4929120" y="214200"/>
            <a:ext cx="400068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7:03:53Z</dcterms:created>
  <dc:creator>Алла</dc:creator>
  <dc:description/>
  <dc:language>en-US</dc:language>
  <cp:lastModifiedBy>user</cp:lastModifiedBy>
  <dcterms:modified xsi:type="dcterms:W3CDTF">2016-11-17T18:24:36Z</dcterms:modified>
  <cp:revision>45</cp:revision>
  <dc:subject/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