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B762-DE6B-44D6-A93F-FA2464D7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306B-AF33-480A-AA91-0E1A8C75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86C0-43A9-4E10-AC06-C8D57909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59B-E2C8-4F47-ADE4-93AE2227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CEAA-603B-46B4-B512-403CB318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E2D9-5A68-473F-925F-83E87BF3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5EEF-4957-40F3-8B8A-5B79F16D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DE96-74E9-4F0F-8BA7-CE38F9AE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0218-5CF5-4EE2-917D-4617DAE4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6A0C-A353-47E2-A343-C14E5374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924C-1D9F-491F-8BC9-70D1154C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E7D-F3C0-49A2-88CD-6BEB0266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F7791-0C39-4016-821F-DD088538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0B382-0508-4637-95C8-739BBA87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23BA-B7BD-476C-BD5A-E9B1B364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B246-8760-4320-BBC5-06993BD23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BBE3-D323-4E54-BEAE-B857925E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A1AA7-269E-408D-A816-CE0FA2CE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2B651-83B1-42F8-B7D5-07567406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44642-87D7-4052-B2C0-CF1B93E8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028EC-684D-4A41-9948-02B529BD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E848-73AE-4498-B9B9-57D23ED9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3CC7-AF46-401E-A143-E709F830F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E80A4-0B11-4D50-95CA-DB27996B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9F3B-FBAA-4BB6-8F54-97F01191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4356-639B-486E-B3B7-987B1A66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5C6C-C0D9-4050-AF30-0061D410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49F1-7F10-4EB1-925E-A91DC9AD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3898-9ECF-487C-9B9D-CF33326B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9FB98-C238-4275-BFD2-F89D4523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43039-62DE-4025-B819-87D3FB159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3D487-D27F-42DA-8231-51E9B20C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D3AD-77CA-4D2D-AC8E-5EA3B5B8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115-D77F-46DA-A4C7-16DA0F2F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D5AFA-D263-43B4-B56C-965FCC4F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97176-E11B-493F-B24B-AE1D5867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59164-1D63-4F81-BA66-8D6D1489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A4BF4-63C5-4BB0-8E16-432A5B13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16440-4B91-4B23-86C9-C28785E3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48987-DF8F-4635-8271-045E3D7D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5435F-ACA4-49BF-80DA-36DED24E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6392A0-E6FD-4A9F-BA02-F28237EE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CAF80-4028-44A2-B4DC-CCB01777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8A3CD-88AF-46D0-97AF-0B2B1A008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D240-7E52-4BB8-8D88-21F1D29D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1DA5A-3C6F-4BCD-BBDE-2CF01E67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53FC-30AB-4337-82C3-B2217578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27DAF-8ECC-4DA9-B0C3-F3CCD4CD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32C45-DECC-4CBB-8C3D-89B53E8E1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9EA00-7638-4483-9A35-D5822B85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C14FF-BFEC-4E78-A2DB-C31CB148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C1967-9798-4626-8587-B7FC4E03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22104-6A99-430F-8A6E-186012E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45C61-A92B-4C7D-849F-26D74AA1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4AC62-7DF2-4E38-BAFF-F193B741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2E3A-C54A-4636-A11F-82631E02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5F548-04A0-4B0F-91BF-04B71F0F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B8AAB-E3CA-4A44-8B64-E53C3575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9E669-D598-482C-A7BF-4ABF469C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8FE6C-1A51-449E-AC78-459159C7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7F07E-954F-490D-8600-54170A4E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F9049-CFD8-4C2D-B21F-967F30A0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48709-FB98-4B1F-BBE1-D0FB74EC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C29D6-2842-4EBA-B541-E1C2E7D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C03A9-BA2E-4411-B9DA-B0EC1199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0B42D-AA4D-4F32-A98D-FA5F3D22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379-533F-4F74-A26F-E52A2E45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99DFF-7C8A-46C3-BA9D-1E721050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C1A26-CF0B-4781-AEF0-E7321EAC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53F76-2303-4238-BC0E-92815A06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89792-55A9-4319-AB89-9EC4F232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AD2D5-6FE4-433E-B7E2-38B3945E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6511A-D724-49D9-8A3A-0DF8CE4E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0228C-91FB-4742-8639-83591D74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3B7E8-4CB9-435C-8BC0-BF017114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2CACD-ADDF-42CF-AB7F-AA7650FB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50FA7-EE7C-44F4-904A-6CA584E5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5745-F391-428F-A755-5F8792E6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6C5A3-D56D-4BC8-80B0-BFA19080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80086-5A9A-4A63-A11B-C3290235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8BFD3-72EF-43CA-BE88-7A1E81A0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95531-8CAD-4C42-BD2B-7A8C65905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153CE-1FFE-40E2-9EA5-92A64043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EA8B0-9797-4664-B1AA-12B750D1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AFC83-A3EA-44D5-9499-494168CC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74DC7-75C5-4C68-BE3F-8320A489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BC88C-750C-4166-9D1B-8C420833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B8D7D-F6D4-49FC-8D22-0D90BE5F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3C9-00CE-4085-8910-D3585160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2E4C7-33D8-4CA3-8B34-571C3C1B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BC437C-AB59-48A6-A48A-E0F8403E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4BB18-885E-447A-8662-649BDC33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4A8FD-A03F-4E75-81C6-C1E3FCA6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F6435-E98B-4E7E-9B51-4EDC75D4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A4A58-E0A4-4A1C-9295-A6C2D894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DBCE9-B905-45FA-BF08-9595E8E3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C99B-AD4D-4203-95B1-D883F91808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8" name="Полилиния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Text Box 18"/>
              <p:cNvSpPr/>
              <p:nvPr/>
            </p:nvSpPr>
            <p:spPr>
              <a:xfrm>
                <a:off x="8280" y="50000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Прямая соединительная линия 20" descr=""/>
            <p:cNvPicPr/>
            <p:nvPr/>
          </p:nvPicPr>
          <p:blipFill>
            <a:blip r:embed="rId5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46613-A437-439A-AD0D-4A0C95375C2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8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1BDA-905B-4921-9538-54584B81AA9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407D-E072-4E6B-92E8-A724B7ABCC3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0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550A-92D1-46BD-B765-16F5EACFBC8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48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61E2-B748-444F-901E-DCD0F3E647E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95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709D-8B43-485E-A0BE-190E307B3A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2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45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48" name="Прямоугольный треугольник 16" descr=""/>
            <p:cNvPicPr/>
            <p:nvPr/>
          </p:nvPicPr>
          <p:blipFill>
            <a:blip r:embed="rId4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Прямая соединительная линия 18" descr=""/>
          <p:cNvPicPr/>
          <p:nvPr/>
        </p:nvPicPr>
        <p:blipFill>
          <a:blip r:embed="rId5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5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DC1A-0C58-41A5-ADBF-C2C1F95220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  <p:pic>
        <p:nvPicPr>
          <p:cNvPr id="395" name="Rectangle 5" descr=""/>
          <p:cNvPicPr/>
          <p:nvPr/>
        </p:nvPicPr>
        <p:blipFill>
          <a:blip r:embed="rId2"/>
          <a:stretch/>
        </p:blipFill>
        <p:spPr>
          <a:xfrm>
            <a:off x="0" y="2000160"/>
            <a:ext cx="8602560" cy="1225800"/>
          </a:xfrm>
          <a:prstGeom prst="rect">
            <a:avLst/>
          </a:prstGeom>
          <a:ln w="0">
            <a:noFill/>
          </a:ln>
        </p:spPr>
      </p:pic>
      <p:sp>
        <p:nvSpPr>
          <p:cNvPr id="396" name="Содержимое 2"/>
          <p:cNvSpPr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285840" y="1571760"/>
          <a:ext cx="8286840" cy="3887640"/>
        </p:xfrm>
        <a:graphic>
          <a:graphicData uri="http://schemas.openxmlformats.org/drawingml/2006/table">
            <a:tbl>
              <a:tblPr/>
              <a:tblGrid>
                <a:gridCol w="714240"/>
                <a:gridCol w="1928880"/>
                <a:gridCol w="1924200"/>
                <a:gridCol w="2147760"/>
                <a:gridCol w="1571760"/>
              </a:tblGrid>
              <a:tr h="140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пература сухого термоме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емпература влажного термоме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ность показаний сухого и влажного термомет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лаж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цент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da1f28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TextBox 3"/>
          <p:cNvSpPr/>
          <p:nvPr/>
        </p:nvSpPr>
        <p:spPr>
          <a:xfrm>
            <a:off x="357120" y="92880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олните табли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Заголовок 6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Box 5"/>
          <p:cNvSpPr/>
          <p:nvPr/>
        </p:nvSpPr>
        <p:spPr>
          <a:xfrm>
            <a:off x="214200" y="1143000"/>
            <a:ext cx="8429760" cy="137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Выполните лабораторную работ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«Определение влажности воздуха в классной комнате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5" name="TextBox 4"/>
          <p:cNvSpPr/>
          <p:nvPr/>
        </p:nvSpPr>
        <p:spPr>
          <a:xfrm>
            <a:off x="285840" y="1071720"/>
            <a:ext cx="84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ьте на вопросы и запишите ответ в таблицу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428840" y="1928880"/>
          <a:ext cx="5643360" cy="3047760"/>
        </p:xfrm>
        <a:graphic>
          <a:graphicData uri="http://schemas.openxmlformats.org/drawingml/2006/table">
            <a:tbl>
              <a:tblPr/>
              <a:tblGrid>
                <a:gridCol w="2881080"/>
                <a:gridCol w="27622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№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опро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Вариант отве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1" descr=""/>
          <p:cNvPicPr/>
          <p:nvPr/>
        </p:nvPicPr>
        <p:blipFill>
          <a:blip r:embed="rId1"/>
          <a:stretch/>
        </p:blipFill>
        <p:spPr>
          <a:xfrm>
            <a:off x="291960" y="353880"/>
            <a:ext cx="8444160" cy="1150920"/>
          </a:xfrm>
          <a:prstGeom prst="rect">
            <a:avLst/>
          </a:prstGeom>
          <a:ln w="0">
            <a:noFill/>
          </a:ln>
        </p:spPr>
      </p:pic>
      <p:sp>
        <p:nvSpPr>
          <p:cNvPr id="438" name="TextBox 2"/>
          <p:cNvSpPr/>
          <p:nvPr/>
        </p:nvSpPr>
        <p:spPr>
          <a:xfrm>
            <a:off x="714240" y="1714680"/>
            <a:ext cx="77155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§ 19, вопросы на стр.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я: определить влажность воздуха в вашей кварт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2462040"/>
            <a:ext cx="885204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5" descr="Насыщенный пар"/>
          <p:cNvPicPr/>
          <p:nvPr/>
        </p:nvPicPr>
        <p:blipFill>
          <a:blip r:embed="rId1"/>
          <a:stretch/>
        </p:blipFill>
        <p:spPr>
          <a:xfrm>
            <a:off x="2357280" y="714240"/>
            <a:ext cx="4929480" cy="3819600"/>
          </a:xfrm>
          <a:prstGeom prst="rect">
            <a:avLst/>
          </a:prstGeom>
          <a:ln w="0">
            <a:noFill/>
          </a:ln>
        </p:spPr>
      </p:pic>
      <p:pic>
        <p:nvPicPr>
          <p:cNvPr id="398" name="Rectangle 4" descr=""/>
          <p:cNvPicPr/>
          <p:nvPr/>
        </p:nvPicPr>
        <p:blipFill>
          <a:blip r:embed="rId2"/>
          <a:stretch/>
        </p:blipFill>
        <p:spPr>
          <a:xfrm>
            <a:off x="706320" y="-66600"/>
            <a:ext cx="7231320" cy="8650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57120" y="4500720"/>
            <a:ext cx="842976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ар, находящийся в динамическом равновесии со своей жидкостью, называется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Lucida Sans Unicode"/>
              </a:rPr>
              <a:t>насыщенным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ар, не находящийся в состоянии равновесия со своей жидкостью, называется </a:t>
            </a:r>
            <a:r>
              <a:rPr b="0" lang="ru-RU" sz="2400" spc="-1" strike="noStrike">
                <a:solidFill>
                  <a:srgbClr val="ff0000"/>
                </a:solidFill>
                <a:latin typeface="Lucida Sans Unicode"/>
              </a:rPr>
              <a:t>ненасыщенным.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оказывает, сколько граммов водяного пара содержится в воздухе объемом 1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 при данных условиях, т.е. плотность водяного пара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845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"/>
          <p:cNvPicPr/>
          <p:nvPr/>
        </p:nvPicPr>
        <p:blipFill>
          <a:blip r:embed="rId2"/>
          <a:srcRect l="28911" t="0" r="48609" b="58691"/>
          <a:stretch/>
        </p:blipFill>
        <p:spPr>
          <a:xfrm>
            <a:off x="7500960" y="571680"/>
            <a:ext cx="10000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28760" y="164304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Lucida Sans Unicode"/>
              </a:rPr>
              <a:t>называется отношение абсолютной влажности воздуха     к плотности насыщенного пара при той же температуре, выраженное в процентах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66320" cy="149400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3964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2"/>
          <a:stretch/>
        </p:blipFill>
        <p:spPr>
          <a:xfrm>
            <a:off x="2286000" y="4929120"/>
            <a:ext cx="4448160" cy="17287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7" descr=""/>
          <p:cNvPicPr/>
          <p:nvPr/>
        </p:nvPicPr>
        <p:blipFill>
          <a:blip r:embed="rId3"/>
          <a:srcRect l="0" t="28934" r="88760" b="33893"/>
          <a:stretch/>
        </p:blipFill>
        <p:spPr>
          <a:xfrm>
            <a:off x="5715000" y="8571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7" descr=""/>
          <p:cNvPicPr/>
          <p:nvPr/>
        </p:nvPicPr>
        <p:blipFill>
          <a:blip r:embed="rId4"/>
          <a:srcRect l="28911" t="0" r="48609" b="58691"/>
          <a:stretch/>
        </p:blipFill>
        <p:spPr>
          <a:xfrm>
            <a:off x="8143920" y="2071800"/>
            <a:ext cx="1000080" cy="71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5"/>
          <a:srcRect l="27303" t="49596" r="48609" b="0"/>
          <a:stretch/>
        </p:blipFill>
        <p:spPr>
          <a:xfrm>
            <a:off x="8072280" y="2500200"/>
            <a:ext cx="107172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407880" y="652320"/>
            <a:ext cx="8291520" cy="206712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2" descr=""/>
          <p:cNvPicPr/>
          <p:nvPr/>
        </p:nvPicPr>
        <p:blipFill>
          <a:blip r:embed="rId2"/>
          <a:stretch/>
        </p:blipFill>
        <p:spPr>
          <a:xfrm>
            <a:off x="500040" y="3143160"/>
            <a:ext cx="3776760" cy="321480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3" descr=""/>
          <p:cNvPicPr/>
          <p:nvPr/>
        </p:nvPicPr>
        <p:blipFill>
          <a:blip r:embed="rId3"/>
          <a:stretch/>
        </p:blipFill>
        <p:spPr>
          <a:xfrm>
            <a:off x="5000760" y="3143160"/>
            <a:ext cx="38574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Скругленный прямоугольник 2"/>
          <p:cNvSpPr/>
          <p:nvPr/>
        </p:nvSpPr>
        <p:spPr>
          <a:xfrm>
            <a:off x="2214720" y="571680"/>
            <a:ext cx="5786280" cy="1071360"/>
          </a:xfrm>
          <a:prstGeom prst="roundRect">
            <a:avLst>
              <a:gd name="adj" fmla="val 4653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пособы определения влажности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Скругленный прямоугольник 3"/>
          <p:cNvSpPr/>
          <p:nvPr/>
        </p:nvSpPr>
        <p:spPr>
          <a:xfrm>
            <a:off x="1285920" y="2286000"/>
            <a:ext cx="2857320" cy="714240"/>
          </a:xfrm>
          <a:prstGeom prst="roundRect">
            <a:avLst>
              <a:gd name="adj" fmla="val 4653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гигрометры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Скругленный прямоугольник 4"/>
          <p:cNvSpPr/>
          <p:nvPr/>
        </p:nvSpPr>
        <p:spPr>
          <a:xfrm>
            <a:off x="5429160" y="2286000"/>
            <a:ext cx="2857680" cy="714240"/>
          </a:xfrm>
          <a:prstGeom prst="roundRect">
            <a:avLst>
              <a:gd name="adj" fmla="val 4653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сихроме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7" name="Прямая со стрелкой 6"/>
          <p:cNvCxnSpPr/>
          <p:nvPr/>
        </p:nvCxnSpPr>
        <p:spPr>
          <a:xfrm flipH="1">
            <a:off x="2571120" y="1643040"/>
            <a:ext cx="178668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8" name="Прямая со стрелкой 8"/>
          <p:cNvCxnSpPr/>
          <p:nvPr/>
        </p:nvCxnSpPr>
        <p:spPr>
          <a:xfrm>
            <a:off x="5285880" y="1643040"/>
            <a:ext cx="178668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Прямая со стрелкой 13"/>
          <p:cNvCxnSpPr>
            <a:stCxn id="415" idx="2"/>
            <a:endCxn id="420" idx="0"/>
          </p:cNvCxnSpPr>
          <p:nvPr/>
        </p:nvCxnSpPr>
        <p:spPr>
          <a:xfrm flipH="1">
            <a:off x="1714320" y="2999880"/>
            <a:ext cx="100080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1" name="Прямая со стрелкой 14"/>
          <p:cNvCxnSpPr>
            <a:stCxn id="415" idx="2"/>
          </p:cNvCxnSpPr>
          <p:nvPr/>
        </p:nvCxnSpPr>
        <p:spPr>
          <a:xfrm>
            <a:off x="2713680" y="2999880"/>
            <a:ext cx="1929240" cy="142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0" name="Скругленный прямоугольник 15"/>
          <p:cNvSpPr/>
          <p:nvPr/>
        </p:nvSpPr>
        <p:spPr>
          <a:xfrm>
            <a:off x="0" y="4429080"/>
            <a:ext cx="3429000" cy="642960"/>
          </a:xfrm>
          <a:prstGeom prst="roundRect">
            <a:avLst>
              <a:gd name="adj" fmla="val 4653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денсацион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кругленный прямоугольник 16"/>
          <p:cNvSpPr/>
          <p:nvPr/>
        </p:nvSpPr>
        <p:spPr>
          <a:xfrm>
            <a:off x="3857760" y="4429080"/>
            <a:ext cx="2857320" cy="714600"/>
          </a:xfrm>
          <a:prstGeom prst="roundRect">
            <a:avLst>
              <a:gd name="adj" fmla="val 46532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лосной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Rectangle 8" descr=""/>
          <p:cNvPicPr/>
          <p:nvPr/>
        </p:nvPicPr>
        <p:blipFill>
          <a:blip r:embed="rId1"/>
          <a:stretch/>
        </p:blipFill>
        <p:spPr>
          <a:xfrm>
            <a:off x="-122400" y="1706400"/>
            <a:ext cx="4449960" cy="2084400"/>
          </a:xfrm>
          <a:prstGeom prst="rect">
            <a:avLst/>
          </a:prstGeom>
          <a:ln w="0">
            <a:noFill/>
          </a:ln>
        </p:spPr>
      </p:pic>
      <p:pic>
        <p:nvPicPr>
          <p:cNvPr id="424" name="Рисунок 6" descr="C:\Documents and Settings\Алла\Мои документы\Мои рисунки\img2.jpg"/>
          <p:cNvPicPr/>
          <p:nvPr/>
        </p:nvPicPr>
        <p:blipFill>
          <a:blip r:embed="rId2"/>
          <a:stretch/>
        </p:blipFill>
        <p:spPr>
          <a:xfrm>
            <a:off x="3929040" y="500040"/>
            <a:ext cx="50068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Рисунок 5" descr=""/>
          <p:cNvPicPr/>
          <p:nvPr/>
        </p:nvPicPr>
        <p:blipFill>
          <a:blip r:embed="rId1"/>
          <a:stretch/>
        </p:blipFill>
        <p:spPr>
          <a:xfrm>
            <a:off x="4000680" y="357120"/>
            <a:ext cx="4929120" cy="6313680"/>
          </a:xfrm>
          <a:prstGeom prst="rect">
            <a:avLst/>
          </a:prstGeom>
          <a:ln w="0">
            <a:noFill/>
          </a:ln>
        </p:spPr>
      </p:pic>
      <p:pic>
        <p:nvPicPr>
          <p:cNvPr id="426" name="Заголовок 2" descr=""/>
          <p:cNvPicPr/>
          <p:nvPr/>
        </p:nvPicPr>
        <p:blipFill>
          <a:blip r:embed="rId2"/>
          <a:stretch/>
        </p:blipFill>
        <p:spPr>
          <a:xfrm>
            <a:off x="353880" y="2279520"/>
            <a:ext cx="32972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5" descr=""/>
          <p:cNvPicPr/>
          <p:nvPr/>
        </p:nvPicPr>
        <p:blipFill>
          <a:blip r:embed="rId1"/>
          <a:stretch/>
        </p:blipFill>
        <p:spPr>
          <a:xfrm>
            <a:off x="219240" y="2457360"/>
            <a:ext cx="4071600" cy="76212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5" descr="http://www.fizika.ru/theory/tema-08/08l-i2.gif"/>
          <p:cNvPicPr/>
          <p:nvPr/>
        </p:nvPicPr>
        <p:blipFill>
          <a:blip r:embed="rId2"/>
          <a:stretch/>
        </p:blipFill>
        <p:spPr>
          <a:xfrm>
            <a:off x="4929120" y="214200"/>
            <a:ext cx="4000680" cy="653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7:03:53Z</dcterms:created>
  <dc:creator>Алла</dc:creator>
  <dc:description/>
  <dc:language>en-US</dc:language>
  <cp:lastModifiedBy>user</cp:lastModifiedBy>
  <dcterms:modified xsi:type="dcterms:W3CDTF">2016-11-17T18:24:36Z</dcterms:modified>
  <cp:revision>45</cp:revision>
  <dc:subject/>
  <dc:title>Фазовые переход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