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07F-EAED-485B-90A3-59A053ED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D49-5A4D-4EDA-8721-2C401E1F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8BDA-0BD8-4B48-AEAD-208F85D96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C205-751F-430F-80CB-027EE6C7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8A91-F270-4865-B4B9-963B82E3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6557-0AB8-47DA-9AAA-48E38DA0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C53-5678-4FA5-946C-06648D35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6F41-BC2E-4BA2-B6EA-A561B789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9B75-B8D3-4A24-90A2-3DBBFE72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27B-45DD-4595-AE07-8E15584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BC8-B2DE-423D-90B3-8B24D6DA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2D6-20E8-4348-B045-249A23F4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67DDB-A2DC-4994-B008-89CB6DAA3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chool-33orel.ucoz.ru/2/vpr_2017_bi_5_opisanie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22860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выступ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Анализ результатов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ВПР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 БИОЛОГ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5 КЛАСС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дготовила Лаврова О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химии и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 «СОШ с.Перекопно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C900432586[1]"/>
          <p:cNvPicPr/>
          <p:nvPr/>
        </p:nvPicPr>
        <p:blipFill>
          <a:blip r:embed="rId1"/>
          <a:stretch/>
        </p:blipFill>
        <p:spPr>
          <a:xfrm>
            <a:off x="807732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MC900432586[1]"/>
          <p:cNvPicPr/>
          <p:nvPr/>
        </p:nvPicPr>
        <p:blipFill>
          <a:blip r:embed="rId2"/>
          <a:stretch/>
        </p:blipFill>
        <p:spPr>
          <a:xfrm>
            <a:off x="38088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6" descr="https://img2.labirint.ru/books/580178/coverbig.jpg"/>
          <p:cNvPicPr/>
          <p:nvPr/>
        </p:nvPicPr>
        <p:blipFill>
          <a:blip r:embed="rId3"/>
          <a:stretch/>
        </p:blipFill>
        <p:spPr>
          <a:xfrm>
            <a:off x="609480" y="2514600"/>
            <a:ext cx="19051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тистика по отметкам в %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8077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тистика по образовательным организациям  в %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Содержимое 3" descr=""/>
          <p:cNvPicPr/>
          <p:nvPr/>
        </p:nvPicPr>
        <p:blipFill>
          <a:blip r:embed="rId1"/>
          <a:stretch/>
        </p:blipFill>
        <p:spPr>
          <a:xfrm>
            <a:off x="-6480" y="1292400"/>
            <a:ext cx="915696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Статистика по отметкам в сравнении с результатами в Саратовской области и всей выборкой РФ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3" descr=""/>
          <p:cNvPicPr/>
          <p:nvPr/>
        </p:nvPicPr>
        <p:blipFill>
          <a:blip r:embed="rId1"/>
          <a:stretch/>
        </p:blipFill>
        <p:spPr>
          <a:xfrm>
            <a:off x="450720" y="1974960"/>
            <a:ext cx="824256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Диаграмма успеваемости и качества по образовательным  организация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одержимое 3" descr=""/>
          <p:cNvPicPr/>
          <p:nvPr/>
        </p:nvPicPr>
        <p:blipFill>
          <a:blip r:embed="rId1"/>
          <a:stretch/>
        </p:blipFill>
        <p:spPr>
          <a:xfrm>
            <a:off x="-6480" y="1822320"/>
            <a:ext cx="915696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 участников ВПР недостаточно сформировано и (или) не отработано ум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ть и преобразовывать знаки и симв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здавать, модели и схемы для решения учебных и познавательных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причинно-следственные связ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ить логическое рассуждение, умозаключение (индуктивное, дедуктивное и по аналоги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лать выво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нно использовать речевые средства в соответствии с задачей коммун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У участников ВПР недостаточно сформировано и (или) не отработано ум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амках ВПР наряду с предметными результатами обучения включены задания, посредством которых оцениваются также метапредметные результа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Р показали, что такие задания вызывают затруднения у всех групп уча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https://im0-tub-ru.yandex.net/i?id=d1d7efcf9e9e0d87a9e5f730f3422aa0-l&amp;n=13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chool-33orel.ucoz.ru/2/vpr_2017_bi_5_opisani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е элементы и фон презентации используются из коллек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Offis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акова Наталия Владимировна преподават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химии и биологии ГОУ НПО Архангельской области «Профессиональное училище №31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"/>
          <p:cNvSpPr/>
          <p:nvPr/>
        </p:nvSpPr>
        <p:spPr>
          <a:xfrm>
            <a:off x="380880" y="457200"/>
            <a:ext cx="8458200" cy="60199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ие проверочные работы (ВПР) проводя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целях осуществления мониторинга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хода на ФГОС и направлены на выявление уровня подготовки школь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начение ВПР по учебному предмету «Биология» – оценить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образовательной подготовки учащихся 5 классов в соответствии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ебованиями ФГОС. ВПР позволяют осуществить диагностику дости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метных и метапредметных результатов, в том числе овла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предметными понятиями и способность использования универсаль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бных действий (УУД) в учебной, познавательной и социальной практи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ВПР в совокупности с имеющейся в общеобразовате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и информацией, отражающей индивидуальные образов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ектории обучающихся, могут быть использованы для оценки личнос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ов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4"/>
          <p:cNvSpPr/>
          <p:nvPr/>
        </p:nvSpPr>
        <p:spPr>
          <a:xfrm>
            <a:off x="380880" y="457200"/>
            <a:ext cx="8458200" cy="60199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редусмотр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результатов ВПР для 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и общеобразовательных организаци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, муниципаль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ональных органов исполнительной власт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ое управление в сфере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4"/>
          <p:cNvSpPr/>
          <p:nvPr/>
        </p:nvSpPr>
        <p:spPr>
          <a:xfrm>
            <a:off x="380880" y="457200"/>
            <a:ext cx="8458200" cy="60199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ение биологии в 5 класс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ание ВПР по биологии для 5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зируются на образовательных результата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воения обучающимися предм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Окружающий мир» в начальной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MC900432586[1]"/>
          <p:cNvPicPr/>
          <p:nvPr/>
        </p:nvPicPr>
        <p:blipFill>
          <a:blip r:embed="rId1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спределение заданий по уровню слож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752480"/>
          <a:ext cx="8229600" cy="43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 слож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первичный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(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комендации по переводу первичных баллов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отметки по пятибалльной шкал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3200400"/>
          <a:ext cx="8229600" cy="325440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Отметка по пятибалльной шкал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3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4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«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чные бал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ённый план варианта всероссийской проверочной работы по биологии, 5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2362320"/>
          <a:ext cx="8229600" cy="4479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зад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ное время выполнения в минута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нализ результатов ВПР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 учебному предмету «Биология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в 5 класса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ПР в режиме апробации приняли участие  330 обучающийся 5-х классов из  22 учреждений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ршовского рай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чество знаний участников ВПР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4,9 %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это означает, что более половины пятиклассников освоили учебную программу по биологии на «4» и «5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нализ результатов ВПР 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о учебному предмету «Биология»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 в 5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учреждениях  Ершовского района на неудовлетворительную отметку написали ВПР  10 % участников 5-х классов, то есть успеваемость составляет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 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User</cp:lastModifiedBy>
  <dcterms:modified xsi:type="dcterms:W3CDTF">2017-08-27T21:06:5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