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7D4-CB1B-44AA-A5CB-2970E490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1FE-714E-4AA9-B6A8-EBD4AFC5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CD4-5926-4342-9256-29DCD0A9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03C-67A2-46D5-B605-F75B0094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99D-2828-4234-B9A8-2FE3ED8D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C59-31EF-4D16-A4B4-07E4C26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D96-79AC-4AB3-A9DF-1A09C9D7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0A9-C1E4-44AB-AFF2-A8AE48B0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A31-A60E-4DC2-AD54-B56DD19B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6B9-6D54-4CDE-97DE-E93EB2F0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454-FF63-419F-A64D-1F1935A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45C-418F-4A42-BD07-4D4BE14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8A55-35D2-4E78-8B52-F74737503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-33orel.ucoz.ru/2/vpr_2017_bi_5_opisanie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выступ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Анализ результат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ПР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БИОЛОГ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5 КЛАСС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Лаврова О.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химии и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 «СОШ с.Перекопн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MC900432586[1]"/>
          <p:cNvPicPr/>
          <p:nvPr/>
        </p:nvPicPr>
        <p:blipFill>
          <a:blip r:embed="rId1"/>
          <a:stretch/>
        </p:blipFill>
        <p:spPr>
          <a:xfrm>
            <a:off x="8077320" y="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MC900432586[1]"/>
          <p:cNvPicPr/>
          <p:nvPr/>
        </p:nvPicPr>
        <p:blipFill>
          <a:blip r:embed="rId2"/>
          <a:stretch/>
        </p:blipFill>
        <p:spPr>
          <a:xfrm>
            <a:off x="38088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https://img2.labirint.ru/books/580178/coverbig.jpg"/>
          <p:cNvPicPr/>
          <p:nvPr/>
        </p:nvPicPr>
        <p:blipFill>
          <a:blip r:embed="rId3"/>
          <a:stretch/>
        </p:blipFill>
        <p:spPr>
          <a:xfrm>
            <a:off x="609480" y="2514600"/>
            <a:ext cx="1905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тистика по отметкам в %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тистика по образовательным организациям  в %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-6480" y="1292400"/>
            <a:ext cx="915696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тистика по отметкам в сравнении с результатами в Саратовской области и всей выборкой Р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82425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иаграмма успеваемости и качества по образовательным  организация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-6480" y="1822320"/>
            <a:ext cx="91569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 участников ВПР недостаточно сформировано и (или) не отработано ум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ть и преобразовывать знаки и симв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вать, модели и схемы для решения учеб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ить логическое рассуждение, умозаключение (индуктивное, дедуктивное и по аналог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но использовать речевые средства в соответствии с задачей коммун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 участников ВПР недостаточно сформировано и (или) не отработано ум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мках ВПР наряду с предметными результатами обучения включены задания, посредством которых оцениваются также метапредмет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Р показали, что такие задания вызывают затруднения у всех групп уча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https://im0-tub-ru.yandex.net/i?id=d1d7efcf9e9e0d87a9e5f730f3422aa0-l&amp;n=13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33orel.ucoz.ru/2/vpr_2017_bi_5_opisani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е элементы и фон презентации используются из колле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акова Наталия Владимировна 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имии и биологии ГОУ НПО Архангельской области «Профессиональное училище №31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380880" y="457200"/>
            <a:ext cx="8458200" cy="60199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ие проверочные работы (ВПР) проводя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осуществления мониторинга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а на ФГОС и направлены на выявление уровня подготовки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ВПР по учебному предмету «Биология» – оценить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образовательной подготовки учащихся 5 классов в соответстви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ми ФГОС. ВПР позволяют осуществить диагностику 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 и метапредметных результатов, в том числе овла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предметными понятиями и способность использования универс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х действий (УУД) в учебной, познавательной и социальной прак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ВПР в совокупности с имеющейся в общеобразова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 информацией, отражающей индивидуальные образо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ектории обучающихся, могут быть использованы для оценки лично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MC900432586[1]"/>
          <p:cNvPicPr/>
          <p:nvPr/>
        </p:nvPicPr>
        <p:blipFill>
          <a:blip r:embed="rId1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>
            <a:off x="380880" y="457200"/>
            <a:ext cx="8458200" cy="60199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едусмотр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зультатов ВПР для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и общеобразовательных организ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, муниципаль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альных органов исполнительной в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ое управление в сфере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C900432586[1]"/>
          <p:cNvPicPr/>
          <p:nvPr/>
        </p:nvPicPr>
        <p:blipFill>
          <a:blip r:embed="rId1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380880" y="457200"/>
            <a:ext cx="8458200" cy="60199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биологии в 5 класс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ВПР по биологии для 5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ируются на образовательных результат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я обучающимися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кружающий мир» в начальной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900432586[1]"/>
          <p:cNvPicPr/>
          <p:nvPr/>
        </p:nvPicPr>
        <p:blipFill>
          <a:blip r:embed="rId1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пределение заданий по уровню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75248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л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первичны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омендации по переводу первичных балл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отметки по пятибалльной шка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3200400"/>
          <a:ext cx="8229600" cy="3254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Отметка по пятибалльной шка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е б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ённый план варианта всероссийской проверочной работы по биологии, 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2362320"/>
          <a:ext cx="8229600" cy="4479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ое время выполнения в минут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нализ результатов ВПР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 учебному предмету «Биология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в 5 класс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ПР в режиме апробации приняли участие  330 обучающийся 5-х классов из  22 учреждени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ршовского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во знаний участников ВПР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4,9 %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 означает, что более половины пятиклассников освоили учебную программу по биологии на «4» и «5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нализ результатов ВПР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 учебному предмету «Биология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в 5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реждениях  Ершовского района на неудовлетворительную отметку написали ВПР  10 % участников 5-х классов, то есть успеваемость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8-27T21:06:5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