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E8BE-12DE-4EED-A6EE-C17CF54CD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2A3E-FA5A-434B-84A2-44F6177E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5FE-D7E1-4E0A-9406-3CB1B2ED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B29-5C71-49B9-BD63-2F5AF67A3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03B9FB-412F-4B53-A439-EA60A2DA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DD9AF-B1B5-43F1-94CC-7BEF31A3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99467-0124-4174-AD38-9C30DA18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0D5C3-5365-4EA2-9AEA-C3DCBE50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42EFB-3C28-4B2D-A80B-F5BF78C6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6DED3-4C26-4E25-A65F-F76C0420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F6B96-A7E8-4C68-A3B9-C2998629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308F-C9BD-4D94-B359-A9A8DB0F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88F159-D520-4B6F-B419-C6BE2ACB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A53EA-4B7A-432E-AB0F-3A04E3B2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04ED-2C4C-4405-AA5A-37A1D042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8F0C4-818E-4352-9EF1-AB144895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9B484-D70D-453D-ADAC-85376E34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9026A-B171-44BF-8E5E-A4C73F41A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6289A-FEC1-4655-839F-5A52F40B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B27F6-89BE-4D9D-9BD0-02D23DA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D1FCE-78C9-4C9C-B91F-4257DD58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65F7C-961F-4E7F-955F-B2684690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FD96-5D84-4E99-8478-64DE6D40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0B2A-0BD8-4FF7-997D-0C7E0D62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A834-1498-465C-8356-092551FD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C3EF7-79A8-4BCE-9BCF-EF80D512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04650-5DAF-4E37-8F11-B0CD2224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858F4-057C-407B-A9ED-2A72830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A58DB-C5BF-4B46-AC1F-5938D143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992EF-FED0-441C-8395-E4A2983A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14A590-F787-47FA-A0FB-734B513AD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79885E-7A50-4B47-9847-0199F003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D9318D-199E-4DFB-8663-39083A7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26D-D333-4137-88A9-F46C4D11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E73CC-7381-4A1C-AD6F-CF09EFD6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81D3E2-D125-4DC4-90AB-A1B5F485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9F2442-FC5D-4FC2-928E-2BC8F2B4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93D917-C048-433E-B03C-5291A4DF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7531D0-F6D1-44BD-B074-8D91EDA8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38E13C-F3C4-4BB1-B5DA-B9514D33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44FDFC-C7A5-4C70-BCC4-82B5AA1A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14106-29F9-40C3-A4ED-670701E9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8E540D-E680-4E01-8046-48478671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8DC5-9566-4D53-9139-72762CBF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927-C514-4CB6-9D95-ED8325772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965-0F4B-48D2-A741-0F6CB69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4182-C66B-4AE3-BCF5-946030D0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A60-DCB1-465E-8A7A-AB0468E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979D-2AAA-4786-89C2-5EE49C4E29A8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5E1D-3360-4717-A3AA-95FC2E11A8F2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6B7A-E61A-4D1C-8CAE-5C567FA6B47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D0F0-8BB4-48A8-AC87-9F1C531AE5FA}" type="slidenum">
              <a:rPr b="0" lang="ru-RU" sz="1600" spc="-1" strike="noStrike">
                <a:solidFill>
                  <a:srgbClr val="fefac9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285840" y="214200"/>
            <a:ext cx="835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Технология проблемного обучения на уроках русского язы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Прямоугольник 2"/>
          <p:cNvSpPr/>
          <p:nvPr/>
        </p:nvSpPr>
        <p:spPr>
          <a:xfrm>
            <a:off x="2071800" y="3357720"/>
            <a:ext cx="7072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Мышление начинается 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   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проблемной      ситуации. </a:t>
            </a:r>
            <a:br>
              <a:rPr sz="4000"/>
            </a:b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                  </a:t>
            </a:r>
            <a:r>
              <a:rPr b="0" lang="ru-RU" sz="4000" spc="-1" strike="noStrike" u="sng">
                <a:solidFill>
                  <a:srgbClr val="ffc000"/>
                </a:solidFill>
                <a:uFillTx/>
                <a:latin typeface="Tahoma"/>
              </a:rPr>
              <a:t>С.Л.Рубинштейн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0" y="6286680"/>
            <a:ext cx="91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Tahoma"/>
              </a:rPr>
              <a:t>Учитель ГБОУ СОШ № 1908 Ильинская Л.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одвести школьников к противоречию и предложить им самим найти способ его решения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Столкнуть противоречия в практической деятельност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Изложить различные точки зрения на один и тот же вопрос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редложить классу рассмотреть проблему с различных позици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onstantia"/>
              </a:rPr>
              <a:t>Побуждать школьников делать сравнения , обобщения, выводы из ситуаций, сопоставлять факты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955360" cy="15112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8604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2"/>
          <p:cNvSpPr/>
          <p:nvPr/>
        </p:nvSpPr>
        <p:spPr>
          <a:xfrm>
            <a:off x="214200" y="3068640"/>
            <a:ext cx="8715600" cy="3506760"/>
          </a:xfrm>
          <a:prstGeom prst="rect">
            <a:avLst/>
          </a:prstGeom>
          <a:noFill/>
          <a:ln w="0">
            <a:noFill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ahoma"/>
                <a:ea typeface="Times New Roman"/>
              </a:rPr>
              <a:t>Проблемная ситуация – состояние интеллектуального затруднения, которое требует поиска новых знаний и новых способов их получения. Проблемные ситуации различаются по ситуации неизвестного, по уровню проблемности, по виду «рассогласования» информации, по другим методическим особенност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Заголовок 1" descr=""/>
          <p:cNvPicPr/>
          <p:nvPr/>
        </p:nvPicPr>
        <p:blipFill>
          <a:blip r:embed="rId1"/>
          <a:stretch/>
        </p:blipFill>
        <p:spPr>
          <a:xfrm>
            <a:off x="450720" y="12600"/>
            <a:ext cx="8242560" cy="7794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"/>
          <p:cNvSpPr/>
          <p:nvPr/>
        </p:nvSpPr>
        <p:spPr>
          <a:xfrm>
            <a:off x="0" y="2214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Прямоугольник 3"/>
          <p:cNvSpPr/>
          <p:nvPr/>
        </p:nvSpPr>
        <p:spPr>
          <a:xfrm>
            <a:off x="0" y="928800"/>
            <a:ext cx="914400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Широкое применение технологии проблемного обучения на уроках связано с определёнными трудностями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А) Дефицитом учебного времени, в результате чего учащиеся не успевают самостоятельно пройти все этапы  познания учебного материала (мнений по проблеме бывает много, необходимо всех учащихся выслуша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Б) Неоднородным составом учащихся в классе. Часть школьников не готова к самостоятельной поисковой деятельности. При коллективном решении поставленных задач не упускать из вида слабых учащихся. После формулировки проблемы убедиться в том, что все учащиеся поняли смысл (для этого достаточно спросить одного – двух слабых учеников); не спешить с началом обсуждения, то есть не начинать его сразу, как только первый ученик поднимет руку; систематически спрашивать тех, кто не проявляет активност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В) Содержание учебников требует анализа их содержания. Необходимо выделить в учебниках темы, изложение которых отражает структуру цикла познания или методически легко осуществимо в логике цикла познания либо позволяет ярко выявить отдельные его этап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onstantia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28400" y="1856880"/>
            <a:ext cx="8001000" cy="36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Проблемное обучение является одним из наиболее эффективных средств активизации мышления ученика. Суть активности, достигаемой при проблемном обучении, заключается в том, что ученик должен анализировать фактический материал и оперировать им так, чтобы самому получить из него новую информацию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TextBox 34"/>
          <p:cNvSpPr/>
          <p:nvPr/>
        </p:nvSpPr>
        <p:spPr>
          <a:xfrm>
            <a:off x="285840" y="35712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СЛУШАЕ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ЗАБЫВАЕТЕ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ВИДИ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ПОНИМАЕТЕ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       </a:t>
            </a: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КОГДА ВЫ ДЕЙСТВУЕТЕ,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onstantia"/>
              </a:rPr>
              <a:t>ВЫ НАУЧАЕТЕСЬ</a:t>
            </a: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57120" y="-360"/>
            <a:ext cx="8786880" cy="64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onstantia"/>
              </a:rPr>
              <a:t>Проблемное обучение </a:t>
            </a: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– это тип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развивающего обучения,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в котором  сочетаетс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систематическ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самостоятельная поискова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Constantia"/>
              </a:rPr>
              <a:t>деятельность учащихся с усвоением ими готовых выводов наук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13840" y="1523520"/>
            <a:ext cx="4429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овую информацию учащиеся получают в ходе решения  теоретических и практических задач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Преодолевают все трудности, активность достигает высокого уровн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емп передачи сведений зависит от учащегося или группы учащих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Результаты относительно высокие и устойчивые, легко применяются полученные знания в новых ситуациях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57800" y="1523880"/>
            <a:ext cx="464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Материал дается в готовом вид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В устной подаче или через учебник возникают проблемы, вызванные временным выключением учащегося из дидактического процесс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Темп передачи информации ориентирован на более сильных, средних или слабых учащихся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</a:rPr>
              <a:t>Наибольшую трудность представляет применение информатизации в практик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533520" y="304920"/>
            <a:ext cx="7839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Сравнительная характеристи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облемного и традиционного обуч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Схема 1" descr=""/>
          <p:cNvPicPr/>
          <p:nvPr/>
        </p:nvPicPr>
        <p:blipFill>
          <a:blip r:embed="rId1"/>
          <a:stretch/>
        </p:blipFill>
        <p:spPr>
          <a:xfrm>
            <a:off x="-208080" y="-55440"/>
            <a:ext cx="9510840" cy="6937200"/>
          </a:xfrm>
          <a:prstGeom prst="rect">
            <a:avLst/>
          </a:prstGeom>
          <a:ln w="0">
            <a:noFill/>
          </a:ln>
        </p:spPr>
      </p:pic>
      <p:sp>
        <p:nvSpPr>
          <p:cNvPr id="178" name="Прямоугольник 2"/>
          <p:cNvSpPr/>
          <p:nvPr/>
        </p:nvSpPr>
        <p:spPr>
          <a:xfrm>
            <a:off x="3571920" y="1916280"/>
            <a:ext cx="2008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Особен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проблемного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ahoma"/>
              </a:rPr>
              <a:t>об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0" y="50400"/>
            <a:ext cx="914400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Tahoma"/>
                <a:ea typeface="Times New Roman"/>
              </a:rPr>
              <a:t>ТЕХНОЛОГИЯ ПРОБЛЕМНОГО ОБУЧ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                        </a:t>
            </a: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«ДЛЯ ТОГО, ЧТОБЫ УСОВЕРШЕНСТВОВАТЬ УМ, НАДО БОЛЬШЕ РАЗМЫШЛЯТЬ, ЧЕМ ЗАУЧИВАТЬ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                                                                                                                                                                                  </a:t>
            </a:r>
            <a:r>
              <a:rPr b="1" i="1" lang="ru-RU" sz="1200" spc="-1" strike="noStrike">
                <a:solidFill>
                  <a:srgbClr val="ffc000"/>
                </a:solidFill>
                <a:latin typeface="Tahoma"/>
                <a:ea typeface="Times New Roman"/>
              </a:rPr>
              <a:t>Р.ДЕКАР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785880"/>
          <a:ext cx="9144000" cy="7954920"/>
        </p:xfrm>
        <a:graphic>
          <a:graphicData uri="http://schemas.openxmlformats.org/drawingml/2006/table">
            <a:tbl>
              <a:tblPr/>
              <a:tblGrid>
                <a:gridCol w="1571760"/>
                <a:gridCol w="5357520"/>
                <a:gridCol w="2214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держание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80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Постановка пробле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Поиск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ражение реш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озникновение проблемной ситу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ы постановки учебной проблемы: побуждающий от проблемной ситуации диалог; подводящий к теме диалог; сообщение темы с мотивирующими приемами «яркое пятно» и «актуальность»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ознание противореч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ормулирование проблемы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тоды поиска решения: побуждающий к выдвижению и проверке гипотез диалог, подводящий к знанию диалог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дуктивные задания на воспроизведение знаний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ыражение нового знания научным языком в принятой форм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звитие коммуникативной компетентност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родукт – новое знание и формирование ключевых компетентност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</a:tbl>
          </a:graphicData>
        </a:graphic>
      </p:graphicFrame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1905120"/>
            <a:ext cx="4038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Объяснение нового материал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Актуализация знаний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nstantia"/>
              </a:rPr>
              <a:t>Закрепление материала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1066680" y="304920"/>
            <a:ext cx="7162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На каких этапах уро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можно использоват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роблемный метод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920" y="1988640"/>
            <a:ext cx="864216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1. Подготовка к восприятию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buClr>
                <a:srgbClr val="f3a447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2. Создание проблемной ситуац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3. Формулирование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4. Процесс решения проблем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c000"/>
                </a:solidFill>
                <a:latin typeface="Constantia"/>
              </a:rPr>
              <a:t>5. Доказательство правильности избранного решения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450720" y="-49320"/>
            <a:ext cx="8242560" cy="142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57120" y="214200"/>
          <a:ext cx="8501040" cy="6357960"/>
        </p:xfrm>
        <a:graphic>
          <a:graphicData uri="http://schemas.openxmlformats.org/drawingml/2006/table">
            <a:tbl>
              <a:tblPr/>
              <a:tblGrid>
                <a:gridCol w="2062080"/>
                <a:gridCol w="3605400"/>
                <a:gridCol w="2833560"/>
              </a:tblGrid>
              <a:tr h="124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Уровен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Деяте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учащего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формулирует и реша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Запоминает решение проблем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4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, формулиру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Решае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Стави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Формулирует и решает проблему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Проводит общую организацию, контроль и умелое руководство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Осознает проблему, формулирует и решает её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85480" y="1523880"/>
            <a:ext cx="8643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Проблемное изложение материал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Поисковая беседа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Constantia"/>
              </a:rPr>
              <a:t>Самостоятельная поисковая и исследовательская деятельность учащегося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50720" y="-182520"/>
            <a:ext cx="8242560" cy="156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00:40:54Z</dcterms:created>
  <dc:creator>Sixizm</dc:creator>
  <dc:description/>
  <dc:language>en-US</dc:language>
  <cp:lastModifiedBy>ар</cp:lastModifiedBy>
  <dcterms:modified xsi:type="dcterms:W3CDTF">2012-05-15T16:28:45Z</dcterms:modified>
  <cp:revision>32</cp:revision>
  <dc:subject/>
  <dc:title>Слайд 1</dc:title>
</cp:coreProperties>
</file>