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714-2A00-4245-AD76-2C346665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C60-3E90-467D-BC0B-29A25C4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CB4-330C-4D59-99B0-DDCD024F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485-ED18-424F-9B1F-D568B429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31893-904F-488A-85F8-8941A527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294DE-0D08-4833-9F78-9ACEEA2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F0F9-BBA3-4826-A7EE-D2F56E9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F2CD2-3992-4383-AF33-DFA3726A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91683-0DF0-4B8B-B35F-B8FE739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178CF-C5F4-4766-988C-A5E0E00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E352D-8F6F-466B-AC93-5DEE418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F0A-BF41-4C19-BA72-2E22E59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ABB51-2B24-4B8C-AD6A-8BE7893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FFCB-9E57-4EDE-958F-3D36813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1435-7B26-4B46-8CA9-BAA39FF7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F6FBD-AD69-4C19-9454-6A5B8D60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84791-663F-49F1-BF58-795B6239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1140-F8FF-44FF-8598-744D495F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3E94-7009-44B7-8185-D4B3E43E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88BE-24F7-479F-83A1-7C7A781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F245-A575-4CD2-9FE3-F29B729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178E-58B6-4566-AF97-B3EC24A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3E6-C3F5-44BD-A2DF-290F4429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7E21-BC1A-4588-9838-37D74C7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3643-9287-4DDB-B7CB-2D10D4B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D35C-E0D9-4281-94DC-448C125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53A5-10BA-4065-9A74-CC5D6020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20A8-BCD3-4C4C-9AAE-8D9C0EB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75CE-8A53-429D-A9CA-FCF5B77B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50E2-472A-490E-9F4D-AF00CB3F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5E32E-1AB4-4EED-82F7-6F9B752F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EE574-3D9F-47E8-9A57-075B36C7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2AA3D-7139-4748-93D2-166A7699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148-1090-49B0-B68F-488C0CBD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A5B7D-4935-49BB-AA44-B993D5E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33492-6B7C-4F5A-9814-49376601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5F2BF-BBF9-42B6-B6E9-1C784A9B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ECC94-7084-46D6-B987-186303D0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849E2-893B-4B70-9E29-CB8B5EE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99133-4885-415C-A23C-854D95E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764EA-CE50-426A-A734-A65E66C2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B0D0A-3F12-43F2-8C3D-47FDA2A2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31C41-4820-46AC-BE57-71964225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10D-0A95-40BF-83E4-BB2AB489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8A9-EDFA-4B65-858A-EFBDA13A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984-B4EB-45AC-A3C5-F7D36C3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BA2-1278-422A-8B0D-DD2E7B7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C35-2658-4A54-A5B2-07CCD64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597-1C6D-4E17-82EC-39784F932168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42B8-85DC-443C-81BC-BF02E82571B3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EE5-6256-43B3-A619-B5386BDCB3ED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A7F9-1630-452D-B803-02A00B212769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285840" y="21420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Технология проблемного обучения на уроках русского язы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2071800" y="3357720"/>
            <a:ext cx="70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Мышление начинается 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проблемной      ситуации. </a:t>
            </a: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                  </a:t>
            </a:r>
            <a:r>
              <a:rPr b="0" lang="ru-RU" sz="4000" spc="-1" strike="noStrike" u="sng">
                <a:solidFill>
                  <a:srgbClr val="ffc000"/>
                </a:solidFill>
                <a:uFillTx/>
                <a:latin typeface="Tahoma"/>
              </a:rPr>
              <a:t>С.Л.Рубинштей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0" y="6286680"/>
            <a:ext cx="91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Учитель ГБОУ СОШ № 1908 Ильинская Л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одвести школьников к противоречию и предложить им самим найти способ его реш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толкнуть противоречия в практ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Изложить различные точки зрения на один и тот же вопро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редложить классу рассмотреть проблему с различных позиц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обуждать школьников делать сравнения , обобщения, выводы из ситуаций, сопоставлять фак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955360" cy="1511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"/>
          <p:cNvSpPr/>
          <p:nvPr/>
        </p:nvSpPr>
        <p:spPr>
          <a:xfrm>
            <a:off x="214200" y="3068640"/>
            <a:ext cx="8715600" cy="35067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imes New Roman"/>
              </a:rPr>
              <a:t>Проблемная ситуация – состояние интеллектуального затруднения, которое требует поиска новых знаний и новых способов их получения. Проблемные ситуации различаются по ситуации неизвестного, по уровню проблемности, по виду «рассогласования» информации, по другим методическим особенност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779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0" y="2214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0" y="928800"/>
            <a:ext cx="91440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Широкое применение технологии проблемного обучения на уроках связано с определёнными трудност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А) Дефицитом учебного времени, в результате чего учащиеся не успевают самостоятельно пройти все этапы  познания учебного материала (мнений по проблеме бывает много, необходимо всех учащихся выслуша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Б) Неоднородным составом учащихся в классе. Часть школьников не готова к самостоятельной поисковой деятельности. При коллективном решении поставленных задач не упускать из вида слабых учащихся. После формулировки проблемы убедиться в том, что все учащиеся поняли смысл (для этого достаточно спросить одного – двух слабых учеников); не спешить с началом обсуждения, то есть не начинать его сразу, как только первый ученик поднимет руку; систематически спрашивать тех, кто не проявляет актив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В) Содержание учебников требует анализа их содержания. Необходимо выделить в учебниках темы, изложение которых отражает структуру цикла познания или методически легко осуществимо в логике цикла познания либо позволяет ярко выявить отдельные его эта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400" y="1856880"/>
            <a:ext cx="80010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Проблемное обучение является одним из наиболее эффективных средств активизации мышления ученика. Суть активности, достигаемой при проблемном обучении, заключается в том, что ученик должен анализировать фактический материал и оперировать им так, чтобы самому получить из него новую информацию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TextBox 34"/>
          <p:cNvSpPr/>
          <p:nvPr/>
        </p:nvSpPr>
        <p:spPr>
          <a:xfrm>
            <a:off x="285840" y="3571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8548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КОГДА ВЫ СЛУШАЕТЕ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ВЫ ЗАБЫВАЕТЕ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КОГДА ВЫ ВИДИТЕ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ВЫ ПОНИМАЕТЕ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       </a:t>
            </a: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КОГДА ВЫ ДЕЙСТВУЕТЕ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ВЫ НАУЧАЕТЕСЬ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onstantia"/>
              </a:rPr>
              <a:t>Проблемное обучение </a:t>
            </a: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– это тип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развивающего обучения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в котором  сочетаетс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систематиче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самостоятельная поисков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деятельность учащихся с усвоением ими готовых выводов наук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3840" y="1523520"/>
            <a:ext cx="442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овую информацию учащиеся получают в ходе решения  теоретических и практических задач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Преодолевают все трудности, активность достигает высокого уровн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Темп передачи сведений зависит от учащегося или группы учащих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Результаты относительно высокие и устойчивые, легко применяются полученные знания в новых ситуац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57800" y="152388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Материал дается в готовом вид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 устной подаче или через учебник возникают проблемы, вызванные временным выключением учащегося из дидактического процес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Темп передачи информации ориентирован на более сильных, средних или слабых учащих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аибольшую трудность представляет применение информатизации в практик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533520" y="304920"/>
            <a:ext cx="783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равнительная характерист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облемного и традиционного обуч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хема 1" descr=""/>
          <p:cNvPicPr/>
          <p:nvPr/>
        </p:nvPicPr>
        <p:blipFill>
          <a:blip r:embed="rId1"/>
          <a:stretch/>
        </p:blipFill>
        <p:spPr>
          <a:xfrm>
            <a:off x="-208080" y="-55440"/>
            <a:ext cx="9510840" cy="69372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3571920" y="1916280"/>
            <a:ext cx="200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Особе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проблем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об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0" y="50400"/>
            <a:ext cx="91440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Tahoma"/>
                <a:ea typeface="Times New Roman"/>
              </a:rPr>
              <a:t>ТЕХНОЛОГИЯ ПРОБЛЕМНОГО ОБУЧ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                        </a:t>
            </a: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«ДЛЯ ТОГО, ЧТОБЫ УСОВЕРШЕНСТВОВАТЬ УМ, НАДО БОЛЬШЕ РАЗМЫШЛЯТЬ, ЧЕМ ЗАУЧИВАТЬ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                                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Р.ДЕКАР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785880"/>
          <a:ext cx="9144000" cy="7954920"/>
        </p:xfrm>
        <a:graphic>
          <a:graphicData uri="http://schemas.openxmlformats.org/drawingml/2006/table">
            <a:tbl>
              <a:tblPr/>
              <a:tblGrid>
                <a:gridCol w="1571760"/>
                <a:gridCol w="5357520"/>
                <a:gridCol w="221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80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Постановка пробл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Поиск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ражение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никновение проблем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ы постановки учебной проблемы: побуждающий от проблемной ситуации диалог; подводящий к теме диалог; сообщение темы с мотивирующими приемами «яркое пятно» и «актуальность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ознание противореч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улирование пробле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ы поиска решения: побуждающий к выдвижению и проверке гипотез диалог, подводящий к знанию диало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дуктивные задания на воспроизведение зна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ражение нового знания научным языком в принят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дукт – новое знание и формирование ключевых компетент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Объясн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Актуализация знан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Закрепление материал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1066680" y="304920"/>
            <a:ext cx="7162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На каких этапах уро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можно использова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облемный метод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920" y="198864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1. Подготовка к восприятию пробл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2. Создание проблемной ситу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3. Формулирование пробл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4. Процесс решения пробл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5. Доказательство правильности избранного реш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57120" y="214200"/>
          <a:ext cx="8501040" cy="6357960"/>
        </p:xfrm>
        <a:graphic>
          <a:graphicData uri="http://schemas.openxmlformats.org/drawingml/2006/table">
            <a:tbl>
              <a:tblPr/>
              <a:tblGrid>
                <a:gridCol w="2062080"/>
                <a:gridCol w="3605400"/>
                <a:gridCol w="2833560"/>
              </a:tblGrid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Деяте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уча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Ставит проблему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формулирует и решает её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Запоминает решение проблем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Ставит проблему, формулирует её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Решает проблем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Ставит проблем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Формулирует и решает проблем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Проводит общую организацию, контроль и умелое руковод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Осознает проблему, формулирует и решает её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85480" y="152388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nstantia"/>
              </a:rPr>
              <a:t>Проблемное изложение материал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nstantia"/>
              </a:rPr>
              <a:t>Поисковая бесед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nstantia"/>
              </a:rPr>
              <a:t>Самостоятельная поисковая и исследовательская деятельность учащегос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56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0:40:54Z</dcterms:created>
  <dc:creator>Sixizm</dc:creator>
  <dc:description/>
  <dc:language>en-US</dc:language>
  <cp:lastModifiedBy>ар</cp:lastModifiedBy>
  <dcterms:modified xsi:type="dcterms:W3CDTF">2012-05-15T16:28:45Z</dcterms:modified>
  <cp:revision>32</cp:revision>
  <dc:subject/>
  <dc:title>Слайд 1</dc:title>
</cp:coreProperties>
</file>