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0C8-022D-4249-BCFB-E82A619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065-6A7D-4F3B-8DD9-5161DD91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046-4E92-4757-8E95-1BCCBB35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AAD-E573-40DA-995B-BE3551E9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AB1-5CD5-44B6-8ECB-5AE93081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EA2-5021-4164-BFAF-40164F5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06F7-76AB-46CB-9866-5B86BC1B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EE2-900B-4DBA-85BD-A30570B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D971-6EEC-4899-9ED7-B1AB0677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21F0-CC3E-49C8-86A2-F7C4084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BF3B-95BD-47AB-A51F-C4D9D9D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44E-13C2-4914-90AB-46337AE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F29-DF83-4E50-BA57-B7C688ED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244B-32A0-4F48-AC12-F21D40E9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9BC-6E03-4AA7-80F3-74A0EC41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2BF3-FA78-413F-9835-C1520DEA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BE09-C443-4FA7-9568-567B8FEB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55D-26CE-41F7-A29C-FC95025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6EB-7AFB-4689-BBF3-F53A729A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5AC-0A07-4DDB-B498-73D8ADEF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A10-0D07-4C3D-AFBB-8112BE1D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617-BA78-4ACC-B6D1-5E84960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216-260D-425A-A3A7-0D2BF73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B72-E488-4BC7-B20F-085007C7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292-4A8E-4C67-9222-D64522AE0C1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4C8-B69E-4B2B-B925-1E60237FD36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590920" y="3524400"/>
            <a:ext cx="674208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:\Мои документы 2\проценты\пр.jpg"/>
          <p:cNvPicPr/>
          <p:nvPr/>
        </p:nvPicPr>
        <p:blipFill>
          <a:blip r:embed="rId2"/>
          <a:stretch/>
        </p:blipFill>
        <p:spPr>
          <a:xfrm>
            <a:off x="500040" y="571680"/>
            <a:ext cx="5000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560" y="28548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процент от латинского слова pro centum, что буквально означает «за сотню» или «со ста». Ряд задач клинописных табличек посвящен исчислению процентов, однако вавилонские ростовщики считали не «со ста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«с шестидесят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ты были особенно распространены в Древнем Риме. Римляне называли процентами деньги, которые платил должник заимодавцу за каждую сотню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применялись только в торговых и денежных сделках. Затем область их применения расшир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D:\Мои документы 2\проценты\пп.jpg"/>
          <p:cNvPicPr/>
          <p:nvPr/>
        </p:nvPicPr>
        <p:blipFill>
          <a:blip r:embed="rId1"/>
          <a:stretch/>
        </p:blipFill>
        <p:spPr>
          <a:xfrm>
            <a:off x="6715080" y="4929120"/>
            <a:ext cx="2378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60" y="2286000"/>
            <a:ext cx="90010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цент - это одна сотая часть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м образом проценты перевести в дробь? (Поскольку проценты являются разновидностью дробей, то задачи на проценты являются по существу теми же задачами на дроб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Мои документы 2\проценты\птиц.jpg"/>
          <p:cNvPicPr/>
          <p:nvPr/>
        </p:nvPicPr>
        <p:blipFill>
          <a:blip r:embed="rId1"/>
          <a:stretch/>
        </p:blipFill>
        <p:spPr>
          <a:xfrm>
            <a:off x="500040" y="0"/>
            <a:ext cx="3143160" cy="238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ои документы 2\проценты\ппр.jpg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71320" y="4857840"/>
            <a:ext cx="835812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бы найти, сколько процентов одно число составляет от другого, нужно разделить первое число на второе и полученную дробь записать в виде процен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244440" y="426960"/>
            <a:ext cx="8753400" cy="981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571680" y="1428840"/>
            <a:ext cx="828648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тип. В задаче требуется найти количество процен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ча: Мастер за 1 час вытачивал 40 деталей. Применив резец, он стал вытачивать на 10 деталей в час  больше. На сколько процентов повысилась производительность труд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0:40=0,25  - часть, которую 10 составляет от 4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25  - 25%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вет: производительность труда мастера повысилась на 25%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285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2 тип. В задаче требуется найти определённое число процентов от указанного числа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ча: Мастер за 1 час вытачивал 40 деталей. Применив резец, он повысил производительность труда на 25%. На сколько деталей в час больше стал вытачивать мастер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0:100=0,4 – 1% от 4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4*25=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вет:  на 10 деталей в час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571680" y="4214880"/>
            <a:ext cx="82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бы найти указанное число процентов от данного числа, нужно данное число разделить на 100 и умножить на число процен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142920"/>
            <a:ext cx="8643960" cy="4572000"/>
          </a:xfrm>
          <a:prstGeom prst="rect">
            <a:avLst/>
          </a:prstGeom>
          <a:noFill/>
          <a:ln w="9360">
            <a:solidFill>
              <a:srgbClr val="72a376"/>
            </a:solidFill>
            <a:miter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тип. В задаче требуется найти целое, если известно, сколько процентов от целого составляет данное чис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ча: Мастер за 1 час вытачивал некоторое число деталей. Применив резец, он стал вытачивать на 10 деталей в час больше, что составило 25% от прежнего количества деталей. Сколько деталей в час вытачивал мастер ранее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означим за х  искомое количество деталей. Мы знаем, что 25% от числа х составляют 10 деталей. Используем правило, составленное во 2 задач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5%=0,2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25*х – это 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ставим уравнение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25х=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=10:0,2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=4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вет:  40 детал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357120" y="5429160"/>
            <a:ext cx="8786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дано, сколько процентов от искомого числа составляет данное число, то, чтобы найти искомое число, нужно заменить проценты десятичной дробью и разделить на эту дробь данное чи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928800" y="2000160"/>
          <a:ext cx="7834320" cy="3714840"/>
        </p:xfrm>
        <a:graphic>
          <a:graphicData uri="http://schemas.openxmlformats.org/drawingml/2006/table">
            <a:tbl>
              <a:tblPr/>
              <a:tblGrid>
                <a:gridCol w="1123920"/>
                <a:gridCol w="4098960"/>
                <a:gridCol w="2611440"/>
              </a:tblGrid>
              <a:tr h="110988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ше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9064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колько процентов составляет а от в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:в*100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9028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йти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% от числа 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*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2404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йти число, если известно, чт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центов равно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712800" y="480960"/>
            <a:ext cx="76629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573200" y="4998960"/>
            <a:ext cx="5924520" cy="102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Мои документы 2\проценты\ем.jpg"/>
          <p:cNvPicPr/>
          <p:nvPr/>
        </p:nvPicPr>
        <p:blipFill>
          <a:blip r:embed="rId2"/>
          <a:stretch/>
        </p:blipFill>
        <p:spPr>
          <a:xfrm>
            <a:off x="1928880" y="241200"/>
            <a:ext cx="4357800" cy="412452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3"/>
          <a:stretch/>
        </p:blipFill>
        <p:spPr>
          <a:xfrm>
            <a:off x="1036800" y="4767120"/>
            <a:ext cx="65340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7:20:52Z</dcterms:created>
  <dc:creator>SamLab.ws</dc:creator>
  <dc:description/>
  <dc:language>en-US</dc:language>
  <cp:lastModifiedBy>Лена</cp:lastModifiedBy>
  <dcterms:modified xsi:type="dcterms:W3CDTF">2017-10-18T17:20:05Z</dcterms:modified>
  <cp:revision>14</cp:revision>
  <dc:subject/>
  <dc:title>Слайд 1</dc:title>
</cp:coreProperties>
</file>