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878C-3555-4A75-8624-02DED103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787-C9E6-4746-8740-3265A834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1C84-36B3-407A-8C02-9B30E1E2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EF5A-DBCF-4639-B501-BCAA9B19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F643-2286-4460-B835-68989025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B703-9066-4F66-8D26-BE0363E8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0E51-C816-4DC4-83B3-83C5D1EA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65E1-7EB5-40FA-95AA-9C71D4DA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B36E-F875-439F-8772-CC9C376E3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B8BE-35C9-454E-8844-5BFB7666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7A07-3A4E-4FDF-8B01-91FA490E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3DCE-B680-46D1-942B-09BCD50F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FE4C-61A3-459E-AB7D-76797AA4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0FDC-9623-4FB9-948B-302A2644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4491-EA55-495F-B646-D5F459EA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79E8-C4AD-469C-870D-F9B62BE5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1C0D-1B76-4FB4-BEED-D0323B68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144-A830-4F2D-AC26-CBF4C1CB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4F1-8AE2-4FF5-82D0-4A32AF59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1915-DBF1-468F-A737-C96042DF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8C66-3962-4AF3-9E85-035E261C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088D-99D6-4EF4-BDA7-77767586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CDEC-5677-4D1C-9039-115A457F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274E-9E35-4FA6-A9C9-F41EBD44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917A-0EAB-4B9E-9D88-ED80340938D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DB10-F1B2-4C3B-822F-ED0302A6D8C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2590920" y="3524400"/>
            <a:ext cx="6742080" cy="2449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D:\Мои документы 2\проценты\пр.jpg"/>
          <p:cNvPicPr/>
          <p:nvPr/>
        </p:nvPicPr>
        <p:blipFill>
          <a:blip r:embed="rId2"/>
          <a:stretch/>
        </p:blipFill>
        <p:spPr>
          <a:xfrm>
            <a:off x="500040" y="571680"/>
            <a:ext cx="500076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42560" y="285480"/>
            <a:ext cx="8286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лово процент от латинского слова pro centum, что буквально означает «за сотню» или «со ста». Ряд задач клинописных табличек посвящен исчислению процентов, однако вавилонские ростовщики считали не «со ста»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«с шестидесяти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нты были особенно распространены в Древнем Риме. Римляне называли процентами деньги, которые платил должник заимодавцу за каждую сотню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ни применялись только в торговых и денежных сделках. Затем область их применения расширилас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4" descr="D:\Мои документы 2\проценты\пп.jpg"/>
          <p:cNvPicPr/>
          <p:nvPr/>
        </p:nvPicPr>
        <p:blipFill>
          <a:blip r:embed="rId1"/>
          <a:stretch/>
        </p:blipFill>
        <p:spPr>
          <a:xfrm>
            <a:off x="6715080" y="4929120"/>
            <a:ext cx="23781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-360" y="2286000"/>
            <a:ext cx="90010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роцент - это одна сотая часть</a:t>
            </a:r>
            <a:br>
              <a:rPr sz="36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м образом проценты перевести в дробь? (Поскольку проценты являются разновидностью дробей, то задачи на проценты являются по существу теми же задачами на дроби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Picture 2" descr="D:\Мои документы 2\проценты\птиц.jpg"/>
          <p:cNvPicPr/>
          <p:nvPr/>
        </p:nvPicPr>
        <p:blipFill>
          <a:blip r:embed="rId1"/>
          <a:stretch/>
        </p:blipFill>
        <p:spPr>
          <a:xfrm>
            <a:off x="500040" y="0"/>
            <a:ext cx="3143160" cy="238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D:\Мои документы 2\проценты\ппр.jpg"/>
          <p:cNvPicPr/>
          <p:nvPr/>
        </p:nvPicPr>
        <p:blipFill>
          <a:blip r:embed="rId2"/>
          <a:stretch/>
        </p:blipFill>
        <p:spPr>
          <a:xfrm>
            <a:off x="6572160" y="4286160"/>
            <a:ext cx="2428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71320" y="4857840"/>
            <a:ext cx="8358120" cy="14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бы найти, сколько процентов одно число составляет от другого, нужно разделить первое число на второе и полученную дробь записать в виде процентов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244440" y="426960"/>
            <a:ext cx="8753400" cy="981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571680" y="1428840"/>
            <a:ext cx="8286480" cy="30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 тип. В задаче требуется найти количество процент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Задача: Мастер за 1 час вытачивал 40 деталей. Применив резец, он стал вытачивать на 10 деталей в час  больше. На сколько процентов повысилась производительность труда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10:40=0,25  - часть, которую 10 составляет от 40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0,25  - 25%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твет: производительность труда мастера повысилась на 25%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00040" y="2858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9680" indent="-4096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2 тип. В задаче требуется найти определённое число процентов от указанного числа.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Задача: Мастер за 1 час вытачивал 40 деталей. Применив резец, он повысил производительность труда на 25%. На сколько деталей в час больше стал вытачивать мастер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40:100=0,4 – 1% от 4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0,4*25=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твет:  на 10 деталей в час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09680" indent="-409680">
              <a:lnSpc>
                <a:spcPct val="10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Содержимое 2"/>
          <p:cNvSpPr/>
          <p:nvPr/>
        </p:nvSpPr>
        <p:spPr>
          <a:xfrm>
            <a:off x="571680" y="4214880"/>
            <a:ext cx="82152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Чтобы найти указанное число процентов от данного числа, нужно данное число разделить на 100 и умножить на число процент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85480" y="142920"/>
            <a:ext cx="8643960" cy="4572000"/>
          </a:xfrm>
          <a:prstGeom prst="rect">
            <a:avLst/>
          </a:prstGeom>
          <a:noFill/>
          <a:ln w="9360">
            <a:solidFill>
              <a:srgbClr val="72a376"/>
            </a:solidFill>
            <a:miter/>
          </a:ln>
        </p:spPr>
        <p:txBody>
          <a:bodyPr anchor="t">
            <a:normAutofit fontScale="92000"/>
          </a:bodyPr>
          <a:p>
            <a:pPr marL="503640" indent="-378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 тип. В задаче требуется найти целое, если известно, сколько процентов от целого составляет данное число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just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Задача: Мастер за 1 час вытачивал некоторое число деталей. Применив резец, он стал вытачивать на 10 деталей в час больше, что составило 25% от прежнего количества деталей. Сколько деталей в час вытачивал мастер ранее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ешение: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бозначим за х  искомое количество деталей. Мы знаем, что 25% от числа х составляют 10 деталей. Используем правило, составленное во 2 задаче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25%=0,2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0,25*х – это 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оставим уравнение: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0,25х=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Х=10:0,2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Х=4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твет:  40 деталей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03640" indent="-37800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Содержимое 2"/>
          <p:cNvSpPr/>
          <p:nvPr/>
        </p:nvSpPr>
        <p:spPr>
          <a:xfrm>
            <a:off x="357120" y="5429160"/>
            <a:ext cx="878688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дано, сколько процентов от искомого числа составляет данное число, то, чтобы найти искомое число, нужно заменить проценты десятичной дробью и разделить на эту дробь данное числ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928800" y="2000160"/>
          <a:ext cx="7834320" cy="3714840"/>
        </p:xfrm>
        <a:graphic>
          <a:graphicData uri="http://schemas.openxmlformats.org/drawingml/2006/table">
            <a:tbl>
              <a:tblPr/>
              <a:tblGrid>
                <a:gridCol w="1123920"/>
                <a:gridCol w="4098960"/>
                <a:gridCol w="2611440"/>
              </a:tblGrid>
              <a:tr h="1109880"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одержан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решен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90640"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Сколько процентов составляет а от в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:в*100%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90280"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йти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% от числа 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в*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: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24040"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йти число, если известно, что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процентов равно а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7680" rIns="67680" tIns="33840" bIns="338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а: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*10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7680" marR="67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712800" y="480960"/>
            <a:ext cx="76629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1573200" y="4998960"/>
            <a:ext cx="5924520" cy="1023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D:\Мои документы 2\проценты\ем.jpg"/>
          <p:cNvPicPr/>
          <p:nvPr/>
        </p:nvPicPr>
        <p:blipFill>
          <a:blip r:embed="rId2"/>
          <a:stretch/>
        </p:blipFill>
        <p:spPr>
          <a:xfrm>
            <a:off x="1928880" y="241200"/>
            <a:ext cx="4357800" cy="4124520"/>
          </a:xfrm>
          <a:prstGeom prst="rect">
            <a:avLst/>
          </a:prstGeom>
          <a:ln w="0">
            <a:noFill/>
          </a:ln>
        </p:spPr>
      </p:pic>
      <p:pic>
        <p:nvPicPr>
          <p:cNvPr id="100" name="Заголовок 1" descr=""/>
          <p:cNvPicPr/>
          <p:nvPr/>
        </p:nvPicPr>
        <p:blipFill>
          <a:blip r:embed="rId3"/>
          <a:stretch/>
        </p:blipFill>
        <p:spPr>
          <a:xfrm>
            <a:off x="1036800" y="4767120"/>
            <a:ext cx="653400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7:20:52Z</dcterms:created>
  <dc:creator>SamLab.ws</dc:creator>
  <dc:description/>
  <dc:language>en-US</dc:language>
  <cp:lastModifiedBy>Лена</cp:lastModifiedBy>
  <dcterms:modified xsi:type="dcterms:W3CDTF">2017-10-18T17:20:05Z</dcterms:modified>
  <cp:revision>14</cp:revision>
  <dc:subject/>
  <dc:title>Слайд 1</dc:title>
</cp:coreProperties>
</file>