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CEC-562C-4AE1-B437-40A59B9EA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C80-DFFF-4540-867C-66CB0E85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0F13-2A8B-4076-A2D3-28A4D4689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BE8-A2A0-4069-8635-A79958F3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B24-56DD-4D2B-8CBD-92CD1C49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47FD-BCAA-47A0-982C-9E4951FC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1A2A-0950-4E09-96AF-3211B1BB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57CA-AB7C-4889-8E6F-61C672A2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06F-2024-4B13-B0EC-B4F383F0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34E7-ADD0-4ADB-881F-F1063C08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0BC-EC18-4E7C-B230-0453C2CD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6A68-09CE-41A7-86DD-C5D478F6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FF22-79CB-47F5-AD4D-124BAB8D9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Юрий Коринец. Фотография"/>
          <p:cNvPicPr/>
          <p:nvPr/>
        </p:nvPicPr>
        <p:blipFill>
          <a:blip r:embed="rId1"/>
          <a:stretch/>
        </p:blipFill>
        <p:spPr>
          <a:xfrm>
            <a:off x="108000" y="981000"/>
            <a:ext cx="2563920" cy="3816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24000" y="4941720"/>
            <a:ext cx="2160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Ю. Корине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4000" y="476280"/>
            <a:ext cx="21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"Ханг и Чанг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59280" y="2708280"/>
            <a:ext cx="2722320" cy="3600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348000" y="213372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"Дымка и Антон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419640" y="6308640"/>
            <a:ext cx="21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. Драгу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5867280" y="1268280"/>
            <a:ext cx="3052800" cy="2265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6300720" y="69228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"Морская собак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443640" y="3789360"/>
            <a:ext cx="2160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Г. Сапги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55640" y="549360"/>
            <a:ext cx="73454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баку называю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ругом человек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тому что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680000" y="692280"/>
            <a:ext cx="3995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Юрий Иосифови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Коваль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12000" y="1989000"/>
            <a:ext cx="13665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1938 - 1995 г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916080" cy="5715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3889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556000" y="620640"/>
            <a:ext cx="3816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иделый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427640" y="260280"/>
            <a:ext cx="28872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843280" y="2492280"/>
            <a:ext cx="316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убогая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284720" y="2060640"/>
            <a:ext cx="288720" cy="431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43280" y="4581360"/>
            <a:ext cx="3168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рулад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88000" y="3860640"/>
            <a:ext cx="28872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168360" cy="2224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3357720"/>
            <a:ext cx="4321080" cy="2778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292720" y="189000"/>
            <a:ext cx="2765520" cy="3606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148360" y="4149720"/>
            <a:ext cx="3456000" cy="2470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4763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айдите и зачитайте ответы на вопросы в текст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зменилась ли песня Клюквина с приходом зим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м закончилось его первое путешествие по кварти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5:42:01Z</dcterms:created>
  <dc:creator>ирина</dc:creator>
  <dc:description/>
  <dc:language>en-US</dc:language>
  <cp:lastModifiedBy>ирина</cp:lastModifiedBy>
  <dcterms:modified xsi:type="dcterms:W3CDTF">2011-03-30T13:21:36Z</dcterms:modified>
  <cp:revision>5</cp:revision>
  <dc:subject/>
  <dc:title>Слайд 1</dc:title>
</cp:coreProperties>
</file>