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C8D-164C-4C52-BCE5-9DD0CF9C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789-4079-407F-9CBF-E90D4FB0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DFA-CE27-42C4-A59F-52C6C6A0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F84-2B3C-41D9-A6E6-03FBDD7B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E13-CE94-4501-B64C-F305349E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904-DA74-473E-99BC-5ECB770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3DA-8658-4A79-A9FE-20E95DA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482-0447-40C8-B6BF-DFF22B5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9F8-8A92-4BE7-B4B2-C512E6B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A0D-475E-4D3D-8D36-11D4C41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08A-FECD-4CC4-A0F7-D55EE2A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6A3-55E8-410A-B154-1FC9887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CA0-053F-46C8-895F-AF63B1C4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Юрий Коринец. Фотография"/>
          <p:cNvPicPr/>
          <p:nvPr/>
        </p:nvPicPr>
        <p:blipFill>
          <a:blip r:embed="rId1"/>
          <a:stretch/>
        </p:blipFill>
        <p:spPr>
          <a:xfrm>
            <a:off x="108000" y="981000"/>
            <a:ext cx="256392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4941720"/>
            <a:ext cx="216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Ю. Кори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476280"/>
            <a:ext cx="21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Ханг и Чанг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272232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348000" y="213372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Дымка и Ант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6308640"/>
            <a:ext cx="21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. Драгу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3052800" cy="226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300720" y="692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Морская соба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43640" y="378936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. Сапг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3454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баку наз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ругом челове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тому что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0" y="692280"/>
            <a:ext cx="399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Юрий Иосифови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ва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2000" y="1989000"/>
            <a:ext cx="1366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38 - 1995 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1608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889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56000" y="62064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иделы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427640" y="260280"/>
            <a:ext cx="28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3280" y="249228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бог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84720" y="2060640"/>
            <a:ext cx="28872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458136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ул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88000" y="3860640"/>
            <a:ext cx="28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168360" cy="222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2765520" cy="360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456000" cy="247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476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йдите и зачитайте ответы на вопросы в тек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илась ли песня Клюквина с приходом зи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м закончилось его первое путешествие по кварти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5:42:01Z</dcterms:created>
  <dc:creator>ирина</dc:creator>
  <dc:description/>
  <dc:language>en-US</dc:language>
  <cp:lastModifiedBy>ирина</cp:lastModifiedBy>
  <dcterms:modified xsi:type="dcterms:W3CDTF">2011-03-30T13:21:36Z</dcterms:modified>
  <cp:revision>5</cp:revision>
  <dc:subject/>
  <dc:title>Слайд 1</dc:title>
</cp:coreProperties>
</file>