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A19-BCEB-4049-ABA2-FEE75DB5B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0156-2842-4788-A46B-5AB474B3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EAFA-135C-4FF2-865A-73AE9035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FD49-99EF-480A-9297-396EA8433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BA4A-3959-4F71-96A8-5EF437EF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44F8-1290-4F61-B091-C715142D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941-F031-43DA-9D9E-7C5D2B33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D74-C6BB-4457-BBE1-E5760B84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90C-D4B9-4461-8B6F-65C669BE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46C-F34C-44A3-9D40-6A58C75C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E39F-0315-462E-8365-53C29A6B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94AE-AAD6-48DC-AB86-F7B97417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6D57-3681-4E19-9844-076B16715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0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Задания с производной при подготовке к ЕГ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Задачи 9 -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ямая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x+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вляется касательной к графику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i="1" lang="ru-RU" sz="2800" spc="-1" strike="noStrike" baseline="30000">
                <a:solidFill>
                  <a:srgbClr val="cc3300"/>
                </a:solidFill>
                <a:latin typeface="Times New Roman"/>
              </a:rPr>
              <a:t>2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– х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+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 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Найди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ямая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вляется касательной к графику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-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i="1" lang="ru-RU" sz="2800" spc="-1" strike="noStrike" baseline="30000">
                <a:solidFill>
                  <a:srgbClr val="cc3300"/>
                </a:solidFill>
                <a:latin typeface="Times New Roman"/>
              </a:rPr>
              <a:t>2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+7х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+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 с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Найди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ямая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kx + b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является касательной к графику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-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i="1" lang="ru-RU" sz="2800" spc="-1" strike="noStrike" baseline="30000">
                <a:solidFill>
                  <a:srgbClr val="cc3300"/>
                </a:solidFill>
                <a:latin typeface="Times New Roman"/>
              </a:rPr>
              <a:t>2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+4х -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точке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А(1,2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Найди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сательная к графику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x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x-2)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ходит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рез точки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А(1, -2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В(-3, 6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йдите ординату точки ка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Механический смысл производн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s(t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функция, задающая закон движения материальной точки (пройденный путь в зависимости от времени), то </a:t>
            </a:r>
            <a:r>
              <a:rPr b="0" i="1" lang="en-US" sz="3200" spc="-1" strike="noStrike">
                <a:solidFill>
                  <a:srgbClr val="cc3300"/>
                </a:solidFill>
                <a:latin typeface="Arial"/>
              </a:rPr>
              <a:t>v(t)=s’(t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гновенная скорость точ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Движение материальной то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риальная точка движется прямолинейно по закону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(t)=1/3 t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½ t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 9t +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где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асстояние от точки отсчета в метрах, а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время в секундах с начала движения. Через сколько секунд после начала движения скорость точки будет равна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3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м/с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риальная точка движется прямолинейно по закону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(t)=6 + 2t – 0,25t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где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асстояние от точки отсчета в метрах, а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время в секундах с начала движения. Через сколько секунд после начала движения точ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останов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атериальная точка движется прямолинейно по закону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(t)=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 4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2t –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</a:t>
            </a:r>
            <a:r>
              <a:rPr b="1" i="1" lang="en-US" sz="24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где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расстояние от точки отсчета в метрах, а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время в секундах с начала движения. Какова была начальная скорость точк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м/с)?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Промежутки возрастания-убы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ение возрастающей (убывающей) функции на промежут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ункция является возрастающей на промежут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 когда ее производная положительна в любой точке промеж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ункция является убывающей на промежут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 когда ее производная отрицательна в любой точке промежу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Возрастание/убы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функции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пределите количество целых точек на интервале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[-1; 9]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которых производная функции отри­цательн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484360" y="1557360"/>
          <a:ext cx="4189320" cy="28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557360"/>
                    <a:ext cx="418932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Возрастание/убы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функции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Определите количес­тво целых точек на интервале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[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</a:rPr>
              <a:t>0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; 9]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котор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сательная к графику функции параллельна прямой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</a:rPr>
              <a:t> 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484360" y="1557360"/>
          <a:ext cx="4189320" cy="28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557360"/>
                    <a:ext cx="418932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Возрастание/убы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Определит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ако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межут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[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5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; 9]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 принимает наибольшее знач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484360" y="1557360"/>
          <a:ext cx="4189320" cy="28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557360"/>
                    <a:ext cx="418932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Возрастание/убы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ен график производной функции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промежутки возрастания данной функции, принадлежащие отрезку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[-1,5; 12,5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(В ответе укажите общее число целых точек на этих промежут­ках)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763640" y="1276200"/>
          <a:ext cx="6121440" cy="30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76200"/>
                    <a:ext cx="6121440" cy="30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Возрастание/убы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исунке изображен график производной функции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йдите сумму целочисленных абсцисс точек, лежащих на отрезке </a:t>
            </a:r>
            <a:r>
              <a:rPr b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[0; 12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которых данная функция убыва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763640" y="1276200"/>
          <a:ext cx="6121440" cy="30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276200"/>
                    <a:ext cx="6121440" cy="30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Возрастание/убы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количество промежутков убывания функции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если ее производная имеет вид </a:t>
            </a:r>
            <a:br>
              <a:rPr sz="3200"/>
            </a:b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’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(x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 1)(x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 9)(x – 4)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Типы зад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ометрический смысл произво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сательная в точ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ханический смысл произво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межутки возрастания-убы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окальные экстрему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ибольшие/наименьшие значения на отрез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Локальные экстрему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максимума (минимума)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х</a:t>
            </a:r>
            <a:r>
              <a:rPr b="1" i="1" lang="ru-RU" sz="28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ляется точкой максимума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 есл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’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0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 при переходе через эту точку производная меняет знак с плюса на мин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х</a:t>
            </a:r>
            <a:r>
              <a:rPr b="1" i="1" lang="ru-RU" sz="28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вляется точкой минимума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 есл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’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en-US" sz="2800" spc="-1" strike="noStrike" baseline="-25000">
                <a:solidFill>
                  <a:srgbClr val="cc3300"/>
                </a:solidFill>
                <a:latin typeface="Times New Roman"/>
                <a:ea typeface="Times New Roman"/>
              </a:rPr>
              <a:t>0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 при переходе через эту точку производная меняет знак с минуса на плю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Локальный экстрем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производной функции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Найдите целое положительное число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такое, что максимум функции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лежит на отрезке </a:t>
            </a:r>
            <a:r>
              <a:rPr b="1" i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[n,n+1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916360" y="1397160"/>
          <a:ext cx="3960720" cy="310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397160"/>
                    <a:ext cx="3960720" cy="31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Локальный экстрем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4508280"/>
            <a:ext cx="82296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производной функции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В точке максимума к графику функции проведена касательная, пересекающая ось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точке с ординатой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-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Найдите сумму абсциссы и ординаты точки каса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843280" y="1339920"/>
          <a:ext cx="4176720" cy="32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339920"/>
                    <a:ext cx="417672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Локальный экстрем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производной функции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В точке максимума к графику функции 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оведена касательная, пересекающая ось </a:t>
            </a:r>
            <a:r>
              <a:rPr b="1" i="1" lang="ru-RU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точке с ординатой </a:t>
            </a:r>
            <a:r>
              <a:rPr b="1" i="1" lang="ru-RU" sz="24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2,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Найдите сумму абсциссы и ординаты точки касани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916360" y="1397160"/>
          <a:ext cx="4032000" cy="31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397160"/>
                    <a:ext cx="4032000" cy="31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Локальный экстрем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4365720"/>
            <a:ext cx="82296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рисунке изображен график производной функ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Сколько минимумов имеет данная функция на отрезке </a:t>
            </a:r>
            <a:r>
              <a:rPr b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[-1; 6]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124000" y="1422360"/>
          <a:ext cx="5543640" cy="28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22360"/>
                    <a:ext cx="5543640" cy="28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Локальный экстрем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количество точек максимума функции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если </a:t>
            </a:r>
            <a:br>
              <a:rPr sz="3200"/>
            </a:b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f’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x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)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= (x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3x – 4)(x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 16)(x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 1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Экстремумы на отрез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ибольшее значение функции на отрезке находится как наибольшее из локальных максимумов и значений на гран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именьшее значение функции на отрезке находится как наименьшее из локальных минимумов и значений на границ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Экстремумы на отрез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точку, в которой функция </a:t>
            </a:r>
            <a:br>
              <a:rPr sz="3200"/>
            </a:b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2x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 9x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 60x +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инимает наибольшее значение на промежутке </a:t>
            </a:r>
            <a:br>
              <a:rPr sz="3200"/>
            </a:b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[-6; 6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значение функции </a:t>
            </a:r>
            <a:br>
              <a:rPr sz="3200"/>
            </a:b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/4x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4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- 2x</a:t>
            </a:r>
            <a:r>
              <a:rPr b="1" i="1" lang="en-US" sz="32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+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точке максим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наименьшее значение функции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y=</a:t>
            </a:r>
            <a:r>
              <a:rPr b="1" i="1" lang="el-GR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π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/√3 - √3 x – 2 cosx + 1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 отрезке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  <a:ea typeface="Arial"/>
              </a:rPr>
              <a:t>[0; </a:t>
            </a:r>
            <a:r>
              <a:rPr b="0" i="1" lang="el-GR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π</a:t>
            </a:r>
            <a:r>
              <a:rPr b="0" i="1" lang="en-US" sz="3200" spc="-1" strike="noStrike">
                <a:solidFill>
                  <a:srgbClr val="cc3300"/>
                </a:solidFill>
                <a:latin typeface="Times New Roman"/>
                <a:ea typeface="Arial"/>
              </a:rPr>
              <a:t>/2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  <a:ea typeface="Arial"/>
              </a:rPr>
              <a:t>]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Экстремумы на отрез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количество целых значений а, при которых функция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-x</a:t>
            </a:r>
            <a:r>
              <a:rPr b="1" i="1" lang="en-US" sz="2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/3 + (a+2)x</a:t>
            </a:r>
            <a:r>
              <a:rPr b="1" i="1" lang="en-US" sz="2800" spc="-1" strike="noStrike" baseline="30000">
                <a:solidFill>
                  <a:srgbClr val="cc33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– 4x +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 имеет точек экстрему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количество целых значений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 х +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1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6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/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(х-1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на отрезке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[-4; 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наименьшее значение функции </a:t>
            </a:r>
            <a:br>
              <a:rPr sz="2800"/>
            </a:b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2</a:t>
            </a:r>
            <a:r>
              <a:rPr b="1" i="1" lang="en-US" sz="2800" spc="-1" strike="noStrike" baseline="30000">
                <a:solidFill>
                  <a:srgbClr val="cc3300"/>
                </a:solidFill>
                <a:latin typeface="Times New Roman"/>
              </a:rPr>
              <a:t>2x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+ 2</a:t>
            </a:r>
            <a:r>
              <a:rPr b="1" i="1" lang="en-US" sz="2800" spc="-1" strike="noStrike" baseline="30000">
                <a:solidFill>
                  <a:srgbClr val="cc3300"/>
                </a:solidFill>
                <a:latin typeface="Times New Roman"/>
              </a:rPr>
              <a:t>x+1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– xln16 +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отрезке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[-1;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наименьшее значение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x|x</a:t>
            </a:r>
            <a:r>
              <a:rPr b="1" i="1" lang="en-US" sz="28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+ 2x – 3| + (x-1)</a:t>
            </a:r>
            <a:r>
              <a:rPr b="1" i="1" lang="en-US" sz="28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отрезке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Arial"/>
              </a:rPr>
              <a:t>[-2; 0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Геометрический смысл производной (теор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ующие величины ра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ение производн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f’(x</a:t>
            </a:r>
            <a:r>
              <a:rPr b="1" i="1" lang="en-US" sz="32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нгенс угла наклона касательной к графику функции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y= f (x</a:t>
            </a:r>
            <a:r>
              <a:rPr b="1" i="1" lang="en-US" sz="32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ловой коэффициент касательной к графику функции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y= f (x</a:t>
            </a:r>
            <a:r>
              <a:rPr b="1" i="1" lang="en-US" sz="32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точке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i="1" lang="en-US" sz="32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1. Вычислить производну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476360" y="1468440"/>
          <a:ext cx="6480360" cy="50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68440"/>
                    <a:ext cx="648036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2. Вычислить производну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476360" y="1441440"/>
          <a:ext cx="6696000" cy="524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441440"/>
                    <a:ext cx="6696000" cy="52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3. Вычислите величину </a:t>
            </a:r>
            <a:r>
              <a:rPr b="1" i="1" lang="ru-RU" sz="4400" spc="-1" strike="noStrike">
                <a:solidFill>
                  <a:srgbClr val="cc3300"/>
                </a:solidFill>
                <a:latin typeface="Times New Roman"/>
                <a:ea typeface="Arial"/>
              </a:rPr>
              <a:t>√3 </a:t>
            </a:r>
            <a:r>
              <a:rPr b="1" i="1" lang="en-US" sz="4400" spc="-1" strike="noStrike">
                <a:solidFill>
                  <a:srgbClr val="cc3300"/>
                </a:solidFill>
                <a:latin typeface="Times New Roman"/>
                <a:ea typeface="Arial"/>
              </a:rPr>
              <a:t>f’</a:t>
            </a:r>
            <a:r>
              <a:rPr b="1" i="1" lang="ru-RU" sz="4400" spc="-1" strike="noStrike">
                <a:solidFill>
                  <a:srgbClr val="cc3300"/>
                </a:solidFill>
                <a:latin typeface="Times New Roman"/>
                <a:ea typeface="Arial"/>
              </a:rPr>
              <a:t>(3)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19280" y="1557360"/>
          <a:ext cx="6481800" cy="50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557360"/>
                    <a:ext cx="648180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. Точка кас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исунке изображен график производной функции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y= f (x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Прямая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y= 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x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касательной к графику этой функции. Найдите ординату точки кас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003640" y="1773360"/>
          <a:ext cx="3816360" cy="298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1773360"/>
                    <a:ext cx="3816360" cy="29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5. Точка кас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исунке изображен график производной функции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y= f (x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Прямая 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y= 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i="1" lang="ru-RU" sz="3200" spc="-1" strike="noStrike">
                <a:solidFill>
                  <a:srgbClr val="cc3300"/>
                </a:solidFill>
                <a:latin typeface="Times New Roman"/>
              </a:rPr>
              <a:t>-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касательной к графику этой функции. Найдите ординату точки кас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0" y="2255760"/>
          <a:ext cx="4248000" cy="32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255760"/>
                    <a:ext cx="4248000" cy="32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Задачи 6-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асательная к графику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3 – 2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x – x</a:t>
            </a:r>
            <a:r>
              <a:rPr b="1" i="1" lang="ru-RU" sz="28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араллельна прямой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4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Найдите абсциссу точки кас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сательная к графику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3 – 2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x – x</a:t>
            </a:r>
            <a:r>
              <a:rPr b="1" i="1" lang="ru-RU" sz="28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ходит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рез точки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А(1, 1)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cc3300"/>
                </a:solidFill>
                <a:latin typeface="Times New Roman"/>
              </a:rPr>
              <a:t>В(-1, 5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Найдите абсциссу точки ка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положительное значение параметр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 котором прямая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-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касательной к графику функции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y=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x</a:t>
            </a:r>
            <a:r>
              <a:rPr b="1" i="1" lang="ru-RU" sz="2800" spc="-1" strike="noStrike" baseline="30000">
                <a:solidFill>
                  <a:srgbClr val="cc3300"/>
                </a:solidFill>
                <a:latin typeface="Times New Roman"/>
              </a:rPr>
              <a:t>2 </a:t>
            </a: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+ </a:t>
            </a: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bx – 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7T13:20:22Z</dcterms:created>
  <dc:creator>KSL</dc:creator>
  <dc:description/>
  <dc:language>en-US</dc:language>
  <cp:lastModifiedBy>Alesha</cp:lastModifiedBy>
  <dcterms:modified xsi:type="dcterms:W3CDTF">2017-10-18T18:30:15Z</dcterms:modified>
  <cp:revision>15</cp:revision>
  <dc:subject/>
  <dc:title>Задания с производной при подготовке к ЕГЭ</dc:title>
</cp:coreProperties>
</file>