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1ABC-CB0D-4190-9CBE-8BF3A5FA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0B1E-A608-4D4C-9FB2-632F5D2F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C475-74FF-4318-97AC-D2928304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7105-F871-4E64-A28B-59897D0C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EDD7-C1F8-4489-A73D-331B2CFE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A2E2-2E4E-4DC1-A1DF-E6B0C59D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5D16-A027-4860-A2C0-20084C9E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06A6-CDF2-4FDB-AAD7-1783FB17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C7D4-AF75-4B58-AA71-3E7AC2C8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A9A8-A39D-4F44-BEE0-04A934E2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AD40-2C28-4EE3-BE2F-C948D9B5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A223-FC75-4912-B32E-014BF8E5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DA7B-05FF-43C8-8A09-1317A1AF0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Задания с производной при подготовке к ЕГ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Задачи 9 -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ямая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 x+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вляется касательной к графику функци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i="1" lang="ru-RU" sz="2800" spc="-1" strike="noStrike" baseline="30000">
                <a:solidFill>
                  <a:srgbClr val="cc3300"/>
                </a:solidFill>
                <a:latin typeface="Times New Roman"/>
              </a:rPr>
              <a:t>2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– х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+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 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Найди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ямая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вляется касательной к графику функци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-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i="1" lang="ru-RU" sz="2800" spc="-1" strike="noStrike" baseline="30000">
                <a:solidFill>
                  <a:srgbClr val="cc3300"/>
                </a:solidFill>
                <a:latin typeface="Times New Roman"/>
              </a:rPr>
              <a:t>2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+7х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+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 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Найди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ямая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 kx + b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вляется касательной к графику функци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-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i="1" lang="ru-RU" sz="2800" spc="-1" strike="noStrike" baseline="30000">
                <a:solidFill>
                  <a:srgbClr val="cc3300"/>
                </a:solidFill>
                <a:latin typeface="Times New Roman"/>
              </a:rPr>
              <a:t>2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+4х -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точке </a:t>
            </a: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А(1,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Найди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сательная к графику функци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 x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x-2)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ходит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рез точки </a:t>
            </a: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А(1, -2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В(-3, 6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Найдите ординату точки ка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Механический смысл производ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s(t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функция, задающая закон движения материальной точки (пройденный путь в зависимости от времени), то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v(t)=s’(t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гновенная скорость точ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Движение материальной то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риальная точка движется прямолинейно по закону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(t)=1/3 t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½ t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– 9t +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где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расстояние от точки отсчета в метрах, а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время в секундах с начала движения. Через сколько секунд после начала движения скорость точки будет равна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3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м/с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риальная точка движется прямолинейно по закону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(t)=6 + 2t – 0,25t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где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расстояние от точки отсчета в метрах, а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время в секундах с начала движения. Через сколько секунд после начала движения точ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останов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риальная точка движется прямолинейно по закону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(t)=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 4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2t –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где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расстояние от точки отсчета в метрах, а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время в секундах с начала движения. Какова была начальная скорость точк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м/с)?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Промежутки возрастания-убы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ение возрастающей (убывающей) функции на промежут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ункция является возрастающей на промежут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 когда ее производная положительна в любой точке промежу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ункция является убывающей на промежут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 когда ее производная отрицательна в любой точке промежу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Возрастание/убы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исунке изображен график функции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Определите количество целых точек на интервале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[-1; 9]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 которых производная функции отри­цательн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484360" y="1557360"/>
          <a:ext cx="4189320" cy="28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557360"/>
                    <a:ext cx="418932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Возрастание/убы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исунке изображен график функции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Определите количес­тво целых точек на интервале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[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; 9]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 котор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сательная к графику функции параллельна прямой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 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484360" y="1557360"/>
          <a:ext cx="4189320" cy="28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557360"/>
                    <a:ext cx="418932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Возрастание/убы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исунке изображен график функци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Определи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ко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межут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; 9]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я принимает наибольшее знач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484360" y="1557360"/>
          <a:ext cx="4189320" cy="28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557360"/>
                    <a:ext cx="418932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Возрастание/убы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изображен график производной функции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промежутки возрастания данной функции, принадлежащие отрезку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[-1,5; 12,5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В ответе укажите общее число целых точек на этих промежут­ках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63640" y="1276200"/>
          <a:ext cx="6121440" cy="30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276200"/>
                    <a:ext cx="6121440" cy="30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Возрастание/убы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изображен график производной функции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сумму целочисленных абсцисс точек, лежащих на отрезке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[0; 12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ых данная функция убыва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63640" y="1276200"/>
          <a:ext cx="6121440" cy="30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276200"/>
                    <a:ext cx="6121440" cy="30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Возрастание/убы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количество промежутков убывания функции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сли ее производная имеет вид </a:t>
            </a:r>
            <a:br>
              <a:rPr sz="3200"/>
            </a:b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’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(x</a:t>
            </a:r>
            <a:r>
              <a:rPr b="1" i="1" lang="en-US" sz="32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– 1)(x</a:t>
            </a:r>
            <a:r>
              <a:rPr b="1" i="1" lang="en-US" sz="32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– 9)(x – 4)</a:t>
            </a:r>
            <a:r>
              <a:rPr b="1" i="1" lang="en-US" sz="32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Типы зад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ометрический смысл произво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сательная в точ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ханический смысл произво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межутки возрастания-убы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окальные экстрему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ибольшие/наименьшие значения на отрез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Локальные экстрему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максимума (минимума)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х</a:t>
            </a:r>
            <a:r>
              <a:rPr b="1" i="1" lang="ru-RU" sz="28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вляется точкой максимума функци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 есл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’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0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и при переходе через эту точку производная меняет знак с плюса на мин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х</a:t>
            </a:r>
            <a:r>
              <a:rPr b="1" i="1" lang="ru-RU" sz="28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вляется точкой минимума функци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 есл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’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0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и при переходе через эту точку производная меняет знак с минуса на плю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Локальный экстрем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исунке изображен график производной функции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Найдите целое положительное число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такое, что максимум функции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лежит на отрезке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[n,n+1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916360" y="1397160"/>
          <a:ext cx="3960720" cy="31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397160"/>
                    <a:ext cx="396072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Локальный экстрем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исунке изображен график производной функции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В точке максимума к графику функции проведена касательная, пересекающая ось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 точке с ординатой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-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Найдите сумму абсциссы и ординаты точки касан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843280" y="1339920"/>
          <a:ext cx="4176720" cy="32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339920"/>
                    <a:ext cx="417672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Локальный экстрем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исунке изображен график производной функции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В точке максимума к графику функции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оведена касательная, пересекающая ось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 точке с ординатой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2,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Найдите сумму абсциссы и ординаты точки касан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916360" y="1397160"/>
          <a:ext cx="4032000" cy="31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397160"/>
                    <a:ext cx="4032000" cy="31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Локальный экстрем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исунке изображен график производной функ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Сколько минимумов имеет данная функция на отрезке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[-1; 6]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24000" y="1422360"/>
          <a:ext cx="5543640" cy="28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22360"/>
                    <a:ext cx="554364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Локальный экстрем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количество точек максимума функции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если </a:t>
            </a:r>
            <a:br>
              <a:rPr sz="3200"/>
            </a:b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’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(x</a:t>
            </a:r>
            <a:r>
              <a:rPr b="1" i="1" lang="en-US" sz="32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3x – 4)(x</a:t>
            </a:r>
            <a:r>
              <a:rPr b="1" i="1" lang="en-US" sz="32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– 16)(x</a:t>
            </a:r>
            <a:r>
              <a:rPr b="1" i="1" lang="en-US" sz="32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– 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Экстремумы на отрез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ибольшее значение функции на отрезке находится как наибольшее из локальных максимумов и значений на грани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именьшее значение функции на отрезке находится как наименьшее из локальных минимумов и значений на грани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Экстремумы на отрез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точку, в которой функция </a:t>
            </a:r>
            <a:br>
              <a:rPr sz="3200"/>
            </a:b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2x</a:t>
            </a:r>
            <a:r>
              <a:rPr b="1" i="1" lang="en-US" sz="32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9x</a:t>
            </a:r>
            <a:r>
              <a:rPr b="1" i="1" lang="en-US" sz="32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– 60x +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инимает наибольшее значение на промежутке </a:t>
            </a:r>
            <a:br>
              <a:rPr sz="3200"/>
            </a:b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[-6; 6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значение функции </a:t>
            </a:r>
            <a:br>
              <a:rPr sz="3200"/>
            </a:b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1/4x</a:t>
            </a:r>
            <a:r>
              <a:rPr b="1" i="1" lang="en-US" sz="32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4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- 2x</a:t>
            </a:r>
            <a:r>
              <a:rPr b="1" i="1" lang="en-US" sz="32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точке максим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наименьшее значение функции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y=</a:t>
            </a:r>
            <a:r>
              <a:rPr b="1" i="1" lang="el-GR" sz="3200" spc="-1" strike="noStrike">
                <a:solidFill>
                  <a:srgbClr val="cc3300"/>
                </a:solidFill>
                <a:latin typeface="Times New Roman"/>
                <a:ea typeface="Arial"/>
              </a:rPr>
              <a:t>π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Arial"/>
              </a:rPr>
              <a:t>/√3 - √3 x – 2 cosx + 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 отрезке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  <a:ea typeface="Arial"/>
              </a:rPr>
              <a:t>[0; </a:t>
            </a:r>
            <a:r>
              <a:rPr b="0" i="1" lang="el-GR" sz="3200" spc="-1" strike="noStrike">
                <a:solidFill>
                  <a:srgbClr val="cc3300"/>
                </a:solidFill>
                <a:latin typeface="Times New Roman"/>
                <a:ea typeface="Arial"/>
              </a:rPr>
              <a:t>π</a:t>
            </a:r>
            <a:r>
              <a:rPr b="0" i="1" lang="en-US" sz="3200" spc="-1" strike="noStrike">
                <a:solidFill>
                  <a:srgbClr val="cc3300"/>
                </a:solidFill>
                <a:latin typeface="Times New Roman"/>
                <a:ea typeface="Arial"/>
              </a:rPr>
              <a:t>/2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  <a:ea typeface="Arial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Экстремумы на отрез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количество целых значений а, при которых функция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-x</a:t>
            </a:r>
            <a:r>
              <a:rPr b="1" i="1" lang="en-US" sz="2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/3 + (a+2)x</a:t>
            </a:r>
            <a:r>
              <a:rPr b="1" i="1" lang="en-US" sz="2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– 4x +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 имеет точек экстрему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количество целых значений функци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 х +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6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/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(х-1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на отрезке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[-4; 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наименьшее значение функции </a:t>
            </a: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2</a:t>
            </a:r>
            <a:r>
              <a:rPr b="1" i="1" lang="en-US" sz="2800" spc="-1" strike="noStrike" baseline="30000">
                <a:solidFill>
                  <a:srgbClr val="cc3300"/>
                </a:solidFill>
                <a:latin typeface="Times New Roman"/>
              </a:rPr>
              <a:t>2x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+ 2</a:t>
            </a:r>
            <a:r>
              <a:rPr b="1" i="1" lang="en-US" sz="2800" spc="-1" strike="noStrike" baseline="30000">
                <a:solidFill>
                  <a:srgbClr val="cc3300"/>
                </a:solidFill>
                <a:latin typeface="Times New Roman"/>
              </a:rPr>
              <a:t>x+1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– xln16 +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отрезке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[-1;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наименьшее значение функци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x|x</a:t>
            </a:r>
            <a:r>
              <a:rPr b="1" i="1" lang="en-US" sz="28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+ 2x – 3| + (x-1)</a:t>
            </a:r>
            <a:r>
              <a:rPr b="1" i="1" lang="en-US" sz="28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отрезке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[-2; 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Геометрический смысл производной (теор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ующие величины рав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е производн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f’(x</a:t>
            </a:r>
            <a:r>
              <a:rPr b="1" i="1" lang="en-US" sz="32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очке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нгенс угла наклона касательной к графику функции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y= f (x</a:t>
            </a:r>
            <a:r>
              <a:rPr b="1" i="1" lang="en-US" sz="32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очке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ловой коэффициент касательной к графику функции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y= f (x</a:t>
            </a:r>
            <a:r>
              <a:rPr b="1" i="1" lang="en-US" sz="32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очке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1. Вычислить производну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476360" y="1468440"/>
          <a:ext cx="6480360" cy="50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68440"/>
                    <a:ext cx="648036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2. Вычислить производну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76360" y="1441440"/>
          <a:ext cx="6696000" cy="524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41440"/>
                    <a:ext cx="6696000" cy="52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3. Вычислите величину </a:t>
            </a:r>
            <a:r>
              <a:rPr b="1" i="1" lang="ru-RU" sz="4400" spc="-1" strike="noStrike">
                <a:solidFill>
                  <a:srgbClr val="cc3300"/>
                </a:solidFill>
                <a:latin typeface="Times New Roman"/>
                <a:ea typeface="Arial"/>
              </a:rPr>
              <a:t>√3 </a:t>
            </a:r>
            <a:r>
              <a:rPr b="1" i="1" lang="en-US" sz="4400" spc="-1" strike="noStrike">
                <a:solidFill>
                  <a:srgbClr val="cc3300"/>
                </a:solidFill>
                <a:latin typeface="Times New Roman"/>
                <a:ea typeface="Arial"/>
              </a:rPr>
              <a:t>f’</a:t>
            </a:r>
            <a:r>
              <a:rPr b="1" i="1" lang="ru-RU" sz="4400" spc="-1" strike="noStrike">
                <a:solidFill>
                  <a:srgbClr val="cc3300"/>
                </a:solidFill>
                <a:latin typeface="Times New Roman"/>
                <a:ea typeface="Arial"/>
              </a:rPr>
              <a:t>(3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19280" y="1557360"/>
          <a:ext cx="6481800" cy="50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557360"/>
                    <a:ext cx="648180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. Точка кас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исунке изображен график производной функции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y= f (x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Прямая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y= 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x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вляется касательной к графику этой функции. Найдите ординату точки кас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003640" y="1773360"/>
          <a:ext cx="3816360" cy="29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773360"/>
                    <a:ext cx="3816360" cy="29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5. Точка кас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исунке изображен график производной функции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y= f (x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Прямая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y= 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-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вляется касательной к графику этой функции. Найдите ординату точки кас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0" y="2255760"/>
          <a:ext cx="4248000" cy="32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255760"/>
                    <a:ext cx="424800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Задачи 6-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асательная к графику функци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3 – 2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x – x</a:t>
            </a:r>
            <a:r>
              <a:rPr b="1" i="1" lang="ru-RU" sz="28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ллельна прямой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 4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Найдите абсциссу точки кас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сательная к графику функци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3 – 2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x – x</a:t>
            </a:r>
            <a:r>
              <a:rPr b="1" i="1" lang="ru-RU" sz="28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ходит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рез точки </a:t>
            </a: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А(1, 1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В(-1, 5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Найдите абсциссу точки ка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оложительное значение параметр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 котором прямая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-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касательной к графику функци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i="1" lang="ru-RU" sz="2800" spc="-1" strike="noStrike" baseline="30000">
                <a:solidFill>
                  <a:srgbClr val="cc3300"/>
                </a:solidFill>
                <a:latin typeface="Times New Roman"/>
              </a:rPr>
              <a:t>2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bx –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13:20:22Z</dcterms:created>
  <dc:creator>KSL</dc:creator>
  <dc:description/>
  <dc:language>en-US</dc:language>
  <cp:lastModifiedBy>Alesha</cp:lastModifiedBy>
  <dcterms:modified xsi:type="dcterms:W3CDTF">2017-10-18T18:30:15Z</dcterms:modified>
  <cp:revision>15</cp:revision>
  <dc:subject/>
  <dc:title>Задания с производной при подготовке к ЕГЭ</dc:title>
</cp:coreProperties>
</file>