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8.png" ContentType="image/png"/>
  <Override PartName="/ppt/media/image20.png" ContentType="image/png"/>
  <Override PartName="/ppt/media/image32.jpeg" ContentType="image/jpeg"/>
  <Override PartName="/ppt/media/image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091-D17F-4D5A-9D94-0F75B514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8B0-05C0-48AF-86E7-F3DF78B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A6D-7F26-4692-B6AF-2A9D07EA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B43-AAFE-415A-A87D-7B89B880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9F2-4E0B-454D-8180-FF1A4368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C796-D8A3-443E-BC93-3B3929F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5CD-7A54-4DF7-9E57-27065BE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F769-E701-444B-93F9-56F2A60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6B8E-4B11-498E-846C-9A6D4B01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E5A8-8F86-4987-9784-3841B4C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7853-6D81-40A7-BF7A-5F77AB2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356-E7F0-4C4B-AAF4-9E5153C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2D3-8D10-42DA-8AD3-B731203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F64-756A-4D77-B7D8-76B1185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6E1-BCB0-4739-AFE9-34EC803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1D0-F109-4377-98F7-46C904D5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9701-25F6-449F-8964-92D6AE97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58DA-5EA2-4785-A7C0-C8FDEF6E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0355-F5F3-4866-B4E5-397FA8C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F8E1-C51C-4CF9-9697-ED7A53D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BF27-E059-4249-AE75-89C1A11B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2A94-66D9-4970-B24D-0772C67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7D6-84B7-4855-8F40-71A73C4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FC91-19AF-41AD-A58A-9A75FB2D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680B-92A2-41AB-85C6-625D05FA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971E-5020-4D32-A900-8741667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3BAC-D93B-4EE2-A45F-90E4A8A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8709-1A5B-48C4-B4AD-CB4AF7F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7B77-499E-4D14-84A4-EA906982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1D47-7B5F-44C0-8267-3232BAA5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1F6E9-E681-47B0-8C7A-D35F24D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6870A-954E-4C9A-9EEB-2E5F41F5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5D92B-3437-406B-A395-C3953744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50A-E795-4A82-98E5-6DF0F91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9312F-833A-4F73-A1EC-A2106611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D3CF7-6627-405E-943D-9D96F66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59786-F485-4FD6-8A30-C2BD5AC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7EE49-4EE5-4D52-8C74-F593499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7E2FF-53D3-4DC3-8F8B-FEF4F85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553CC-E40D-4363-B1DA-E5A235E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5E6D2-C337-42A3-A8D6-0447E6D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D5649-42E5-4AA4-867D-D6812D6F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75298-9775-4AA8-8D49-4E9F94C8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1E847-1941-40D7-AA24-E7BE100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914-0959-452C-8599-80296DA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E0BA-A99E-4AB2-8622-E7CA2EE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D98B-3958-4DD3-9FCF-4808F124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090C-68CE-4FB9-9AC3-8460EDC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A65C-5227-4A9E-92A2-07BF0C1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6F4C-FBCE-44FF-AD80-BA54E88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F256-CA8B-438D-96A8-BB851F71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FF93-C24F-4730-BF38-9D97435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91A8-F47B-4648-8943-F68B8848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30A7-6262-4A4F-AF08-396CF68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3671-735A-4D3A-92C0-C409FF27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C75-2D8A-44E0-A8AB-3D8CA31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7138-0E03-4B67-9658-1659739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8A0-47B4-43DB-9F30-3AC539F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EF1-EB66-4C94-B3AB-C3AE6FB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4AF-AFED-4B38-8E04-0439090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C9E-FBA4-45B7-9105-BCF58D4422E9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74B-F9D3-447C-9A92-323D5054875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94EF-BE3C-4AEE-B0A7-6929F9EF21C6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04B-5F34-47BF-A478-08ADCF9DC00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9" name="Рисунок 60" descr=""/>
          <p:cNvPicPr/>
          <p:nvPr/>
        </p:nvPicPr>
        <p:blipFill>
          <a:blip r:embed="rId2"/>
          <a:stretch/>
        </p:blipFill>
        <p:spPr>
          <a:xfrm>
            <a:off x="6156360" y="44280"/>
            <a:ext cx="431640" cy="532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9657-4A0B-433D-953E-7AB60EC34CF4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6008-2564-48F5-A5E0-0FA46AB9A56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5F4-128B-4F6A-BB49-8683B625760C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A27-ADB8-425D-9B42-C20AE311AF4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42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4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46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8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2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4D4-812B-4B14-AE92-A9CC0F8ADBCE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319-BE7A-4057-B5B0-2172563B093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7937280" cy="2316240"/>
          </a:xfrm>
          <a:prstGeom prst="rect">
            <a:avLst/>
          </a:prstGeom>
          <a:ln w="0">
            <a:noFill/>
          </a:ln>
        </p:spPr>
      </p:pic>
      <p:pic>
        <p:nvPicPr>
          <p:cNvPr id="420" name="Подзаголовок 2" descr=""/>
          <p:cNvPicPr/>
          <p:nvPr/>
        </p:nvPicPr>
        <p:blipFill>
          <a:blip r:embed="rId2"/>
          <a:stretch/>
        </p:blipFill>
        <p:spPr>
          <a:xfrm>
            <a:off x="2548080" y="5688000"/>
            <a:ext cx="5730840" cy="93204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3" descr=""/>
          <p:cNvPicPr/>
          <p:nvPr/>
        </p:nvPicPr>
        <p:blipFill>
          <a:blip r:embed="rId3"/>
          <a:stretch/>
        </p:blipFill>
        <p:spPr>
          <a:xfrm>
            <a:off x="4816440" y="2773440"/>
            <a:ext cx="3224160" cy="28224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6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3095640" cy="2063520"/>
          </a:xfrm>
          <a:prstGeom prst="rect">
            <a:avLst/>
          </a:prstGeom>
          <a:ln w="0">
            <a:noFill/>
          </a:ln>
        </p:spPr>
      </p:pic>
      <p:sp>
        <p:nvSpPr>
          <p:cNvPr id="423" name="Дата 7"/>
          <p:cNvSpPr/>
          <p:nvPr/>
        </p:nvSpPr>
        <p:spPr>
          <a:xfrm>
            <a:off x="473868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633-698B-4B04-948E-0BA537B4EF36}" type="datetime"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Номер слайда 8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7347-C3EF-48BD-94DC-47EC9A22B374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723160" cy="890640"/>
          </a:xfrm>
          <a:prstGeom prst="rect">
            <a:avLst/>
          </a:prstGeom>
          <a:ln w="0">
            <a:noFill/>
          </a:ln>
        </p:spPr>
      </p:pic>
      <p:pic>
        <p:nvPicPr>
          <p:cNvPr id="460" name="Объект 5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4118040" cy="5106960"/>
          </a:xfrm>
          <a:prstGeom prst="rect">
            <a:avLst/>
          </a:prstGeom>
          <a:ln w="0">
            <a:noFill/>
          </a:ln>
        </p:spPr>
      </p:pic>
      <p:sp>
        <p:nvSpPr>
          <p:cNvPr id="46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BEE5-E037-4AEE-8398-EFE066121984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66AB-DEBA-4B80-9EAF-F05E3A75833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637480" cy="890640"/>
          </a:xfrm>
          <a:prstGeom prst="rect">
            <a:avLst/>
          </a:prstGeom>
          <a:ln w="0">
            <a:noFill/>
          </a:ln>
        </p:spPr>
      </p:pic>
      <p:pic>
        <p:nvPicPr>
          <p:cNvPr id="464" name="Объект 5" descr=""/>
          <p:cNvPicPr/>
          <p:nvPr/>
        </p:nvPicPr>
        <p:blipFill>
          <a:blip r:embed="rId2"/>
          <a:stretch/>
        </p:blipFill>
        <p:spPr>
          <a:xfrm>
            <a:off x="1395360" y="1341360"/>
            <a:ext cx="6072120" cy="4491000"/>
          </a:xfrm>
          <a:prstGeom prst="rect">
            <a:avLst/>
          </a:prstGeom>
          <a:ln w="0">
            <a:noFill/>
          </a:ln>
        </p:spPr>
      </p:pic>
      <p:sp>
        <p:nvSpPr>
          <p:cNvPr id="465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6A8F-264F-4F28-9E0F-8F7FA39F10D5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7B5-7945-4B41-9CD0-3BB362F2BAA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455320" cy="889200"/>
          </a:xfrm>
          <a:prstGeom prst="rect">
            <a:avLst/>
          </a:prstGeom>
          <a:ln w="0">
            <a:noFill/>
          </a:ln>
        </p:spPr>
      </p:pic>
      <p:pic>
        <p:nvPicPr>
          <p:cNvPr id="468" name="Объект 5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708360" cy="5191200"/>
          </a:xfrm>
          <a:prstGeom prst="rect">
            <a:avLst/>
          </a:prstGeom>
          <a:ln w="0">
            <a:noFill/>
          </a:ln>
        </p:spPr>
      </p:pic>
      <p:sp>
        <p:nvSpPr>
          <p:cNvPr id="469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BE8-182A-4C6E-96B3-8EB75992B4AC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D77F-B9E3-4088-B604-B1C51120EC9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8925120" cy="889200"/>
          </a:xfrm>
          <a:prstGeom prst="rect">
            <a:avLst/>
          </a:prstGeom>
          <a:ln w="0">
            <a:noFill/>
          </a:ln>
        </p:spPr>
      </p:pic>
      <p:pic>
        <p:nvPicPr>
          <p:cNvPr id="472" name="Объект 5" descr=""/>
          <p:cNvPicPr/>
          <p:nvPr/>
        </p:nvPicPr>
        <p:blipFill>
          <a:blip r:embed="rId2"/>
          <a:srcRect l="0" t="-62" r="0" b="0"/>
          <a:stretch/>
        </p:blipFill>
        <p:spPr>
          <a:xfrm>
            <a:off x="1873080" y="1268280"/>
            <a:ext cx="2883240" cy="4667400"/>
          </a:xfrm>
          <a:prstGeom prst="rect">
            <a:avLst/>
          </a:prstGeom>
          <a:ln w="0">
            <a:noFill/>
          </a:ln>
        </p:spPr>
      </p:pic>
      <p:sp>
        <p:nvSpPr>
          <p:cNvPr id="473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142-B97F-4F40-9437-D10F6B2DDBFC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840F-64B0-4A68-88A8-0CD9233472B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5" name="Рисунок 6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26751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272800" cy="889200"/>
          </a:xfrm>
          <a:prstGeom prst="rect">
            <a:avLst/>
          </a:prstGeom>
          <a:ln w="0">
            <a:noFill/>
          </a:ln>
        </p:spPr>
      </p:pic>
      <p:pic>
        <p:nvPicPr>
          <p:cNvPr id="477" name="Объект 5" descr=""/>
          <p:cNvPicPr/>
          <p:nvPr/>
        </p:nvPicPr>
        <p:blipFill>
          <a:blip r:embed="rId2"/>
          <a:stretch/>
        </p:blipFill>
        <p:spPr>
          <a:xfrm>
            <a:off x="1158840" y="1273320"/>
            <a:ext cx="3611520" cy="4716360"/>
          </a:xfrm>
          <a:prstGeom prst="rect">
            <a:avLst/>
          </a:prstGeom>
          <a:ln w="0">
            <a:noFill/>
          </a:ln>
        </p:spPr>
      </p:pic>
      <p:sp>
        <p:nvSpPr>
          <p:cNvPr id="478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ADAB-3945-4B00-8612-3281505A97E5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2E73-5408-48E4-BA3F-93E8FA05E2D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0" name="Рисунок 6" descr=""/>
          <p:cNvPicPr/>
          <p:nvPr/>
        </p:nvPicPr>
        <p:blipFill>
          <a:blip r:embed="rId3"/>
          <a:stretch/>
        </p:blipFill>
        <p:spPr>
          <a:xfrm>
            <a:off x="4356000" y="1273320"/>
            <a:ext cx="3600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272800" cy="889200"/>
          </a:xfrm>
          <a:prstGeom prst="rect">
            <a:avLst/>
          </a:prstGeom>
          <a:ln w="0">
            <a:noFill/>
          </a:ln>
        </p:spPr>
      </p:pic>
      <p:pic>
        <p:nvPicPr>
          <p:cNvPr id="482" name="Объект 5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32920" cy="4861080"/>
          </a:xfrm>
          <a:prstGeom prst="rect">
            <a:avLst/>
          </a:prstGeom>
          <a:ln w="0">
            <a:noFill/>
          </a:ln>
        </p:spPr>
      </p:pic>
      <p:sp>
        <p:nvSpPr>
          <p:cNvPr id="483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C211-D341-4525-8A75-2F8CCFDA4502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2F6B-A9CD-48DC-AEB3-98F4C1392CB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637480" cy="890640"/>
          </a:xfrm>
          <a:prstGeom prst="rect">
            <a:avLst/>
          </a:prstGeom>
          <a:ln w="0">
            <a:noFill/>
          </a:ln>
        </p:spPr>
      </p:pic>
      <p:sp>
        <p:nvSpPr>
          <p:cNvPr id="486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6BD-0BC0-490C-B6EE-581C84D7465F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E709-8DD7-465B-BA27-CE449BF0AF6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8" name="Объект 7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9574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225360" y="328680"/>
            <a:ext cx="8528040" cy="890640"/>
          </a:xfrm>
          <a:prstGeom prst="rect">
            <a:avLst/>
          </a:prstGeom>
          <a:ln w="0">
            <a:noFill/>
          </a:ln>
        </p:spPr>
      </p:pic>
      <p:sp>
        <p:nvSpPr>
          <p:cNvPr id="490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462-07E5-4ACE-9E2E-B40F7AD733EB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AD4-6843-4890-9F2F-F302938984B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2" name="Объект 7" descr=""/>
          <p:cNvPicPr/>
          <p:nvPr/>
        </p:nvPicPr>
        <p:blipFill>
          <a:blip r:embed="rId2"/>
          <a:stretch/>
        </p:blipFill>
        <p:spPr>
          <a:xfrm>
            <a:off x="5634000" y="1230480"/>
            <a:ext cx="2825640" cy="3278160"/>
          </a:xfrm>
          <a:prstGeom prst="rect">
            <a:avLst/>
          </a:prstGeom>
          <a:ln w="0">
            <a:noFill/>
          </a:ln>
        </p:spPr>
      </p:pic>
      <p:pic>
        <p:nvPicPr>
          <p:cNvPr id="493" name="Объект 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957400" cy="3384360"/>
          </a:xfrm>
          <a:prstGeom prst="rect">
            <a:avLst/>
          </a:prstGeom>
          <a:ln w="0">
            <a:noFill/>
          </a:ln>
        </p:spPr>
      </p:pic>
      <p:pic>
        <p:nvPicPr>
          <p:cNvPr id="494" name="Объект 5" descr=""/>
          <p:cNvPicPr/>
          <p:nvPr/>
        </p:nvPicPr>
        <p:blipFill>
          <a:blip r:embed="rId4"/>
          <a:srcRect l="0" t="-59" r="0" b="0"/>
          <a:stretch/>
        </p:blipFill>
        <p:spPr>
          <a:xfrm>
            <a:off x="2484360" y="3521160"/>
            <a:ext cx="1882800" cy="3049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5"/>
          <a:stretch/>
        </p:blipFill>
        <p:spPr>
          <a:xfrm>
            <a:off x="4264200" y="3537000"/>
            <a:ext cx="1747800" cy="3049560"/>
          </a:xfrm>
          <a:prstGeom prst="rect">
            <a:avLst/>
          </a:prstGeom>
          <a:ln w="0">
            <a:noFill/>
          </a:ln>
        </p:spPr>
      </p:pic>
      <p:pic>
        <p:nvPicPr>
          <p:cNvPr id="496" name="русская_народная_-_я_люблю_ивана_(2-46)(www.muzico.ru).mp3" descr=""/>
          <p:cNvPicPr/>
          <p:nvPr/>
        </p:nvPicPr>
        <p:blipFill>
          <a:blip r:embed="rId6"/>
          <a:stretch/>
        </p:blipFill>
        <p:spPr>
          <a:xfrm>
            <a:off x="855720" y="4757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7" name="Цыганская_песня_-_Бомба!!!)))))))))))_(2-10)(www.muzico.ru).mp3" descr=""/>
          <p:cNvPicPr/>
          <p:nvPr/>
        </p:nvPicPr>
        <p:blipFill>
          <a:blip r:embed="rId7"/>
          <a:stretch/>
        </p:blipFill>
        <p:spPr>
          <a:xfrm>
            <a:off x="7093080" y="486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8" name="●Лезгинка_-_Адыгейская●_(3-01)(www.muzico.ru).mp3" descr=""/>
          <p:cNvPicPr/>
          <p:nvPr/>
        </p:nvPicPr>
        <p:blipFill>
          <a:blip r:embed="rId8"/>
          <a:stretch/>
        </p:blipFill>
        <p:spPr>
          <a:xfrm>
            <a:off x="4140360" y="229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298440" y="311040"/>
            <a:ext cx="8309160" cy="889200"/>
          </a:xfrm>
          <a:prstGeom prst="rect">
            <a:avLst/>
          </a:prstGeom>
          <a:ln w="0">
            <a:noFill/>
          </a:ln>
        </p:spPr>
      </p:pic>
      <p:pic>
        <p:nvPicPr>
          <p:cNvPr id="500" name="Объект 5" descr=""/>
          <p:cNvPicPr/>
          <p:nvPr/>
        </p:nvPicPr>
        <p:blipFill>
          <a:blip r:embed="rId2"/>
          <a:srcRect l="-664" t="0" r="0" b="0"/>
          <a:stretch/>
        </p:blipFill>
        <p:spPr>
          <a:xfrm>
            <a:off x="1476360" y="1197000"/>
            <a:ext cx="6218280" cy="5183280"/>
          </a:xfrm>
          <a:prstGeom prst="rect">
            <a:avLst/>
          </a:prstGeom>
          <a:ln w="0">
            <a:noFill/>
          </a:ln>
        </p:spPr>
      </p:pic>
      <p:sp>
        <p:nvSpPr>
          <p:cNvPr id="50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4C4-071D-4AFB-9124-A974F4423F86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93D-DCA0-484D-8F74-DB16784C65B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3" name="Победа_-_Прощание_Славянки_(1-31)(www.muzico.ru).mp3" descr=""/>
          <p:cNvPicPr/>
          <p:nvPr/>
        </p:nvPicPr>
        <p:blipFill>
          <a:blip r:embed="rId3"/>
          <a:stretch/>
        </p:blipFill>
        <p:spPr>
          <a:xfrm>
            <a:off x="3657600" y="1484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950760" y="328680"/>
            <a:ext cx="6620040" cy="89676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3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427" name="Дата 4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6EE3-C65B-4CD8-8EEC-33322967BBE4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BF9-E58E-4AA8-836D-20F1DF44E46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D094D095D0A2D0A1D09AD090D0AF 00_00_00-00_00_50.mp3" descr=""/>
          <p:cNvPicPr/>
          <p:nvPr/>
        </p:nvPicPr>
        <p:blipFill>
          <a:blip r:embed="rId3"/>
          <a:stretch/>
        </p:blipFill>
        <p:spPr>
          <a:xfrm>
            <a:off x="3780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512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bff7d"/>
              </a:solidFill>
              <a:latin typeface="Century Gothic"/>
            </a:endParaRPr>
          </a:p>
        </p:txBody>
      </p:sp>
      <p:pic>
        <p:nvPicPr>
          <p:cNvPr id="431" name="Объект 5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794120"/>
          </a:xfrm>
          <a:prstGeom prst="rect">
            <a:avLst/>
          </a:prstGeom>
          <a:ln w="0">
            <a:noFill/>
          </a:ln>
        </p:spPr>
      </p:pic>
      <p:sp>
        <p:nvSpPr>
          <p:cNvPr id="432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BB3-6B4B-44E3-ACA4-03A856F7B3D0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031_NASTOYASHHIJJ_DRUG 00_00_00-00_00_37.mp3" descr=""/>
          <p:cNvPicPr/>
          <p:nvPr/>
        </p:nvPicPr>
        <p:blipFill>
          <a:blip r:embed="rId2"/>
          <a:stretch/>
        </p:blipFill>
        <p:spPr>
          <a:xfrm>
            <a:off x="1692360" y="638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34" name="Номер слайда 7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E7AD-BE45-4456-8849-B4B319CD4922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060040" cy="88920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5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4338720" cy="4967280"/>
          </a:xfrm>
          <a:prstGeom prst="rect">
            <a:avLst/>
          </a:prstGeom>
          <a:ln w="0">
            <a:noFill/>
          </a:ln>
        </p:spPr>
      </p:pic>
      <p:sp>
        <p:nvSpPr>
          <p:cNvPr id="437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504A-07A6-4019-AF17-16B9C6CA29A3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380-EB5F-4BE9-A58D-9088850C4F4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95120" y="328680"/>
            <a:ext cx="8614080" cy="890640"/>
          </a:xfrm>
          <a:prstGeom prst="rect">
            <a:avLst/>
          </a:prstGeom>
          <a:ln w="0">
            <a:noFill/>
          </a:ln>
        </p:spPr>
      </p:pic>
      <p:pic>
        <p:nvPicPr>
          <p:cNvPr id="440" name="Объект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977080" cy="5013360"/>
          </a:xfrm>
          <a:prstGeom prst="rect">
            <a:avLst/>
          </a:prstGeom>
          <a:ln w="0">
            <a:noFill/>
          </a:ln>
        </p:spPr>
      </p:pic>
      <p:sp>
        <p:nvSpPr>
          <p:cNvPr id="44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E37-7AF9-498C-923B-7F09A86455FB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46B9-FF73-4B7D-85B5-E7EEA05009F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95120" y="328680"/>
            <a:ext cx="8699760" cy="890640"/>
          </a:xfrm>
          <a:prstGeom prst="rect">
            <a:avLst/>
          </a:prstGeom>
          <a:ln w="0">
            <a:noFill/>
          </a:ln>
        </p:spPr>
      </p:pic>
      <p:sp>
        <p:nvSpPr>
          <p:cNvPr id="444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CE86-DB13-44B5-AE82-F96F79FD7913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5AB-992C-4976-8A6F-5E73EE2D943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6" name="Объект 5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54500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541000" cy="889200"/>
          </a:xfrm>
          <a:prstGeom prst="rect">
            <a:avLst/>
          </a:prstGeom>
          <a:ln w="0">
            <a:noFill/>
          </a:ln>
        </p:spPr>
      </p:pic>
      <p:sp>
        <p:nvSpPr>
          <p:cNvPr id="448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26C-50D1-4363-8513-D1667A7578D2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5B19-7532-4240-9216-D8BED2BABA8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0" name="Объект 5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7446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882280" cy="1109880"/>
          </a:xfrm>
          <a:prstGeom prst="rect">
            <a:avLst/>
          </a:prstGeom>
          <a:ln w="0">
            <a:noFill/>
          </a:ln>
        </p:spPr>
      </p:pic>
      <p:sp>
        <p:nvSpPr>
          <p:cNvPr id="452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E7A-30C9-42B1-9275-3F52D15F2D01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609-C96B-4B97-8D60-F9DEA08DACE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4" name="Объект 5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9137880" cy="889200"/>
          </a:xfrm>
          <a:prstGeom prst="rect">
            <a:avLst/>
          </a:prstGeom>
          <a:ln w="0">
            <a:noFill/>
          </a:ln>
        </p:spPr>
      </p:pic>
      <p:sp>
        <p:nvSpPr>
          <p:cNvPr id="456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54A7-2627-476E-8858-9540EFBF1B08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C72B-19E2-4512-8B0B-DEEDF00D86E8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8" name="Объект 9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4321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8:53:00Z</dcterms:created>
  <dc:creator>DEMON</dc:creator>
  <dc:description/>
  <dc:language>en-US</dc:language>
  <cp:lastModifiedBy>ДЕНИС</cp:lastModifiedBy>
  <dcterms:modified xsi:type="dcterms:W3CDTF">2017-10-18T21:26:53Z</dcterms:modified>
  <cp:revision>21</cp:revision>
  <dc:subject/>
  <dc:title>Презентация к уроку «Кубановедения»</dc:title>
</cp:coreProperties>
</file>