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22C-53BF-49A5-8237-472A7ABD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5F4-26FD-4930-9A77-BF1D989B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22E-6576-481B-ABFB-27F60EA6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7FE-EC70-4D7A-9BAD-5C63EF9F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603-E3CC-47F1-B185-8AD35371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3E3-6341-46B4-A451-AB7DAA16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126-A876-4FE8-8528-1538BBC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344-C4BB-4A5C-8520-1B6D69A0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B91-23C7-48D5-AEF9-300B96D9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DAC-5F18-4CF0-9733-48CFF775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AB8-7404-4399-A540-29F0CEE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D06-4C7F-4E43-AF44-7FE6AF3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6FC6-8598-4DCD-8666-EC68B085EA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7;&#1080;&#1089;&#1090;&#1077;&#1084;&#1072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54;&#1073;&#1088;&#1072;&#1073;&#1086;&#1090;&#1082;&#1072;%20&#1076;&#1072;&#1085;&#1085;&#1099;&#1093;/" TargetMode="External"/><Relationship Id="rId3" Type="http://schemas.openxmlformats.org/officeDocument/2006/relationships/hyperlink" Target="http://slovari.yandex.ru/%7E&#1082;&#1085;&#1080;&#1075;&#1080;/&#1051;&#1086;&#1087;&#1072;&#1090;&#1085;&#1080;&#1082;&#1086;&#1074;/&#1044;&#1072;&#1085;&#1085;&#1099;&#1077;/" TargetMode="External"/><Relationship Id="rId4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5" Type="http://schemas.openxmlformats.org/officeDocument/2006/relationships/hyperlink" Target="http://slovari.yandex.ru/%7E&#1082;&#1085;&#1080;&#1075;&#1080;/&#1051;&#1086;&#1087;&#1072;&#1090;&#1085;&#1080;&#1082;&#1086;&#1074;/&#1047;&#1072;&#1076;&#1072;&#1095;&#1072;/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5;&#1083;&#1072;&#1085;&#1080;&#1088;&#1086;&#1074;&#1072;&#1085;&#1080;&#1077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59;&#1087;&#1088;&#1072;&#1074;&#1083;&#1077;&#1085;&#1080;&#1077;/" TargetMode="External"/><Relationship Id="rId3" Type="http://schemas.openxmlformats.org/officeDocument/2006/relationships/hyperlink" Target="http://slovari.yandex.ru/%7E&#1082;&#1085;&#1080;&#1075;&#1080;/&#1051;&#1086;&#1087;&#1072;&#1090;&#1085;&#1080;&#1082;&#1086;&#1074;/&#1040;&#1074;&#1090;&#1086;&#1084;&#1072;&#1090;&#1080;&#1079;&#1080;&#1088;&#1086;&#1074;&#1072;&#1085;&#1085;&#1072;&#1103;%20&#1089;&#1080;&#1089;&#1090;&#1077;&#1084;&#1072;%20&#1087;&#1083;&#1072;&#1085;&#1086;&#1074;&#1099;&#1093;%20&#1088;&#1072;&#1089;&#1095;&#1077;&#1090;&#1086;&#1074;/" TargetMode="External"/><Relationship Id="rId4" Type="http://schemas.openxmlformats.org/officeDocument/2006/relationships/hyperlink" Target="http://slovari.yandex.ru/%7E&#1082;&#1085;&#1080;&#1075;&#1080;/&#1051;&#1086;&#1087;&#1072;&#1090;&#1085;&#1080;&#1082;&#1086;&#1074;/&#1040;&#1074;&#1090;&#1086;&#1084;&#1072;&#1090;&#1080;&#1079;&#1080;&#1088;&#1086;&#1074;&#1072;&#1085;&#1085;&#1072;&#1103;%20&#1089;&#1080;&#1089;&#1090;&#1077;&#1084;&#1072;%20&#1091;&#1087;&#1088;&#1072;&#1074;&#1083;&#1077;&#1085;&#1080;&#1103;/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7;&#1080;&#1089;&#1090;&#1077;&#1084;&#1072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3" Type="http://schemas.openxmlformats.org/officeDocument/2006/relationships/hyperlink" Target="http://slovari.yandex.ru/%7E&#1082;&#1085;&#1080;&#1075;&#1080;/&#1051;&#1086;&#1087;&#1072;&#1090;&#1085;&#1080;&#1082;&#1086;&#1074;/&#1040;&#1074;&#1090;&#1086;&#1084;&#1072;&#1090;&#1080;&#1079;&#1080;&#1088;&#1086;&#1074;&#1072;&#1085;&#1085;&#1072;&#1103;%20&#1089;&#1080;&#1089;&#1090;&#1077;&#1084;&#1072;%20&#1091;&#1087;&#1088;&#1072;&#1074;&#1083;&#1077;&#1085;&#1080;&#1103;/" TargetMode="External"/><Relationship Id="rId4" Type="http://schemas.openxmlformats.org/officeDocument/2006/relationships/hyperlink" Target="http://slovari.yandex.ru/%7E&#1082;&#1085;&#1080;&#1075;&#1080;/&#1051;&#1086;&#1087;&#1072;&#1090;&#1085;&#1080;&#1082;&#1086;&#1074;/&#1050;&#1072;&#1085;&#1072;&#1083;/" TargetMode="External"/><Relationship Id="rId5" Type="http://schemas.openxmlformats.org/officeDocument/2006/relationships/hyperlink" Target="http://slovari.yandex.ru/%7E&#1082;&#1085;&#1080;&#1075;&#1080;/&#1051;&#1086;&#1087;&#1072;&#1090;&#1085;&#1080;&#1082;&#1086;&#1074;/&#1055;&#1072;&#1084;&#1103;&#1090;&#1100;%20&#1089;&#1080;&#1089;&#1090;&#1077;&#1084;&#1099;/" TargetMode="External"/><Relationship Id="rId6" Type="http://schemas.openxmlformats.org/officeDocument/2006/relationships/hyperlink" Target="http://slovari.yandex.ru/%7E&#1082;&#1085;&#1080;&#1075;&#1080;/&#1051;&#1086;&#1087;&#1072;&#1090;&#1085;&#1080;&#1082;&#1086;&#1074;/&#1047;&#1072;&#1076;&#1072;&#1095;&#1072;/" TargetMode="External"/><Relationship Id="rId7" Type="http://schemas.openxmlformats.org/officeDocument/2006/relationships/hyperlink" Target="http://slovari.yandex.ru/%7E&#1082;&#1085;&#1080;&#1075;&#1080;/&#1051;&#1086;&#1087;&#1072;&#1090;&#1085;&#1080;&#1082;&#1086;&#1074;/&#1044;&#1072;&#1085;&#1085;&#1099;&#1077;/" TargetMode="External"/><Relationship Id="rId8" Type="http://schemas.openxmlformats.org/officeDocument/2006/relationships/hyperlink" Target="http://slovari.yandex.ru/%7E&#1082;&#1085;&#1080;&#1075;&#1080;/&#1051;&#1086;&#1087;&#1072;&#1090;&#1085;&#1080;&#1082;&#1086;&#1074;/&#1041;&#1072;&#1079;&#1072;%20&#1076;&#1072;&#1085;&#1085;&#1099;&#1093;/" TargetMode="External"/><Relationship Id="rId9" Type="http://schemas.openxmlformats.org/officeDocument/2006/relationships/hyperlink" Target="http://slovari.yandex.ru/%7E&#1082;&#1085;&#1080;&#1075;&#1080;/&#1051;&#1086;&#1087;&#1072;&#1090;&#1085;&#1080;&#1082;&#1086;&#1074;/&#1059;&#1087;&#1088;&#1072;&#1074;&#1083;&#1077;&#1085;&#1080;&#1077;/" TargetMode="External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44;&#1072;&#1085;&#1085;&#1099;&#1077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7;&#1080;&#1089;&#1090;&#1077;&#1084;&#1072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5;&#1088;&#1080;&#1079;&#1085;&#1072;&#1082;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44;&#1086;&#1082;&#1091;&#1084;&#1077;&#1085;&#1090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086;&#1085;&#1085;&#1086;-&#1087;&#1086;&#1080;&#1089;&#1082;&#1086;&#1074;&#1099;&#1081;%20&#1103;&#1079;&#1099;&#1082;/" TargetMode="External"/><Relationship Id="rId3" Type="http://schemas.openxmlformats.org/officeDocument/2006/relationships/hyperlink" Target="http://slovari.yandex.ru/%7E&#1082;&#1085;&#1080;&#1075;&#1080;/&#1051;&#1086;&#1087;&#1072;&#1090;&#1085;&#1080;&#1082;&#1086;&#1074;/&#1044;&#1077;&#1089;&#1082;&#1088;&#1080;&#1087;&#1090;&#1086;&#1088;/" TargetMode="External"/><Relationship Id="rId4" Type="http://schemas.openxmlformats.org/officeDocument/2006/relationships/hyperlink" Target="http://slovari.yandex.ru/%7E&#1082;&#1085;&#1080;&#1075;&#1080;/&#1051;&#1086;&#1087;&#1072;&#1090;&#1085;&#1080;&#1082;&#1086;&#1074;/&#1058;&#1077;&#1079;&#1072;&#1091;&#1088;&#1091;&#1089;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ЕКТИРОВАНИЕ РЕЛЯЦИОННОЙ БАЗЫ ДАННЫХ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работала преподаватель:  Левит Л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АЗА ДА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[data base] — совокупность хранимых в памяти компьютер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а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тносящихся к определенному объему или кругу деятельности, специально организованных, обновляемых и логически связанных между собой. Они представляют собой своеобразную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нформационную модел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ъекта (напр., управляемого объекта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С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. д., размещенная и работающая на одном компьютере, называетс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окальн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а на нескольких связанных между собой компьютерах —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пределенн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. 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ЕКТИРОВАНИЕ РЕЛЯЦИОННОЙ БАЗЫ ДАННЫХ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 Инфологическое проектирова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1.  Анализ предметной обла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2.  Анализ информационных задач и круга пользователе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 Определение требований к операционной обстанов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 Выбор СУБД и других программных средст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 Логическое проектирование реляционной Б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1.  Преобразование ER–диаграммы в схему базы дан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2.  Составление реляционных отнош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3. Нормализация полученных отношений (до 4НФ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4. Определение дополнительных ограничений целост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5. Описание групп пользователей и прав досту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 Физическое проектирование Б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ИМЕР ПРОЕКТИРОВАНИЯ РЕЛЯЦИОННОЙ БАЗЫ ДАН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честве примера возьмем базу данных компании, которая занимается издательской деятельност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за данных создаётся для информационного обслуживания редакторов, менеджеров и других сотрудников компании. БД должна содержать данные о сотрудниках компании, книгах, авторах, финансовом состоянии компании и предоставлять возможность получать разнообразные отчё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1.Инфологическое проектирование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1.1. Анализ предметной област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ая книга издаётся в рамках контрак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нига может быть написана несколькими автор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акт подписывается одним менеджером и всеми авторами книг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автор может написать несколько книг (по разным контрактам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ядок, в котором авторы указаны на обложке, влияет на размер гонора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сотрудник является редактором, то он может работать одновременно над несколькими книг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каждой книги может быть несколько редакторов, один из них – ответственный редакто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заказ оформляется на одного заказчи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заказе на покупку может быть перечислено несколько кни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Базовые сущности этой предметной области:</a:t>
            </a:r>
            <a:br>
              <a:rPr sz="36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трудни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омпании. Атрибуты сотрудников – ФИО, табельный номер, пол, дата рождения, паспортные данные, ИНН, должность, оклад, домашний адрес и телефоны. Для редакторов необходимо хранить сведения о редактируемых книгах; для менеджеров – сведения о подписанных контракт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Атрибуты авторов – ФИО, ИНН (индивидуальный номер налогоплательщика), паспортные данные, домашний адрес, телефоны. Для авторов необходимо хранить сведения о написанных книг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ни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Атрибуты книги – авторы, название, тираж, дата выхода, цена одного экземпляра, общие затраты на издание, авторский гонор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нтракт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удем рассматривать как связь между авторами, книгами и менеджерами. Атрибуты контракта – номер, дата подписания и участ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отражения финансового положения компании в системе нужно учитывать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каз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книги. Для заказа необходимо хранить номер заказа, заказчика, адрес заказчика, дату поступления заказа, дату его выполнения, список заказанных книг с указанием количества экземпляр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ER–диаграмма издательской компани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4" descr="Image4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1.2. Анализ информационных задач и круга пользователей систем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а создаётся для обслуживания следующих групп пользовател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министрация (дирекц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недже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дакто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трудники компании, обслуживающие заказ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Функциональные возможности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ение БД (запись, чтение, модификация, удаление в архив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логической непротиворечивости Б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защиты данных от несанкционированного или случайного доступа (определение прав доступ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наиболее часто встречающихся запросов в готовом вид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оставление возможности сформировать произвольный запрос на языке манипулирования дан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отовые запросы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списка всех текущих проектов (книг, находящихся в печати и в продаже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списка редакторов, работающих над книг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полной информации о книге (проекте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сведений о конкретном авторе (с перечнем всех книг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информации о продажах (по одному или по всем проектам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общей прибыли от продаж по текущим проекта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размера гонорара автора по конкретному прое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2. Определение требований к операционной обстановке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ём внешней памяти, необходимый для функционирования системы, складывается из двух составляющих: память, занимаемая модулями СУБД (ядро, утилиты, вспомогательные программы), и память, отводимая под данные (МД). Наиболее существенным обычно является МД. Объём памяти МД, требуемый для хранения данных, можно приблизительно оценить по форму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li – длина записи в i-й таблице (в байтах), Ni – примерное (максимально возможное) количество записей в i-й таблице, Na – количество записей в архиве i-й таблицы. Коэффициент 2 перед суммой нужен для того, чтобы выделить память для хранения индексов, промежуточных данных, для выполнения объёмных операций (например, сортировки) и т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Image5"/>
          <p:cNvPicPr/>
          <p:nvPr/>
        </p:nvPicPr>
        <p:blipFill>
          <a:blip r:embed="rId1"/>
          <a:stretch/>
        </p:blipFill>
        <p:spPr>
          <a:xfrm>
            <a:off x="3492360" y="3357720"/>
            <a:ext cx="324036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ВТОМАТИЗИРОВАННЫЕ СИСТЕМЫ ОБРАБОТКИ ИНФОРМАЦ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МАТИЗИРОВАННАЯ СИСТЕМА ОБРАБОТКИ ДАННЫХ (АСОД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[electronic data processing system] —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система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обработки данны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снованная на использовании электронных вычислительных машин (в отличие от систем, где обработк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данны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учная). Возможны два принципа организации такой обработки. В первом случа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обирается и обрабатыва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пециальн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ля решения каждой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задач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о втором — для решения различных задач наряду с переменной (специфической для каждой задачи) информацией используются общие нормативно-справочные (условно-постоянные) данные. В последнем случае система называ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грированн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асто интегрированными системами называются те, в которых не только исходная информация для разных задач общая, но и результаты решения одних задач используются для решения друг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удем считать, что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временно осуществляется около пятидесяти проектов, работа над проектом продолжается в среднем два месяца (по 0,3К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мпании работает 100 сотрудников (по 0,2К на каждого сотрудник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ательство сотрудничает с тридцатью авторами (по 0,2К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нь обслуживается порядка двадцати заявок (по 0,1К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аревшие данные переводятся в архи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бъём памяти для хранения данных примерно составит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Mc = 2(100*0,2+6(50*0,3)+30*0,2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50(20*0,1)) = 1232 К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,2 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250 – количество рабочих дней в году, а 12 мес./2 мес. = 6. Объём памяти будет увеличиваться ежегодно на столько же при сохранении объёма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3. Выбор СУБД и других программных средств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лиз информационных задач показывает, что для реализации требуемых функций подходят почти все СУБД для ПЭВМ (FoxPro, MS Ac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Ms SQ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др.). Все они поддерживают реляционную модель данных и предоставляют разнообразные возможности для работы с данн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4. Логическое проектирование реляционной БД </a:t>
            </a:r>
            <a:br>
              <a:rPr sz="3200"/>
            </a:br>
            <a:r>
              <a:rPr b="0" lang="ru-RU" sz="3000" spc="-1" strike="noStrike">
                <a:solidFill>
                  <a:srgbClr val="e5ffff"/>
                </a:solidFill>
                <a:latin typeface="Tahoma"/>
              </a:rPr>
              <a:t>4.1. Преобразование ER–диаграммы в схему базы данны</a:t>
            </a:r>
            <a:r>
              <a:rPr b="0" lang="en-US" sz="3000" spc="-1" strike="noStrike">
                <a:solidFill>
                  <a:srgbClr val="e5ffff"/>
                </a:solidFill>
                <a:latin typeface="Tahoma"/>
              </a:rPr>
              <a:t>х</a:t>
            </a:r>
            <a:br>
              <a:rPr sz="3000"/>
            </a:b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за данных создаётся на основании схемы базы дан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образование ER–диаграммы в схему БД выполняется путем сопоставления каждой сущности и каждой связи, имеющей атрибуты, отношения (таблицы БД)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Уточнённая ER–диаграмма издательской компани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Image6"/>
          <p:cNvPicPr/>
          <p:nvPr/>
        </p:nvPicPr>
        <p:blipFill>
          <a:blip r:embed="rId1"/>
          <a:stretch/>
        </p:blipFill>
        <p:spPr>
          <a:xfrm>
            <a:off x="541440" y="1147680"/>
            <a:ext cx="8351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хема РБД, полученная из ER–диаграммы издательской компани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Image8"/>
          <p:cNvPicPr/>
          <p:nvPr/>
        </p:nvPicPr>
        <p:blipFill>
          <a:blip r:embed="rId1"/>
          <a:stretch/>
        </p:blipFill>
        <p:spPr>
          <a:xfrm>
            <a:off x="395280" y="1700280"/>
            <a:ext cx="8748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Обозначения, используемые на схеме базы данных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Image7"/>
          <p:cNvPicPr/>
          <p:nvPr/>
        </p:nvPicPr>
        <p:blipFill>
          <a:blip r:embed="rId1"/>
          <a:stretch/>
        </p:blipFill>
        <p:spPr>
          <a:xfrm>
            <a:off x="395280" y="1989000"/>
            <a:ext cx="828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точнённая схема РБД издательской компан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7" descr="Image9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4.2. Составление реляционных отношений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ое реляционное отношение соответствует одной сущности (объекту ПО) и в него вносятся все атрибуты сущности. Для каждого отношения необходимо определить первичный ключ и внешние ключи (если они есть). В том случае, если базовое отношение не имеет потенциальных ключей, вводи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уррогатный первичный клю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который не несёт смысловой нагрузки и служит только для идентификации запис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Таблица 1. Схема отношения </a:t>
            </a:r>
            <a:r>
              <a:rPr b="0" i="1" lang="ru-RU" sz="3200" spc="-1" strike="noStrike" u="sng">
                <a:solidFill>
                  <a:srgbClr val="e5ffff"/>
                </a:solidFill>
                <a:uFillTx/>
                <a:latin typeface="Tahoma"/>
              </a:rPr>
              <a:t>СОТРУДНИКИ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(Employees)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413000"/>
          <a:ext cx="8218440" cy="4792680"/>
        </p:xfrm>
        <a:graphic>
          <a:graphicData uri="http://schemas.openxmlformats.org/drawingml/2006/table">
            <a:tbl>
              <a:tblPr/>
              <a:tblGrid>
                <a:gridCol w="2046240"/>
                <a:gridCol w="2057400"/>
                <a:gridCol w="2057400"/>
                <a:gridCol w="2057400"/>
              </a:tblGrid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пол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пол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, длин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ча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абельны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(4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вичный клю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, имя, отчеств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NAM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5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та рожд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BOR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SE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1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спортные данны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PASS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5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СОД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СОД применяются в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планирован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управлен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втоматизированные системы планир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управле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в научных исследованиях (автоматизированные системы сбора и обработки экспериментальных данных и системы автоматизации испытаний), в библиотечном деле и информационных службах,  в проектировании (системы автоматизированного проектирования и конструкторских работ) и других област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Окончание Таблицы 1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557360"/>
          <a:ext cx="8229600" cy="5224320"/>
        </p:xfrm>
        <a:graphic>
          <a:graphicData uri="http://schemas.openxmlformats.org/drawingml/2006/table">
            <a:tbl>
              <a:tblPr/>
              <a:tblGrid>
                <a:gridCol w="2049480"/>
                <a:gridCol w="2058840"/>
                <a:gridCol w="2060640"/>
                <a:gridCol w="206064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пол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пол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, длин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ча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IN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(12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уникальное пол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PO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3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ла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SAL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(8,2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ADD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5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леф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T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3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ногозначное по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476280"/>
          <a:ext cx="8229600" cy="5619600"/>
        </p:xfrm>
        <a:graphic>
          <a:graphicData uri="http://schemas.openxmlformats.org/drawingml/2006/table"/>
        </a:graphic>
      </p:graphicFrame>
      <p:graphicFrame>
        <p:nvGraphicFramePr>
          <p:cNvPr id="104" name="Object 6"/>
          <p:cNvGraphicFramePr/>
          <p:nvPr/>
        </p:nvGraphicFramePr>
        <p:xfrm>
          <a:off x="826920" y="404640"/>
          <a:ext cx="684072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04640"/>
                    <a:ext cx="684072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611280" y="765000"/>
          <a:ext cx="80978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80978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539640" y="1052640"/>
          <a:ext cx="817272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8172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468360" y="1125360"/>
          <a:ext cx="816768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1676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468360" y="1052640"/>
          <a:ext cx="827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7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539640" y="1341360"/>
          <a:ext cx="82044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1360"/>
                    <a:ext cx="82044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3. Нормализация полученных отношений (до 4НФ)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НФ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риведения таблиц к 1НФ требуется составить прямоугольные таблицы (один атрибут – один столбец) и разбить сложные атрибуты на простые, а многозначные атрибуты вынести в отдельные отно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НФ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шем случае составные первичные ключи имеют отношени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ТРОКИ ЗАК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НИГИ–АВТО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НИГИ–РЕДАКТО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Неключевые атрибуты этих отношений функционально полно зависят от первичных ключ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НФ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отношении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КАЗ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атрибу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Адрес заказчи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висит от атрибута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казчи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не от первичного ключа, поэтому адрес следует вынести в отдельное отнош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КАЗЧ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кончательная схема РБД издательской компании (в 4НФ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Picture 4" descr="Image11"/>
          <p:cNvPicPr/>
          <p:nvPr/>
        </p:nvPicPr>
        <p:blipFill>
          <a:blip r:embed="rId1"/>
          <a:stretch/>
        </p:blipFill>
        <p:spPr>
          <a:xfrm>
            <a:off x="395280" y="1773360"/>
            <a:ext cx="8748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ТЕГРИРОВАННАЯ СИСТЕМА ОБРАБОТКИ ДАН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ГРИРОВАННАЯ СИСТЕМА ОБРАБОТКИ ДАННЫХ (ИСОД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[integrated data processing system] —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систем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рганизации сбора, обработки и выдач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втоматизированных системах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 ИСОД интегрируются сама информация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ана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нформации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памя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стемы. При этом для решения разных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задач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спользуются общие нормативно-справочные и частично общие исходны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данны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егрированные системы упорядочивают потоки информации, повышают эффективность ее использования. Важно, что собранная из разных источников в единой памяти системы (в е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базе данны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информация может быть затем многократно переработана и приспособлена к конкретным потребностям любого звен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539640" y="1700280"/>
          <a:ext cx="80899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80899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Object 2"/>
          <p:cNvGraphicFramePr/>
          <p:nvPr/>
        </p:nvGraphicFramePr>
        <p:xfrm>
          <a:off x="507960" y="1628640"/>
          <a:ext cx="822960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628640"/>
                    <a:ext cx="822960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539640" y="333360"/>
          <a:ext cx="727236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7272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468360" y="1125360"/>
          <a:ext cx="824688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4688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755640" y="476280"/>
          <a:ext cx="712944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76280"/>
                    <a:ext cx="71294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900000" y="260280"/>
          <a:ext cx="6912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12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Object 2"/>
          <p:cNvGraphicFramePr/>
          <p:nvPr/>
        </p:nvGraphicFramePr>
        <p:xfrm>
          <a:off x="539640" y="907920"/>
          <a:ext cx="816768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81676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468360" y="1197000"/>
          <a:ext cx="82058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058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611280" y="1268280"/>
          <a:ext cx="80899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0899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539640" y="907920"/>
          <a:ext cx="81313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81313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БРАБОТКА ДАН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РАБОТКА ДАННЫ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[data processing, information processing] — процесс приведения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данны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 виду, удобному для использования. Независимо от вида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которая должна быть получена, и типа оборудования любая система О. д. выполняет три основные группы операций: подбор исходных, входных данных, собственно их обработку (в процессе которой система оперирует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межуточными данны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получение и анализ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зультат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т. е. выходных дан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4.3. Определение дополнительных ограничений целостност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2535120"/>
            <a:ext cx="86868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чения всех числовых атрибутов – больше 0 (или null, если атрибут необязателе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сть значений атрибута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Se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ношени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EMPLOYE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имволы 'м' и 'ж'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ROOM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е имеет первичного ключа, но комбинация значений (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R_n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Te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уникаль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ношении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TITL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рядковые номера авторов на обложке одной книги должны идти подряд, начиная с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ношении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TITL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умма процентов гонорара по одной книге равна 10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4.4. Описание групп пользователей и прав доступ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Администратор БД: имеет доступ ко всем данным (по записи), может изменять структуру базы данных и связи между отношениями. Устанавливает права доступа для всех остальных груп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редставители администрации компании: имеют доступ по чтению ко всем данным и доступ по записи к отношениям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POST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ROOM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EMPLOYE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енеджеры: имеет доступ по чтению ко всем данным, кроме отношени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POST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Имею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ис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я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UTHO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USTOM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O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DITO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IT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RD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Редакторы: имеют доступ по чтению к следующим отношения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AUTHOR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роме поле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A_pass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A_org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A_pda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A_IN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аспортные данные и ИН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BOOK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роме поле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advanc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fe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затраты и гонорар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EDITOR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TITL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Сотрудники, принимающие и выполняющие заказы: имеют доступ по записи к отношениям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CUSTOMER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ORDER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ITEM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по чтению к поля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titl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circu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pric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res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ношени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BOOK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название, тираж, цена, непроданный остаток тираж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5. Физическое проектирование БД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этапе физического проектирования создаются структуры таблиц (отношений), формируются схемы данных с логическими связями между таблицами, создаются формы, запросы, отчёты, разрабатывается интерфейс приложения к Б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ой разработки автоматизирова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ы обработки информации выберем СУБД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 Access 2007 (20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ФОРМАЦИОННО-ПОИСКОВАЯ СИСТЕ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ФОРМАЦИОННО-ПОИСКОВАЯ СИСТЕМА (ИПС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[information retrieval system], ил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формационно-справочная система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основанная на ЭВМ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систе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пособная накапливать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нформацию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той или иной области знаний и выдавать ее по запросам, поступающим обычно с дистанционных пультов по каналам связи. Примеры бытовых информационно-справочных систем — устройства, которые выдают сведения о наличии мест в гостиницах города или билетов на самоле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личают фактографические и документальные ИПС. В первых базы данных составляются из форматированных (формализованных) записей, во вторых записями служат различные неформализованные документы (статьи, рефераты, письма и т. п.). В фактографической системе каждая запись обязательно включает некий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призна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й однозначно ее идентифицирует. Напр., в системе кадрового учета, включающей совокупность анкет, таким признаком (первичным ключом), может служить табельный (учетный) номер работника. С помощью дополнительных (или вторичных) ключей осуществляется подбор записей, обладающих теми или иными свойствами, — напр. выборка всех анкет людей данного возраста или данной профе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действия документальных ИПС основан на том, что каждому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документ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хранящемуся в них (это может быть книга, бухгалтерская ведомость, статистическая сводка, письмо, статья из газеты и т. д.), присваивается “поисковый образ”, т. е. стандартизированный перечень признаков, записанный на специальном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нформационно-поисковом язык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см. также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Дескрипто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Тезауру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 Запрос также должен быть переведен на этот язык, и если при просмотре всех хранящихся в памяти машины поисковых образов найдутся такие, которые совпадут с поисковым образом запроса, значит, нужные документы найдены. Они и выдаются маш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АНК ДА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[data bank] — совокупность массивов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информац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лительного хранения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матизированной системе обработки данных (АСОД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соответствующим программным обеспечением. По другим трактовкам — универсальная или специализированна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база да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ыполняющая разнообразные запро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исте́ма управле́ния ба́зами да́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Б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 — совокупность программных и лингвистических средств общего или специального назначения, обеспечивающих управление созданием и использованием баз данны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9:24:58Z</dcterms:created>
  <dc:creator>User</dc:creator>
  <dc:description/>
  <dc:language>en-US</dc:language>
  <cp:lastModifiedBy>Левит Людмила Вульфовна</cp:lastModifiedBy>
  <dcterms:modified xsi:type="dcterms:W3CDTF">2017-10-11T16:20:11Z</dcterms:modified>
  <cp:revision>27</cp:revision>
  <dc:subject/>
  <dc:title>Автоматизированные системы обработки информации</dc:title>
</cp:coreProperties>
</file>