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3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6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017-16B6-45A5-8015-133CC1D1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155A-3506-498A-9430-1D699E34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8BA-0973-4B3F-8848-74A7B0EC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93B9-4B58-4732-9987-346D5F35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6562-9CB6-4FFA-8730-847F7ED7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9A4-8C2C-4F39-ACF5-09CB7D52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A138-3F53-477F-BD7B-B9073317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7D7-095C-4742-81FD-CA337AA0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E112-589C-4ED2-818D-9DD0F85C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6D8-D2E2-4F0C-A0A1-D182C439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03C1-4DF4-4275-BE4B-53F8C23F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9A95-6D25-4981-9B39-D649ECCC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A331-F88F-41A9-AE8B-94216298497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57;&#1080;&#1089;&#1090;&#1077;&#1084;&#1072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54;&#1073;&#1088;&#1072;&#1073;&#1086;&#1090;&#1082;&#1072;%20&#1076;&#1072;&#1085;&#1085;&#1099;&#1093;/" TargetMode="External"/><Relationship Id="rId3" Type="http://schemas.openxmlformats.org/officeDocument/2006/relationships/hyperlink" Target="http://slovari.yandex.ru/%7E&#1082;&#1085;&#1080;&#1075;&#1080;/&#1051;&#1086;&#1087;&#1072;&#1090;&#1085;&#1080;&#1082;&#1086;&#1074;/&#1044;&#1072;&#1085;&#1085;&#1099;&#1077;/" TargetMode="External"/><Relationship Id="rId4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103;/" TargetMode="External"/><Relationship Id="rId5" Type="http://schemas.openxmlformats.org/officeDocument/2006/relationships/hyperlink" Target="http://slovari.yandex.ru/%7E&#1082;&#1085;&#1080;&#1075;&#1080;/&#1051;&#1086;&#1087;&#1072;&#1090;&#1085;&#1080;&#1082;&#1086;&#1074;/&#1047;&#1072;&#1076;&#1072;&#1095;&#1072;/" TargetMode="Externa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55;&#1083;&#1072;&#1085;&#1080;&#1088;&#1086;&#1074;&#1072;&#1085;&#1080;&#1077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59;&#1087;&#1088;&#1072;&#1074;&#1083;&#1077;&#1085;&#1080;&#1077;/" TargetMode="External"/><Relationship Id="rId3" Type="http://schemas.openxmlformats.org/officeDocument/2006/relationships/hyperlink" Target="http://slovari.yandex.ru/%7E&#1082;&#1085;&#1080;&#1075;&#1080;/&#1051;&#1086;&#1087;&#1072;&#1090;&#1085;&#1080;&#1082;&#1086;&#1074;/&#1040;&#1074;&#1090;&#1086;&#1084;&#1072;&#1090;&#1080;&#1079;&#1080;&#1088;&#1086;&#1074;&#1072;&#1085;&#1085;&#1072;&#1103;%20&#1089;&#1080;&#1089;&#1090;&#1077;&#1084;&#1072;%20&#1087;&#1083;&#1072;&#1085;&#1086;&#1074;&#1099;&#1093;%20&#1088;&#1072;&#1089;&#1095;&#1077;&#1090;&#1086;&#1074;/" TargetMode="External"/><Relationship Id="rId4" Type="http://schemas.openxmlformats.org/officeDocument/2006/relationships/hyperlink" Target="http://slovari.yandex.ru/%7E&#1082;&#1085;&#1080;&#1075;&#1080;/&#1051;&#1086;&#1087;&#1072;&#1090;&#1085;&#1080;&#1082;&#1086;&#1074;/&#1040;&#1074;&#1090;&#1086;&#1084;&#1072;&#1090;&#1080;&#1079;&#1080;&#1088;&#1086;&#1074;&#1072;&#1085;&#1085;&#1072;&#1103;%20&#1089;&#1080;&#1089;&#1090;&#1077;&#1084;&#1072;%20&#1091;&#1087;&#1088;&#1072;&#1074;&#1083;&#1077;&#1085;&#1080;&#1103;/" TargetMode="Externa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57;&#1080;&#1089;&#1090;&#1077;&#1084;&#1072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103;/" TargetMode="External"/><Relationship Id="rId3" Type="http://schemas.openxmlformats.org/officeDocument/2006/relationships/hyperlink" Target="http://slovari.yandex.ru/%7E&#1082;&#1085;&#1080;&#1075;&#1080;/&#1051;&#1086;&#1087;&#1072;&#1090;&#1085;&#1080;&#1082;&#1086;&#1074;/&#1040;&#1074;&#1090;&#1086;&#1084;&#1072;&#1090;&#1080;&#1079;&#1080;&#1088;&#1086;&#1074;&#1072;&#1085;&#1085;&#1072;&#1103;%20&#1089;&#1080;&#1089;&#1090;&#1077;&#1084;&#1072;%20&#1091;&#1087;&#1088;&#1072;&#1074;&#1083;&#1077;&#1085;&#1080;&#1103;/" TargetMode="External"/><Relationship Id="rId4" Type="http://schemas.openxmlformats.org/officeDocument/2006/relationships/hyperlink" Target="http://slovari.yandex.ru/%7E&#1082;&#1085;&#1080;&#1075;&#1080;/&#1051;&#1086;&#1087;&#1072;&#1090;&#1085;&#1080;&#1082;&#1086;&#1074;/&#1050;&#1072;&#1085;&#1072;&#1083;/" TargetMode="External"/><Relationship Id="rId5" Type="http://schemas.openxmlformats.org/officeDocument/2006/relationships/hyperlink" Target="http://slovari.yandex.ru/%7E&#1082;&#1085;&#1080;&#1075;&#1080;/&#1051;&#1086;&#1087;&#1072;&#1090;&#1085;&#1080;&#1082;&#1086;&#1074;/&#1055;&#1072;&#1084;&#1103;&#1090;&#1100;%20&#1089;&#1080;&#1089;&#1090;&#1077;&#1084;&#1099;/" TargetMode="External"/><Relationship Id="rId6" Type="http://schemas.openxmlformats.org/officeDocument/2006/relationships/hyperlink" Target="http://slovari.yandex.ru/%7E&#1082;&#1085;&#1080;&#1075;&#1080;/&#1051;&#1086;&#1087;&#1072;&#1090;&#1085;&#1080;&#1082;&#1086;&#1074;/&#1047;&#1072;&#1076;&#1072;&#1095;&#1072;/" TargetMode="External"/><Relationship Id="rId7" Type="http://schemas.openxmlformats.org/officeDocument/2006/relationships/hyperlink" Target="http://slovari.yandex.ru/%7E&#1082;&#1085;&#1080;&#1075;&#1080;/&#1051;&#1086;&#1087;&#1072;&#1090;&#1085;&#1080;&#1082;&#1086;&#1074;/&#1044;&#1072;&#1085;&#1085;&#1099;&#1077;/" TargetMode="External"/><Relationship Id="rId8" Type="http://schemas.openxmlformats.org/officeDocument/2006/relationships/hyperlink" Target="http://slovari.yandex.ru/%7E&#1082;&#1085;&#1080;&#1075;&#1080;/&#1051;&#1086;&#1087;&#1072;&#1090;&#1085;&#1080;&#1082;&#1086;&#1074;/&#1041;&#1072;&#1079;&#1072;%20&#1076;&#1072;&#1085;&#1085;&#1099;&#1093;/" TargetMode="External"/><Relationship Id="rId9" Type="http://schemas.openxmlformats.org/officeDocument/2006/relationships/hyperlink" Target="http://slovari.yandex.ru/%7E&#1082;&#1085;&#1080;&#1075;&#1080;/&#1051;&#1086;&#1087;&#1072;&#1090;&#1085;&#1080;&#1082;&#1086;&#1074;/&#1059;&#1087;&#1088;&#1072;&#1074;&#1083;&#1077;&#1085;&#1080;&#1077;/" TargetMode="External"/><Relationship Id="rId10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44;&#1072;&#1085;&#1085;&#1099;&#1077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103;/" TargetMode="Externa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57;&#1080;&#1089;&#1090;&#1077;&#1084;&#1072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103;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55;&#1088;&#1080;&#1079;&#1085;&#1072;&#1082;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44;&#1086;&#1082;&#1091;&#1084;&#1077;&#1085;&#1090;/" TargetMode="External"/><Relationship Id="rId2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086;&#1085;&#1085;&#1086;-&#1087;&#1086;&#1080;&#1089;&#1082;&#1086;&#1074;&#1099;&#1081;%20&#1103;&#1079;&#1099;&#1082;/" TargetMode="External"/><Relationship Id="rId3" Type="http://schemas.openxmlformats.org/officeDocument/2006/relationships/hyperlink" Target="http://slovari.yandex.ru/%7E&#1082;&#1085;&#1080;&#1075;&#1080;/&#1051;&#1086;&#1087;&#1072;&#1090;&#1085;&#1080;&#1082;&#1086;&#1074;/&#1044;&#1077;&#1089;&#1082;&#1088;&#1080;&#1087;&#1090;&#1086;&#1088;/" TargetMode="External"/><Relationship Id="rId4" Type="http://schemas.openxmlformats.org/officeDocument/2006/relationships/hyperlink" Target="http://slovari.yandex.ru/%7E&#1082;&#1085;&#1080;&#1075;&#1080;/&#1051;&#1086;&#1087;&#1072;&#1090;&#1085;&#1080;&#1082;&#1086;&#1074;/&#1058;&#1077;&#1079;&#1072;&#1091;&#1088;&#1091;&#1089;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lovari.yandex.ru/%7E&#1082;&#1085;&#1080;&#1075;&#1080;/&#1051;&#1086;&#1087;&#1072;&#1090;&#1085;&#1080;&#1082;&#1086;&#1074;/&#1048;&#1085;&#1092;&#1086;&#1088;&#1084;&#1072;&#1094;&#1080;&#1103;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РОЕКТИРОВАНИЕ РЕЛЯЦИОННОЙ БАЗЫ ДАННЫХ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зработала преподаватель:  Левит Л.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АЗА ДА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[data base] — совокупность хранимых в памяти компьютера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да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относящихся к определенному объему или кругу деятельности, специально организованных, обновляемых и логически связанных между собой. Они представляют собой своеобразную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информационную модель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бъекта (напр., управляемого объекта 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СУ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. д., размещенная и работающая на одном компьютере, называетс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локальн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а на нескольких связанных между собой компьютерах —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спределенн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Б. 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ОЕКТИРОВАНИЕ РЕЛЯЦИОННОЙ БАЗЫ ДАННЫХ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 Инфологическое проектировани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1.  Анализ предметной обла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2.  Анализ информационных задач и круга пользователей системы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  Определение требований к операционной обстановк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3.  Выбор СУБД и других программных средст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  Логическое проектирование реляционной Б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1.  Преобразование ER–диаграммы в схему базы данны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2.  Составление реляционных отношени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3. Нормализация полученных отношений (до 4НФ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4. Определение дополнительных ограничений целостност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.5. Описание групп пользователей и прав досту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5.  Физическое проектирование БД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ПРИМЕР ПРОЕКТИРОВАНИЯ РЕЛЯЦИОННОЙ БАЗЫ ДАН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качестве примера возьмем базу данных компании, которая занимается издательской деятельность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за данных создаётся для информационного обслуживания редакторов, менеджеров и других сотрудников компании. БД должна содержать данные о сотрудниках компании, книгах, авторах, финансовом состоянии компании и предоставлять возможность получать разнообразные отчёт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380880"/>
            <a:ext cx="8820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1.Инфологическое проектирование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1.1. Анализ предметной област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ая книга издаётся в рамках контракт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нига может быть написана несколькими автор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ракт подписывается одним менеджером и всеми авторами книг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ый автор может написать несколько книг (по разным контрактам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рядок, в котором авторы указаны на обложке, влияет на размер гонора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сотрудник является редактором, то он может работать одновременно над несколькими книг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каждой книги может быть несколько редакторов, один из них – ответственный редактор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ждый заказ оформляется на одного заказчик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заказе на покупку может быть перечислено несколько кни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Базовые сущности этой предметной области:</a:t>
            </a:r>
            <a:br>
              <a:rPr sz="36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трудни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компании. Атрибуты сотрудников – ФИО, табельный номер, пол, дата рождения, паспортные данные, ИНН, должность, оклад, домашний адрес и телефоны. Для редакторов необходимо хранить сведения о редактируемых книгах; для менеджеров – сведения о подписанных контракт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р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Атрибуты авторов – ФИО, ИНН (индивидуальный номер налогоплательщика), паспортные данные, домашний адрес, телефоны. Для авторов необходимо хранить сведения о написанных книг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ниг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Атрибуты книги – авторы, название, тираж, дата выхода, цена одного экземпляра, общие затраты на издание, авторский гонора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нтракт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удем рассматривать как связь между авторами, книгами и менеджерами. Атрибуты контракта – номер, дата подписания и участни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ля отражения финансового положения компании в системе нужно учитывать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заказ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а книги. Для заказа необходимо хранить номер заказа, заказчика, адрес заказчика, дату поступления заказа, дату его выполнения, список заказанных книг с указанием количества экземпляров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ER–диаграмма издательской компании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4" descr="Image4"/>
          <p:cNvPicPr/>
          <p:nvPr/>
        </p:nvPicPr>
        <p:blipFill>
          <a:blip r:embed="rId1"/>
          <a:stretch/>
        </p:blipFill>
        <p:spPr>
          <a:xfrm>
            <a:off x="468360" y="1989000"/>
            <a:ext cx="8280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1.2. Анализ информационных задач и круга пользователей системы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а создаётся для обслуживания следующих групп пользователе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дминистрация (дирекци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недже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дактор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трудники компании, обслуживающие заказ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Функциональные возможности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дение БД (запись, чтение, модификация, удаление в архив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ение логической непротиворечивости БД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еспечение защиты данных от несанкционированного или случайного доступа (определение прав доступ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еализация наиболее часто встречающихся запросов в готовом виде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оставление возможности сформировать произвольный запрос на языке манипулирования дан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отовые запросы: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списка всех текущих проектов (книг, находящихся в печати и в продаже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списка редакторов, работающих над книг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полной информации о книге (проекте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сведений о конкретном авторе (с перечнем всех книг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чение информации о продажах (по одному или по всем проектам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ение общей прибыли от продаж по текущим проекта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ределение размера гонорара автора по конкретному проек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2. Определение требований к операционной обстановке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ём внешней памяти, необходимый для функционирования системы, складывается из двух составляющих: память, занимаемая модулями СУБД (ядро, утилиты, вспомогательные программы), и память, отводимая под данные (МД). Наиболее существенным обычно является МД. Объём памяти МД, требуемый для хранения данных, можно приблизительно оценить по формул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де li – длина записи в i-й таблице (в байтах), Ni – примерное (максимально возможное) количество записей в i-й таблице, Na – количество записей в архиве i-й таблицы. Коэффициент 2 перед суммой нужен для того, чтобы выделить память для хранения индексов, промежуточных данных, для выполнения объёмных операций (например, сортировки) и т.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4" descr="Image5"/>
          <p:cNvPicPr/>
          <p:nvPr/>
        </p:nvPicPr>
        <p:blipFill>
          <a:blip r:embed="rId1"/>
          <a:stretch/>
        </p:blipFill>
        <p:spPr>
          <a:xfrm>
            <a:off x="3492360" y="3357720"/>
            <a:ext cx="3240360" cy="10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ВТОМАТИЗИРОВАННЫЕ СИСТЕМЫ ОБРАБОТКИ ИНФОРМАЦ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24000" y="227664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ВТОМАТИЗИРОВАННАЯ СИСТЕМА ОБРАБОТКИ ДАННЫХ (АСОД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[electronic data processing system] —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система</a:t>
            </a:r>
            <a:r>
              <a:rPr b="0" i="1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обработки данны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основанная на использовании электронных вычислительных машин (в отличие от систем, где обработка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данны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ручная). Возможны два принципа организации такой обработки. В первом случа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обирается и обрабатывается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специально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для решения каждой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задач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, во втором — для решения различных задач наряду с переменной (специфической для каждой задачи) информацией используются общие нормативно-справочные (условно-постоянные) данные. В последнем случае система называется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грированной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Часто интегрированными системами называются те, в которых не только исходная информация для разных задач общая, но и результаты решения одних задач используются для решения друг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Будем считать, что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дновременно осуществляется около пятидесяти проектов, работа над проектом продолжается в среднем два месяца (по 0,3К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компании работает 100 сотрудников (по 0,2К на каждого сотрудник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здательство сотрудничает с тридцатью авторами (по 0,2К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день обслуживается порядка двадцати заявок (по 0,1К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таревшие данные переводятся в архи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бъём памяти для хранения данных примерно составит: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Mc = 2(100*0,2+6(50*0,3)+30*0,2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50(20*0,1)) = 1232 К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1,2 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де 250 – количество рабочих дней в году, а 12 мес./2 мес. = 6. Объём памяти будет увеличиваться ежегодно на столько же при сохранении объёма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3. Выбор СУБД и других программных средств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ализ информационных задач показывает, что для реализации требуемых функций подходят почти все СУБД для ПЭВМ (FoxPro, MS Acces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Ms SQL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др.). Все они поддерживают реляционную модель данных и предоставляют разнообразные возможности для работы с данным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4. Логическое проектирование реляционной БД </a:t>
            </a:r>
            <a:br>
              <a:rPr sz="3200"/>
            </a:br>
            <a:r>
              <a:rPr b="0" lang="ru-RU" sz="3000" spc="-1" strike="noStrike">
                <a:solidFill>
                  <a:srgbClr val="e5ffff"/>
                </a:solidFill>
                <a:latin typeface="Tahoma"/>
              </a:rPr>
              <a:t>4.1. Преобразование ER–диаграммы в схему базы данны</a:t>
            </a:r>
            <a:r>
              <a:rPr b="0" lang="en-US" sz="3000" spc="-1" strike="noStrike">
                <a:solidFill>
                  <a:srgbClr val="e5ffff"/>
                </a:solidFill>
                <a:latin typeface="Tahoma"/>
              </a:rPr>
              <a:t>х</a:t>
            </a:r>
            <a:br>
              <a:rPr sz="3000"/>
            </a:br>
            <a:endParaRPr b="0" lang="en-US" sz="3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74320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аза данных создаётся на основании схемы базы данных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образование ER–диаграммы в схему БД выполняется путем сопоставления каждой сущности и каждой связи, имеющей атрибуты, отношения (таблицы БД)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Уточнённая ER–диаграмма издательской компании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Image6"/>
          <p:cNvPicPr/>
          <p:nvPr/>
        </p:nvPicPr>
        <p:blipFill>
          <a:blip r:embed="rId1"/>
          <a:stretch/>
        </p:blipFill>
        <p:spPr>
          <a:xfrm>
            <a:off x="541440" y="1147680"/>
            <a:ext cx="83516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Схема РБД, полученная из ER–диаграммы издательской компании 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Image8"/>
          <p:cNvPicPr/>
          <p:nvPr/>
        </p:nvPicPr>
        <p:blipFill>
          <a:blip r:embed="rId1"/>
          <a:stretch/>
        </p:blipFill>
        <p:spPr>
          <a:xfrm>
            <a:off x="395280" y="1700280"/>
            <a:ext cx="8748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2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Обозначения, используемые на схеме базы данных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Image7"/>
          <p:cNvPicPr/>
          <p:nvPr/>
        </p:nvPicPr>
        <p:blipFill>
          <a:blip r:embed="rId1"/>
          <a:stretch/>
        </p:blipFill>
        <p:spPr>
          <a:xfrm>
            <a:off x="395280" y="1989000"/>
            <a:ext cx="82803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точнённая схема РБД издательской компани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7" descr="Image9"/>
          <p:cNvPicPr/>
          <p:nvPr/>
        </p:nvPicPr>
        <p:blipFill>
          <a:blip r:embed="rId1"/>
          <a:stretch/>
        </p:blipFill>
        <p:spPr>
          <a:xfrm>
            <a:off x="611280" y="1773360"/>
            <a:ext cx="79930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4.2. Составление реляционных отношений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аждое реляционное отношение соответствует одной сущности (объекту ПО) и в него вносятся все атрибуты сущности. Для каждого отношения необходимо определить первичный ключ и внешние ключи (если они есть). В том случае, если базовое отношение не имеет потенциальных ключей, вводится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уррогатный первичный ключ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который не несёт смысловой нагрузки и служит только для идентификации записе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Таблица 1. Схема отношения </a:t>
            </a:r>
            <a:r>
              <a:rPr b="0" i="1" lang="ru-RU" sz="3200" spc="-1" strike="noStrike" u="sng">
                <a:solidFill>
                  <a:srgbClr val="e5ffff"/>
                </a:solidFill>
                <a:uFillTx/>
                <a:latin typeface="Tahoma"/>
              </a:rPr>
              <a:t>СОТРУДНИКИ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  (Employees)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413000"/>
          <a:ext cx="8218440" cy="4792680"/>
        </p:xfrm>
        <a:graphic>
          <a:graphicData uri="http://schemas.openxmlformats.org/drawingml/2006/table">
            <a:tbl>
              <a:tblPr/>
              <a:tblGrid>
                <a:gridCol w="2046240"/>
                <a:gridCol w="2057400"/>
                <a:gridCol w="2057400"/>
                <a:gridCol w="2057400"/>
              </a:tblGrid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пол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я пол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, длин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чан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абельный 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(4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ервичный ключ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Фамилия, имя, отчество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NAM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5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пол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ата рождения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BOR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SEX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1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по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аспортные данны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PASS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50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пол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АСОД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СОД применяются в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планирован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управлен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втоматизированные системы планирова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управлени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, в научных исследованиях (автоматизированные системы сбора и обработки экспериментальных данных и системы автоматизации испытаний), в библиотечном деле и информационных службах,  в проектировании (системы автоматизированного проектирования и конструкторских работ) и других област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Окончание Таблицы 1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557360"/>
          <a:ext cx="8229600" cy="5224320"/>
        </p:xfrm>
        <a:graphic>
          <a:graphicData uri="http://schemas.openxmlformats.org/drawingml/2006/table">
            <a:tbl>
              <a:tblPr/>
              <a:tblGrid>
                <a:gridCol w="2049480"/>
                <a:gridCol w="2058840"/>
                <a:gridCol w="2060640"/>
                <a:gridCol w="2060640"/>
              </a:tblGrid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держание пол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мя пол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ип, длина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имечания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IN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(12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уникальное пол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олжн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POST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3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поле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клад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SAL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(8,2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язательное по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дре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ADD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5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Телефо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_T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(30)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ногозначное пол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476280"/>
          <a:ext cx="8229600" cy="5619600"/>
        </p:xfrm>
        <a:graphic>
          <a:graphicData uri="http://schemas.openxmlformats.org/drawingml/2006/table"/>
        </a:graphic>
      </p:graphicFrame>
      <p:graphicFrame>
        <p:nvGraphicFramePr>
          <p:cNvPr id="104" name="Object 6"/>
          <p:cNvGraphicFramePr/>
          <p:nvPr/>
        </p:nvGraphicFramePr>
        <p:xfrm>
          <a:off x="826920" y="404640"/>
          <a:ext cx="6840720" cy="604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404640"/>
                    <a:ext cx="6840720" cy="60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611280" y="765000"/>
          <a:ext cx="809784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65000"/>
                    <a:ext cx="80978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539640" y="1052640"/>
          <a:ext cx="817272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817272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Object 2"/>
          <p:cNvGraphicFramePr/>
          <p:nvPr/>
        </p:nvGraphicFramePr>
        <p:xfrm>
          <a:off x="468360" y="1125360"/>
          <a:ext cx="8167680" cy="439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167680" cy="439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0" name="Object 2"/>
          <p:cNvGraphicFramePr/>
          <p:nvPr/>
        </p:nvGraphicFramePr>
        <p:xfrm>
          <a:off x="468360" y="1052640"/>
          <a:ext cx="827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7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539640" y="1341360"/>
          <a:ext cx="82044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341360"/>
                    <a:ext cx="82044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4.3. Нормализация полученных отношений (до 4НФ)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1НФ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приведения таблиц к 1НФ требуется составить прямоугольные таблицы (один атрибут – один столбец) и разбить сложные атрибуты на простые, а многозначные атрибуты вынести в отдельные отнош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НФ.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шем случае составные первичные ключи имеют отношения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СТРОКИ ЗАКАЗ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НИГИ–АВТО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КНИГИ–РЕДАКТОРЫ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Неключевые атрибуты этих отношений функционально полно зависят от первичных ключ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3НФ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В отношении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КАЗ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атрибут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Адрес заказчи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зависит от атрибута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казчи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а не от первичного ключа, поэтому адрес следует вынести в отдельное отношение 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ЗАКАЗЧИКИ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кончательная схема РБД издательской компании (в 4НФ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1" name="Picture 4" descr="Image11"/>
          <p:cNvPicPr/>
          <p:nvPr/>
        </p:nvPicPr>
        <p:blipFill>
          <a:blip r:embed="rId1"/>
          <a:stretch/>
        </p:blipFill>
        <p:spPr>
          <a:xfrm>
            <a:off x="395280" y="1773360"/>
            <a:ext cx="87487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НТЕГРИРОВАННАЯ СИСТЕМА ОБРАБОТКИ ДАН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ГРИРОВАННАЯ СИСТЕМА ОБРАБОТКИ ДАННЫХ (ИСОД)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[integrated data processing system] —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систем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организации сбора, обработки и выдачи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нформаци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автоматизированных системах 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В ИСОД интегрируются сама информация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каналы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нформации,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памя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системы. При этом для решения разных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задач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спользуются общие нормативно-справочные и частично общие исходны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данны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нтегрированные системы упорядочивают потоки информации, повышают эффективность ее использования. Важно, что собранная из разных источников в единой памяти системы (в ее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базе данных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) информация может быть затем многократно переработана и приспособлена к конкретным потребностям любого звена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9"/>
              </a:rPr>
              <a:t>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4" name="Object 2"/>
          <p:cNvGraphicFramePr/>
          <p:nvPr/>
        </p:nvGraphicFramePr>
        <p:xfrm>
          <a:off x="539640" y="1700280"/>
          <a:ext cx="80899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00280"/>
                    <a:ext cx="80899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8" name="Object 2"/>
          <p:cNvGraphicFramePr/>
          <p:nvPr/>
        </p:nvGraphicFramePr>
        <p:xfrm>
          <a:off x="507960" y="1628640"/>
          <a:ext cx="822960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628640"/>
                    <a:ext cx="822960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2" name="Object 2"/>
          <p:cNvGraphicFramePr/>
          <p:nvPr/>
        </p:nvGraphicFramePr>
        <p:xfrm>
          <a:off x="539640" y="333360"/>
          <a:ext cx="727236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3360"/>
                    <a:ext cx="7272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468360" y="1125360"/>
          <a:ext cx="8246880" cy="37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25360"/>
                    <a:ext cx="824688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755640" y="476280"/>
          <a:ext cx="712944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476280"/>
                    <a:ext cx="71294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4" name="Object 2"/>
          <p:cNvGraphicFramePr/>
          <p:nvPr/>
        </p:nvGraphicFramePr>
        <p:xfrm>
          <a:off x="900000" y="260280"/>
          <a:ext cx="69120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69120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8" name="Object 2"/>
          <p:cNvGraphicFramePr/>
          <p:nvPr/>
        </p:nvGraphicFramePr>
        <p:xfrm>
          <a:off x="539640" y="907920"/>
          <a:ext cx="816768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81676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2" name="Object 2"/>
          <p:cNvGraphicFramePr/>
          <p:nvPr/>
        </p:nvGraphicFramePr>
        <p:xfrm>
          <a:off x="468360" y="1197000"/>
          <a:ext cx="820584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0584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6" name="Object 2"/>
          <p:cNvGraphicFramePr/>
          <p:nvPr/>
        </p:nvGraphicFramePr>
        <p:xfrm>
          <a:off x="611280" y="1268280"/>
          <a:ext cx="80899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68280"/>
                    <a:ext cx="80899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404280"/>
            <a:ext cx="82296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0" name="Object 2"/>
          <p:cNvGraphicFramePr/>
          <p:nvPr/>
        </p:nvGraphicFramePr>
        <p:xfrm>
          <a:off x="539640" y="907920"/>
          <a:ext cx="8131320" cy="41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907920"/>
                    <a:ext cx="81313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БРАБОТКА ДАН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РАБОТКА ДАННЫ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[data processing, information processing] — процесс приведения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данных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к виду, удобному для использования. Независимо от вида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нформаци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которая должна быть получена, и типа оборудования любая система О. д. выполняет три основные группы операций: подбор исходных, входных данных, собственно их обработку (в процессе которой система оперирует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межуточными данным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, получение и анализ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езультат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т. е. выходных дан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4.3. Определение дополнительных ограничений целостност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2535120"/>
            <a:ext cx="8686800" cy="43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начения всех числовых атрибутов – больше 0 (или null, если атрибут необязателе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ласть значений атрибута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Sex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ношения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EMPLOYE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 символы 'м' и 'ж'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е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ROOM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не имеет первичного ключа, но комбинация значений (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R_no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Te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 уникаль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ношении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TITL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рядковые номера авторов на обложке одной книги должны идти подряд, начиная с 1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ношении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TITL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умма процентов гонорара по одной книге равна 10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4.4. Описание групп пользователей и прав доступа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Администратор БД: имеет доступ ко всем данным (по записи), может изменять структуру базы данных и связи между отношениями. Устанавливает права доступа для всех остальных груп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редставители администрации компании: имеют доступ по чтению ко всем данным и доступ по записи к отношениям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POST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ROOM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EMPLOYE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енеджеры: имеет доступ по чтению ко всем данным, кроме отношения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POST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Имеют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ступ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пис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ношения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UTHO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USTOM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OK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DITO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TITL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RDER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Редакторы: имеют доступ по чтению к следующим отношения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AUTHOR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роме поле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A_passp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A_org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A_pdat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A_INN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паспортные данные и ИНН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BOOK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роме полей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advanc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fe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затраты и гонорар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EDITOR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TITLE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Сотрудники, принимающие и выполняющие заказы: имеют доступ по записи к отношениям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CUSTOMER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ORDER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ITEM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 по чтению к полям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titl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circu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price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B_rest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отношения 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BOOKS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название, тираж, цена, непроданный остаток тираж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5. Физическое проектирование БД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этапе физического проектирования создаются структуры таблиц (отношений), формируются схемы данных с логическими связями между таблицами, создаются формы, запросы, отчёты, разрабатывается интерфейс приложения к Б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редой разработки автоматизирова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стемы обработки информации выберем СУБД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s Access 2007 (201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НФОРМАЦИОННО-ПОИСКОВАЯ СИСТЕМ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ФОРМАЦИОННО-ПОИСКОВАЯ СИСТЕМА (ИПС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[information retrieval system], или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нформационно-справочная система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— основанная на ЭВМ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систем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способная накапливать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нформацию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той или иной области знаний и выдавать ее по запросам, поступающим обычно с дистанционных пультов по каналам связи. Примеры бытовых информационно-справочных систем — устройства, которые выдают сведения о наличии мест в гостиницах города или билетов на самоле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личают фактографические и документальные ИПС. В первых базы данных составляются из форматированных (формализованных) записей, во вторых записями служат различные неформализованные документы (статьи, рефераты, письма и т. п.). В фактографической системе каждая запись обязательно включает некий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признак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й однозначно ее идентифицирует. Напр., в системе кадрового учета, включающей совокупность анкет, таким признаком (первичным ключом), может служить табельный (учетный) номер работника. С помощью дополнительных (или вторичных) ключей осуществляется подбор записей, обладающих теми или иными свойствами, — напр. выборка всех анкет людей данного возраста или данной професс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нцип действия документальных ИПС основан на том, что каждому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документ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хранящемуся в них (это может быть книга, бухгалтерская ведомость, статистическая сводка, письмо, статья из газеты и т. д.), присваивается “поисковый образ”, т. е. стандартизированный перечень признаков, записанный на специальном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информационно-поисковом язык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см. также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Дескриптор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Тезаурус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. Запрос также должен быть переведен на этот язык, и если при просмотре всех хранящихся в памяти машины поисковых образов найдутся такие, которые совпадут с поисковым образом запроса, значит, нужные документы найдены. Они и выдаются маш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ОПРЕДЕЛ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БАНК ДА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[data bank] — совокупность массивов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информаци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длительного хранения в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автоматизированной системе обработки данных (АСОД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 соответствующим программным обеспечением. По другим трактовкам — универсальная или специализированная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база да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выполняющая разнообразные запрос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исте́ма управле́ния ба́зами да́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УБД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) — совокупность программных и лингвистических средств общего или специального назначения, обеспечивающих управление созданием и использованием баз данных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9:24:58Z</dcterms:created>
  <dc:creator>User</dc:creator>
  <dc:description/>
  <dc:language>en-US</dc:language>
  <cp:lastModifiedBy>Левит Людмила Вульфовна</cp:lastModifiedBy>
  <dcterms:modified xsi:type="dcterms:W3CDTF">2017-10-11T16:20:11Z</dcterms:modified>
  <cp:revision>27</cp:revision>
  <dc:subject/>
  <dc:title>Автоматизированные системы обработки информации</dc:title>
</cp:coreProperties>
</file>