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E4C-AD15-480C-9B15-BD9BA8A3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21B-2A2B-4AC6-B58B-9B2EEDDB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070-B531-4B76-80B4-75063974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85E-6AC6-409F-A115-9BE24828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8FCF2-6A6B-4E02-A58F-5E6146CC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58A1D-20AF-4C0C-916E-FD090FC5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E01B2-5635-44B7-90FE-E3A9F57D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97A90-F947-41EF-AF53-328282DB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0DBC4-52E4-45A5-9852-7DBAAC82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93C4A-7AAF-43DC-8177-426948DE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43562-91A3-469B-A073-BDC87BF9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E6D-1D73-4587-9B0E-AD95D13A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5EC99-F618-493B-AF8F-767BE8D6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F5413-74F8-4F2C-A33D-56887C8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19DB2-0EB0-4D81-BFF9-BC4556AC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6B37B-2BB2-485A-A113-C8C0CAF3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4667B-8921-4D3E-8B88-7BD10810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CA94F-1F0E-4A2A-9389-546898C7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D2328-2E1B-42CB-BC20-FD3AA18B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3D62B-7725-4BD6-B862-79CFA974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A44B4-2C18-4494-8318-34B02472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306BC-8DAC-40C0-89CB-CAB6C712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1E7-A0F1-4231-94B4-7E278669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071A2-C2AD-4527-B8B0-494C274F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B8475-584E-4663-8C56-8AA7ED6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A4825-2D10-441E-B111-A6F260E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B0131-E00F-4CE3-93C2-22D70DF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64802-511C-48F2-8209-A676D9CB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66E60-C12D-48E6-AF1C-79595715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EFE66-489C-409E-99C8-C81974D5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236EC-B03D-4771-8D71-BB5E3DCA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18A9A-891A-4511-9089-4587CBA9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90C70-9EE1-48BF-B905-F273219B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CA2-E477-4A2B-94B6-697954E6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8ED46-FB27-459F-938D-CECC4F8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8AB1E-3AF2-49D0-8D1D-234D04B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86C40-9255-4B5C-8602-28A2B08E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DC594-86AA-437D-816F-9FE0E21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6336B-565B-491D-963A-D60D0276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48ACA-604F-4CAA-93DE-8125807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14CBC-01E7-4AD0-8E9A-007F25D2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3EACF-A091-46E2-8626-7A4FEF77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F2395-E7FA-43C1-BD43-96E1E765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10FF8-2560-4025-A84D-46E7D478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AF8-2D30-4546-9DC2-E68D8BD2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D58B2-1669-4190-86FC-281EA9DF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6DB49-C243-4216-82C7-1592A852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597F1-39F9-4B87-B112-E67CBFFB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C9A80-8D18-47B6-805A-17DBFD0E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C1ADF-3E8E-4A6F-92E6-DC42FFC4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44305-F093-4345-BE3A-A4DCE4F5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E71F9-7825-40AB-9090-12F21A46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8F89C-6AF4-4BE1-BAF2-228BF385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24601-2EDF-469A-8E38-40B7D46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74190-EAE5-4B39-87EE-24467C22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9D6-EFF8-4EFB-8734-47CCB20D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A11FA-F339-48B2-96F4-A333EC88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1C164-3415-4888-9AEB-00C7DA08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EC70A-8326-4444-807B-5B85C537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D40E7-B1C7-44A8-A40A-354E0136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2E4C4-CC5C-400D-A642-AC1CC3D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0DBD1-1581-4AA6-83C6-7135024A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1A1F5-FA45-421A-8BCC-A9E9281E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7CE21-FF49-4700-99C6-25EBC3D3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A3882-F628-4FDF-B87F-3999F05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62387-B313-4C01-850E-9CD15D58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294-848B-4D3C-BFE5-E2B3019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C75C2-72ED-4B41-97EC-22994BAB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0A639-5246-409B-8B7E-FA4E6488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932DD-812B-4A53-A8AB-E008A086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447-30CB-454E-8726-2ED249EA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974-0A55-45E0-9E35-89E030A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19C-F1A3-4BC9-9AE2-DAC9E59ABE0A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665D-EF58-4F44-A7FB-FB786A1B24CF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1FD-70DF-4B6C-B6B6-BB76BEDA0605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B382-E015-4862-AD91-35CC2920AB7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2CEF-FA7C-4404-9B53-48584A6DCB6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DD7A-D229-4ADE-9BD8-72EDC02AE6C6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84080" y="604440"/>
            <a:ext cx="6172200" cy="3468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 БЮДЖЕТНОЕ ДОШКОЛЬНОЕ  ОБРАЗОВАТЕЛЬНОЕ УЧРЕЖДЕНИЕ №24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И ПРОВЕДЕНИЕ  ЭКСКУРСИЙ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730240" y="5189400"/>
            <a:ext cx="61722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ndara"/>
              </a:rPr>
              <a:t>Подготовила воспитатель: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ndara"/>
              </a:rPr>
              <a:t>Нарзаева Инна Игоревна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48" name="Picture 4" descr="C:\Users\1\Desktop\Инуля\Рисунок10.png"/>
          <p:cNvPicPr/>
          <p:nvPr/>
        </p:nvPicPr>
        <p:blipFill>
          <a:blip r:embed="rId1"/>
          <a:stretch/>
        </p:blipFill>
        <p:spPr>
          <a:xfrm>
            <a:off x="1047600" y="936720"/>
            <a:ext cx="1320840" cy="1403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1\Desktop\Инуля\Рисунок10.png"/>
          <p:cNvPicPr/>
          <p:nvPr/>
        </p:nvPicPr>
        <p:blipFill>
          <a:blip r:embed="rId2"/>
          <a:stretch/>
        </p:blipFill>
        <p:spPr>
          <a:xfrm>
            <a:off x="7270920" y="3419640"/>
            <a:ext cx="1299960" cy="1223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:\Users\1\Desktop\Инуля\Рисунок10.png"/>
          <p:cNvPicPr/>
          <p:nvPr/>
        </p:nvPicPr>
        <p:blipFill>
          <a:blip r:embed="rId3"/>
          <a:stretch/>
        </p:blipFill>
        <p:spPr>
          <a:xfrm>
            <a:off x="1992240" y="5059440"/>
            <a:ext cx="1476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РАЗНООБРАЗИЕ ЭКСКУРСИЙ ПОДРАЗДЕЛЯЕТСЯ ПО СЛЕДУЮЩИМ ПРИЗНАКАМ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02920" y="234936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2060"/>
                </a:solidFill>
                <a:latin typeface="Candara"/>
              </a:rPr>
              <a:t>-</a:t>
            </a: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По содержанию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По составу участников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По месту проведения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По способу передвижения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По форме проведения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1722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ТИЧЕСКИЕ ЭКСКУРСИИ РАЗДЕЛЯЮТ НА СЛЕДУЮЩИЕ ГРУППЫ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73213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Candara"/>
              </a:rPr>
              <a:t>-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Исторические, в которых освещается конкретный период истории края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Военно-исторические, т.е. экскурсии по памятным местам военных событий и в военно-исторические и мемориальные музей;  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Производственные, которые раскрывают историю предприятия, показывают его достижения, производственный процесс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Природоведческие - по экологической тематике, к уникальным памятникам природы, в отделы природы краеведческого музея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Искусствоведческие экскурсии рассказывают о творчестве композиторов, художников. Это экскурсии в картинные галереи, выставочные залы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Литературные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Архитектурно-градостроительные - с показом памятников архитектуры, знакомящие с планировкой и застройкой города.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83628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ЕСТУ ПРОВЕДЕНИЯ ЭКСКУРСИИ ПОДРАЗДЕЛЯЮТСЯ НА: 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402920" y="2636640"/>
            <a:ext cx="617220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Candara"/>
              </a:rPr>
              <a:t>-</a:t>
            </a: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Городские (обзорные и тематические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Заочные (видеосюжеты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Загородные (автобусные и пешеходные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Музейные.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765000"/>
            <a:ext cx="61722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ФОРМЕ ПРОВЕДЕНИЯ ЭКСКУРСИИ ПОДРАЗДЕЛЯЮТСЯ СЛЕДУЮЩИМ ОБРАЗОМ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02920" y="2420640"/>
            <a:ext cx="617220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</a:t>
            </a: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Обычные экскурсии (обзорные и тематические)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Учебные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Экскурсии – прогул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67368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ЮТСЯ СЛЕДУЮЩИЕ СПОСОБЫ ПОДДЕРЖАНИЯ ВНИМАНИЯ ДОШКОЛЬНИКОВ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2421000"/>
            <a:ext cx="71773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Показ экскурсионных объектов, который должен отличаться логичностью, последовательностью, активностью, точностью, образностью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Использование наглядных пособий: при их использовании происходит переключение слухового восприятия на зрительное, создается определенная разгрузка напряжени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Шутки, юмор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Вопрос-ответ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61722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МЕТОДИЧЕСКИЕ ПРИЕМЫ ПРОВЕДЕНИЯ ЭКСКУРСИЙ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66320" y="1916280"/>
            <a:ext cx="69613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Элемент ритуала (в экскурсиях на военно-историческую тематику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Исследования (выполнение простых исследовательских заданий, результаты которых подтверждают сказанное экскурсоводом (создание альбома «Наша армия родная»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Задания (прочитать текст на мемориальной доске, сравнить форму иголок у пихты и ели и т.д.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172200" cy="1454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ЮЩИЙ КОМПОНЕНТ ЭКСКУРСИЙ СТИМУЛИРУЕТ ФОРМИРОВАНИЕ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066320" y="2204640"/>
            <a:ext cx="71773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Навыков наблюдения и наблюдательност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Сенсорных способностей (умение видеть разнообразные признаки объектов, пространственные расположение, разнообразие форм, фактуры и пр.)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Мыслительных процессов (анализа, сравнения, обобщения, классификации, умения устанавливать связи, разные по характеру и степени сложности)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Воображения и творческих способностей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АЧИ ВАМ, ДОРОГИЕ КОЛЛЕГИ!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7" name="Picture 3" descr="C:\Users\1\Desktop\Инуля\Рисунок1.gif"/>
          <p:cNvPicPr/>
          <p:nvPr/>
        </p:nvPicPr>
        <p:blipFill>
          <a:blip r:embed="rId1"/>
          <a:stretch/>
        </p:blipFill>
        <p:spPr>
          <a:xfrm>
            <a:off x="3029040" y="3346560"/>
            <a:ext cx="2584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8:22:37Z</dcterms:created>
  <dc:creator>Vladimir</dc:creator>
  <dc:description/>
  <dc:language>en-US</dc:language>
  <cp:lastModifiedBy>Home</cp:lastModifiedBy>
  <dcterms:modified xsi:type="dcterms:W3CDTF">2017-10-19T20:21:39Z</dcterms:modified>
  <cp:revision>15</cp:revision>
  <dc:subject/>
  <dc:title>Презентация PowerPoint</dc:title>
</cp:coreProperties>
</file>