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9DD-FD73-40C4-83DA-DDCD8413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4FB-900A-48D2-A53E-7807667D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A46-7FD4-423F-A4EA-766688CB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ABDA-45CD-47B9-A91F-9116ADD4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28ACC-7197-4358-98DA-88AE4C6A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35B0E-E0CB-4FAD-B19E-6F3D5EA1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35D21-28EF-4193-9ED7-07589C7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F4FA6-F3F7-4A25-9D4A-7372156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DC95D-8464-41B5-906F-C245BBA4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CE38C-078D-4722-86F9-F430D539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EC82A3-EF4E-4683-A4D4-594E4422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5884-18C1-4390-8231-94776885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5D250-B937-48C7-97D6-B3254AA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71998-FFAA-4C9B-8950-A486C84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6FD45-7B53-4A02-A50F-8BD95D80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F5E24C-4B61-42A1-BD17-71B53ABB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D13D0-24E7-48FD-8D4A-686BA0BB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874FE1-7A88-4537-8D59-F9DC43500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80A19-387C-4873-BE82-C9650186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F9527-B2F0-4931-89D9-B5822172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88C8D-171C-4583-B916-B887A23C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A7A57-1D34-45B2-A733-43D6AD89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64E5-EF16-418B-8089-5A4E902F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81AC4-57FC-47B9-810D-43C76F60E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EED93-8880-4296-8DB0-4D471C74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7A68A-3AD6-4CD0-AE5E-970018A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F19BF-06E6-45FF-8E5D-E885B01F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5C885F-1999-4040-92C4-62BA86CD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DCF987-528F-4CDE-8B8A-46DE6F1E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5B277-838B-4D26-9934-C8D13EEB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7263F5-5153-44F5-BC45-9D2D4055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7C576C-5D6A-4488-AE87-FE2763B1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994DA6-D795-4DF5-83EB-69A18844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D1E-55A1-40B7-A2B3-F9D79C54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184E82-EE9C-484A-BD21-878A3D3E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64EF1-0DBF-4C56-B54C-7DDD68F6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25475-F8CF-4ED8-821A-1C17CA01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93A0F-0C95-4E1B-A4CF-B01B2A4F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E5F653-8912-4500-8AF8-F7C377AC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59B4E7-CF40-4526-AB32-6F116DF8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D92EA7-5C94-4CD3-8C0A-246E1463C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9EA4B-7314-45AD-8BCA-A6B61231E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98974D-A1BE-4219-82CE-C6110C336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745FA-D3C5-4C77-A106-F6A1B0D9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20C1-4C5A-4037-BE13-BD0FC2DA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EBF45-7026-4F7A-8881-33EAC02C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FDF95-2B1E-4441-BB59-59FD9663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4B9577-2F2A-4C40-A0E8-D84AA8D0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9AB403-E311-446F-8A6D-B0257A81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3A59E6-6874-4E67-AC69-A5F8C50A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927F0-51DF-41E3-9B70-29D3E88D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24BD2A-1BCF-41D8-A0EF-306FF86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81457-F771-40E3-997B-378E1DA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2EE05-8AE2-4224-9513-6BEB0B8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BEEE9-0747-4F17-B4E1-729BF1F8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BE56-9846-45DC-ADB7-43DF7097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05892-C525-4EDA-BAE1-29C8C496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564E9-4720-482F-BFC7-CF805311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FCF496-F776-49C3-93CF-64F623A4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7B44F-21EF-4A71-9E97-D4DA2DD9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894735-8468-44C8-AEB2-8482212A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B0D01-0578-4B11-911E-475AEE32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242D4-5A37-4138-8786-BF46B7A5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7EE727-DD4E-422C-B3C6-2494536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97E4D-8DAA-46E6-87F6-AEDC1CBB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CA8F24-5574-448B-8C67-9FEB7855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835-E437-46BF-8D23-E84EE135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B87C0-2FC7-4ABC-964E-F98EC6CF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5E425A-DC99-4971-A4EC-EF682F58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5FAA1E-D3B1-41D0-AC66-0CFA26EA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349-19C2-413F-90D5-362BE3B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2B3B-C74B-4056-A10F-0160E03F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D19E-0DD4-41FB-B6E0-A16800DCEF2B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603C8-61B4-4D69-A755-AEB739063251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DC46-9D62-435F-AAC8-0944FB2C0C5A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018D-2CBA-4F43-BF69-8413D9F71156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AA67-ECCD-4ACA-B5D5-E8069D918BC0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A1EF-8C53-4A22-AC93-8A14DD189A2C}" type="slidenum">
              <a:rPr b="0" lang="ru-RU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84080" y="604440"/>
            <a:ext cx="6172200" cy="3468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НИЦИПАЛЬНОЕ  БЮДЖЕТНОЕ ДОШКОЛЬНОЕ  ОБРАЗОВАТЕЛЬНОЕ УЧРЕЖДЕНИЕ №24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3600"/>
            </a:b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И ПРОВЕДЕНИЕ  ЭКСКУРСИЙ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730240" y="5189400"/>
            <a:ext cx="61722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ndara"/>
              </a:rPr>
              <a:t>Подготовила воспитатель: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ndara"/>
              </a:rPr>
              <a:t>Нарзаева Инна Игоревна.</a:t>
            </a:r>
            <a:endParaRPr b="0" i="1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48" name="Picture 4" descr="C:\Users\1\Desktop\Инуля\Рисунок10.png"/>
          <p:cNvPicPr/>
          <p:nvPr/>
        </p:nvPicPr>
        <p:blipFill>
          <a:blip r:embed="rId1"/>
          <a:stretch/>
        </p:blipFill>
        <p:spPr>
          <a:xfrm>
            <a:off x="1047600" y="936720"/>
            <a:ext cx="1320840" cy="1403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:\Users\1\Desktop\Инуля\Рисунок10.png"/>
          <p:cNvPicPr/>
          <p:nvPr/>
        </p:nvPicPr>
        <p:blipFill>
          <a:blip r:embed="rId2"/>
          <a:stretch/>
        </p:blipFill>
        <p:spPr>
          <a:xfrm>
            <a:off x="7270920" y="3419640"/>
            <a:ext cx="1299960" cy="12236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:\Users\1\Desktop\Инуля\Рисунок10.png"/>
          <p:cNvPicPr/>
          <p:nvPr/>
        </p:nvPicPr>
        <p:blipFill>
          <a:blip r:embed="rId3"/>
          <a:stretch/>
        </p:blipFill>
        <p:spPr>
          <a:xfrm>
            <a:off x="1992240" y="5059440"/>
            <a:ext cx="1476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Е РАЗНООБРАЗИЕ ЭКСКУРСИЙ ПОДРАЗДЕЛЯЕТСЯ ПО СЛЕДУЮЩИМ ПРИЗНАКАМ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02920" y="234936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По содержанию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составу участников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месту проведения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способу передвижения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По форме проведения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1722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ТИЧЕСКИЕ ЭКСКУРСИИ РАЗДЕЛЯЮТ НА СЛЕДУЮЩИЕ ГРУППЫ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971280" y="1557360"/>
            <a:ext cx="73213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Исторические, в которых освещается конкретный период истории края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Военно-исторические, т.е. экскурсии по памятным местам военных событий и в военно-исторические и мемориальные музей;  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Производственные, которые раскрывают историю предприятия, показывают его достижения, производственный процесс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Природоведческие - по экологической тематике, к уникальным памятникам природы, в отделы природы краеведческого музея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Искусствоведческие экскурсии рассказывают о творчестве композиторов, художников. Это экскурсии в картинные галереи, выставочные залы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Литературные;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2060"/>
                </a:solidFill>
                <a:latin typeface="Candara"/>
              </a:rPr>
              <a:t>-Архитектурно-градостроительные - с показом памятников архитектуры, знакомящие с планировкой и застройкой города.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83628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МЕСТУ ПРОВЕДЕНИЯ ЭКСКУРСИИ ПОДРАЗДЕЛЯЮТСЯ НА: 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402920" y="2636640"/>
            <a:ext cx="6172200" cy="21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Городские (обзорные и тематические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Заочные (видеосюжеты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Загородные (автобусные и пешеходные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Музейные.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765000"/>
            <a:ext cx="61722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ФОРМЕ ПРОВЕДЕНИЯ ЭКСКУРСИИ ПОДРАЗДЕЛЯЮТСЯ СЛЕДУЮЩИМ ОБРАЗОМ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402920" y="2420640"/>
            <a:ext cx="6172200" cy="18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</a:t>
            </a: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Обычные экскурсии (обзорные и тематические)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Учебные;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Candara"/>
              </a:rPr>
              <a:t>-Экскурсии – прогулки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920" y="691920"/>
            <a:ext cx="6673680" cy="165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КОМЕНДУЮТСЯ СЛЕДУЮЩИЕ СПОСОБЫ ПОДДЕРЖАНИЯ ВНИМАНИЯ ДОШКОЛЬНИКОВ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066320" y="2421000"/>
            <a:ext cx="71773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Показ экскурсионных объектов, который должен отличаться логичностью, последовательностью, активностью, точностью, образностью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Использование наглядных пособий: при их использовании происходит переключение слухового восприятия на зрительное, создается определенная разгрузка напряжения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Шутки, юмор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Вопрос-ответ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320" y="475920"/>
            <a:ext cx="61722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МЕТОДИЧЕСКИЕ ПРИЕМЫ ПРОВЕДЕНИЯ ЭКСКУРСИЙ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066320" y="1916280"/>
            <a:ext cx="69613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Элемент ритуала (в экскурсиях на военно-историческую тематику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Исследования (выполнение простых исследовательских заданий, результаты которых подтверждают сказанное экскурсоводом (создание альбома «Наша армия родная»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2060"/>
                </a:solidFill>
                <a:latin typeface="Candara"/>
              </a:rPr>
              <a:t>-Задания (прочитать текст на мемориальной доске, сравнить форму иголок у пихты и ели и т.д.);</a:t>
            </a: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475920"/>
            <a:ext cx="6172200" cy="1454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ВИВАЮЩИЙ КОМПОНЕНТ ЭКСКУРСИЙ СТИМУЛИРУЕТ ФОРМИРОВАНИЕ:</a:t>
            </a:r>
            <a:br>
              <a:rPr sz="6600"/>
            </a:b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066320" y="2204640"/>
            <a:ext cx="71773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Навыков наблюдения и наблюдательности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Сенсорных способностей (умение видеть разнообразные признаки объектов, пространственные расположение, разнообразие форм, фактуры и пр.)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Мыслительных процессов (анализа, сравнения, обобщения, классификации, умения устанавливать связи, разные по характеру и степени сложности);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2060"/>
                </a:solidFill>
                <a:latin typeface="Candara"/>
              </a:rPr>
              <a:t>-Воображения и творческих способностей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320" y="1406160"/>
            <a:ext cx="6172200" cy="2251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ДАЧИ ВАМ, ДОРОГИЕ КОЛЛЕГИ!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066320" y="3905280"/>
            <a:ext cx="6172200" cy="112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7" name="Picture 3" descr="C:\Users\1\Desktop\Инуля\Рисунок1.gif"/>
          <p:cNvPicPr/>
          <p:nvPr/>
        </p:nvPicPr>
        <p:blipFill>
          <a:blip r:embed="rId1"/>
          <a:stretch/>
        </p:blipFill>
        <p:spPr>
          <a:xfrm>
            <a:off x="3029040" y="3346560"/>
            <a:ext cx="2584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4T08:22:37Z</dcterms:created>
  <dc:creator>Vladimir</dc:creator>
  <dc:description/>
  <dc:language>en-US</dc:language>
  <cp:lastModifiedBy>Home</cp:lastModifiedBy>
  <dcterms:modified xsi:type="dcterms:W3CDTF">2017-10-19T20:21:39Z</dcterms:modified>
  <cp:revision>15</cp:revision>
  <dc:subject/>
  <dc:title>Презентация PowerPoint</dc:title>
</cp:coreProperties>
</file>