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7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5240" y="933120"/>
            <a:ext cx="4334040" cy="33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031760" y="4624560"/>
            <a:ext cx="458784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"/>
          <p:cNvSpPr/>
          <p:nvPr/>
        </p:nvSpPr>
        <p:spPr>
          <a:xfrm>
            <a:off x="1143000" y="677880"/>
            <a:ext cx="4572000" cy="34448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031400" y="4624200"/>
            <a:ext cx="459756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82F-A1FB-49BC-85D4-AC0C90C0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71C-8EE5-4E4D-8125-9FAAB591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C57E-FCA5-4567-A328-3F073570C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E05-68AB-45EC-AB62-B33CEB636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0E8D4-EFC1-4046-A713-3E538CE9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0360-B348-4F3C-AAC2-4CEBFD7B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8C1D4-CA9F-420A-9803-0C9D75B1E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55FE-B382-4754-A9EF-28B2FD17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5574-11C2-4D58-86B6-0815C1A8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6552-E520-41B5-BDBB-7ADE4E30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7282-6D16-44AE-95F3-9FFD33D4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9449-65FC-457D-BF18-3721CCDD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61E8-8AA6-481E-A37A-335C8291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A8D8-AAC3-4EF6-BDB3-C30C6645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2775-901D-4A39-8E82-9BE2C1CB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1283-6030-4EA0-A691-3DF18DACF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AA2BC-EBC0-4202-8A55-66BBF21B8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2536-0723-4563-93A8-2D5F9755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66F5-737F-4BA1-A243-EBB3AD06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C027-81B2-4069-9227-17E058F7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B2132-657F-4921-A792-094BB6602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5958-C856-4FA0-AF8A-8469981E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7C4-8FEE-46C2-BAD6-C61D4DF8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4C4F1-A207-4D9E-BBF9-8E83E562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775A-6A9A-4563-B3EB-21DF41E1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B32C1-F2DF-4EE9-B9F4-DDE5B725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1A3BA-3CF7-497E-A12D-3FB24795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B46FC-A054-4B9D-BAB2-10ED14DD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359CF-AB1C-4312-AB61-0B859E4F8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FD30C-EE86-4CBD-A076-867084B5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D2457-160D-44AA-B555-E2D105D97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91123-83AD-4F85-ABA4-A44669E5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C232EB-192B-4AC8-85A5-B43FA4F0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D12-B477-436F-92EC-66668929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92DE2-AEBC-45B8-AD1B-545627D5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5A6B5-A934-4204-A663-272F2953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BF144-0279-4B5B-B4C8-93A896FE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E7A49-07DE-4850-B95F-C0B4DDCA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ADD1F-265C-4BD7-809F-59A134B5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C652-061F-469E-8872-50D0F0D5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2ECD-364F-4E37-9B8D-0F35FCE5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77038-E806-4841-B50C-B24F4402D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7A25D-CB4E-4926-BB4A-81F9EBFD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1A46-6D3A-4F1E-A3AC-AEFBF6CE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AE8-D2F4-4222-895D-A1BDFE4B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069-5D93-40E2-8E63-29937F4A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0BF7-960B-4F1F-A3A5-FEC501FC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FB0D-E2D1-45A9-B6DD-79601B87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4A3F04-0742-40FA-B8DE-6161699BEC4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9BF01E-2215-4CC6-9EA2-C4F3A9FD348A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B91D7F-7FBD-41FE-BBA7-982DE1D5A20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3C14CC-348F-477E-97C9-296EC40ACBD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611280" y="476280"/>
            <a:ext cx="82087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Министерство образования РМ</a:t>
            </a:r>
            <a:br>
              <a:rPr sz="2800"/>
            </a:br>
            <a:br>
              <a:rPr sz="2800"/>
            </a:b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ортфолио</a:t>
            </a: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3200"/>
            </a:br>
            <a:r>
              <a:rPr b="0" i="1" lang="ru-RU" sz="3200" spc="-1" strike="noStrike">
                <a:solidFill>
                  <a:srgbClr val="002060"/>
                </a:solidFill>
                <a:latin typeface="Arial"/>
              </a:rPr>
              <a:t>Исаевой Анастасии Юрьевны</a:t>
            </a: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, 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воспитателя МБДОУ  «Детский сад Алёнушка».</a:t>
            </a:r>
            <a:br>
              <a:rPr sz="2800"/>
            </a:br>
            <a:r>
              <a:rPr b="0" i="1" lang="ru-RU" sz="2800" spc="-1" strike="noStrike">
                <a:solidFill>
                  <a:srgbClr val="002060"/>
                </a:solidFill>
                <a:latin typeface="Arial"/>
              </a:rPr>
              <a:t>Ромодановский муниципальный район РМ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395280" y="4005360"/>
            <a:ext cx="8280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Дата рождения: 24.02.1986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офессиональная переподготовка в ГБУ ДПО «Мордовский республиканский  институт образования» по программе «Педагогика и методика дошкольного образования», 2017 г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Стаж педагогической работы (по специальности): 7</a:t>
            </a:r>
            <a:r>
              <a:rPr b="1" lang="ru-RU" sz="1600" spc="-1" strike="noStrike">
                <a:solidFill>
                  <a:srgbClr val="262626"/>
                </a:solidFill>
                <a:latin typeface="Arial"/>
              </a:rPr>
              <a:t>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Общий трудовой стаж: 7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262626"/>
                </a:solidFill>
                <a:latin typeface="Times New Roman"/>
              </a:rPr>
              <a:t>Занимаемая должность: воспитател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E:\!АТТЕСТАЦИЯ МОЯ\награды\20171016_200608.jpg"/>
          <p:cNvPicPr/>
          <p:nvPr/>
        </p:nvPicPr>
        <p:blipFill>
          <a:blip r:embed="rId1"/>
          <a:stretch/>
        </p:blipFill>
        <p:spPr>
          <a:xfrm>
            <a:off x="2340000" y="165240"/>
            <a:ext cx="4535640" cy="65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720720" y="179280"/>
            <a:ext cx="7750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b80047"/>
                </a:solidFill>
                <a:latin typeface="Arial"/>
              </a:rPr>
              <a:t>4. Наличие публикаций, включая интернет публикац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E:\!АТТЕСТАЦИЯ МОЯ\награды\20171017_144312.jpg"/>
          <p:cNvPicPr/>
          <p:nvPr/>
        </p:nvPicPr>
        <p:blipFill>
          <a:blip r:embed="rId2"/>
          <a:stretch/>
        </p:blipFill>
        <p:spPr>
          <a:xfrm>
            <a:off x="2611440" y="1581120"/>
            <a:ext cx="3616200" cy="516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6360" y="231840"/>
            <a:ext cx="8082000" cy="60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b80047"/>
                </a:solidFill>
                <a:latin typeface="Calibri"/>
              </a:rPr>
              <a:t>5.Наличие авторских программ методических пособий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6" name="Picture 5" descr="C:\Users\zzz\Desktop\гр1.jpg"/>
          <p:cNvPicPr/>
          <p:nvPr/>
        </p:nvPicPr>
        <p:blipFill>
          <a:blip r:embed="rId2"/>
          <a:stretch/>
        </p:blipFill>
        <p:spPr>
          <a:xfrm>
            <a:off x="6326280" y="2998800"/>
            <a:ext cx="974520" cy="13651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C:\Users\zzz\Desktop\20170921_120412.jpg"/>
          <p:cNvPicPr/>
          <p:nvPr/>
        </p:nvPicPr>
        <p:blipFill>
          <a:blip r:embed="rId3"/>
          <a:stretch/>
        </p:blipFill>
        <p:spPr>
          <a:xfrm>
            <a:off x="4788000" y="963720"/>
            <a:ext cx="3960720" cy="55623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C:\Users\zzz\Desktop\гр1.jpg"/>
          <p:cNvPicPr/>
          <p:nvPr/>
        </p:nvPicPr>
        <p:blipFill>
          <a:blip r:embed="rId4"/>
          <a:stretch/>
        </p:blipFill>
        <p:spPr>
          <a:xfrm>
            <a:off x="611280" y="963720"/>
            <a:ext cx="396072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1"/>
          <p:cNvSpPr/>
          <p:nvPr/>
        </p:nvSpPr>
        <p:spPr>
          <a:xfrm>
            <a:off x="1258920" y="158760"/>
            <a:ext cx="7221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6. Выступления на научно практических конференциях, педагогических чтениях, семинарах, секциях, методических объединени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684360" y="2421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6" descr="E:\!АТТЕСТАЦИЯ МОЯ\награды\20171016_200354.jpg"/>
          <p:cNvPicPr/>
          <p:nvPr/>
        </p:nvPicPr>
        <p:blipFill>
          <a:blip r:embed="rId2"/>
          <a:stretch/>
        </p:blipFill>
        <p:spPr>
          <a:xfrm>
            <a:off x="4897440" y="1125360"/>
            <a:ext cx="3730680" cy="5570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E:\!АТТЕСТАЦИЯ МОЯ\награды\20171017_144329.jpg"/>
          <p:cNvPicPr/>
          <p:nvPr/>
        </p:nvPicPr>
        <p:blipFill>
          <a:blip r:embed="rId3"/>
          <a:stretch/>
        </p:blipFill>
        <p:spPr>
          <a:xfrm>
            <a:off x="716040" y="1125360"/>
            <a:ext cx="391644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47640" y="122400"/>
            <a:ext cx="8236080" cy="14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b80047"/>
                </a:solidFill>
                <a:latin typeface="Arial"/>
              </a:rPr>
              <a:t>7. Проведение открытых занятий, мастер- классов, мероприятий.</a:t>
            </a:r>
            <a:r>
              <a:rPr b="0" i="1" lang="ru-RU" sz="3200" spc="-1" strike="noStrike">
                <a:solidFill>
                  <a:srgbClr val="b80047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E:\!АТТЕСТАЦИЯ МОЯ\награды\с2.jpeg"/>
          <p:cNvPicPr/>
          <p:nvPr/>
        </p:nvPicPr>
        <p:blipFill>
          <a:blip r:embed="rId2"/>
          <a:stretch/>
        </p:blipFill>
        <p:spPr>
          <a:xfrm>
            <a:off x="2484360" y="1219320"/>
            <a:ext cx="4103640" cy="562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1"/>
          <p:cNvSpPr/>
          <p:nvPr/>
        </p:nvSpPr>
        <p:spPr>
          <a:xfrm>
            <a:off x="216000" y="857160"/>
            <a:ext cx="893448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8. Общественная активность педагога: участие в экспертных комиссиях, в жюри конкурсов, депутатская деятельность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E:\!АТТЕСТАЦИЯ МОЯ\награды\20171016_200450.jpg"/>
          <p:cNvPicPr/>
          <p:nvPr/>
        </p:nvPicPr>
        <p:blipFill>
          <a:blip r:embed="rId2"/>
          <a:stretch/>
        </p:blipFill>
        <p:spPr>
          <a:xfrm>
            <a:off x="2484360" y="237960"/>
            <a:ext cx="4668840" cy="66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720720" y="139680"/>
            <a:ext cx="77500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a50021"/>
                </a:solidFill>
                <a:latin typeface="Arial"/>
              </a:rPr>
              <a:t>9. Позитивные результаты работы с воспитанникам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E:\!АТТЕСТАЦИЯ МОЯ\награды\с10.jpeg"/>
          <p:cNvPicPr/>
          <p:nvPr/>
        </p:nvPicPr>
        <p:blipFill>
          <a:blip r:embed="rId2"/>
          <a:stretch/>
        </p:blipFill>
        <p:spPr>
          <a:xfrm>
            <a:off x="468360" y="1477800"/>
            <a:ext cx="3816360" cy="5294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E:\!АТТЕСТАЦИЯ МОЯ\награды\с11.jpeg"/>
          <p:cNvPicPr/>
          <p:nvPr/>
        </p:nvPicPr>
        <p:blipFill>
          <a:blip r:embed="rId3"/>
          <a:stretch/>
        </p:blipFill>
        <p:spPr>
          <a:xfrm>
            <a:off x="4618080" y="1477800"/>
            <a:ext cx="3784680" cy="52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2916360" y="7396200"/>
            <a:ext cx="3527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2843280" y="6237360"/>
            <a:ext cx="32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6" descr="E:\!АТТЕСТАЦИЯ МОЯ\награды\с12.jpeg"/>
          <p:cNvPicPr/>
          <p:nvPr/>
        </p:nvPicPr>
        <p:blipFill>
          <a:blip r:embed="rId2"/>
          <a:stretch/>
        </p:blipFill>
        <p:spPr>
          <a:xfrm>
            <a:off x="57240" y="585720"/>
            <a:ext cx="4449600" cy="61722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E:\!АТТЕСТАЦИЯ МОЯ\награды\с9.jpeg"/>
          <p:cNvPicPr/>
          <p:nvPr/>
        </p:nvPicPr>
        <p:blipFill>
          <a:blip r:embed="rId3"/>
          <a:stretch/>
        </p:blipFill>
        <p:spPr>
          <a:xfrm>
            <a:off x="4613400" y="585720"/>
            <a:ext cx="4424400" cy="613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216000" y="144360"/>
            <a:ext cx="90741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900" spc="-1" strike="noStrike">
                <a:solidFill>
                  <a:srgbClr val="99284c"/>
                </a:solidFill>
                <a:latin typeface="Arial"/>
              </a:rPr>
              <a:t>10. Участие педагога в профессиональных конкурсах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5" descr="E:\!АТТЕСТАЦИЯ МОЯ\награды\бл.jpeg"/>
          <p:cNvPicPr/>
          <p:nvPr/>
        </p:nvPicPr>
        <p:blipFill>
          <a:blip r:embed="rId2"/>
          <a:stretch/>
        </p:blipFill>
        <p:spPr>
          <a:xfrm>
            <a:off x="239760" y="851040"/>
            <a:ext cx="4187880" cy="5937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E:\!АТТЕСТАЦИЯ МОЯ\награды\ди.jpeg"/>
          <p:cNvPicPr/>
          <p:nvPr/>
        </p:nvPicPr>
        <p:blipFill>
          <a:blip r:embed="rId3"/>
          <a:stretch/>
        </p:blipFill>
        <p:spPr>
          <a:xfrm>
            <a:off x="4683240" y="851040"/>
            <a:ext cx="4189320" cy="59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7300800" y="32511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2124000" y="41400"/>
            <a:ext cx="5040360" cy="672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69800" y="307800"/>
            <a:ext cx="8196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900" spc="-1" strike="noStrike">
                <a:solidFill>
                  <a:srgbClr val="99284c"/>
                </a:solidFill>
                <a:latin typeface="Arial"/>
              </a:rPr>
              <a:t>11. Награды и поощрения педагога в межаттестационный период органами государственной власти, МО РМ, муниципальными отделами управления образованием, общественными организациями, педагогическими сообществами, родительской общественностью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E:\!АТТЕСТАЦИЯ МОЯ\награды\с6.jpeg"/>
          <p:cNvPicPr/>
          <p:nvPr/>
        </p:nvPicPr>
        <p:blipFill>
          <a:blip r:embed="rId2"/>
          <a:stretch/>
        </p:blipFill>
        <p:spPr>
          <a:xfrm>
            <a:off x="2987640" y="1447920"/>
            <a:ext cx="3888000" cy="53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5" descr="E:\!АТТЕСТАЦИЯ МОЯ\награды\гр.jpeg"/>
          <p:cNvPicPr/>
          <p:nvPr/>
        </p:nvPicPr>
        <p:blipFill>
          <a:blip r:embed="rId2"/>
          <a:stretch/>
        </p:blipFill>
        <p:spPr>
          <a:xfrm>
            <a:off x="179280" y="525600"/>
            <a:ext cx="4388040" cy="61624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E:\!АТТЕСТАЦИЯ МОЯ\награды\гр2.jpeg"/>
          <p:cNvPicPr/>
          <p:nvPr/>
        </p:nvPicPr>
        <p:blipFill>
          <a:blip r:embed="rId3"/>
          <a:stretch/>
        </p:blipFill>
        <p:spPr>
          <a:xfrm>
            <a:off x="4665600" y="525600"/>
            <a:ext cx="4370400" cy="62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E:\!АТТЕСТАЦИЯ МОЯ\награды\ди2.jpeg"/>
          <p:cNvPicPr/>
          <p:nvPr/>
        </p:nvPicPr>
        <p:blipFill>
          <a:blip r:embed="rId2"/>
          <a:stretch/>
        </p:blipFill>
        <p:spPr>
          <a:xfrm>
            <a:off x="179280" y="620640"/>
            <a:ext cx="4329360" cy="6137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E:\!АТТЕСТАЦИЯ МОЯ\награды\ди3.jpeg"/>
          <p:cNvPicPr/>
          <p:nvPr/>
        </p:nvPicPr>
        <p:blipFill>
          <a:blip r:embed="rId3"/>
          <a:stretch/>
        </p:blipFill>
        <p:spPr>
          <a:xfrm>
            <a:off x="4716360" y="620640"/>
            <a:ext cx="438156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E:\!АТТЕСТАЦИЯ МОЯ\награды\ди9.jpeg"/>
          <p:cNvPicPr/>
          <p:nvPr/>
        </p:nvPicPr>
        <p:blipFill>
          <a:blip r:embed="rId2"/>
          <a:stretch/>
        </p:blipFill>
        <p:spPr>
          <a:xfrm>
            <a:off x="179280" y="500040"/>
            <a:ext cx="4392720" cy="62262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E:\!АТТЕСТАЦИЯ МОЯ\награды\ди10.jpeg"/>
          <p:cNvPicPr/>
          <p:nvPr/>
        </p:nvPicPr>
        <p:blipFill>
          <a:blip r:embed="rId3"/>
          <a:stretch/>
        </p:blipFill>
        <p:spPr>
          <a:xfrm>
            <a:off x="4714920" y="500040"/>
            <a:ext cx="4392720" cy="618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E:\!АТТЕСТАЦИЯ МОЯ\награды\с14.jpeg"/>
          <p:cNvPicPr/>
          <p:nvPr/>
        </p:nvPicPr>
        <p:blipFill>
          <a:blip r:embed="rId1"/>
          <a:stretch/>
        </p:blipFill>
        <p:spPr>
          <a:xfrm>
            <a:off x="179280" y="549360"/>
            <a:ext cx="4270320" cy="5922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E:\!АТТЕСТАЦИЯ МОЯ\награды\с15.jpeg"/>
          <p:cNvPicPr/>
          <p:nvPr/>
        </p:nvPicPr>
        <p:blipFill>
          <a:blip r:embed="rId2"/>
          <a:stretch/>
        </p:blipFill>
        <p:spPr>
          <a:xfrm>
            <a:off x="4572000" y="476280"/>
            <a:ext cx="43228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1"/>
          <p:cNvSpPr/>
          <p:nvPr/>
        </p:nvSpPr>
        <p:spPr>
          <a:xfrm>
            <a:off x="357120" y="184320"/>
            <a:ext cx="84297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99284c"/>
                </a:solidFill>
                <a:latin typeface="Arial"/>
              </a:rPr>
              <a:t>12. Повышение квалификации,</a:t>
            </a:r>
            <a:br>
              <a:rPr sz="2600"/>
            </a:br>
            <a:r>
              <a:rPr b="0" i="1" lang="ru-RU" sz="2600" spc="-1" strike="noStrike">
                <a:solidFill>
                  <a:srgbClr val="99284c"/>
                </a:solidFill>
                <a:latin typeface="Arial"/>
              </a:rPr>
              <a:t> профессиональная переподготовк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4" descr="E:\!АТТЕСТАЦИЯ МОЯ\награды\удост.jpeg"/>
          <p:cNvPicPr/>
          <p:nvPr/>
        </p:nvPicPr>
        <p:blipFill>
          <a:blip r:embed="rId2"/>
          <a:stretch/>
        </p:blipFill>
        <p:spPr>
          <a:xfrm>
            <a:off x="900000" y="1484280"/>
            <a:ext cx="7618680" cy="523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Users\zzz\Desktop\20171016_204741.jpg"/>
          <p:cNvPicPr/>
          <p:nvPr/>
        </p:nvPicPr>
        <p:blipFill>
          <a:blip r:embed="rId1"/>
          <a:stretch/>
        </p:blipFill>
        <p:spPr>
          <a:xfrm>
            <a:off x="395280" y="836640"/>
            <a:ext cx="85518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673520" y="1600200"/>
            <a:ext cx="401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8" descr="E:\!АТТЕСТАЦИЯ МОЯ\награды\с4.jpeg"/>
          <p:cNvPicPr/>
          <p:nvPr/>
        </p:nvPicPr>
        <p:blipFill>
          <a:blip r:embed="rId2"/>
          <a:stretch/>
        </p:blipFill>
        <p:spPr>
          <a:xfrm>
            <a:off x="117360" y="549360"/>
            <a:ext cx="4327560" cy="6002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E:\!АТТЕСТАЦИЯ МОЯ\награды\с5.jpeg"/>
          <p:cNvPicPr/>
          <p:nvPr/>
        </p:nvPicPr>
        <p:blipFill>
          <a:blip r:embed="rId3"/>
          <a:stretch/>
        </p:blipFill>
        <p:spPr>
          <a:xfrm>
            <a:off x="4572000" y="549360"/>
            <a:ext cx="4329000" cy="600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755640" y="277920"/>
            <a:ext cx="74739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a50021"/>
                </a:solidFill>
                <a:latin typeface="Arial"/>
              </a:rPr>
              <a:t>1. Применение информационно- коммуникационных технологи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E:\!АТТЕСТАЦИЯ МОЯ\награды\с1.jpeg"/>
          <p:cNvPicPr/>
          <p:nvPr/>
        </p:nvPicPr>
        <p:blipFill>
          <a:blip r:embed="rId2"/>
          <a:stretch/>
        </p:blipFill>
        <p:spPr>
          <a:xfrm>
            <a:off x="468360" y="1496880"/>
            <a:ext cx="3790800" cy="52419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E:\!АТТЕСТАЦИЯ МОЯ\награды\20171016_200504.jpg"/>
          <p:cNvPicPr/>
          <p:nvPr/>
        </p:nvPicPr>
        <p:blipFill>
          <a:blip r:embed="rId3"/>
          <a:stretch/>
        </p:blipFill>
        <p:spPr>
          <a:xfrm>
            <a:off x="4543560" y="1496880"/>
            <a:ext cx="3633480" cy="521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60360" y="84240"/>
            <a:ext cx="845964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a50021"/>
                </a:solidFill>
                <a:latin typeface="Arial"/>
              </a:rPr>
              <a:t>2. Участие в инновационной (экспериментальной) деятельност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E:\!АТТЕСТАЦИЯ МОЯ\награды\с13.jpeg"/>
          <p:cNvPicPr/>
          <p:nvPr/>
        </p:nvPicPr>
        <p:blipFill>
          <a:blip r:embed="rId2"/>
          <a:stretch/>
        </p:blipFill>
        <p:spPr>
          <a:xfrm>
            <a:off x="4751280" y="1442880"/>
            <a:ext cx="3853080" cy="53438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E:\!АТТЕСТАЦИЯ МОЯ\награды\20171016_200531.jpg"/>
          <p:cNvPicPr/>
          <p:nvPr/>
        </p:nvPicPr>
        <p:blipFill>
          <a:blip r:embed="rId3"/>
          <a:stretch/>
        </p:blipFill>
        <p:spPr>
          <a:xfrm>
            <a:off x="539640" y="1442880"/>
            <a:ext cx="3768840" cy="53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"/>
          <p:cNvSpPr/>
          <p:nvPr/>
        </p:nvSpPr>
        <p:spPr>
          <a:xfrm>
            <a:off x="469800" y="307800"/>
            <a:ext cx="8186760" cy="10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a50021"/>
                </a:solidFill>
                <a:latin typeface="Arial"/>
              </a:rPr>
              <a:t>3.Результаты участия воспитанников в: конкурсах, выставках, турнирах, соревнованиях, фестиваля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4" descr="E:\!АТТЕСТАЦИЯ МОЯ\награды\с7.jpeg"/>
          <p:cNvPicPr/>
          <p:nvPr/>
        </p:nvPicPr>
        <p:blipFill>
          <a:blip r:embed="rId2"/>
          <a:stretch/>
        </p:blipFill>
        <p:spPr>
          <a:xfrm>
            <a:off x="2585880" y="1378080"/>
            <a:ext cx="3954600" cy="54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457200" y="-33660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E:\!АТТЕСТАЦИЯ МОЯ\награды\ди4.jpeg"/>
          <p:cNvPicPr/>
          <p:nvPr/>
        </p:nvPicPr>
        <p:blipFill>
          <a:blip r:embed="rId2"/>
          <a:stretch/>
        </p:blipFill>
        <p:spPr>
          <a:xfrm>
            <a:off x="144360" y="576360"/>
            <a:ext cx="4427640" cy="6257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E:\!АТТЕСТАЦИЯ МОЯ\награды\ди6.jpeg"/>
          <p:cNvPicPr/>
          <p:nvPr/>
        </p:nvPicPr>
        <p:blipFill>
          <a:blip r:embed="rId3"/>
          <a:stretch/>
        </p:blipFill>
        <p:spPr>
          <a:xfrm>
            <a:off x="4702320" y="549360"/>
            <a:ext cx="4470120" cy="62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6" descr="E:\!АТТЕСТАЦИЯ МОЯ\награды\ди5.jpeg"/>
          <p:cNvPicPr/>
          <p:nvPr/>
        </p:nvPicPr>
        <p:blipFill>
          <a:blip r:embed="rId2"/>
          <a:stretch/>
        </p:blipFill>
        <p:spPr>
          <a:xfrm>
            <a:off x="250920" y="836640"/>
            <a:ext cx="4192560" cy="5851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E:\!АТТЕСТАЦИЯ МОЯ\награды\ди7.jpeg"/>
          <p:cNvPicPr/>
          <p:nvPr/>
        </p:nvPicPr>
        <p:blipFill>
          <a:blip r:embed="rId3"/>
          <a:stretch/>
        </p:blipFill>
        <p:spPr>
          <a:xfrm>
            <a:off x="4719600" y="836640"/>
            <a:ext cx="412740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E:\!АТТЕСТАЦИЯ МОЯ\награды\ди8.jpeg"/>
          <p:cNvPicPr/>
          <p:nvPr/>
        </p:nvPicPr>
        <p:blipFill>
          <a:blip r:embed="rId2"/>
          <a:stretch/>
        </p:blipFill>
        <p:spPr>
          <a:xfrm>
            <a:off x="157320" y="446040"/>
            <a:ext cx="4411440" cy="6234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E:\!АТТЕСТАЦИЯ МОЯ\награды\20171016_200557.jpg"/>
          <p:cNvPicPr/>
          <p:nvPr/>
        </p:nvPicPr>
        <p:blipFill>
          <a:blip r:embed="rId3"/>
          <a:stretch/>
        </p:blipFill>
        <p:spPr>
          <a:xfrm>
            <a:off x="4788000" y="446040"/>
            <a:ext cx="4356000" cy="62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1:22:51Z</dcterms:created>
  <dc:creator>Пользователь</dc:creator>
  <dc:description/>
  <dc:language>en-US</dc:language>
  <cp:lastModifiedBy>Windows User</cp:lastModifiedBy>
  <dcterms:modified xsi:type="dcterms:W3CDTF">2017-10-19T17:46:22Z</dcterms:modified>
  <cp:revision>90</cp:revision>
  <dc:subject/>
  <dc:title>Министерство образования РМ   Портфолио  Федаевой Натальи Константиновны,  воспитателя МБДОУ «Атемарский детский сад №1 «Теремок»,  Лямбирский муниципальный район РМ</dc:title>
</cp:coreProperties>
</file>