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3404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8784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A47-63DA-46F9-8FCA-44A9144D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F04-AD1B-46F8-A241-2D8ECB9C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9D5-8F92-4BD2-8DE8-7737E352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CBB-17D9-4DB2-9664-B69DA453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6E4C-7BC8-480C-B1FB-D9C98B1B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D20B-1891-4526-8619-40D0B867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4A5D-2197-4BFB-B2AF-CE57E4DA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5A76-797A-4844-8F5F-7EF5FC13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7CEF-67D6-4C2C-8267-504E1D69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809-02BF-4DA1-82A1-7FBC7456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323A-30FC-43F5-BDFE-B1660B8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D4E-D436-400E-88F2-2CB92F97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6498-EB27-4265-9F4C-00D0AA9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8879-2E74-43DD-BB08-52BF121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67D-EAEA-42A0-B125-3461D1E3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97E0-AF68-4BA5-B943-C444462A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038E-9367-45DC-BCAF-353273BA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20031-DF59-4002-B409-FE649786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1770-5B7E-4B2B-9B17-1485AFF6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AC95-E89E-47AB-BF6B-51619866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5B34-7BDF-4379-9367-E44321B4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86DA-3D26-4D29-A739-EEFC011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2E8-A4B1-4E60-B33D-8E040F6B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A332-51CF-42F2-80C2-22224289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12EE-501C-4139-8472-21421B2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8549-FD11-4890-8FB7-FD34C89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11B0-B4A3-4D7E-8E3F-88761E9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B2B2-2E2F-4A1A-8E03-388BD940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0279-A34C-4829-A5E0-536D155E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919A-1A87-4453-A371-7A8A93C8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68D8-DD71-49CD-B543-302C8A6C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2D6F-248C-4748-91E0-FF9103FC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4A43C-71A7-4048-915C-EDFB8585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581-D3F8-4C87-975C-65034146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764F-4B68-4D81-A9A3-9FEC7FF4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3D7C-6E57-41C9-9A86-76E0B98F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EF21-19D5-4A4C-8D6B-87A59BE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286A-8654-4310-87A7-226A19A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06BD-5091-497B-A538-3CE8A50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A342-8EFC-4C5D-BB67-DC44F54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97D7-7EA1-4F78-B440-E6548C09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0569-972B-4815-9C5A-09781DC9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A4B0-BED7-42B2-89FD-23DA9352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07F-F130-42E7-8633-1C20BA5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1F1-7C6F-4808-8CEB-A62999D9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A59-3BB9-4DB3-842A-A2C4275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302-A2E0-47EF-8E1F-2965169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3AB-0038-46CF-9561-EEDAEACC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997AA9-97DB-44DC-9BF4-7FF54D16B5A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49A9F7-52DA-45C0-A600-7AF0FE70745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40071C-2A8F-4D8B-96F0-3C47E8C6C5B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2A5E59-52FD-4ACE-89C8-8F4EFD335ED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11280" y="47628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Министерство образования РМ</a:t>
            </a:r>
            <a:br>
              <a:rPr sz="2800"/>
            </a:br>
            <a:br>
              <a:rPr sz="2800"/>
            </a:b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ртфолио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Исаевой Анастасии Юрьевны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, 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оспитателя МБДОУ  «Детский сад Алёнушка».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Ромодановский муниципальный район РМ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95280" y="400536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Дата рождения: 24.02.1986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фессиональная переподготовка в ГБУ ДПО «Мордовский республиканский  институт образования» по программе «Педагогика и методика дошкольного образования», 2017 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Стаж педагогической работы (по специальности): 7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Общий трудовой стаж: 7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Занимаемая должность: воспитат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E:\!АТТЕСТАЦИЯ МОЯ\награды\20171016_200608.jpg"/>
          <p:cNvPicPr/>
          <p:nvPr/>
        </p:nvPicPr>
        <p:blipFill>
          <a:blip r:embed="rId1"/>
          <a:stretch/>
        </p:blipFill>
        <p:spPr>
          <a:xfrm>
            <a:off x="2340000" y="165240"/>
            <a:ext cx="453564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720720" y="179280"/>
            <a:ext cx="7750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b80047"/>
                </a:solidFill>
                <a:latin typeface="Arial"/>
              </a:rPr>
              <a:t>4. Наличие публикаций, включая интернет публика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E:\!АТТЕСТАЦИЯ МОЯ\награды\20171017_144312.jpg"/>
          <p:cNvPicPr/>
          <p:nvPr/>
        </p:nvPicPr>
        <p:blipFill>
          <a:blip r:embed="rId2"/>
          <a:stretch/>
        </p:blipFill>
        <p:spPr>
          <a:xfrm>
            <a:off x="2611440" y="1581120"/>
            <a:ext cx="361620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6360" y="231840"/>
            <a:ext cx="8082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0047"/>
                </a:solidFill>
                <a:latin typeface="Calibri"/>
              </a:rPr>
              <a:t>5.Наличие авторских программ методических пособи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5" descr="C:\Users\zzz\Desktop\гр1.jpg"/>
          <p:cNvPicPr/>
          <p:nvPr/>
        </p:nvPicPr>
        <p:blipFill>
          <a:blip r:embed="rId2"/>
          <a:stretch/>
        </p:blipFill>
        <p:spPr>
          <a:xfrm>
            <a:off x="6326280" y="2998800"/>
            <a:ext cx="974520" cy="136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C:\Users\zzz\Desktop\20170921_120412.jpg"/>
          <p:cNvPicPr/>
          <p:nvPr/>
        </p:nvPicPr>
        <p:blipFill>
          <a:blip r:embed="rId3"/>
          <a:stretch/>
        </p:blipFill>
        <p:spPr>
          <a:xfrm>
            <a:off x="4788000" y="963720"/>
            <a:ext cx="3960720" cy="5562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:\Users\zzz\Desktop\гр1.jpg"/>
          <p:cNvPicPr/>
          <p:nvPr/>
        </p:nvPicPr>
        <p:blipFill>
          <a:blip r:embed="rId4"/>
          <a:stretch/>
        </p:blipFill>
        <p:spPr>
          <a:xfrm>
            <a:off x="611280" y="963720"/>
            <a:ext cx="396072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258920" y="158760"/>
            <a:ext cx="7221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6. Выступления на научно практических конференциях, педагогических чтениях, семинарах, секциях, методических объедин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684360" y="2421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E:\!АТТЕСТАЦИЯ МОЯ\награды\20171016_200354.jpg"/>
          <p:cNvPicPr/>
          <p:nvPr/>
        </p:nvPicPr>
        <p:blipFill>
          <a:blip r:embed="rId2"/>
          <a:stretch/>
        </p:blipFill>
        <p:spPr>
          <a:xfrm>
            <a:off x="4897440" y="1125360"/>
            <a:ext cx="3730680" cy="5570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E:\!АТТЕСТАЦИЯ МОЯ\награды\20171017_144329.jpg"/>
          <p:cNvPicPr/>
          <p:nvPr/>
        </p:nvPicPr>
        <p:blipFill>
          <a:blip r:embed="rId3"/>
          <a:stretch/>
        </p:blipFill>
        <p:spPr>
          <a:xfrm>
            <a:off x="716040" y="1125360"/>
            <a:ext cx="391644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47640" y="122400"/>
            <a:ext cx="82360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b80047"/>
                </a:solidFill>
                <a:latin typeface="Arial"/>
              </a:rPr>
              <a:t>7. Проведение открытых занятий, мастер- классов, мероприятий.</a:t>
            </a:r>
            <a:r>
              <a:rPr b="0" i="1" lang="ru-RU" sz="3200" spc="-1" strike="noStrike">
                <a:solidFill>
                  <a:srgbClr val="b80047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E:\!АТТЕСТАЦИЯ МОЯ\награды\с2.jpeg"/>
          <p:cNvPicPr/>
          <p:nvPr/>
        </p:nvPicPr>
        <p:blipFill>
          <a:blip r:embed="rId2"/>
          <a:stretch/>
        </p:blipFill>
        <p:spPr>
          <a:xfrm>
            <a:off x="2484360" y="1219320"/>
            <a:ext cx="4103640" cy="56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16000" y="857160"/>
            <a:ext cx="893448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8. Общественная активность педагога: участие в экспертных комиссиях, в жюри конкурсов, депутатская деятельность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E:\!АТТЕСТАЦИЯ МОЯ\награды\20171016_200450.jpg"/>
          <p:cNvPicPr/>
          <p:nvPr/>
        </p:nvPicPr>
        <p:blipFill>
          <a:blip r:embed="rId2"/>
          <a:stretch/>
        </p:blipFill>
        <p:spPr>
          <a:xfrm>
            <a:off x="2484360" y="237960"/>
            <a:ext cx="466884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a50021"/>
                </a:solidFill>
                <a:latin typeface="Arial"/>
              </a:rPr>
              <a:t>9. Позитивные результаты работы с воспитанник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E:\!АТТЕСТАЦИЯ МОЯ\награды\с10.jpeg"/>
          <p:cNvPicPr/>
          <p:nvPr/>
        </p:nvPicPr>
        <p:blipFill>
          <a:blip r:embed="rId2"/>
          <a:stretch/>
        </p:blipFill>
        <p:spPr>
          <a:xfrm>
            <a:off x="468360" y="1477800"/>
            <a:ext cx="3816360" cy="5294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E:\!АТТЕСТАЦИЯ МОЯ\награды\с11.jpeg"/>
          <p:cNvPicPr/>
          <p:nvPr/>
        </p:nvPicPr>
        <p:blipFill>
          <a:blip r:embed="rId3"/>
          <a:stretch/>
        </p:blipFill>
        <p:spPr>
          <a:xfrm>
            <a:off x="4618080" y="1477800"/>
            <a:ext cx="378468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2916360" y="7396200"/>
            <a:ext cx="352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2843280" y="6237360"/>
            <a:ext cx="32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E:\!АТТЕСТАЦИЯ МОЯ\награды\с12.jpeg"/>
          <p:cNvPicPr/>
          <p:nvPr/>
        </p:nvPicPr>
        <p:blipFill>
          <a:blip r:embed="rId2"/>
          <a:stretch/>
        </p:blipFill>
        <p:spPr>
          <a:xfrm>
            <a:off x="57240" y="585720"/>
            <a:ext cx="4449600" cy="6172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E:\!АТТЕСТАЦИЯ МОЯ\награды\с9.jpeg"/>
          <p:cNvPicPr/>
          <p:nvPr/>
        </p:nvPicPr>
        <p:blipFill>
          <a:blip r:embed="rId3"/>
          <a:stretch/>
        </p:blipFill>
        <p:spPr>
          <a:xfrm>
            <a:off x="4613400" y="585720"/>
            <a:ext cx="442440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6000" y="144360"/>
            <a:ext cx="90741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900" spc="-1" strike="noStrike">
                <a:solidFill>
                  <a:srgbClr val="99284c"/>
                </a:solidFill>
                <a:latin typeface="Arial"/>
              </a:rPr>
              <a:t>10. Участие педагога в профессиональных конкурса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E:\!АТТЕСТАЦИЯ МОЯ\награды\бл.jpeg"/>
          <p:cNvPicPr/>
          <p:nvPr/>
        </p:nvPicPr>
        <p:blipFill>
          <a:blip r:embed="rId2"/>
          <a:stretch/>
        </p:blipFill>
        <p:spPr>
          <a:xfrm>
            <a:off x="239760" y="851040"/>
            <a:ext cx="4187880" cy="593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E:\!АТТЕСТАЦИЯ МОЯ\награды\ди.jpeg"/>
          <p:cNvPicPr/>
          <p:nvPr/>
        </p:nvPicPr>
        <p:blipFill>
          <a:blip r:embed="rId3"/>
          <a:stretch/>
        </p:blipFill>
        <p:spPr>
          <a:xfrm>
            <a:off x="4683240" y="851040"/>
            <a:ext cx="4189320" cy="59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7300800" y="325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2124000" y="41400"/>
            <a:ext cx="5040360" cy="67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69800" y="307800"/>
            <a:ext cx="8196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900" spc="-1" strike="noStrike">
                <a:solidFill>
                  <a:srgbClr val="99284c"/>
                </a:solidFill>
                <a:latin typeface="Arial"/>
              </a:rPr>
              <a:t>11. Награды и поощрения педагога в межаттестационный период органами государственной власти, МО РМ, муниципальными отделами управления образованием, общественными организациями, педагогическими сообществами, родительской общественностью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E:\!АТТЕСТАЦИЯ МОЯ\награды\с6.jpeg"/>
          <p:cNvPicPr/>
          <p:nvPr/>
        </p:nvPicPr>
        <p:blipFill>
          <a:blip r:embed="rId2"/>
          <a:stretch/>
        </p:blipFill>
        <p:spPr>
          <a:xfrm>
            <a:off x="2987640" y="1447920"/>
            <a:ext cx="3888000" cy="53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E:\!АТТЕСТАЦИЯ МОЯ\награды\гр.jpeg"/>
          <p:cNvPicPr/>
          <p:nvPr/>
        </p:nvPicPr>
        <p:blipFill>
          <a:blip r:embed="rId2"/>
          <a:stretch/>
        </p:blipFill>
        <p:spPr>
          <a:xfrm>
            <a:off x="179280" y="525600"/>
            <a:ext cx="4388040" cy="616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E:\!АТТЕСТАЦИЯ МОЯ\награды\гр2.jpeg"/>
          <p:cNvPicPr/>
          <p:nvPr/>
        </p:nvPicPr>
        <p:blipFill>
          <a:blip r:embed="rId3"/>
          <a:stretch/>
        </p:blipFill>
        <p:spPr>
          <a:xfrm>
            <a:off x="4665600" y="525600"/>
            <a:ext cx="4370400" cy="62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E:\!АТТЕСТАЦИЯ МОЯ\награды\ди2.jpeg"/>
          <p:cNvPicPr/>
          <p:nvPr/>
        </p:nvPicPr>
        <p:blipFill>
          <a:blip r:embed="rId2"/>
          <a:stretch/>
        </p:blipFill>
        <p:spPr>
          <a:xfrm>
            <a:off x="179280" y="620640"/>
            <a:ext cx="4329360" cy="6137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E:\!АТТЕСТАЦИЯ МОЯ\награды\ди3.jpeg"/>
          <p:cNvPicPr/>
          <p:nvPr/>
        </p:nvPicPr>
        <p:blipFill>
          <a:blip r:embed="rId3"/>
          <a:stretch/>
        </p:blipFill>
        <p:spPr>
          <a:xfrm>
            <a:off x="4716360" y="620640"/>
            <a:ext cx="43815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E:\!АТТЕСТАЦИЯ МОЯ\награды\ди9.jpeg"/>
          <p:cNvPicPr/>
          <p:nvPr/>
        </p:nvPicPr>
        <p:blipFill>
          <a:blip r:embed="rId2"/>
          <a:stretch/>
        </p:blipFill>
        <p:spPr>
          <a:xfrm>
            <a:off x="179280" y="500040"/>
            <a:ext cx="4392720" cy="6226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E:\!АТТЕСТАЦИЯ МОЯ\награды\ди10.jpeg"/>
          <p:cNvPicPr/>
          <p:nvPr/>
        </p:nvPicPr>
        <p:blipFill>
          <a:blip r:embed="rId3"/>
          <a:stretch/>
        </p:blipFill>
        <p:spPr>
          <a:xfrm>
            <a:off x="4714920" y="500040"/>
            <a:ext cx="439272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E:\!АТТЕСТАЦИЯ МОЯ\награды\с14.jpeg"/>
          <p:cNvPicPr/>
          <p:nvPr/>
        </p:nvPicPr>
        <p:blipFill>
          <a:blip r:embed="rId1"/>
          <a:stretch/>
        </p:blipFill>
        <p:spPr>
          <a:xfrm>
            <a:off x="179280" y="549360"/>
            <a:ext cx="4270320" cy="592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E:\!АТТЕСТАЦИЯ МОЯ\награды\с15.jpeg"/>
          <p:cNvPicPr/>
          <p:nvPr/>
        </p:nvPicPr>
        <p:blipFill>
          <a:blip r:embed="rId2"/>
          <a:stretch/>
        </p:blipFill>
        <p:spPr>
          <a:xfrm>
            <a:off x="4572000" y="476280"/>
            <a:ext cx="43228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357120" y="184320"/>
            <a:ext cx="8429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99284c"/>
                </a:solidFill>
                <a:latin typeface="Arial"/>
              </a:rPr>
              <a:t>12. Повышение квалификации,</a:t>
            </a:r>
            <a:br>
              <a:rPr sz="2600"/>
            </a:br>
            <a:r>
              <a:rPr b="0" i="1" lang="ru-RU" sz="2600" spc="-1" strike="noStrike">
                <a:solidFill>
                  <a:srgbClr val="99284c"/>
                </a:solidFill>
                <a:latin typeface="Arial"/>
              </a:rPr>
              <a:t> профессиональная переподготов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E:\!АТТЕСТАЦИЯ МОЯ\награды\удост.jpeg"/>
          <p:cNvPicPr/>
          <p:nvPr/>
        </p:nvPicPr>
        <p:blipFill>
          <a:blip r:embed="rId2"/>
          <a:stretch/>
        </p:blipFill>
        <p:spPr>
          <a:xfrm>
            <a:off x="900000" y="1484280"/>
            <a:ext cx="76186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Users\zzz\Desktop\20171016_204741.jpg"/>
          <p:cNvPicPr/>
          <p:nvPr/>
        </p:nvPicPr>
        <p:blipFill>
          <a:blip r:embed="rId1"/>
          <a:stretch/>
        </p:blipFill>
        <p:spPr>
          <a:xfrm>
            <a:off x="395280" y="836640"/>
            <a:ext cx="85518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673520" y="1600200"/>
            <a:ext cx="401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8" descr="E:\!АТТЕСТАЦИЯ МОЯ\награды\с4.jpeg"/>
          <p:cNvPicPr/>
          <p:nvPr/>
        </p:nvPicPr>
        <p:blipFill>
          <a:blip r:embed="rId2"/>
          <a:stretch/>
        </p:blipFill>
        <p:spPr>
          <a:xfrm>
            <a:off x="117360" y="549360"/>
            <a:ext cx="4327560" cy="600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E:\!АТТЕСТАЦИЯ МОЯ\награды\с5.jpeg"/>
          <p:cNvPicPr/>
          <p:nvPr/>
        </p:nvPicPr>
        <p:blipFill>
          <a:blip r:embed="rId3"/>
          <a:stretch/>
        </p:blipFill>
        <p:spPr>
          <a:xfrm>
            <a:off x="4572000" y="549360"/>
            <a:ext cx="4329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277920"/>
            <a:ext cx="74739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a50021"/>
                </a:solidFill>
                <a:latin typeface="Arial"/>
              </a:rPr>
              <a:t>1. Применение информационно- коммуникационных технолог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E:\!АТТЕСТАЦИЯ МОЯ\награды\с1.jpeg"/>
          <p:cNvPicPr/>
          <p:nvPr/>
        </p:nvPicPr>
        <p:blipFill>
          <a:blip r:embed="rId2"/>
          <a:stretch/>
        </p:blipFill>
        <p:spPr>
          <a:xfrm>
            <a:off x="468360" y="1496880"/>
            <a:ext cx="3790800" cy="5241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E:\!АТТЕСТАЦИЯ МОЯ\награды\20171016_200504.jpg"/>
          <p:cNvPicPr/>
          <p:nvPr/>
        </p:nvPicPr>
        <p:blipFill>
          <a:blip r:embed="rId3"/>
          <a:stretch/>
        </p:blipFill>
        <p:spPr>
          <a:xfrm>
            <a:off x="4543560" y="1496880"/>
            <a:ext cx="363348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60360" y="84240"/>
            <a:ext cx="8459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a50021"/>
                </a:solidFill>
                <a:latin typeface="Arial"/>
              </a:rPr>
              <a:t>2. Участие в инновационной (экспериментальной) деятель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E:\!АТТЕСТАЦИЯ МОЯ\награды\с13.jpeg"/>
          <p:cNvPicPr/>
          <p:nvPr/>
        </p:nvPicPr>
        <p:blipFill>
          <a:blip r:embed="rId2"/>
          <a:stretch/>
        </p:blipFill>
        <p:spPr>
          <a:xfrm>
            <a:off x="4751280" y="1442880"/>
            <a:ext cx="3853080" cy="5343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E:\!АТТЕСТАЦИЯ МОЯ\награды\20171016_200531.jpg"/>
          <p:cNvPicPr/>
          <p:nvPr/>
        </p:nvPicPr>
        <p:blipFill>
          <a:blip r:embed="rId3"/>
          <a:stretch/>
        </p:blipFill>
        <p:spPr>
          <a:xfrm>
            <a:off x="539640" y="1442880"/>
            <a:ext cx="3768840" cy="53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69800" y="307800"/>
            <a:ext cx="818676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a50021"/>
                </a:solidFill>
                <a:latin typeface="Arial"/>
              </a:rPr>
              <a:t>3.Результаты участия воспитанников в: конкурсах, выставках, турнирах, соревнованиях, фестиваля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E:\!АТТЕСТАЦИЯ МОЯ\награды\с7.jpeg"/>
          <p:cNvPicPr/>
          <p:nvPr/>
        </p:nvPicPr>
        <p:blipFill>
          <a:blip r:embed="rId2"/>
          <a:stretch/>
        </p:blipFill>
        <p:spPr>
          <a:xfrm>
            <a:off x="2585880" y="1378080"/>
            <a:ext cx="3954600" cy="54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-3366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E:\!АТТЕСТАЦИЯ МОЯ\награды\ди4.jpeg"/>
          <p:cNvPicPr/>
          <p:nvPr/>
        </p:nvPicPr>
        <p:blipFill>
          <a:blip r:embed="rId2"/>
          <a:stretch/>
        </p:blipFill>
        <p:spPr>
          <a:xfrm>
            <a:off x="144360" y="576360"/>
            <a:ext cx="4427640" cy="625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E:\!АТТЕСТАЦИЯ МОЯ\награды\ди6.jpeg"/>
          <p:cNvPicPr/>
          <p:nvPr/>
        </p:nvPicPr>
        <p:blipFill>
          <a:blip r:embed="rId3"/>
          <a:stretch/>
        </p:blipFill>
        <p:spPr>
          <a:xfrm>
            <a:off x="4702320" y="549360"/>
            <a:ext cx="447012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E:\!АТТЕСТАЦИЯ МОЯ\награды\ди5.jpeg"/>
          <p:cNvPicPr/>
          <p:nvPr/>
        </p:nvPicPr>
        <p:blipFill>
          <a:blip r:embed="rId2"/>
          <a:stretch/>
        </p:blipFill>
        <p:spPr>
          <a:xfrm>
            <a:off x="250920" y="836640"/>
            <a:ext cx="4192560" cy="585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E:\!АТТЕСТАЦИЯ МОЯ\награды\ди7.jpeg"/>
          <p:cNvPicPr/>
          <p:nvPr/>
        </p:nvPicPr>
        <p:blipFill>
          <a:blip r:embed="rId3"/>
          <a:stretch/>
        </p:blipFill>
        <p:spPr>
          <a:xfrm>
            <a:off x="4719600" y="836640"/>
            <a:ext cx="41274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E:\!АТТЕСТАЦИЯ МОЯ\награды\ди8.jpeg"/>
          <p:cNvPicPr/>
          <p:nvPr/>
        </p:nvPicPr>
        <p:blipFill>
          <a:blip r:embed="rId2"/>
          <a:stretch/>
        </p:blipFill>
        <p:spPr>
          <a:xfrm>
            <a:off x="157320" y="446040"/>
            <a:ext cx="4411440" cy="6234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E:\!АТТЕСТАЦИЯ МОЯ\награды\20171016_200557.jpg"/>
          <p:cNvPicPr/>
          <p:nvPr/>
        </p:nvPicPr>
        <p:blipFill>
          <a:blip r:embed="rId3"/>
          <a:stretch/>
        </p:blipFill>
        <p:spPr>
          <a:xfrm>
            <a:off x="4788000" y="446040"/>
            <a:ext cx="4356000" cy="62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1:22:51Z</dcterms:created>
  <dc:creator>Пользователь</dc:creator>
  <dc:description/>
  <dc:language>en-US</dc:language>
  <cp:lastModifiedBy>Windows User</cp:lastModifiedBy>
  <dcterms:modified xsi:type="dcterms:W3CDTF">2017-10-19T17:46:22Z</dcterms:modified>
  <cp:revision>90</cp:revision>
  <dc:subject/>
  <dc:title>Министерство образования РМ   Портфолио  Федаевой Натальи Константиновны,  воспитателя МБДОУ «Атемарский детский сад №1 «Теремок»,  Лямбирский муниципальный район РМ</dc:title>
</cp:coreProperties>
</file>