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4.gif" ContentType="image/gif"/>
  <Override PartName="/ppt/media/image23.gif" ContentType="image/gif"/>
  <Override PartName="/ppt/media/image16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5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7.gif" ContentType="image/gif"/>
  <Override PartName="/ppt/media/image7.gif" ContentType="image/gif"/>
  <Override PartName="/ppt/media/image12.gif" ContentType="image/gif"/>
  <Override PartName="/ppt/media/image34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0.jpeg" ContentType="image/jpeg"/>
  <Override PartName="/ppt/media/image31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5.gif" ContentType="image/gif"/>
  <Override PartName="/ppt/media/image38.jpeg" ContentType="image/jpeg"/>
  <Override PartName="/ppt/media/image35.gif" ContentType="image/gif"/>
  <Override PartName="/ppt/media/image11.png" ContentType="image/png"/>
  <Override PartName="/ppt/media/image9.jpeg" ContentType="image/jpeg"/>
  <Override PartName="/ppt/media/image8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32.png" ContentType="image/png"/>
  <Override PartName="/ppt/media/image33.gif" ContentType="image/gif"/>
  <Override PartName="/ppt/media/image3.gif" ContentType="image/gif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868-6330-4F90-B3D4-742D6FE8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2A4-1778-466B-A0A9-E4BF190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059-50C7-4707-A054-A7229796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8F4-64E6-4905-8E41-824337E8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281-A6C2-4F09-A18E-6A4B3F3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349-2A9C-4D68-AE90-58CA0FE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5C2-6495-4A7D-8A7B-478BB95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D9F-2AAF-4E23-90E6-5DF19398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88A-80C5-4C29-B910-AC5456E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94E-3380-450A-B39E-87B7036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E97-CCB5-4437-B91B-A2B2198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18A-5400-4C39-9E6B-60691AA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CB6-430B-4E88-8E68-AA97BBD2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jpe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2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994200" cy="495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00600" y="205740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ruel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38088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clever girl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307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47920" y="380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brave dog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943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371600" y="2286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timid ca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9625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овы герои мультиков на этих картинках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22399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5800" y="4114800"/>
            <a:ext cx="1555920" cy="20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733920" y="160020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7238880" y="4114800"/>
            <a:ext cx="1228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05740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2133720"/>
            <a:ext cx="236196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819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981080"/>
            <a:ext cx="18288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и слов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919080" cy="102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81080" y="1752480"/>
            <a:ext cx="138132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84132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1724040" cy="102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1060560" cy="119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905120" y="4724280"/>
            <a:ext cx="1542960" cy="135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334120" y="152388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010280" y="1371600"/>
            <a:ext cx="10620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257800" y="3276720"/>
            <a:ext cx="9651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6629400" y="3200400"/>
            <a:ext cx="1676520" cy="116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257800" y="4876920"/>
            <a:ext cx="109692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6781680" y="472428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пиши и скажи, что должны сделать герои мультфильмов, используя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st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1838520" cy="155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1523880"/>
            <a:ext cx="1562040" cy="19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1847880" cy="230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66880" y="1447920"/>
            <a:ext cx="158436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724280" y="1523880"/>
            <a:ext cx="1785960" cy="170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590920" y="38098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495680" y="3809880"/>
            <a:ext cx="1868760" cy="191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6400800" y="4419720"/>
            <a:ext cx="243828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 и прочитай распоряжение Карабаса-Барабаса своим артис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vina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atino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m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o mus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1199880" cy="69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0800" y="236232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77120" y="3429000"/>
            <a:ext cx="903240" cy="1104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324480" y="4876920"/>
            <a:ext cx="10861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правь ошибки Незнай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s can sw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 can not sw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bbit is 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can 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ckerel has ten le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читай про себя рассказ. В нем дано описание животного. Угадай ег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зап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ot big. I am funny. I can run, jump and swim but I cannot fly. I am not strong. I a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148752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67480" y="4419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362320" y="44197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4184640"/>
            <a:ext cx="2209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48320" y="2133720"/>
            <a:ext cx="4114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kin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3886200" cy="30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343400" y="2057400"/>
            <a:ext cx="4492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v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609720" cy="353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67080" y="2057400"/>
            <a:ext cx="43563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imi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035520" cy="331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581280" y="1981080"/>
            <a:ext cx="522936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leve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114800" y="198108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tupi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380880"/>
            <a:ext cx="6324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stupid bo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3808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kind m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444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00200" y="304920"/>
            <a:ext cx="6095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cruel m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10T18:20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