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gif" ContentType="image/gif"/>
  <Override PartName="/ppt/media/image24.gif" ContentType="image/gif"/>
  <Override PartName="/ppt/media/image23.gif" ContentType="image/gif"/>
  <Override PartName="/ppt/media/image16.png" ContentType="image/png"/>
  <Override PartName="/ppt/media/image21.gif" ContentType="image/gif"/>
  <Override PartName="/ppt/media/image14.png" ContentType="image/png"/>
  <Override PartName="/ppt/media/image19.gif" ContentType="image/gif"/>
  <Override PartName="/ppt/media/image20.gif" ContentType="image/gif"/>
  <Override PartName="/ppt/media/image13.png" ContentType="image/png"/>
  <Override PartName="/ppt/media/image18.gif" ContentType="image/gif"/>
  <Override PartName="/ppt/media/image17.gif" ContentType="image/gif"/>
  <Override PartName="/ppt/media/image15.gif" ContentType="image/gif"/>
  <Override PartName="/ppt/media/image27.gif" ContentType="image/gif"/>
  <Override PartName="/ppt/media/image1.jpeg" ContentType="image/jpeg"/>
  <Override PartName="/ppt/media/image10.png" ContentType="image/png"/>
  <Override PartName="/ppt/media/image37.gif" ContentType="image/gif"/>
  <Override PartName="/ppt/media/image7.gif" ContentType="image/gif"/>
  <Override PartName="/ppt/media/image12.gif" ContentType="image/gif"/>
  <Override PartName="/ppt/media/image34.gif" ContentType="image/gif"/>
  <Override PartName="/ppt/media/image39.gif" ContentType="image/gif"/>
  <Override PartName="/ppt/media/image41.gif" ContentType="image/gif"/>
  <Override PartName="/ppt/media/image30.gif" ContentType="image/gif"/>
  <Override PartName="/ppt/media/image28.gif" ContentType="image/gif"/>
  <Override PartName="/ppt/media/image40.jpeg" ContentType="image/jpeg"/>
  <Override PartName="/ppt/media/image31.gif" ContentType="image/gif"/>
  <Override PartName="/ppt/media/image36.gif" ContentType="image/gif"/>
  <Override PartName="/ppt/media/image6.gif" ContentType="image/gif"/>
  <Override PartName="/ppt/media/image29.gif" ContentType="image/gif"/>
  <Override PartName="/ppt/media/image42.gif" ContentType="image/gif"/>
  <Override PartName="/ppt/media/image43.gif" ContentType="image/gif"/>
  <Override PartName="/ppt/media/image44.gif" ContentType="image/gif"/>
  <Override PartName="/ppt/media/image5.gif" ContentType="image/gif"/>
  <Override PartName="/ppt/media/image38.jpeg" ContentType="image/jpeg"/>
  <Override PartName="/ppt/media/image35.gif" ContentType="image/gif"/>
  <Override PartName="/ppt/media/image11.png" ContentType="image/png"/>
  <Override PartName="/ppt/media/image9.jpeg" ContentType="image/jpeg"/>
  <Override PartName="/ppt/media/image8.gif" ContentType="image/gif"/>
  <Override PartName="/ppt/media/image4.jpeg" ContentType="image/jpeg"/>
  <Override PartName="/ppt/media/image22.gif" ContentType="image/gif"/>
  <Override PartName="/ppt/media/image2.png" ContentType="image/png"/>
  <Override PartName="/ppt/media/image32.png" ContentType="image/png"/>
  <Override PartName="/ppt/media/image33.gif" ContentType="image/gif"/>
  <Override PartName="/ppt/media/image3.gif" ContentType="image/gif"/>
  <Override PartName="/ppt/media/image26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AD55-6B56-4057-A807-EF967A2E7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E01D-3D8C-4E37-8D8D-696CB2B0A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8736-9787-4DFB-B360-9ED4AD462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4F91-8885-48DD-889D-A30D082A2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077B-97F8-40CC-A31A-6400594BF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A652-74EF-421A-BE05-F71ADC440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2532-5BD9-41BB-885B-9642AD24C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DE44-162F-47C9-A97E-E949D3CA8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BBF0-E568-4F0D-B2FA-8D584C714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276A-504E-48D0-9557-3E17697C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89DB-6BF8-4BFA-AA71-CFE52001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D61B-11A2-4924-A2B1-AB8E45DF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80E3E-8B2D-495F-BD05-B372DB230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4.jpeg"/><Relationship Id="rId5" Type="http://schemas.openxmlformats.org/officeDocument/2006/relationships/image" Target="../media/image15.gif"/><Relationship Id="rId6" Type="http://schemas.openxmlformats.org/officeDocument/2006/relationships/image" Target="../media/image16.png"/><Relationship Id="rId7" Type="http://schemas.openxmlformats.org/officeDocument/2006/relationships/image" Target="../media/image17.gif"/><Relationship Id="rId8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image" Target="../media/image12.gif"/><Relationship Id="rId4" Type="http://schemas.openxmlformats.org/officeDocument/2006/relationships/image" Target="../media/image19.gif"/><Relationship Id="rId5" Type="http://schemas.openxmlformats.org/officeDocument/2006/relationships/image" Target="../media/image20.gif"/><Relationship Id="rId6" Type="http://schemas.openxmlformats.org/officeDocument/2006/relationships/image" Target="../media/image21.gif"/><Relationship Id="rId7" Type="http://schemas.openxmlformats.org/officeDocument/2006/relationships/image" Target="../media/image22.gif"/><Relationship Id="rId8" Type="http://schemas.openxmlformats.org/officeDocument/2006/relationships/image" Target="../media/image23.gif"/><Relationship Id="rId9" Type="http://schemas.openxmlformats.org/officeDocument/2006/relationships/image" Target="../media/image24.gif"/><Relationship Id="rId10" Type="http://schemas.openxmlformats.org/officeDocument/2006/relationships/image" Target="../media/image25.gif"/><Relationship Id="rId11" Type="http://schemas.openxmlformats.org/officeDocument/2006/relationships/image" Target="../media/image26.gif"/><Relationship Id="rId12" Type="http://schemas.openxmlformats.org/officeDocument/2006/relationships/image" Target="../media/image27.gif"/><Relationship Id="rId13" Type="http://schemas.openxmlformats.org/officeDocument/2006/relationships/image" Target="../media/image28.gif"/><Relationship Id="rId1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gif"/><Relationship Id="rId3" Type="http://schemas.openxmlformats.org/officeDocument/2006/relationships/image" Target="../media/image30.gif"/><Relationship Id="rId4" Type="http://schemas.openxmlformats.org/officeDocument/2006/relationships/image" Target="../media/image31.gif"/><Relationship Id="rId5" Type="http://schemas.openxmlformats.org/officeDocument/2006/relationships/image" Target="../media/image32.png"/><Relationship Id="rId6" Type="http://schemas.openxmlformats.org/officeDocument/2006/relationships/image" Target="../media/image33.gif"/><Relationship Id="rId7" Type="http://schemas.openxmlformats.org/officeDocument/2006/relationships/image" Target="../media/image34.gif"/><Relationship Id="rId8" Type="http://schemas.openxmlformats.org/officeDocument/2006/relationships/image" Target="../media/image35.gif"/><Relationship Id="rId9" Type="http://schemas.openxmlformats.org/officeDocument/2006/relationships/image" Target="../media/image12.gif"/><Relationship Id="rId10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gif"/><Relationship Id="rId3" Type="http://schemas.openxmlformats.org/officeDocument/2006/relationships/image" Target="../media/image37.gif"/><Relationship Id="rId4" Type="http://schemas.openxmlformats.org/officeDocument/2006/relationships/image" Target="../media/image38.jpeg"/><Relationship Id="rId5" Type="http://schemas.openxmlformats.org/officeDocument/2006/relationships/image" Target="../media/image39.gif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image" Target="../media/image41.gif"/><Relationship Id="rId4" Type="http://schemas.openxmlformats.org/officeDocument/2006/relationships/image" Target="../media/image42.gif"/><Relationship Id="rId5" Type="http://schemas.openxmlformats.org/officeDocument/2006/relationships/image" Target="../media/image43.gif"/><Relationship Id="rId6" Type="http://schemas.openxmlformats.org/officeDocument/2006/relationships/image" Target="../media/image44.gif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609480" y="914400"/>
            <a:ext cx="3994200" cy="4952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800600" y="2057400"/>
            <a:ext cx="39625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cruel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676520" y="380880"/>
            <a:ext cx="59436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a clever girl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1828800"/>
            <a:ext cx="3078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447920" y="380880"/>
            <a:ext cx="60958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a brave dog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828800" y="2438280"/>
            <a:ext cx="594360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371600" y="228600"/>
            <a:ext cx="61722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a timid cat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895480" y="2362320"/>
            <a:ext cx="3962520" cy="38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Каковы герои мультиков на этих картинках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7057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533520" y="16765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3505320" y="4419720"/>
            <a:ext cx="2239920" cy="17524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685800" y="4114800"/>
            <a:ext cx="1555920" cy="2043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3733920" y="1600200"/>
            <a:ext cx="1701720" cy="20145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7"/>
          <a:stretch/>
        </p:blipFill>
        <p:spPr>
          <a:xfrm>
            <a:off x="7238880" y="4114800"/>
            <a:ext cx="122868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80880" y="2057400"/>
            <a:ext cx="228600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05320" y="2133720"/>
            <a:ext cx="2361960" cy="1828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33920" y="281952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477120" y="1981080"/>
            <a:ext cx="1828800" cy="1981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апиши словам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85800" y="1523880"/>
            <a:ext cx="919080" cy="10288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981080" y="1752480"/>
            <a:ext cx="1381320" cy="6858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609480" y="3124080"/>
            <a:ext cx="841320" cy="11336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981080" y="3048120"/>
            <a:ext cx="1724040" cy="10285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457200" y="4876920"/>
            <a:ext cx="1060560" cy="11998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7"/>
          <a:stretch/>
        </p:blipFill>
        <p:spPr>
          <a:xfrm>
            <a:off x="1905120" y="4724280"/>
            <a:ext cx="1542960" cy="13575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8"/>
          <a:stretch/>
        </p:blipFill>
        <p:spPr>
          <a:xfrm>
            <a:off x="5334120" y="1523880"/>
            <a:ext cx="1015920" cy="12193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9"/>
          <a:stretch/>
        </p:blipFill>
        <p:spPr>
          <a:xfrm>
            <a:off x="7010280" y="1371600"/>
            <a:ext cx="1062000" cy="13716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0"/>
          <a:stretch/>
        </p:blipFill>
        <p:spPr>
          <a:xfrm>
            <a:off x="5257800" y="3276720"/>
            <a:ext cx="965160" cy="1143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1"/>
          <a:stretch/>
        </p:blipFill>
        <p:spPr>
          <a:xfrm>
            <a:off x="6629400" y="3200400"/>
            <a:ext cx="1676520" cy="1160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2"/>
          <a:stretch/>
        </p:blipFill>
        <p:spPr>
          <a:xfrm>
            <a:off x="5257800" y="4876920"/>
            <a:ext cx="1096920" cy="11811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3"/>
          <a:stretch/>
        </p:blipFill>
        <p:spPr>
          <a:xfrm>
            <a:off x="6781680" y="4724280"/>
            <a:ext cx="160020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Запиши и скажи, что должны сделать герои мультфильмов, используя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ust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80880" y="1523880"/>
            <a:ext cx="1838520" cy="1557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7086600" y="1523880"/>
            <a:ext cx="1562040" cy="19954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304920" y="3809880"/>
            <a:ext cx="1847880" cy="2309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2666880" y="1447920"/>
            <a:ext cx="1584360" cy="1743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4724280" y="1523880"/>
            <a:ext cx="1785960" cy="17067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2590920" y="3809880"/>
            <a:ext cx="1485720" cy="19814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8"/>
          <a:stretch/>
        </p:blipFill>
        <p:spPr>
          <a:xfrm>
            <a:off x="4495680" y="3809880"/>
            <a:ext cx="1868760" cy="19195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9"/>
          <a:stretch/>
        </p:blipFill>
        <p:spPr>
          <a:xfrm>
            <a:off x="6400800" y="4419720"/>
            <a:ext cx="2438280" cy="121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пиши и прочитай распоряжение Карабаса-Барабаса своим артиста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lvina m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ratino m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emon m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erro must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248520" y="1523880"/>
            <a:ext cx="1199880" cy="6955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6400800" y="2362320"/>
            <a:ext cx="1019160" cy="10191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6477120" y="3429000"/>
            <a:ext cx="903240" cy="11048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6324480" y="4876920"/>
            <a:ext cx="108612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Исправь ошибки Незнайк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s can swi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gs can not swi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abbit is r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gs can s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ckerel has ten leg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очитай про себя рассказ. В нем дано описание животного. Угадай его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и запиш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not big. I am funny. I can run, jump and swim but I cannot fly. I am not strong. I am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038480" y="4419720"/>
            <a:ext cx="1487520" cy="15238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715000" y="4419720"/>
            <a:ext cx="1542960" cy="15429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7467480" y="441972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2362320" y="4419720"/>
            <a:ext cx="1485720" cy="1485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0" y="4184640"/>
            <a:ext cx="220968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990720"/>
            <a:ext cx="3809880" cy="4572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648320" y="2133720"/>
            <a:ext cx="41148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kind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8600" y="1447920"/>
            <a:ext cx="3886200" cy="3041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4343400" y="2057400"/>
            <a:ext cx="44928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brave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04920" y="1295280"/>
            <a:ext cx="3609720" cy="3538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4267080" y="2057400"/>
            <a:ext cx="4356360" cy="20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timid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80880" y="1447920"/>
            <a:ext cx="3035520" cy="3319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3581280" y="1981080"/>
            <a:ext cx="5229360" cy="240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clever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80880" y="1523880"/>
            <a:ext cx="3429000" cy="3505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114800" y="1981080"/>
            <a:ext cx="44956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stupid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600200" y="380880"/>
            <a:ext cx="632448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a stupid boy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971800" y="2590920"/>
            <a:ext cx="3886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447920" y="380880"/>
            <a:ext cx="61722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a kind man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048120" y="2362320"/>
            <a:ext cx="34448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600200" y="304920"/>
            <a:ext cx="609588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a cruel man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819520" y="2438280"/>
            <a:ext cx="3886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9-02-10T18:20:19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