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F13-C726-4E93-BE02-9F216294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B3AC-E53A-46AB-9AC4-8151C98E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567-746C-4EB3-AFD1-A6E98A91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61AC-9580-447A-82F9-27B75168B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7DE-FE37-4FD1-9470-293417A6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A7BA-468C-4006-A7A7-44E29124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4995-E51D-40D7-99C1-B23E4748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46F3-E0F8-4E31-A27F-2864882C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6582-5017-4105-B443-8EDAA377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BCFD5-D97A-45C9-84F5-432A473B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48C3-EA29-4DDC-94B8-20E184A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B09-5A0B-42B3-8B61-2477FA23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D141-DF71-4AD6-8203-666B6FCD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FC13-2C0D-4BC2-B6A1-7D5B6146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3135-0878-44BA-AB84-CE911A38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F55-704E-47A7-AD78-133BC918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62A2-C294-4CF5-A299-5D6AA624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0E48-38F2-48D4-98C3-78AAC4F8C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4238E-3451-492E-A32B-5D63A278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54EC2-5D9F-4799-AE43-C18F7EE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4C03-78F5-4FAF-9CE8-FE284FD0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D568C-A136-46DA-BA12-5811D2D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4844-6D25-4B41-BD8E-38DCAB1C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EF22F-0859-4067-9B96-33D3629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E73C0-1CC6-4822-85F0-6AC644E5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59F51-7A38-4E73-8D92-651E4889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03941-FFCA-4647-9108-D0F2E3D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2EC29-D9E5-4286-90C5-BECAC1D2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6849-9E1B-437A-81EC-A6864A32B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DBB7-3FC4-4760-BA44-F8F3EF332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4A40A-683F-439B-B8C4-1666B9382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73D6D-6130-4A1A-BDC4-52582684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8E47-1962-48B3-AD98-462CA4B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E76-A485-4AC5-898C-30C9E0B30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0DD55-618C-420D-8157-5BA1B66B8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00A2-22B2-4D46-ACFD-2A97D84F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4D61E-4AC7-408B-953B-D59A9783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192D-AD49-49E7-A5DC-4A2052AA8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9F274-DE81-47C9-A0FF-2940C13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90F26-7B2F-40EA-95DC-5DD1FA48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F5E4D-BF4D-4217-8F7B-779DE879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D80F5-62BF-4ABA-BDB8-5A90C76C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C4F6E-C6DB-47F4-A322-0F56E7F7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04C-809C-42E5-8324-C5D80F41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FA7D-3345-4FC1-BF10-A5184BD8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BDB-0240-447E-8F51-201BD19C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DAC-F27A-4E7E-A316-A25A1812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C082-C85E-4162-AC0A-FD4A029E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49C8-FA45-4602-8D52-66898F18A0E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2E6-0489-400B-822C-EA86A6ECEC4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CED-3A00-4AF7-A252-892C462CC7C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23EA-5D1E-4C11-B24B-0C0961B2164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3"/>
          <p:cNvSpPr/>
          <p:nvPr/>
        </p:nvSpPr>
        <p:spPr>
          <a:xfrm>
            <a:off x="352440" y="1557360"/>
            <a:ext cx="835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ая рабо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аутичными деть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24000" y="839880"/>
            <a:ext cx="856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-смысловым комментарий - это такой комментарий, который позволяет нам «поймать» внимание ребенка, сосредоточить его на чем-то для того, чтобы добиться осмысления происходящего, осознания сказанного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Эмоционально-смысловой комментарий должен быть привязан к опыту ребенка, вносить смысл даже во внешне бессмысленную активность ребенка, в его аутостимуляц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324000" y="404640"/>
            <a:ext cx="856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комментиров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уйте любое действие, любое сенсорное ощущение, с которым ребенок сталкивается (родители – дом и улица). Он не умеет понимать и придавать смысл, зато вы превосходно этим владеете. Взрослые - как проводники отчетливых, развернутых смыслов, событ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0" y="36216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комментирова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будьте, что ребенку уже 4, 5, 6 лет. Вспомните, как общались с ним, когда ему был годик. Комментируйте, приговаривайте, подхватывайте его действия и уводите за границы сенсорных ощущений — добавляйте к ним свои пояснения, детские стишки и потешки, песенки и фразы из его любимых мультфильмов. Ребенок схватил мягкую игрушку – «Привет, зайчик!». Бросил ее – «Пока, зайчик!» Побежал по комнате – «Как быстро бегут твои ножки по ковровой дорожке!» Взмахнул руками – «Птичка полетел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79704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и должны быть эмоционально окрашенным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ли ребенок плохо говорит или молчит, говорите громко, ярче интонируя свою речь, активнее жестикулируя. Если ребенок говорящий, пусть ваша речь будет спокойна, но выразительна, артистичн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ловн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читаете по роля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, будто ребенок зачарованно слушает вас с широко распахнутыми глазами. Он слушает! Даже когда кажется, что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 реагиру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"/>
          <p:cNvSpPr/>
          <p:nvPr/>
        </p:nvSpPr>
        <p:spPr>
          <a:xfrm>
            <a:off x="324000" y="682920"/>
            <a:ext cx="8569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арий должен сопровождать практически любое действие ребенка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важно, выполнил ли он его намеренно, достаточно ли заинтересован конкретным предметом или процессом. Помните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сто так ничего не быва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Если ребенок что-то сделал, значит эт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что-т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инесло ему определенное сенсорное ощущение. А на любое сенсорное ощущение следует мгновенно накладывать смысл! Каждое ваше пояснение, отправленное вслед конкретному сенсорному ощущению, это малый или мощный, но очередной удар по крепкой стене аутизма. Пробивайтесь к сознанию ребенка каждым смысловым комментар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"/>
          <p:cNvSpPr/>
          <p:nvPr/>
        </p:nvSpPr>
        <p:spPr>
          <a:xfrm>
            <a:off x="324000" y="933840"/>
            <a:ext cx="820872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ментируйте речевую аутостимуляцияю.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ебенок вокализирует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износит отдельные звуки, словоподобные или фразоподобные звукосочетания? Отлично!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кализация при аутизм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разновидность аутостимуляции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этому также обязана с вашей помощью превратиться в осмысленное слово, а лучше фразу в контексте происходящего. Начните с первых услышанных звуков и продолжите чем надо. (А!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Calibri"/>
              </a:rPr>
              <a:t>–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 Аааааах, какой красивый паровозик получился из кубиков!) Радуйтесь любой вокализации, подхватывайте и разворачивайте любой звук, подбирайте похожие слова и фразы, которые освещают возможный смысл, отражают контекст происходящего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мните: вокализация, это первый шаг на пути к сознательной реч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"/>
          <p:cNvSpPr/>
          <p:nvPr/>
        </p:nvSpPr>
        <p:spPr>
          <a:xfrm>
            <a:off x="250920" y="488520"/>
            <a:ext cx="8642160" cy="63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де коммент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дителям дается задание комментировать, по возможности, все происходящее с ребенком в течение дня, отмечая приятные эмоциональные детали, обязательно включая в комментарий отношения, чувства других людей и самого ребенка, социальные пра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овые ситуации, в которые включен реб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на улице, которые наблюдает ребе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ьтфильмы, песенки, сказки, которыми увлечен ребен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24000" y="260280"/>
            <a:ext cx="8496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комментирова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м детям активные смысловые комментарии нужны до момента, когда им станет подвластно смыслотворчество. Аутичному ребенку внешние смысловые комментарии нужны до тех пор, пока не снят диагноз «аутизм». Для кого-то это годы, для кого-то вся жизнь. Если обратиться к одному дню, то комментировать желательно как можно чаще и как можно дольше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инимум до тех пор, пока ребенок не начнет с явным интересом и удовольствием с вами играть, читать, беседовать или взаимодействовать в рамках других совместных занят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468360" y="765000"/>
            <a:ext cx="8351640" cy="105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нтирование деталей, ощущений, ситу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й рассказ  (сюжетное рисовани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низ 2"/>
          <p:cNvSpPr/>
          <p:nvPr/>
        </p:nvSpPr>
        <p:spPr>
          <a:xfrm>
            <a:off x="4211640" y="2276640"/>
            <a:ext cx="647640" cy="208908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"/>
          <p:cNvSpPr/>
          <p:nvPr/>
        </p:nvSpPr>
        <p:spPr>
          <a:xfrm>
            <a:off x="250920" y="56772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возможности активно пользоваться речью (растормаживание внешней реч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200916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тормаживание речи идет одновременно в трех направления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оцирование непроизвольного подражания действию, мимике, интонации взросл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ование ребенка на эхолалии и непроизвольные словесные реак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за ребенком и обыгрывание его звуковых реакций, в том числе и вокальной аутостимуля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0" y="1088280"/>
            <a:ext cx="914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рв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почти полное отсутствие внешней речи. Редкие слова или короткие фразы, произнесенные ребенком на высоте аффе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втор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 - эхолалии (отсроченные эхолалии),  небольшой набор стереотипных коротких фраз, полученных ребенком в какой-то аффектив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третье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развернутая литературная речь, при этом почти не способны к диалогу, не слышат собеседника, хотя цитируют целые страницы любимых кни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т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твертой групп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тихая, нечеткая речь и эхолалии, иногда отсроченными во времени. Такой ребенок просит и обращается, как правило, с помощью речи, но пересказ для него труде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C:\Users\ALLA\Desktop\для презентации\IMGP5331.JPG"/>
          <p:cNvPicPr/>
          <p:nvPr/>
        </p:nvPicPr>
        <p:blipFill>
          <a:blip r:embed="rId1"/>
          <a:stretch/>
        </p:blipFill>
        <p:spPr>
          <a:xfrm>
            <a:off x="0" y="1197000"/>
            <a:ext cx="2592360" cy="4492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C:\Users\ALLA\Desktop\для презентации\IMGP5368.JPG"/>
          <p:cNvPicPr/>
          <p:nvPr/>
        </p:nvPicPr>
        <p:blipFill>
          <a:blip r:embed="rId2"/>
          <a:stretch/>
        </p:blipFill>
        <p:spPr>
          <a:xfrm>
            <a:off x="2843280" y="360360"/>
            <a:ext cx="3097080" cy="649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ALLA\Desktop\для презентации\IMGP5377.JPG"/>
          <p:cNvPicPr/>
          <p:nvPr/>
        </p:nvPicPr>
        <p:blipFill>
          <a:blip r:embed="rId3"/>
          <a:stretch/>
        </p:blipFill>
        <p:spPr>
          <a:xfrm>
            <a:off x="6156360" y="1197000"/>
            <a:ext cx="2987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Users\ALLA\Desktop\для презентации\IMGP5348.JPG"/>
          <p:cNvPicPr/>
          <p:nvPr/>
        </p:nvPicPr>
        <p:blipFill>
          <a:blip r:embed="rId1"/>
          <a:stretch/>
        </p:blipFill>
        <p:spPr>
          <a:xfrm>
            <a:off x="5268960" y="333360"/>
            <a:ext cx="3875040" cy="6164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C:\Users\ALLA\Desktop\для презентации\IMGP5474.JPG"/>
          <p:cNvPicPr/>
          <p:nvPr/>
        </p:nvPicPr>
        <p:blipFill>
          <a:blip r:embed="rId2"/>
          <a:stretch/>
        </p:blipFill>
        <p:spPr>
          <a:xfrm>
            <a:off x="324000" y="297000"/>
            <a:ext cx="4752720" cy="308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Users\ALLA\Desktop\для презентации\IMGP5476.JPG"/>
          <p:cNvPicPr/>
          <p:nvPr/>
        </p:nvPicPr>
        <p:blipFill>
          <a:blip r:embed="rId3"/>
          <a:stretch/>
        </p:blipFill>
        <p:spPr>
          <a:xfrm>
            <a:off x="324000" y="3648240"/>
            <a:ext cx="467964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Box 1"/>
          <p:cNvSpPr/>
          <p:nvPr/>
        </p:nvSpPr>
        <p:spPr>
          <a:xfrm>
            <a:off x="1365120" y="2133720"/>
            <a:ext cx="737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"/>
          <p:cNvSpPr/>
          <p:nvPr/>
        </p:nvSpPr>
        <p:spPr>
          <a:xfrm>
            <a:off x="0" y="81648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ые задачи логопедической работы при аут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фференциация речевых нарушений, обусловленных аутизмом и сопутствующими синдром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становление эмоционального контакта с ребен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ктивизация рече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и развитие спонтанной речи в быту и в игр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звитие речи в обучающей ситу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11280" y="-364320"/>
            <a:ext cx="8208720" cy="163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агностир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тод наблю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ческая карта, разработанная К.С.Лебединской и О.С.Никольс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сследование ребенка первых двух лет жизни при предположении у него раннего детского аутиз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Морозовой С.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0" y="0"/>
            <a:ext cx="9144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Ь (Никольская О.С., Лебединская К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сть или отсутствие реакции на речь взрослого. Отсутствие фиксации взгляда на говорящем. Диссоциация между отсутствием реакции на слово и гиперсензитивностью к невербальным звукам, между "непониманием" простых бытовых инструкций и пониманием разговора, не обращенного к ребе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ая реакция на тихую, шепотную реч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тсутствие фазы гуления. Его неинтонированность. Запаздывание или отсутствие фазы лепета. Его необращенность к взрослом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пережение появления первых слов. Их необращенность к человеку, необычность, малоупотребимость. Эхолалии. Динамика накопления словаря: "плавающие" слова, регресс речи на уровне отдельных сл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аздывание или опережение появления фраз. Их необращенность к человеку. Комментирующие, аффективные фразы. Фразы-аутокоманды. Фразы-эхолалии. Отставленные эхолалии. Эхолалии-цитаты. Эхолалии-обобщенные форму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ность к вербализации: игра фонематически сложными, аффективно насыщенными словами. Неологизмы. Монологи и аутодиалоги. Слова-отриц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и аффективно насыщенных метафор. Склонность к декламации, рифмованию, акцентуации рит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утствие речи о себе в первом лице (при хорошей фразовой речи). Неправильное употребление других личных местоимений. Регресс фразовой речи; факторы, его провоцирующ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урность интонаций. Повышение высоты голоса к концу фразы. Невнятность, скомканность, свернутость речи, произношение лишь от" дельных слогов. Разница развернутости речи, внятности произношения в спонтанной и заданной деятельности. Мутизм тотальный. Мутизм избиратель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611280" y="493560"/>
            <a:ext cx="7921440" cy="63644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3"/>
          <p:cNvSpPr/>
          <p:nvPr/>
        </p:nvSpPr>
        <p:spPr>
          <a:xfrm>
            <a:off x="468360" y="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опедическое обследование Морозовой С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0" y="39528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оизвольные реакции ребенка свидетельствуют, что он способен понимать речь и происходящее вокруг в том случае, если это попало в зону его непроизвольного внимания. Основная трудность аутичного ребенка лежит не в области понимания речи, а в сфере произвольности: произвольной организации своего внимания и поведения в соответствии с тем, что он слышит, произвольной организации собственной речевой реакции (Никольская О. С. Аутичный ребенок. Пути помощи / Никольская О. С., Баенская Е. Р., Либлинг М. М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Прямоугольник 1"/>
          <p:cNvSpPr/>
          <p:nvPr/>
        </p:nvSpPr>
        <p:spPr>
          <a:xfrm>
            <a:off x="395280" y="549360"/>
            <a:ext cx="8424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 включение в индивидуальный коррекционный план целей по формированию коммуникативной функции речи детей с аутизм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250920" y="3510000"/>
            <a:ext cx="86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м выше коммуникативная функция ребенка, тем лучше проходит образовательный процесс и социализ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250920" y="1005120"/>
            <a:ext cx="8569080" cy="49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Развитие речи детей с аутизмом ведётся поэтапно и последовательно.</a:t>
            </a:r>
            <a:r>
              <a:rPr b="0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Необходимо включить в процесс обучения максимальную зрительную опору, так как мышление аутичного ребёнка имеет тип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«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буквального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»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.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Реальные предметы, картинки, </a:t>
            </a:r>
            <a:r>
              <a:rPr b="1" lang="ru-RU" sz="3200" spc="-1" strike="noStrike">
                <a:solidFill>
                  <a:srgbClr val="666666"/>
                </a:solidFill>
                <a:latin typeface="Arial"/>
                <a:ea typeface="Calibri"/>
              </a:rPr>
              <a:t> </a:t>
            </a:r>
            <a:r>
              <a:rPr b="1" lang="ru-RU" sz="3200" spc="-1" strike="noStrike">
                <a:solidFill>
                  <a:srgbClr val="666666"/>
                </a:solidFill>
                <a:latin typeface="Times New Roman"/>
                <a:ea typeface="Calibri"/>
              </a:rPr>
              <a:t>применяются на всех этапах работы с 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3T17:02:27Z</dcterms:created>
  <dc:creator>ALLA</dc:creator>
  <dc:description/>
  <dc:language>en-US</dc:language>
  <cp:lastModifiedBy>117</cp:lastModifiedBy>
  <dcterms:modified xsi:type="dcterms:W3CDTF">2016-12-21T10:14:07Z</dcterms:modified>
  <cp:revision>36</cp:revision>
  <dc:subject/>
  <dc:title>Слайд 1</dc:title>
</cp:coreProperties>
</file>