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ADC-C6B5-4850-9BEF-455FFA55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67A-F4E9-405D-85B2-8498E1F3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CCC-D5BC-4F9C-8806-5359C3F6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7DF-D795-4812-8B00-D9A3FABE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6F6E-CD8F-4B8E-85D0-235A26A0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4D80-CC62-420E-B558-11F6642E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9E1E-8B6B-4F39-9CA1-4AC309CF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D61B-495E-4582-BEEC-C51220E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F4DD-1C63-411B-8C6F-70327583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1EB8-2A54-40DC-B4C5-B2964EDA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4F5E-38FB-4821-B2A7-6B3E3FD3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C64-10B8-4746-8CAC-0494EE2D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1AE4-6D1F-4E6C-A243-0E924752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DE20-171E-4603-81FD-21269B3C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BFA5-B799-4CAD-9D8E-2F4DBED3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7827-48B1-4D90-9107-ABD110D8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CCE4-7F6D-45C7-9C94-0157380B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AE6F-8B93-43A1-B3CB-E5A72CEF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CD22-4B2E-42CB-9223-A841FBD1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56C1-72C1-4B78-87EB-E8A21AA2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E6DD-2AE8-4357-BADE-A52AAECD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E295-42FB-4777-9AAE-E8A3C94A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138-FAB4-4BDD-9BBD-02D4082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441D-B374-43F7-9057-9BEFD6A8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B885-2DD1-48E4-85E3-073EDAB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BB4E-5947-4297-9807-D67D395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553C-BB39-4208-9B03-E271FA95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ECA4-4F1A-4BEA-A5FC-BDE6B9D0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2B5A-6091-4E1C-A23C-3165D8CA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6CA2-52D3-461C-A7BE-FEF0A57C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FC68-2722-4651-99E4-2261BCCB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4E132-7C49-46DE-BF0C-B8A54702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261E-C47D-4330-BC5A-286CF9B4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287-21B6-4D64-9C58-4FCB877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60AF-CB38-40AD-AF13-36029ED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54C9-5C7C-4856-B57D-DD0FFFDA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B044-DDCC-4A92-A7CA-FFF90C01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A0CE-C5D7-4A8B-BF23-5FFF889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2B56-AA8E-4CC4-A992-733046B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BF36-3818-475E-A589-6D64E96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4EDE-974B-4D1A-8611-1EA5440B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BA46-6C5C-423A-AE6A-86078471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893F-BE8B-4C1D-9945-7ABF1719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501-7341-4C0D-BA81-EF1FF386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690-8402-41D9-854A-3BD8A2A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991-48F8-4A81-8B97-7848548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ACF-DF4C-4CE1-AEB9-4722384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A97-3850-4B0D-9F6E-2A14C8AC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921-756D-405C-978D-4D1D46014F3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4CF5-4907-48C4-A4A4-9021E2C6E94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6AB7-5EB1-42E5-ABB0-BFF5D2B2DA1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50DA-C645-4780-A9D2-9BAB09E6E98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52440" y="1557360"/>
            <a:ext cx="835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ая рабо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утичными деть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24000" y="8398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-смысловым комментарий - это такой комментарий, который позволяет нам «поймать» внимание ребенка, сосредоточить его на чем-то для того, чтобы добиться осмысления происходящего, осознания сказанного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-смысловой комментарий должен быть привязан к опыту ребенка, вносить смысл даже во внешне бессмысленную активность ребенка, в его аутостимуля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24000" y="40464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комментиров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нтируйте любое действие, любое сенсорное ощущение, с которым ребенок сталкивается (родители – дом и улица). Он не умеет понимать и придавать смысл, зато вы превосходно этим владеете. Взрослые - как проводники отчетливых, развернутых смыслов, событ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0" y="3621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комментир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удьте, что ребенку уже 4, 5, 6 лет. Вспомните, как общались с ним, когда ему был годик. Комментируйте, приговаривайте, подхватывайте его действия и уводите за границы сенсорных ощущений — добавляйте к ним свои пояснения, детские стишки и потешки, песенки и фразы из его любимых мультфильмов. Ребенок схватил мягкую игрушку – «Привет, зайчик!». Бросил ее – «Пока, зайчик!» Побежал по комнате – «Как быстро бегут твои ножки по ковровой дорожке!» Взмахнул руками – «Птичка полете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79704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и должны быть эмоционально окрашенным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ребенок плохо говорит или молчит, говорите громко, ярче интонируя свою речь, активнее жестикулируя. Если ребенок говорящий, пусть ваша речь будет спокойна, но выразительна, артистич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лов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таете по роля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будто ребенок зачарованно слушает вас с широко распахнутыми глазами. Он слушает! Даже когда кажется, чт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еагиру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324000" y="68292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й должен сопровождать практически любое действие ребенка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ажно, выполнил ли он его намеренно, достаточно ли заинтересован конкретным предметом или процессом. Помнит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о так ничего не быва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Если ребенок что-то сделал, значит эт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-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несло ему определенное сенсорное ощущение. А на любое сенсорное ощущение следует мгновенно накладывать смысл! Каждое ваше пояснение, отправленное вслед конкретному сенсорному ощущению, это малый или мощный, но очередной удар по крепкой стене аутизма. Пробивайтесь к сознанию ребенка каждым смысловым комментар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324000" y="933840"/>
            <a:ext cx="82087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ируйте речевую аутостимуляцияю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 вокализирует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износит отдельные звуки, словоподобные или фразоподобные звукосочетания? Отлично!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кализация при аутизме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зновидность аутостимуляции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также обязана с вашей помощью превратиться в осмысленное слово, а лучше фразу в контексте происходящего. Начните с первых услышанных звуков и продолжите чем надо. (А!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ааааах, какой красивый паровозик получился из кубиков!) Радуйтесь любой вокализации, подхватывайте и разворачивайте любой звук, подбирайте похожие слова и фразы, которые освещают возможный смысл, отражают контекст происходящего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ните: вокализация, это первый шаг на пути к сознательной реч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50920" y="488520"/>
            <a:ext cx="864216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комментир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ям дается задание комментировать, по возможности, все происходящее с ребенком в течение дня, отмечая приятные эмоциональные детали, обязательно включая в комментарий отношения, чувства других людей и самого ребенка, социальные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ситуации, в которые включен реб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на улице, которые наблюдает ребен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фильмы, песенки, сказки, которыми увлечен ребен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24000" y="260280"/>
            <a:ext cx="849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омментир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м детям активные смысловые комментарии нужны до момента, когда им станет подвластно смыслотворчество. Аутичному ребенку внешние смысловые комментарии нужны до тех пор, пока не снят диагноз «аутизм». Для кого-то это годы, для кого-то вся жизнь. Если обратиться к одному дню, то комментировать желательно как можно чаще и как можно дольше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инимум до тех пор, пока ребенок не начнет с явным интересом и удовольствием с вами играть, читать, беседовать или взаимодействовать в рамках других совместных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468360" y="765000"/>
            <a:ext cx="8351640" cy="10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нтирование деталей, ощущений, ситу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й рассказ  (сюжетное рис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низ 2"/>
          <p:cNvSpPr/>
          <p:nvPr/>
        </p:nvSpPr>
        <p:spPr>
          <a:xfrm>
            <a:off x="4211640" y="2276640"/>
            <a:ext cx="647640" cy="20890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250920" y="56772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возможности активно пользоваться речью (растормаживание внешней реч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2009160"/>
            <a:ext cx="84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ормаживание речи идет одновременно в трех направл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оцирование непроизвольного подражания действию, мимике, интонации взрос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ование ребенка на эхолалии и непроизвольные словесные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за ребенком и обыгрывание его звуковых реакций, в том числе и вокальной аутостим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1088280"/>
            <a:ext cx="9144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й групп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очти полное отсутствие внешней речи. Редкие слова или короткие фразы, произнесенные ребенком на высоте афф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групп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- эхолалии (отсроченные эхолалии),  небольшой набор стереотипных коротких фраз, полученных ребенком в какой-то аффективной ситу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ьей групп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развернутая литературная речь, при этом почти не способны к диалогу, не слышат собеседника, хотя цитируют целые страницы любимых кни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вертой групп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тихая, нечеткая речь и эхолалии, иногда отсроченными во времени. Такой ребенок просит и обращается, как правило, с помощью речи, но пересказ для него труде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ALLA\Desktop\для презентации\IMGP5331.JPG"/>
          <p:cNvPicPr/>
          <p:nvPr/>
        </p:nvPicPr>
        <p:blipFill>
          <a:blip r:embed="rId1"/>
          <a:stretch/>
        </p:blipFill>
        <p:spPr>
          <a:xfrm>
            <a:off x="0" y="1197000"/>
            <a:ext cx="2592360" cy="4492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ALLA\Desktop\для презентации\IMGP5368.JPG"/>
          <p:cNvPicPr/>
          <p:nvPr/>
        </p:nvPicPr>
        <p:blipFill>
          <a:blip r:embed="rId2"/>
          <a:stretch/>
        </p:blipFill>
        <p:spPr>
          <a:xfrm>
            <a:off x="2843280" y="360360"/>
            <a:ext cx="3097080" cy="649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ALLA\Desktop\для презентации\IMGP5377.JPG"/>
          <p:cNvPicPr/>
          <p:nvPr/>
        </p:nvPicPr>
        <p:blipFill>
          <a:blip r:embed="rId3"/>
          <a:stretch/>
        </p:blipFill>
        <p:spPr>
          <a:xfrm>
            <a:off x="6156360" y="1197000"/>
            <a:ext cx="2987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ALLA\Desktop\для презентации\IMGP5348.JPG"/>
          <p:cNvPicPr/>
          <p:nvPr/>
        </p:nvPicPr>
        <p:blipFill>
          <a:blip r:embed="rId1"/>
          <a:stretch/>
        </p:blipFill>
        <p:spPr>
          <a:xfrm>
            <a:off x="5268960" y="333360"/>
            <a:ext cx="3875040" cy="6164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ALLA\Desktop\для презентации\IMGP5474.JPG"/>
          <p:cNvPicPr/>
          <p:nvPr/>
        </p:nvPicPr>
        <p:blipFill>
          <a:blip r:embed="rId2"/>
          <a:stretch/>
        </p:blipFill>
        <p:spPr>
          <a:xfrm>
            <a:off x="324000" y="297000"/>
            <a:ext cx="4752720" cy="308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ALLA\Desktop\для презентации\IMGP5476.JPG"/>
          <p:cNvPicPr/>
          <p:nvPr/>
        </p:nvPicPr>
        <p:blipFill>
          <a:blip r:embed="rId3"/>
          <a:stretch/>
        </p:blipFill>
        <p:spPr>
          <a:xfrm>
            <a:off x="324000" y="3648240"/>
            <a:ext cx="467964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1365120" y="2133720"/>
            <a:ext cx="73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0" y="81648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задачи логопедической работы при аутиз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фференциация речевых нарушений, обусловленных аутизмом и сопутствующими синдро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ление эмоционального контакта с ребен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изация речев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 развитие спонтанной речи в быту и в игр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речи в обучающе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611280" y="-364320"/>
            <a:ext cx="8208720" cy="163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гнос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наблю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 карта, разработанная К.С.Лебединской и О.С.Никольс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следование ребенка первых двух лет жизни при предположении у него раннего детского аут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Морозовой С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0" y="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(Никольская О.С., Лебединская К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ь или отсутствие реакции на речь взрослого. Отсутствие фиксации взгляда на говорящем. Диссоциация между отсутствием реакции на слово и гиперсензитивностью к невербальным звукам, между "непониманием" простых бытовых инструкций и пониманием разговора, не обращенного к ребе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ая реакция на тихую, шепотную р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дывание или отсутствие фазы гуления. Его неинтонированность. Запаздывание или отсутствие фазы лепета. Его необращенность к взросл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дывание или опережение появления первых слов. Их необращенность к человеку, необычность, малоупотребимость. Эхолалии. Динамика накопления словаря: "плавающие" слова, регресс речи на уровне отдельных с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дывание или опережение появления фраз. Их необращенность к человеку. Комментирующие, аффективные фразы. Фразы-аутокоманды. Фразы-эхолалии. Отставленные эхолалии. Эхолалии-цитаты. Эхолалии-обобщенные форму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вербализации: игра фонематически сложными, аффективно насыщенными словами. Неологизмы. Монологи и аутодиалоги. Слова-отриц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и аффективно насыщенных метафор. Склонность к декламации, рифмованию, акцентуации рит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речи о себе в первом лице (при хорошей фразовой речи). Неправильное употребление других личных местоимений. Регресс фразовой речи; факторы, его провоцирую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урность интонаций. Повышение высоты голоса к концу фразы. Невнятность, скомканность, свернутость речи, произношение лишь от" дельных слогов. Разница развернутости речи, внятности произношения в спонтанной и заданной деятельности. Мутизм тотальный. Мутизм избирате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611280" y="493560"/>
            <a:ext cx="7921440" cy="63644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468360" y="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е обследование Морозовой С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39528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роизвольные реакции ребенка свидетельствуют, что он способен понимать речь и происходящее вокруг в том случае, если это попало в зону его непроизвольного внимания. Основная трудность аутичного ребенка лежит не в области понимания речи, а в сфере произвольности: произвольной организации своего внимания и поведения в соответствии с тем, что он слышит, произвольной организации собственной речевой реакции (Никольская О. С. Аутичный ребенок. Пути помощи / Никольская О. С., Баенская Е. Р., Либлинг М. М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395280" y="549360"/>
            <a:ext cx="8424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 включение в индивидуальный коррекционный план целей по формированию коммуникативной функции речи детей с аутизм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50920" y="3510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выше коммуникативная функция ребенка, тем лучше проходит образовательный процесс и социализ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50920" y="1005120"/>
            <a:ext cx="8569080" cy="49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Развитие речи детей с аутизмом ведётся поэтапно и последовательно.</a:t>
            </a:r>
            <a:r>
              <a:rPr b="0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 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Необходимо включить в процесс обучения максимальную зрительную опору, так как мышление аутичного ребёнка имеет тип </a:t>
            </a:r>
            <a:r>
              <a:rPr b="1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«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буквального</a:t>
            </a:r>
            <a:r>
              <a:rPr b="1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»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. </a:t>
            </a:r>
            <a:r>
              <a:rPr b="1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 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Реальные предметы, картинки, </a:t>
            </a:r>
            <a:r>
              <a:rPr b="1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 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применяются на всех этапах работы с 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3T17:02:27Z</dcterms:created>
  <dc:creator>ALLA</dc:creator>
  <dc:description/>
  <dc:language>en-US</dc:language>
  <cp:lastModifiedBy>117</cp:lastModifiedBy>
  <dcterms:modified xsi:type="dcterms:W3CDTF">2016-12-21T10:14:07Z</dcterms:modified>
  <cp:revision>36</cp:revision>
  <dc:subject/>
  <dc:title>Слайд 1</dc:title>
</cp:coreProperties>
</file>