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-rastu.ru/news-all/gam-devel/gam-devel-rebus/135-rebusy-pravila-sostavleniya-i-razgadyvaniy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199280" cy="1841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58920" y="42840"/>
            <a:ext cx="6400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БОУ «СОШ №2 г.Льгова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5373720"/>
            <a:ext cx="64008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016000" y="2143080"/>
            <a:ext cx="486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задания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от Деда Мороз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511280"/>
            <a:ext cx="9144000" cy="53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924280" y="0"/>
            <a:ext cx="5427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606760" y="0"/>
            <a:ext cx="4592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87164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32000" y="5516640"/>
            <a:ext cx="1008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nold BocklinC"/>
              </a:rPr>
              <a:t>з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87360" y="750960"/>
            <a:ext cx="659772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5148360" y="5516640"/>
            <a:ext cx="1004760" cy="1306440"/>
            <a:chOff x="5148360" y="5516640"/>
            <a:chExt cx="1004760" cy="1306440"/>
          </a:xfrm>
        </p:grpSpPr>
        <p:sp>
          <p:nvSpPr>
            <p:cNvPr id="137" name=""/>
            <p:cNvSpPr/>
            <p:nvPr/>
          </p:nvSpPr>
          <p:spPr>
            <a:xfrm>
              <a:off x="5148360" y="5516640"/>
              <a:ext cx="1004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а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427640" y="5516640"/>
            <a:ext cx="1004760" cy="1306440"/>
            <a:chOff x="4427640" y="5516640"/>
            <a:chExt cx="1004760" cy="1306440"/>
          </a:xfrm>
        </p:grpSpPr>
        <p:sp>
          <p:nvSpPr>
            <p:cNvPr id="139" name=""/>
            <p:cNvSpPr/>
            <p:nvPr/>
          </p:nvSpPr>
          <p:spPr>
            <a:xfrm>
              <a:off x="4427640" y="5516640"/>
              <a:ext cx="1004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м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708360" y="5516640"/>
            <a:ext cx="1004760" cy="1306440"/>
            <a:chOff x="3708360" y="5516640"/>
            <a:chExt cx="1004760" cy="1306440"/>
          </a:xfrm>
        </p:grpSpPr>
        <p:sp>
          <p:nvSpPr>
            <p:cNvPr id="141" name=""/>
            <p:cNvSpPr/>
            <p:nvPr/>
          </p:nvSpPr>
          <p:spPr>
            <a:xfrm>
              <a:off x="3708360" y="5516640"/>
              <a:ext cx="1004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и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57480" y="790560"/>
            <a:ext cx="6583320" cy="3979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16360" y="5373720"/>
            <a:ext cx="158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nold BocklinC"/>
              </a:rPr>
              <a:t>мо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11640" y="5370480"/>
            <a:ext cx="2013120" cy="1306440"/>
            <a:chOff x="4211640" y="5370480"/>
            <a:chExt cx="2013120" cy="1306440"/>
          </a:xfrm>
        </p:grpSpPr>
        <p:sp>
          <p:nvSpPr>
            <p:cNvPr id="145" name=""/>
            <p:cNvSpPr/>
            <p:nvPr/>
          </p:nvSpPr>
          <p:spPr>
            <a:xfrm>
              <a:off x="4211640" y="5370480"/>
              <a:ext cx="201312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роз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0920" y="5373720"/>
            <a:ext cx="187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nold BocklinC"/>
              </a:rPr>
              <a:t>сне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4000" y="792000"/>
            <a:ext cx="64800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3708360" y="5373720"/>
            <a:ext cx="1797120" cy="1306440"/>
            <a:chOff x="3708360" y="5373720"/>
            <a:chExt cx="1797120" cy="1306440"/>
          </a:xfrm>
        </p:grpSpPr>
        <p:sp>
          <p:nvSpPr>
            <p:cNvPr id="149" name=""/>
            <p:cNvSpPr/>
            <p:nvPr/>
          </p:nvSpPr>
          <p:spPr>
            <a:xfrm>
              <a:off x="3708360" y="5373720"/>
              <a:ext cx="179712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жи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292720" y="5373720"/>
            <a:ext cx="2228760" cy="1306440"/>
            <a:chOff x="5292720" y="5373720"/>
            <a:chExt cx="2228760" cy="1306440"/>
          </a:xfrm>
        </p:grpSpPr>
        <p:sp>
          <p:nvSpPr>
            <p:cNvPr id="151" name=""/>
            <p:cNvSpPr/>
            <p:nvPr/>
          </p:nvSpPr>
          <p:spPr>
            <a:xfrm>
              <a:off x="5292720" y="5373720"/>
              <a:ext cx="2228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нка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32000" y="858960"/>
            <a:ext cx="6480000" cy="391608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1724040" y="5373720"/>
            <a:ext cx="2268360" cy="1306440"/>
            <a:chOff x="1724040" y="5373720"/>
            <a:chExt cx="2268360" cy="1306440"/>
          </a:xfrm>
        </p:grpSpPr>
        <p:sp>
          <p:nvSpPr>
            <p:cNvPr id="154" name=""/>
            <p:cNvSpPr/>
            <p:nvPr/>
          </p:nvSpPr>
          <p:spPr>
            <a:xfrm>
              <a:off x="1724040" y="5373720"/>
              <a:ext cx="22683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с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16360" y="5389560"/>
            <a:ext cx="2733480" cy="1306440"/>
            <a:chOff x="2916360" y="5389560"/>
            <a:chExt cx="2733480" cy="1306440"/>
          </a:xfrm>
        </p:grpSpPr>
        <p:sp>
          <p:nvSpPr>
            <p:cNvPr id="156" name=""/>
            <p:cNvSpPr/>
            <p:nvPr/>
          </p:nvSpPr>
          <p:spPr>
            <a:xfrm>
              <a:off x="2916360" y="5389560"/>
              <a:ext cx="273348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осул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291280" y="5381640"/>
            <a:ext cx="2733480" cy="1306440"/>
            <a:chOff x="5291280" y="5381640"/>
            <a:chExt cx="2733480" cy="1306440"/>
          </a:xfrm>
        </p:grpSpPr>
        <p:sp>
          <p:nvSpPr>
            <p:cNvPr id="158" name=""/>
            <p:cNvSpPr/>
            <p:nvPr/>
          </p:nvSpPr>
          <p:spPr>
            <a:xfrm>
              <a:off x="5291280" y="5381640"/>
              <a:ext cx="273348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ка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427640" y="5389560"/>
            <a:ext cx="2733480" cy="1306440"/>
            <a:chOff x="4427640" y="5389560"/>
            <a:chExt cx="2733480" cy="1306440"/>
          </a:xfrm>
        </p:grpSpPr>
        <p:sp>
          <p:nvSpPr>
            <p:cNvPr id="160" name=""/>
            <p:cNvSpPr/>
            <p:nvPr/>
          </p:nvSpPr>
          <p:spPr>
            <a:xfrm>
              <a:off x="4427640" y="5389560"/>
              <a:ext cx="273348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ь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916360" y="765000"/>
            <a:ext cx="561636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Здравствуйте, детишки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Девчонки и мальчишки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В гости к вам уже спеш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И подарочки нес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А, чтобы вы не скучали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Пока Деда Мороза ждали 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Загадки мои разгадайте 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По картинкам и знакам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nold BocklinC"/>
              </a:rPr>
              <a:t>Слова составляйт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32000" y="822240"/>
            <a:ext cx="64800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2700360" y="5445000"/>
            <a:ext cx="2268360" cy="1306800"/>
            <a:chOff x="2700360" y="5445000"/>
            <a:chExt cx="2268360" cy="1306800"/>
          </a:xfrm>
        </p:grpSpPr>
        <p:sp>
          <p:nvSpPr>
            <p:cNvPr id="163" name=""/>
            <p:cNvSpPr/>
            <p:nvPr/>
          </p:nvSpPr>
          <p:spPr>
            <a:xfrm>
              <a:off x="2700360" y="5445000"/>
              <a:ext cx="2268360" cy="13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ёл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24360" y="5445000"/>
            <a:ext cx="2268360" cy="1306800"/>
            <a:chOff x="3924360" y="5445000"/>
            <a:chExt cx="2268360" cy="1306800"/>
          </a:xfrm>
        </p:grpSpPr>
        <p:sp>
          <p:nvSpPr>
            <p:cNvPr id="165" name=""/>
            <p:cNvSpPr/>
            <p:nvPr/>
          </p:nvSpPr>
          <p:spPr>
            <a:xfrm>
              <a:off x="3924360" y="5445000"/>
              <a:ext cx="2268360" cy="13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ка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258920" y="824040"/>
            <a:ext cx="655308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724040" y="5445000"/>
            <a:ext cx="2268360" cy="1306800"/>
            <a:chOff x="1724040" y="5445000"/>
            <a:chExt cx="2268360" cy="1306800"/>
          </a:xfrm>
        </p:grpSpPr>
        <p:sp>
          <p:nvSpPr>
            <p:cNvPr id="168" name=""/>
            <p:cNvSpPr/>
            <p:nvPr/>
          </p:nvSpPr>
          <p:spPr>
            <a:xfrm>
              <a:off x="1724040" y="5445000"/>
              <a:ext cx="2268360" cy="13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игр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48000" y="5445000"/>
            <a:ext cx="2268720" cy="1306800"/>
            <a:chOff x="3348000" y="5445000"/>
            <a:chExt cx="2268720" cy="1306800"/>
          </a:xfrm>
        </p:grpSpPr>
        <p:sp>
          <p:nvSpPr>
            <p:cNvPr id="170" name=""/>
            <p:cNvSpPr/>
            <p:nvPr/>
          </p:nvSpPr>
          <p:spPr>
            <a:xfrm>
              <a:off x="3348000" y="5445000"/>
              <a:ext cx="2268720" cy="13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уш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859280" y="5445000"/>
            <a:ext cx="2270160" cy="1306800"/>
            <a:chOff x="4859280" y="5445000"/>
            <a:chExt cx="2270160" cy="1306800"/>
          </a:xfrm>
        </p:grpSpPr>
        <p:sp>
          <p:nvSpPr>
            <p:cNvPr id="172" name=""/>
            <p:cNvSpPr/>
            <p:nvPr/>
          </p:nvSpPr>
          <p:spPr>
            <a:xfrm>
              <a:off x="4859280" y="5445000"/>
              <a:ext cx="2270160" cy="13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ки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32000" y="824040"/>
            <a:ext cx="6476760" cy="391464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979640" y="5310360"/>
            <a:ext cx="2733480" cy="1306440"/>
            <a:chOff x="1979640" y="5310360"/>
            <a:chExt cx="2733480" cy="1306440"/>
          </a:xfrm>
        </p:grpSpPr>
        <p:sp>
          <p:nvSpPr>
            <p:cNvPr id="175" name=""/>
            <p:cNvSpPr/>
            <p:nvPr/>
          </p:nvSpPr>
          <p:spPr>
            <a:xfrm>
              <a:off x="1979640" y="5310360"/>
              <a:ext cx="273348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гир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419640" y="5310360"/>
            <a:ext cx="2733480" cy="1306440"/>
            <a:chOff x="3419640" y="5310360"/>
            <a:chExt cx="2733480" cy="1306440"/>
          </a:xfrm>
        </p:grpSpPr>
        <p:sp>
          <p:nvSpPr>
            <p:cNvPr id="177" name=""/>
            <p:cNvSpPr/>
            <p:nvPr/>
          </p:nvSpPr>
          <p:spPr>
            <a:xfrm>
              <a:off x="3419640" y="5310360"/>
              <a:ext cx="273348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ля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003640" y="5310360"/>
            <a:ext cx="2733840" cy="1306440"/>
            <a:chOff x="5003640" y="5310360"/>
            <a:chExt cx="2733840" cy="1306440"/>
          </a:xfrm>
        </p:grpSpPr>
        <p:sp>
          <p:nvSpPr>
            <p:cNvPr id="179" name=""/>
            <p:cNvSpPr/>
            <p:nvPr/>
          </p:nvSpPr>
          <p:spPr>
            <a:xfrm>
              <a:off x="5003640" y="5310360"/>
              <a:ext cx="273384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нда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32000" y="804960"/>
            <a:ext cx="6553080" cy="396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24040" y="5445000"/>
            <a:ext cx="22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nold BocklinC"/>
              </a:rPr>
              <a:t>Дед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67280" y="5445000"/>
            <a:ext cx="1869840" cy="1306800"/>
            <a:chOff x="4067280" y="5445000"/>
            <a:chExt cx="1869840" cy="1306800"/>
          </a:xfrm>
        </p:grpSpPr>
        <p:sp>
          <p:nvSpPr>
            <p:cNvPr id="183" name=""/>
            <p:cNvSpPr/>
            <p:nvPr/>
          </p:nvSpPr>
          <p:spPr>
            <a:xfrm>
              <a:off x="4067280" y="5445000"/>
              <a:ext cx="1869840" cy="13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Мо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580000" y="5421240"/>
            <a:ext cx="2084400" cy="1306440"/>
            <a:chOff x="5580000" y="5421240"/>
            <a:chExt cx="2084400" cy="1306440"/>
          </a:xfrm>
        </p:grpSpPr>
        <p:sp>
          <p:nvSpPr>
            <p:cNvPr id="185" name=""/>
            <p:cNvSpPr/>
            <p:nvPr/>
          </p:nvSpPr>
          <p:spPr>
            <a:xfrm>
              <a:off x="5580000" y="5421240"/>
              <a:ext cx="208440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роз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553080" cy="3960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403280" y="5445000"/>
            <a:ext cx="255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nold BocklinC"/>
              </a:rPr>
              <a:t>Снег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419640" y="5445000"/>
            <a:ext cx="1581120" cy="1306800"/>
            <a:chOff x="3419640" y="5445000"/>
            <a:chExt cx="1581120" cy="1306800"/>
          </a:xfrm>
        </p:grpSpPr>
        <p:sp>
          <p:nvSpPr>
            <p:cNvPr id="189" name=""/>
            <p:cNvSpPr/>
            <p:nvPr/>
          </p:nvSpPr>
          <p:spPr>
            <a:xfrm>
              <a:off x="3419640" y="5445000"/>
              <a:ext cx="1581120" cy="13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у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427640" y="5454720"/>
            <a:ext cx="3309840" cy="1306440"/>
            <a:chOff x="4427640" y="5454720"/>
            <a:chExt cx="3309840" cy="1306440"/>
          </a:xfrm>
        </p:grpSpPr>
        <p:sp>
          <p:nvSpPr>
            <p:cNvPr id="191" name=""/>
            <p:cNvSpPr/>
            <p:nvPr/>
          </p:nvSpPr>
          <p:spPr>
            <a:xfrm>
              <a:off x="4427640" y="5454720"/>
              <a:ext cx="330984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8000" spc="-1" strike="noStrike">
                  <a:solidFill>
                    <a:srgbClr val="0000ff"/>
                  </a:solidFill>
                  <a:latin typeface="Arnold BocklinC"/>
                </a:rPr>
                <a:t>рочка</a:t>
              </a:r>
              <a:endParaRPr b="0" lang="en-US" sz="8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152360" y="1700280"/>
            <a:ext cx="6620040" cy="2017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850160" y="59990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157480" y="355680"/>
            <a:ext cx="4962600" cy="6219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216000" y="-133200"/>
            <a:ext cx="36007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87280" y="692280"/>
            <a:ext cx="6697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nold BocklinC"/>
              </a:rPr>
              <a:t>Источник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1187280" y="1484280"/>
            <a:ext cx="6697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nold BocklinC"/>
              </a:rPr>
              <a:t>Понятие «ребус» и правила разгадывания -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nold BocklinC"/>
                <a:hlinkClick r:id="rId2"/>
              </a:rPr>
              <a:t>http://ja-rastu.ru/news-all/gam-devel/gam-devel-rebus/135-rebusy-pravila-sostavleniya-i-razgadyvaniya.htm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nold BocklinC"/>
              </a:rPr>
              <a:t>Для создания шаблона презентации и ребусов были использованы картинки (отрисовки) и фон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nold BocklinC"/>
              </a:rPr>
              <a:t>Уверской</a:t>
            </a:r>
            <a:r>
              <a:rPr b="0" lang="ru-RU" sz="2000" spc="-1" strike="noStrike">
                <a:solidFill>
                  <a:srgbClr val="0099ff"/>
                </a:solidFill>
                <a:latin typeface="Arnold BocklinC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nold BocklinC"/>
              </a:rPr>
              <a:t>Елены</a:t>
            </a:r>
            <a:r>
              <a:rPr b="0" lang="ru-RU" sz="2000" spc="-1" strike="noStrike">
                <a:solidFill>
                  <a:srgbClr val="0099ff"/>
                </a:solidFill>
                <a:latin typeface="Arnold BocklinC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nold BocklinC"/>
              </a:rPr>
              <a:t>Борисовны</a:t>
            </a:r>
            <a:r>
              <a:rPr b="0" lang="ru-RU" sz="2000" spc="-1" strike="noStrike">
                <a:solidFill>
                  <a:srgbClr val="000000"/>
                </a:solidFill>
                <a:latin typeface="Arnold Bocklin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1640" y="0"/>
            <a:ext cx="545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3168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40000" y="2592360"/>
            <a:ext cx="3024360" cy="2592360"/>
          </a:xfrm>
          <a:prstGeom prst="roundRect">
            <a:avLst>
              <a:gd name="adj" fmla="val 60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-6480" y="0"/>
            <a:ext cx="749304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71280" y="36360"/>
            <a:ext cx="9215280" cy="6821640"/>
          </a:xfrm>
          <a:prstGeom prst="roundRect">
            <a:avLst>
              <a:gd name="adj" fmla="val 23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1280" y="2808360"/>
            <a:ext cx="2519640" cy="394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95640" y="2808360"/>
            <a:ext cx="2828880" cy="4013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551640" y="2808360"/>
            <a:ext cx="2619360" cy="401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быстре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2240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71280" y="1584360"/>
            <a:ext cx="8999280" cy="52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02:53:21Z</dcterms:created>
  <dc:creator>WORK</dc:creator>
  <dc:description/>
  <dc:language>en-US</dc:language>
  <cp:lastModifiedBy>Марина</cp:lastModifiedBy>
  <dcterms:modified xsi:type="dcterms:W3CDTF">2017-05-16T03:24:12Z</dcterms:modified>
  <cp:revision>48</cp:revision>
  <dc:subject/>
  <dc:title>НОВОГОДНИЕ  РЕБУСЫ</dc:title>
</cp:coreProperties>
</file>