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9AE-B3F6-497D-BDE8-B630B74B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08C-83E5-4EE1-A20C-C4B0A26E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DCB-4D23-435F-BB47-650019CA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8BC-72B3-4D69-AAEA-C0A327E7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5CA-38DA-49F8-A718-5DF7DD6C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0DB-F4D5-4D10-A650-22D26509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B8F-C2B7-4E03-A4A9-64AFD0E5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9CF-275B-437A-AB45-4FD4B7A5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F0F-D39D-4B06-93E1-C52B1449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1A0-7EF4-4A43-9CE9-76E93166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D26-0FB1-41A3-85A7-8E0747CD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3B0-BFF7-450B-8723-A5FF911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0957-9E25-4CF5-8C4F-4B31592DBDD0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БЪЁМНЫЙ ЁЖИК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ёж"/>
          <p:cNvPicPr/>
          <p:nvPr/>
        </p:nvPicPr>
        <p:blipFill>
          <a:blip r:embed="rId1"/>
          <a:stretch/>
        </p:blipFill>
        <p:spPr>
          <a:xfrm>
            <a:off x="1979640" y="1844640"/>
            <a:ext cx="5472000" cy="31291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3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908000" y="1844640"/>
            <a:ext cx="5543640" cy="3146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Сердитый недотро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Живёт в глуши лес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Иголок очень много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А нитки ни од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 что вы знаете о ежах?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276280"/>
            <a:ext cx="80755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жи - семейство млекопитающих отряда насекомоядных. 7 родов. Около 20 видов. Населяют Евразию, Африку, Юго-Восточную Азию до острова Калимантан.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47" name="Picture 11" descr="умный ёж"/>
          <p:cNvPicPr/>
          <p:nvPr/>
        </p:nvPicPr>
        <p:blipFill>
          <a:blip r:embed="rId1"/>
          <a:stretch/>
        </p:blipFill>
        <p:spPr>
          <a:xfrm>
            <a:off x="7236000" y="189000"/>
            <a:ext cx="168588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емного о ежах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лина тела от 10 до 44 см. Хвост от 1 до 20 см. Большинство видов имеют вид типичных ежей с коротким хвостом, широко расставленными ногами, иглами на спине и боках. Другая группа видов похожа на мышевидных грызунов (гимнуры)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0" name="Picture 4" descr="умный ёж"/>
          <p:cNvPicPr/>
          <p:nvPr/>
        </p:nvPicPr>
        <p:blipFill>
          <a:blip r:embed="rId1"/>
          <a:stretch/>
        </p:blipFill>
        <p:spPr>
          <a:xfrm>
            <a:off x="7236000" y="18900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ёж3"/>
          <p:cNvPicPr/>
          <p:nvPr/>
        </p:nvPicPr>
        <p:blipFill>
          <a:blip r:embed="rId2"/>
          <a:stretch/>
        </p:blipFill>
        <p:spPr>
          <a:xfrm>
            <a:off x="1979640" y="1268280"/>
            <a:ext cx="4314960" cy="29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3573360"/>
            <a:ext cx="8820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 лесах средней полосы России распространен еж обыкновенный. Более экзотичен, но не редок еж ушастый, обитатель жарких степей и полупустынь юго-востока страны. Длина тела 20-25 см. Спина и бока ежей покрыты иглами. При опасности животные мгновенно свертываются в шар. Ежи средних широт на зиму впадают в спячку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3" name="Picture 8" descr="ёж4"/>
          <p:cNvPicPr/>
          <p:nvPr/>
        </p:nvPicPr>
        <p:blipFill>
          <a:blip r:embed="rId1"/>
          <a:stretch/>
        </p:blipFill>
        <p:spPr>
          <a:xfrm>
            <a:off x="611280" y="476280"/>
            <a:ext cx="3600360" cy="2663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54" name="Picture 9" descr="ёж3"/>
          <p:cNvPicPr/>
          <p:nvPr/>
        </p:nvPicPr>
        <p:blipFill>
          <a:blip r:embed="rId2"/>
          <a:stretch/>
        </p:blipFill>
        <p:spPr>
          <a:xfrm>
            <a:off x="4788000" y="476280"/>
            <a:ext cx="4032000" cy="2663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4005000"/>
            <a:ext cx="79311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 воле ежи активны в сумерках и ночью, днем дремлют в укрытиях; хорошо плавают. Зимой впадают в спячку. Еж активно поедает насекомых, ловит лягушек, мышей и изредка змей. Позволяет себе стащить с огорода какой-нибудь овощ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4" descr="ёж5"/>
          <p:cNvPicPr/>
          <p:nvPr/>
        </p:nvPicPr>
        <p:blipFill>
          <a:blip r:embed="rId1"/>
          <a:stretch/>
        </p:blipFill>
        <p:spPr>
          <a:xfrm>
            <a:off x="2050920" y="260280"/>
            <a:ext cx="4746600" cy="3560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120" y="-6876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man Old Style"/>
              </a:rPr>
              <a:t>Интересно о ежах: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351000" y="1854360"/>
            <a:ext cx="633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2854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5460"/>
                </a:solidFill>
                <a:latin typeface="Bookman Old Style"/>
              </a:rPr>
              <a:t>Ежи очень плохо видят, ориентироваться в пространстве им помогает слух и обоня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mp3klab.ru/img.php?aHR0cHM6Ly9pLnl0aW1nLmNvbS92aS9LNVc2emZGaDNzMC9ocWRlZmF1bHQuanBn.jpg"/>
          <p:cNvPicPr/>
          <p:nvPr/>
        </p:nvPicPr>
        <p:blipFill>
          <a:blip r:embed="rId1"/>
          <a:stretch/>
        </p:blipFill>
        <p:spPr>
          <a:xfrm>
            <a:off x="4730760" y="3071880"/>
            <a:ext cx="34434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162000" y="5294160"/>
            <a:ext cx="490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За день еж может преодолеть расстояние до 2 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47520" y="-13644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http://vdvsp.ru/pic/news/1462086546.jpg"/>
          <p:cNvPicPr/>
          <p:nvPr/>
        </p:nvPicPr>
        <p:blipFill>
          <a:blip r:embed="rId1"/>
          <a:stretch/>
        </p:blipFill>
        <p:spPr>
          <a:xfrm>
            <a:off x="3359160" y="768240"/>
            <a:ext cx="441324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5:25:12Z</dcterms:created>
  <dc:creator>comp</dc:creator>
  <dc:description/>
  <dc:language>en-US</dc:language>
  <cp:lastModifiedBy>User</cp:lastModifiedBy>
  <dcterms:modified xsi:type="dcterms:W3CDTF">2017-10-19T06:27:28Z</dcterms:modified>
  <cp:revision>16</cp:revision>
  <dc:subject/>
  <dc:title>Ёж</dc:title>
</cp:coreProperties>
</file>