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02EA-642D-451E-BF3B-7373C521C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7AC1-DC73-4D3F-B8C8-7A72EE36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0C52-587F-4A07-B7A2-B2B69454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8AF8-D402-4311-AC5A-19950E0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8A1-17D0-4CE2-ACA9-8609674A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6DA8-0FAB-4274-B167-1DA9924D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33D-1BFE-42C9-8ABC-D61C4E4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0CF-468F-4217-803B-3007C520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C9C4-CFFE-4759-880B-74603CA3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F9A-1872-4967-834E-74CFF202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FAC-0A5C-46AC-A40B-C0686C51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4E05-FF08-40BB-8445-085F48BC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22AA-4F9C-4B59-BE72-20ADE8651C5A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БЪЁМНЫЙ ЁЖИК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ёж"/>
          <p:cNvPicPr/>
          <p:nvPr/>
        </p:nvPicPr>
        <p:blipFill>
          <a:blip r:embed="rId1"/>
          <a:stretch/>
        </p:blipFill>
        <p:spPr>
          <a:xfrm>
            <a:off x="1979640" y="1844640"/>
            <a:ext cx="5472000" cy="31291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sp>
        <p:nvSpPr>
          <p:cNvPr id="43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908000" y="1844640"/>
            <a:ext cx="5543640" cy="3146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ердитый недотрог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Живёт в глуши лес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Иголок очень много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А нитки ни од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1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 что вы знаете о ежах?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640" y="2276280"/>
            <a:ext cx="807552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жи - семейство млекопитающих отряда насекомоядных. 7 родов. Около 20 видов. Населяют Евразию, Африку, Юго-Восточную Азию до острова Калимантан.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47" name="Picture 11" descr="умный ёж"/>
          <p:cNvPicPr/>
          <p:nvPr/>
        </p:nvPicPr>
        <p:blipFill>
          <a:blip r:embed="rId1"/>
          <a:stretch/>
        </p:blipFill>
        <p:spPr>
          <a:xfrm>
            <a:off x="7236000" y="189000"/>
            <a:ext cx="1685880" cy="16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емного о ежах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2276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лина тела от 10 до 44 см. Хвост от 1 до 20 см. Большинство видов имеют вид типичных ежей с коротким хвостом, широко расставленными ногами, иглами на спине и боках. Другая группа видов похожа на мышевидных грызунов (гимнуры)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0" name="Picture 4" descr="умный ёж"/>
          <p:cNvPicPr/>
          <p:nvPr/>
        </p:nvPicPr>
        <p:blipFill>
          <a:blip r:embed="rId1"/>
          <a:stretch/>
        </p:blipFill>
        <p:spPr>
          <a:xfrm>
            <a:off x="7236000" y="189000"/>
            <a:ext cx="1685880" cy="16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ёж3"/>
          <p:cNvPicPr/>
          <p:nvPr/>
        </p:nvPicPr>
        <p:blipFill>
          <a:blip r:embed="rId2"/>
          <a:stretch/>
        </p:blipFill>
        <p:spPr>
          <a:xfrm>
            <a:off x="1979640" y="1268280"/>
            <a:ext cx="4314960" cy="298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88200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 лесах средней полосы России распространен еж обыкновенный. Более экзотичен, но не редок еж ушастый, обитатель жарких степей и полупустынь юго-востока страны. Длина тела 20-25 см. Спина и бока ежей покрыты иглами. При опасности животные мгновенно свертываются в шар. Ежи средних широт на зиму впадают в спячку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3" name="Picture 8" descr="ёж4"/>
          <p:cNvPicPr/>
          <p:nvPr/>
        </p:nvPicPr>
        <p:blipFill>
          <a:blip r:embed="rId1"/>
          <a:stretch/>
        </p:blipFill>
        <p:spPr>
          <a:xfrm>
            <a:off x="611280" y="476280"/>
            <a:ext cx="3600360" cy="2663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54" name="Picture 9" descr="ёж3"/>
          <p:cNvPicPr/>
          <p:nvPr/>
        </p:nvPicPr>
        <p:blipFill>
          <a:blip r:embed="rId2"/>
          <a:stretch/>
        </p:blipFill>
        <p:spPr>
          <a:xfrm>
            <a:off x="4788000" y="476280"/>
            <a:ext cx="4032000" cy="266364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4005000"/>
            <a:ext cx="793116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 воле ежи активны в сумерках и ночью, днем дремлют в укрытиях; хорошо плавают. Зимой впадают в спячку. Еж активно поедает насекомых, ловит лягушек, мышей и изредка змей. Позволяет себе стащить с огорода какой-нибудь овощ.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56" name="Picture 4" descr="ёж5"/>
          <p:cNvPicPr/>
          <p:nvPr/>
        </p:nvPicPr>
        <p:blipFill>
          <a:blip r:embed="rId1"/>
          <a:stretch/>
        </p:blipFill>
        <p:spPr>
          <a:xfrm>
            <a:off x="2050920" y="260280"/>
            <a:ext cx="4746600" cy="3560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7120" y="-68760"/>
            <a:ext cx="788652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Bookman Old Style"/>
              </a:rPr>
              <a:t>Интересно о ежах: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51000" y="1854360"/>
            <a:ext cx="6333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2854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85460"/>
                </a:solidFill>
                <a:latin typeface="Bookman Old Style"/>
              </a:rPr>
              <a:t>Ежи очень плохо видят, ориентироваться в пространстве им помогает слух и обоня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http://mp3klab.ru/img.php?aHR0cHM6Ly9pLnl0aW1nLmNvbS92aS9LNVc2emZGaDNzMC9ocWRlZmF1bHQuanBn.jpg"/>
          <p:cNvPicPr/>
          <p:nvPr/>
        </p:nvPicPr>
        <p:blipFill>
          <a:blip r:embed="rId1"/>
          <a:stretch/>
        </p:blipFill>
        <p:spPr>
          <a:xfrm>
            <a:off x="4730760" y="3071880"/>
            <a:ext cx="34434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3"/>
          <p:cNvSpPr/>
          <p:nvPr/>
        </p:nvSpPr>
        <p:spPr>
          <a:xfrm>
            <a:off x="162000" y="5294160"/>
            <a:ext cx="4905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Bookman Old Style"/>
              </a:rPr>
              <a:t>За день еж может преодолеть расстояние до 2 к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2"/>
          <p:cNvSpPr/>
          <p:nvPr/>
        </p:nvSpPr>
        <p:spPr>
          <a:xfrm>
            <a:off x="47520" y="-136440"/>
            <a:ext cx="228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http://vdvsp.ru/pic/news/1462086546.jpg"/>
          <p:cNvPicPr/>
          <p:nvPr/>
        </p:nvPicPr>
        <p:blipFill>
          <a:blip r:embed="rId1"/>
          <a:stretch/>
        </p:blipFill>
        <p:spPr>
          <a:xfrm>
            <a:off x="3359160" y="768240"/>
            <a:ext cx="4413240" cy="39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5:12Z</dcterms:created>
  <dc:creator>comp</dc:creator>
  <dc:description/>
  <dc:language>en-US</dc:language>
  <cp:lastModifiedBy>User</cp:lastModifiedBy>
  <dcterms:modified xsi:type="dcterms:W3CDTF">2017-10-19T06:27:28Z</dcterms:modified>
  <cp:revision>16</cp:revision>
  <dc:subject/>
  <dc:title>Ёж</dc:title>
</cp:coreProperties>
</file>