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4.jpeg" ContentType="image/jpeg"/>
  <Override PartName="/ppt/media/image11.jpeg" ContentType="image/jpeg"/>
  <Override PartName="/ppt/media/image9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4D6B6-BF6B-4B7F-BEE9-E0C94BB7B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AB369-5698-4A37-93FD-C01EB9727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1C30C-B806-4143-9B11-EC62CABAE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FDA2F-146E-4B1D-9EE8-27CB75D25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38114-E84D-4BBF-B62B-528DA8E0F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B1BE9-6AA7-4A82-81DC-577FE1095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292BA-6146-4387-8905-DFE1E786A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219FE-8D4E-4A6A-8B64-60250E50E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C1BD6-57E0-4398-849D-3649C4816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6523E-E45C-4C25-98CB-A00195962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1C78F-8B96-46EB-8EA2-1059CF993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B1DF3-8600-4B8E-AF96-02F88D7BB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alibri"/>
              </a:rPr>
              <a:t>Click to edit the outline text format</a:t>
            </a: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alibri"/>
              </a:rPr>
              <a:t>Second Outline Level</a:t>
            </a: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alibri"/>
              </a:rPr>
              <a:t>Third Outline Level</a:t>
            </a: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alibri"/>
              </a:rPr>
              <a:t>Fourth Outline Level</a:t>
            </a: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alibri"/>
              </a:rPr>
              <a:t>Fifth Outline Level</a:t>
            </a: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alibri"/>
              </a:rPr>
              <a:t>Sixth Outline Level</a:t>
            </a: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alibri"/>
              </a:rPr>
              <a:t>Seventh Outline Level</a:t>
            </a:r>
            <a:endParaRPr b="1" lang="en-US" sz="3200" spc="-1" strike="noStrike">
              <a:solidFill>
                <a:srgbClr val="000066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880AC-80C7-447D-9183-C201FA813EDF}" type="slidenum">
              <a:rPr b="1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3"/>
          <p:cNvSpPr/>
          <p:nvPr/>
        </p:nvSpPr>
        <p:spPr>
          <a:xfrm>
            <a:off x="527040" y="690480"/>
            <a:ext cx="78868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00000"/>
              </a:lnSpc>
              <a:buClr>
                <a:srgbClr val="2854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85460"/>
                </a:solidFill>
                <a:latin typeface="Bookman Old Style"/>
              </a:rPr>
              <a:t>Ежи впадаю на зиму в спячку. Чтобы пережить спячку ежу необходимо весить как минимум 500 грамм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2" descr="http://expert.ru/data/public/133521/133526/552161-rep_120_051_1.jpg"/>
          <p:cNvPicPr/>
          <p:nvPr/>
        </p:nvPicPr>
        <p:blipFill>
          <a:blip r:embed="rId1"/>
          <a:stretch/>
        </p:blipFill>
        <p:spPr>
          <a:xfrm>
            <a:off x="3870360" y="2693880"/>
            <a:ext cx="4011480" cy="382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3"/>
          <p:cNvSpPr/>
          <p:nvPr/>
        </p:nvSpPr>
        <p:spPr>
          <a:xfrm>
            <a:off x="3079800" y="4334040"/>
            <a:ext cx="5764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Bookman Old Style"/>
              </a:rPr>
              <a:t>Ежата рождаются с мягкими иголочками, спрятанными под кожу. Первые иголочки начинают появляться через час после рождени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Picture 2" descr="http://img14.deviantart.net/e86f/i/2009/362/5/1/sleepy_baby_by_piebald111.jpg"/>
          <p:cNvPicPr/>
          <p:nvPr/>
        </p:nvPicPr>
        <p:blipFill>
          <a:blip r:embed="rId1"/>
          <a:stretch/>
        </p:blipFill>
        <p:spPr>
          <a:xfrm>
            <a:off x="890640" y="268200"/>
            <a:ext cx="4376520" cy="390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А это ты знаешь?</a:t>
            </a: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50920" y="5157360"/>
            <a:ext cx="864216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	</a:t>
            </a: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Ежата (их бывает до 8) родятся голыми и слепыми, с мягкими иголками. </a:t>
            </a:r>
            <a:endParaRPr b="1" lang="en-US" sz="2800" spc="-1" strike="noStrike">
              <a:solidFill>
                <a:srgbClr val="000066"/>
              </a:solidFill>
              <a:latin typeface="Calibri"/>
            </a:endParaRPr>
          </a:p>
        </p:txBody>
      </p:sp>
      <p:pic>
        <p:nvPicPr>
          <p:cNvPr id="47" name="Picture 15" descr="ёж2"/>
          <p:cNvPicPr/>
          <p:nvPr/>
        </p:nvPicPr>
        <p:blipFill>
          <a:blip r:embed="rId1"/>
          <a:stretch/>
        </p:blipFill>
        <p:spPr>
          <a:xfrm>
            <a:off x="2411280" y="1341360"/>
            <a:ext cx="4176720" cy="372276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pic>
        <p:nvPicPr>
          <p:cNvPr id="48" name="Picture 17" descr="умный ёж"/>
          <p:cNvPicPr/>
          <p:nvPr/>
        </p:nvPicPr>
        <p:blipFill>
          <a:blip r:embed="rId2"/>
          <a:stretch/>
        </p:blipFill>
        <p:spPr>
          <a:xfrm>
            <a:off x="7236000" y="189000"/>
            <a:ext cx="1685880" cy="1685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Берём чёрный лист цветной бумаги и складываем на четыре части. Разрезаем по согнутым линиям на четыре прямоугольника</a:t>
            </a:r>
            <a:r>
              <a:rPr b="1" lang="ru-RU" sz="1400" spc="-1" strike="noStrike">
                <a:solidFill>
                  <a:srgbClr val="002060"/>
                </a:solidFill>
                <a:latin typeface="Calibri"/>
              </a:rPr>
              <a:t>.</a:t>
            </a:r>
            <a:br>
              <a:rPr sz="1400"/>
            </a:br>
            <a:endParaRPr b="1" lang="en-US" sz="1400" spc="-1" strike="noStrike">
              <a:solidFill>
                <a:srgbClr val="002060"/>
              </a:solidFill>
              <a:latin typeface="Calibri"/>
            </a:endParaRPr>
          </a:p>
        </p:txBody>
      </p:sp>
      <p:pic>
        <p:nvPicPr>
          <p:cNvPr id="50" name="Содержимое 3" descr="http://ped-kopilka.ru/upload/blogs/19127_6b375457c45048072cfbd8c21e826883.jpg.jpg"/>
          <p:cNvPicPr/>
          <p:nvPr/>
        </p:nvPicPr>
        <p:blipFill>
          <a:blip r:embed="rId1"/>
          <a:stretch/>
        </p:blipFill>
        <p:spPr>
          <a:xfrm>
            <a:off x="428760" y="1714680"/>
            <a:ext cx="4195800" cy="333828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4" descr="http://ped-kopilka.ru/upload/blogs/19127_9df4b3b97aa5a88c4156f90c1ab7fbd3.jpg.jpg"/>
          <p:cNvPicPr/>
          <p:nvPr/>
        </p:nvPicPr>
        <p:blipFill>
          <a:blip r:embed="rId2"/>
          <a:stretch/>
        </p:blipFill>
        <p:spPr>
          <a:xfrm>
            <a:off x="4786200" y="1714680"/>
            <a:ext cx="414360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Каждый прямоугольник складываем в несколько раз на 8 полос, и разрезать по согнутым линиям. Из 4 чёрных прямоугольников получится 32 полоски.</a:t>
            </a:r>
            <a:br>
              <a:rPr sz="1600"/>
            </a:br>
            <a:endParaRPr b="1" lang="en-US" sz="1600" spc="-1" strike="noStrike">
              <a:solidFill>
                <a:srgbClr val="002060"/>
              </a:solidFill>
              <a:latin typeface="Calibri"/>
            </a:endParaRPr>
          </a:p>
        </p:txBody>
      </p:sp>
      <p:pic>
        <p:nvPicPr>
          <p:cNvPr id="53" name="Содержимое 3" descr="http://ped-kopilka.ru/upload/blogs/19127_5a2b052c6f521f3fbaf6b41449e9c8cf.jpg.jpg"/>
          <p:cNvPicPr/>
          <p:nvPr/>
        </p:nvPicPr>
        <p:blipFill>
          <a:blip r:embed="rId1"/>
          <a:stretch/>
        </p:blipFill>
        <p:spPr>
          <a:xfrm>
            <a:off x="1143000" y="1143000"/>
            <a:ext cx="3246480" cy="284004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4" descr="http://ped-kopilka.ru/upload/blogs/19127_615e98b5b5517155eacc74ae2201e956.jpg.jpg"/>
          <p:cNvPicPr/>
          <p:nvPr/>
        </p:nvPicPr>
        <p:blipFill>
          <a:blip r:embed="rId2"/>
          <a:stretch/>
        </p:blipFill>
        <p:spPr>
          <a:xfrm>
            <a:off x="5500800" y="1143000"/>
            <a:ext cx="2995560" cy="284328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5" descr="http://ped-kopilka.ru/upload/blogs/19127_6bc6db2de7457396010f7dc05dd6b420.jpg.jpg"/>
          <p:cNvPicPr/>
          <p:nvPr/>
        </p:nvPicPr>
        <p:blipFill>
          <a:blip r:embed="rId3"/>
          <a:stretch/>
        </p:blipFill>
        <p:spPr>
          <a:xfrm>
            <a:off x="500040" y="4286160"/>
            <a:ext cx="3419640" cy="210528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6" descr="http://ped-kopilka.ru/upload/blogs/19127_65a6a3f7b32387933318c52e9c38a651.jpg.jpg"/>
          <p:cNvPicPr/>
          <p:nvPr/>
        </p:nvPicPr>
        <p:blipFill>
          <a:blip r:embed="rId4"/>
          <a:stretch/>
        </p:blipFill>
        <p:spPr>
          <a:xfrm>
            <a:off x="5000760" y="4152960"/>
            <a:ext cx="2904840" cy="27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Обводим ежа по шаблону на листе бумаги телесного или розового цвета и вырезаем. Можно обвести контур сразу на цветной картон, а вырезать только мордочку ежа. Приклеиваем вырезанного ежа на цветной картон.</a:t>
            </a:r>
            <a:br>
              <a:rPr sz="1600"/>
            </a:br>
            <a:endParaRPr b="1" lang="en-US" sz="1600" spc="-1" strike="noStrike">
              <a:solidFill>
                <a:srgbClr val="002060"/>
              </a:solidFill>
              <a:latin typeface="Calibri"/>
            </a:endParaRPr>
          </a:p>
        </p:txBody>
      </p:sp>
      <p:pic>
        <p:nvPicPr>
          <p:cNvPr id="58" name="Содержимое 3" descr="http://ped-kopilka.ru/upload/blogs/19127_934ff7860767aa6728f06a452d9e0833.jpg.jpg"/>
          <p:cNvPicPr/>
          <p:nvPr/>
        </p:nvPicPr>
        <p:blipFill>
          <a:blip r:embed="rId1"/>
          <a:stretch/>
        </p:blipFill>
        <p:spPr>
          <a:xfrm>
            <a:off x="285840" y="1143000"/>
            <a:ext cx="4429080" cy="243360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4" descr="http://ped-kopilka.ru/upload/blogs/19127_cc404e35179c1a5054ea82d08c05fa28.jpg.jpg"/>
          <p:cNvPicPr/>
          <p:nvPr/>
        </p:nvPicPr>
        <p:blipFill>
          <a:blip r:embed="rId2"/>
          <a:srcRect l="0" t="0" r="-3114" b="0"/>
          <a:stretch/>
        </p:blipFill>
        <p:spPr>
          <a:xfrm>
            <a:off x="3786120" y="3429000"/>
            <a:ext cx="535788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Склеиваем из полос «капельки» и приклеиваем их по контуру ежа, начиная с верхнего ряда. Следующие ряды надо приклеивать на 1, 5 – 2 см ниже предыдущего. У каждого может получиться разное количество рядов.</a:t>
            </a:r>
            <a:br>
              <a:rPr sz="1600"/>
            </a:br>
            <a:endParaRPr b="1" lang="en-US" sz="1600" spc="-1" strike="noStrike">
              <a:solidFill>
                <a:srgbClr val="002060"/>
              </a:solidFill>
              <a:latin typeface="Calibri"/>
            </a:endParaRPr>
          </a:p>
        </p:txBody>
      </p:sp>
      <p:pic>
        <p:nvPicPr>
          <p:cNvPr id="61" name="Содержимое 3" descr="http://ped-kopilka.ru/upload/blogs/19127_e8810d0208a008c9b7fdba5210b6b0e0.jpg.jpg"/>
          <p:cNvPicPr/>
          <p:nvPr/>
        </p:nvPicPr>
        <p:blipFill>
          <a:blip r:embed="rId1"/>
          <a:stretch/>
        </p:blipFill>
        <p:spPr>
          <a:xfrm>
            <a:off x="428760" y="1357200"/>
            <a:ext cx="3614760" cy="2624400"/>
          </a:xfrm>
          <a:prstGeom prst="rect">
            <a:avLst/>
          </a:prstGeom>
          <a:ln w="0">
            <a:noFill/>
          </a:ln>
        </p:spPr>
      </p:pic>
      <p:pic>
        <p:nvPicPr>
          <p:cNvPr id="62" name="Рисунок 4" descr="http://ped-kopilka.ru/upload/blogs/19127_1b99522070fb7be415fe56f6c5619424.jpg.jpg"/>
          <p:cNvPicPr/>
          <p:nvPr/>
        </p:nvPicPr>
        <p:blipFill>
          <a:blip r:embed="rId2"/>
          <a:stretch/>
        </p:blipFill>
        <p:spPr>
          <a:xfrm>
            <a:off x="5143680" y="1357200"/>
            <a:ext cx="3328920" cy="2643480"/>
          </a:xfrm>
          <a:prstGeom prst="rect">
            <a:avLst/>
          </a:prstGeom>
          <a:ln w="0">
            <a:noFill/>
          </a:ln>
        </p:spPr>
      </p:pic>
      <p:pic>
        <p:nvPicPr>
          <p:cNvPr id="63" name="Рисунок 5" descr="http://ped-kopilka.ru/upload/blogs/19127_4fcf558d191c6282fa9f7810af363810.jpg.jpg"/>
          <p:cNvPicPr/>
          <p:nvPr/>
        </p:nvPicPr>
        <p:blipFill>
          <a:blip r:embed="rId3"/>
          <a:stretch/>
        </p:blipFill>
        <p:spPr>
          <a:xfrm>
            <a:off x="2714760" y="4043520"/>
            <a:ext cx="399564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Разрываем цветную бумагу на разноцветные кусочки, делаем дорожку из осенних листьев. Можно сделать дорожку из листьев, вырезанных с помощью фигурного дырокола.</a:t>
            </a:r>
            <a:br>
              <a:rPr sz="1600"/>
            </a:br>
            <a:endParaRPr b="1" lang="en-US" sz="1600" spc="-1" strike="noStrike">
              <a:solidFill>
                <a:srgbClr val="002060"/>
              </a:solidFill>
              <a:latin typeface="Calibri"/>
            </a:endParaRPr>
          </a:p>
        </p:txBody>
      </p:sp>
      <p:pic>
        <p:nvPicPr>
          <p:cNvPr id="65" name="Содержимое 3" descr="http://ped-kopilka.ru/upload/blogs/19127_32d0f6eef1cb1c593e9b85fbde59bbd0.jpg.jpg"/>
          <p:cNvPicPr/>
          <p:nvPr/>
        </p:nvPicPr>
        <p:blipFill>
          <a:blip r:embed="rId1"/>
          <a:stretch/>
        </p:blipFill>
        <p:spPr>
          <a:xfrm>
            <a:off x="1595520" y="1820880"/>
            <a:ext cx="5952960" cy="408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Вырезаем разные фрукты, грибы и приклеиваем их на спинку ёжика. Приклеиваем глаза, носик, рисуем ротик.</a:t>
            </a:r>
            <a:br>
              <a:rPr sz="1600"/>
            </a:br>
            <a:endParaRPr b="1" lang="en-US" sz="1600" spc="-1" strike="noStrike">
              <a:solidFill>
                <a:srgbClr val="002060"/>
              </a:solidFill>
              <a:latin typeface="Calibri"/>
            </a:endParaRPr>
          </a:p>
        </p:txBody>
      </p:sp>
      <p:pic>
        <p:nvPicPr>
          <p:cNvPr id="67" name="Содержимое 3" descr="http://ped-kopilka.ru/upload/blogs/19127_b30ab262816c72181a8b0b9051b00443.jpg.jpg"/>
          <p:cNvPicPr/>
          <p:nvPr/>
        </p:nvPicPr>
        <p:blipFill>
          <a:blip r:embed="rId1"/>
          <a:stretch/>
        </p:blipFill>
        <p:spPr>
          <a:xfrm>
            <a:off x="285840" y="1143000"/>
            <a:ext cx="3538440" cy="2381400"/>
          </a:xfrm>
          <a:prstGeom prst="rect">
            <a:avLst/>
          </a:prstGeom>
          <a:ln w="0">
            <a:noFill/>
          </a:ln>
        </p:spPr>
      </p:pic>
      <p:pic>
        <p:nvPicPr>
          <p:cNvPr id="68" name="Рисунок 4" descr="http://ped-kopilka.ru/upload/blogs/19127_397c535f7eea60cf62403596a0a88eef.jpg.jpg"/>
          <p:cNvPicPr/>
          <p:nvPr/>
        </p:nvPicPr>
        <p:blipFill>
          <a:blip r:embed="rId2"/>
          <a:stretch/>
        </p:blipFill>
        <p:spPr>
          <a:xfrm>
            <a:off x="4500720" y="1071720"/>
            <a:ext cx="3857400" cy="2214360"/>
          </a:xfrm>
          <a:prstGeom prst="rect">
            <a:avLst/>
          </a:prstGeom>
          <a:ln w="0">
            <a:noFill/>
          </a:ln>
        </p:spPr>
      </p:pic>
      <p:pic>
        <p:nvPicPr>
          <p:cNvPr id="69" name="Рисунок 5" descr="http://ped-kopilka.ru/upload/blogs/19127_c812dac4db3a324f764cb2a2f76c4ac0.png.jpg"/>
          <p:cNvPicPr/>
          <p:nvPr/>
        </p:nvPicPr>
        <p:blipFill>
          <a:blip r:embed="rId3"/>
          <a:stretch/>
        </p:blipFill>
        <p:spPr>
          <a:xfrm>
            <a:off x="3714840" y="3786120"/>
            <a:ext cx="4338720" cy="28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6T05:25:12Z</dcterms:created>
  <dc:creator>comp</dc:creator>
  <dc:description/>
  <dc:language>en-US</dc:language>
  <cp:lastModifiedBy>User</cp:lastModifiedBy>
  <dcterms:modified xsi:type="dcterms:W3CDTF">2017-10-19T06:27:44Z</dcterms:modified>
  <cp:revision>14</cp:revision>
  <dc:subject/>
  <dc:title>Ёж</dc:title>
</cp:coreProperties>
</file>