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9FB-6DC2-43E1-B66A-D4136DD9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88A-8BBD-4FE3-A0D2-9337F3C3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19D-E097-4871-A212-CE969BF9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F98-BC5B-4BE7-BE4E-375B32A3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CF9-8503-427B-A53F-588F519A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9D8-5C3E-43CD-B02F-1A1884C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E0A-39DE-4AE6-BE7E-95E41E0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3D4-858B-4E68-A704-B35F1206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F10-A640-438D-992D-EB6CCD30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30B-6F65-4E08-8536-FACC00DB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B1C-09A4-4434-963C-11C912A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0B8-A468-476D-A2F0-90F6AAF5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D1B9-74E3-41EE-9997-A59BC94B9BF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27040" y="690480"/>
            <a:ext cx="788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2854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5460"/>
                </a:solidFill>
                <a:latin typeface="Bookman Old Style"/>
              </a:rPr>
              <a:t>Ежи впадаю на зиму в спячку. Чтобы пережить спячку ежу необходимо весить как минимум 500 грам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http://expert.ru/data/public/133521/133526/552161-rep_120_051_1.jpg"/>
          <p:cNvPicPr/>
          <p:nvPr/>
        </p:nvPicPr>
        <p:blipFill>
          <a:blip r:embed="rId1"/>
          <a:stretch/>
        </p:blipFill>
        <p:spPr>
          <a:xfrm>
            <a:off x="3870360" y="2693880"/>
            <a:ext cx="40114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3079800" y="4334040"/>
            <a:ext cx="576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Ежата рождаются с мягкими иголочками, спрятанными под кожу. Первые иголочки начинают появляться через час после рож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http://img14.deviantart.net/e86f/i/2009/362/5/1/sleepy_baby_by_piebald111.jpg"/>
          <p:cNvPicPr/>
          <p:nvPr/>
        </p:nvPicPr>
        <p:blipFill>
          <a:blip r:embed="rId1"/>
          <a:stretch/>
        </p:blipFill>
        <p:spPr>
          <a:xfrm>
            <a:off x="890640" y="268200"/>
            <a:ext cx="437652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 это ты знаешь?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515736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жата (их бывает до 8) родятся голыми и слепыми, с мягкими иголками.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47" name="Picture 15" descr="ёж2"/>
          <p:cNvPicPr/>
          <p:nvPr/>
        </p:nvPicPr>
        <p:blipFill>
          <a:blip r:embed="rId1"/>
          <a:stretch/>
        </p:blipFill>
        <p:spPr>
          <a:xfrm>
            <a:off x="2411280" y="1341360"/>
            <a:ext cx="4176720" cy="372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8" name="Picture 17" descr="умный ёж"/>
          <p:cNvPicPr/>
          <p:nvPr/>
        </p:nvPicPr>
        <p:blipFill>
          <a:blip r:embed="rId2"/>
          <a:stretch/>
        </p:blipFill>
        <p:spPr>
          <a:xfrm>
            <a:off x="7236000" y="189000"/>
            <a:ext cx="168588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ерём чёрный лист цветной бумаги и складываем на четыре части. Разрезаем по согнутым линиям на четыре прямоугольника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1400"/>
            </a:br>
            <a:endParaRPr b="1" lang="en-US" sz="1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0" name="Содержимое 3" descr="http://ped-kopilka.ru/upload/blogs/19127_6b375457c45048072cfbd8c21e826883.jpg.jpg"/>
          <p:cNvPicPr/>
          <p:nvPr/>
        </p:nvPicPr>
        <p:blipFill>
          <a:blip r:embed="rId1"/>
          <a:stretch/>
        </p:blipFill>
        <p:spPr>
          <a:xfrm>
            <a:off x="428760" y="1714680"/>
            <a:ext cx="4195800" cy="3338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ped-kopilka.ru/upload/blogs/19127_9df4b3b97aa5a88c4156f90c1ab7fbd3.jpg.jpg"/>
          <p:cNvPicPr/>
          <p:nvPr/>
        </p:nvPicPr>
        <p:blipFill>
          <a:blip r:embed="rId2"/>
          <a:stretch/>
        </p:blipFill>
        <p:spPr>
          <a:xfrm>
            <a:off x="4786200" y="1714680"/>
            <a:ext cx="4143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аждый прямоугольник складываем в несколько раз на 8 полос, и разрезать по согнутым линиям. Из 4 чёрных прямоугольников получится 32 полоски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3" name="Содержимое 3" descr="http://ped-kopilka.ru/upload/blogs/19127_5a2b052c6f521f3fbaf6b41449e9c8cf.jpg.jpg"/>
          <p:cNvPicPr/>
          <p:nvPr/>
        </p:nvPicPr>
        <p:blipFill>
          <a:blip r:embed="rId1"/>
          <a:stretch/>
        </p:blipFill>
        <p:spPr>
          <a:xfrm>
            <a:off x="1143000" y="1143000"/>
            <a:ext cx="3246480" cy="2840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http://ped-kopilka.ru/upload/blogs/19127_615e98b5b5517155eacc74ae2201e956.jpg.jpg"/>
          <p:cNvPicPr/>
          <p:nvPr/>
        </p:nvPicPr>
        <p:blipFill>
          <a:blip r:embed="rId2"/>
          <a:stretch/>
        </p:blipFill>
        <p:spPr>
          <a:xfrm>
            <a:off x="5500800" y="1143000"/>
            <a:ext cx="2995560" cy="2843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ped-kopilka.ru/upload/blogs/19127_6bc6db2de7457396010f7dc05dd6b420.jpg.jpg"/>
          <p:cNvPicPr/>
          <p:nvPr/>
        </p:nvPicPr>
        <p:blipFill>
          <a:blip r:embed="rId3"/>
          <a:stretch/>
        </p:blipFill>
        <p:spPr>
          <a:xfrm>
            <a:off x="500040" y="4286160"/>
            <a:ext cx="3419640" cy="2105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http://ped-kopilka.ru/upload/blogs/19127_65a6a3f7b32387933318c52e9c38a651.jpg.jpg"/>
          <p:cNvPicPr/>
          <p:nvPr/>
        </p:nvPicPr>
        <p:blipFill>
          <a:blip r:embed="rId4"/>
          <a:stretch/>
        </p:blipFill>
        <p:spPr>
          <a:xfrm>
            <a:off x="5000760" y="4152960"/>
            <a:ext cx="29048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водим ежа по шаблону на листе бумаги телесного или розового цвета и вырезаем. Можно обвести контур сразу на цветной картон, а вырезать только мордочку ежа. Приклеиваем вырезанного ежа на цветной картон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8" name="Содержимое 3" descr="http://ped-kopilka.ru/upload/blogs/19127_934ff7860767aa6728f06a452d9e0833.jpg.jpg"/>
          <p:cNvPicPr/>
          <p:nvPr/>
        </p:nvPicPr>
        <p:blipFill>
          <a:blip r:embed="rId1"/>
          <a:stretch/>
        </p:blipFill>
        <p:spPr>
          <a:xfrm>
            <a:off x="285840" y="1143000"/>
            <a:ext cx="4429080" cy="2433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http://ped-kopilka.ru/upload/blogs/19127_cc404e35179c1a5054ea82d08c05fa28.jpg.jpg"/>
          <p:cNvPicPr/>
          <p:nvPr/>
        </p:nvPicPr>
        <p:blipFill>
          <a:blip r:embed="rId2"/>
          <a:srcRect l="0" t="0" r="-3114" b="0"/>
          <a:stretch/>
        </p:blipFill>
        <p:spPr>
          <a:xfrm>
            <a:off x="3786120" y="3429000"/>
            <a:ext cx="5357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клеиваем из полос «капельки» и приклеиваем их по контуру ежа, начиная с верхнего ряда. Следующие ряды надо приклеивать на 1, 5 – 2 см ниже предыдущего. У каждого может получиться разное количество рядов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1" name="Содержимое 3" descr="http://ped-kopilka.ru/upload/blogs/19127_e8810d0208a008c9b7fdba5210b6b0e0.jpg.jpg"/>
          <p:cNvPicPr/>
          <p:nvPr/>
        </p:nvPicPr>
        <p:blipFill>
          <a:blip r:embed="rId1"/>
          <a:stretch/>
        </p:blipFill>
        <p:spPr>
          <a:xfrm>
            <a:off x="428760" y="1357200"/>
            <a:ext cx="3614760" cy="2624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://ped-kopilka.ru/upload/blogs/19127_1b99522070fb7be415fe56f6c5619424.jpg.jpg"/>
          <p:cNvPicPr/>
          <p:nvPr/>
        </p:nvPicPr>
        <p:blipFill>
          <a:blip r:embed="rId2"/>
          <a:stretch/>
        </p:blipFill>
        <p:spPr>
          <a:xfrm>
            <a:off x="5143680" y="1357200"/>
            <a:ext cx="3328920" cy="2643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http://ped-kopilka.ru/upload/blogs/19127_4fcf558d191c6282fa9f7810af363810.jpg.jpg"/>
          <p:cNvPicPr/>
          <p:nvPr/>
        </p:nvPicPr>
        <p:blipFill>
          <a:blip r:embed="rId3"/>
          <a:stretch/>
        </p:blipFill>
        <p:spPr>
          <a:xfrm>
            <a:off x="2714760" y="4043520"/>
            <a:ext cx="39956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азрываем цветную бумагу на разноцветные кусочки, делаем дорожку из осенних листьев. Можно сделать дорожку из листьев, вырезанных с помощью фигурного дырокола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5" name="Содержимое 3" descr="http://ped-kopilka.ru/upload/blogs/19127_32d0f6eef1cb1c593e9b85fbde59bbd0.jpg.jpg"/>
          <p:cNvPicPr/>
          <p:nvPr/>
        </p:nvPicPr>
        <p:blipFill>
          <a:blip r:embed="rId1"/>
          <a:stretch/>
        </p:blipFill>
        <p:spPr>
          <a:xfrm>
            <a:off x="1595520" y="1820880"/>
            <a:ext cx="59529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ырезаем разные фрукты, грибы и приклеиваем их на спинку ёжика. Приклеиваем глаза, носик, рисуем ротик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7" name="Содержимое 3" descr="http://ped-kopilka.ru/upload/blogs/19127_b30ab262816c72181a8b0b9051b00443.jpg.jpg"/>
          <p:cNvPicPr/>
          <p:nvPr/>
        </p:nvPicPr>
        <p:blipFill>
          <a:blip r:embed="rId1"/>
          <a:stretch/>
        </p:blipFill>
        <p:spPr>
          <a:xfrm>
            <a:off x="285840" y="1143000"/>
            <a:ext cx="3538440" cy="2381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://ped-kopilka.ru/upload/blogs/19127_397c535f7eea60cf62403596a0a88eef.jpg.jpg"/>
          <p:cNvPicPr/>
          <p:nvPr/>
        </p:nvPicPr>
        <p:blipFill>
          <a:blip r:embed="rId2"/>
          <a:stretch/>
        </p:blipFill>
        <p:spPr>
          <a:xfrm>
            <a:off x="4500720" y="1071720"/>
            <a:ext cx="3857400" cy="2214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http://ped-kopilka.ru/upload/blogs/19127_c812dac4db3a324f764cb2a2f76c4ac0.png.jpg"/>
          <p:cNvPicPr/>
          <p:nvPr/>
        </p:nvPicPr>
        <p:blipFill>
          <a:blip r:embed="rId3"/>
          <a:stretch/>
        </p:blipFill>
        <p:spPr>
          <a:xfrm>
            <a:off x="3714840" y="3786120"/>
            <a:ext cx="4338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5:25:12Z</dcterms:created>
  <dc:creator>comp</dc:creator>
  <dc:description/>
  <dc:language>en-US</dc:language>
  <cp:lastModifiedBy>User</cp:lastModifiedBy>
  <dcterms:modified xsi:type="dcterms:W3CDTF">2017-10-19T06:27:44Z</dcterms:modified>
  <cp:revision>14</cp:revision>
  <dc:subject/>
  <dc:title>Ёж</dc:title>
</cp:coreProperties>
</file>