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3B22-E7B2-4F0F-A655-5F68A2E2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8DF5-3C24-4DBE-8C9D-474DD436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910-F38E-4D4D-8087-7512A7718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DE11-806A-43CD-A482-4A9806D2C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DFB5-0460-4B7F-9D3A-3D4F3415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9B9-2366-403B-ABF5-C287008C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0CA-6510-420B-B7CE-2B37A029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D75A-BECD-43A8-B5EF-0C2B525E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D0E-F472-4BC2-A4BC-27BEE781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16F-C73C-4ED9-9818-CC46C28C4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54C6-4AA1-4C6E-B303-0DDD1100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5898-E1C7-401D-AE06-F360D01D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01EE-99C6-4C6F-A70D-CAB8C338A50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Фролова Ольга Ивановна  д/с № 16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0AE7-9BCD-4C9A-996C-50BD17BC4D0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http://img-9.photosight.ru/a26/3382076_large.jpg"/>
          <p:cNvPicPr/>
          <p:nvPr/>
        </p:nvPicPr>
        <p:blipFill>
          <a:blip r:embed="rId1"/>
          <a:srcRect l="1476" t="3217" r="1476" b="3217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27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84807"/>
                </a:solidFill>
                <a:latin typeface="Georgia"/>
              </a:rPr>
              <a:t>Откуда  к  нам  </a:t>
            </a:r>
            <a:br>
              <a:rPr sz="6600"/>
            </a:br>
            <a:r>
              <a:rPr b="1" lang="ru-RU" sz="6600" spc="-1" strike="noStrike">
                <a:solidFill>
                  <a:srgbClr val="984807"/>
                </a:solidFill>
                <a:latin typeface="Georgia"/>
              </a:rPr>
              <a:t>  хлеб  пришёл </a:t>
            </a:r>
            <a:r>
              <a:rPr b="1" lang="en-US" sz="6600" spc="-1" strike="noStrike">
                <a:solidFill>
                  <a:srgbClr val="984807"/>
                </a:solidFill>
                <a:latin typeface="Georgia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0EC4-6DDC-49CD-84AC-0E359566F9D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одержимое 2"/>
          <p:cNvSpPr/>
          <p:nvPr/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в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8" descr="45.jpg"/>
          <p:cNvPicPr/>
          <p:nvPr/>
        </p:nvPicPr>
        <p:blipFill>
          <a:blip r:embed="rId2"/>
          <a:stretch/>
        </p:blipFill>
        <p:spPr>
          <a:xfrm>
            <a:off x="457200" y="2717640"/>
            <a:ext cx="4040280" cy="2865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му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Содержимое 9" descr="49.gif"/>
          <p:cNvPicPr/>
          <p:nvPr/>
        </p:nvPicPr>
        <p:blipFill>
          <a:blip r:embed="rId3"/>
          <a:stretch/>
        </p:blipFill>
        <p:spPr>
          <a:xfrm>
            <a:off x="5246640" y="2174760"/>
            <a:ext cx="2838600" cy="3951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5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3E65-6AF7-4F28-B18A-8CA8AE148A0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Еще нужно взя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яйц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6" descr="48.png"/>
          <p:cNvPicPr/>
          <p:nvPr/>
        </p:nvPicPr>
        <p:blipFill>
          <a:blip r:embed="rId2"/>
          <a:stretch/>
        </p:blipFill>
        <p:spPr>
          <a:xfrm>
            <a:off x="457200" y="2527200"/>
            <a:ext cx="4040280" cy="3246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дрожж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7" descr="54.jpg"/>
          <p:cNvPicPr/>
          <p:nvPr/>
        </p:nvPicPr>
        <p:blipFill>
          <a:blip r:embed="rId3"/>
          <a:stretch/>
        </p:blipFill>
        <p:spPr>
          <a:xfrm>
            <a:off x="5076720" y="2565360"/>
            <a:ext cx="3171960" cy="31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E0BE-5F47-45FD-A6C2-05A40D54206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Обязательно  берё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аха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8" descr="52.jpg"/>
          <p:cNvPicPr/>
          <p:nvPr/>
        </p:nvPicPr>
        <p:blipFill>
          <a:blip r:embed="rId2"/>
          <a:stretch/>
        </p:blipFill>
        <p:spPr>
          <a:xfrm>
            <a:off x="1500120" y="2428920"/>
            <a:ext cx="254628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со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Содержимое 9" descr="62.jpg"/>
          <p:cNvPicPr/>
          <p:nvPr/>
        </p:nvPicPr>
        <p:blipFill>
          <a:blip r:embed="rId3"/>
          <a:srcRect l="13020" t="0" r="0" b="0"/>
          <a:stretch/>
        </p:blipFill>
        <p:spPr>
          <a:xfrm>
            <a:off x="5286240" y="2500200"/>
            <a:ext cx="2455920" cy="3764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6126-E8A0-496A-93D0-7626982CF49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Тесто  гото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8" descr="56.jpg"/>
          <p:cNvPicPr/>
          <p:nvPr/>
        </p:nvPicPr>
        <p:blipFill>
          <a:blip r:embed="rId2"/>
          <a:stretch/>
        </p:blipFill>
        <p:spPr>
          <a:xfrm>
            <a:off x="2336760" y="1600200"/>
            <a:ext cx="447048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138E-7F38-4BEE-B09C-0877A62043A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Тесто вымешивают, разделываю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6" descr="58.jpg"/>
          <p:cNvPicPr/>
          <p:nvPr/>
        </p:nvPicPr>
        <p:blipFill>
          <a:blip r:embed="rId2"/>
          <a:stretch/>
        </p:blipFill>
        <p:spPr>
          <a:xfrm>
            <a:off x="682560" y="2421000"/>
            <a:ext cx="288144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7" name="Содержимое 7" descr="64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5CD6-EFA9-43BE-84A2-B8CE6E543C5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Выпекают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Содержимое 8" descr="10.jpg"/>
          <p:cNvPicPr/>
          <p:nvPr/>
        </p:nvPicPr>
        <p:blipFill>
          <a:blip r:embed="rId2"/>
          <a:stretch/>
        </p:blipFill>
        <p:spPr>
          <a:xfrm>
            <a:off x="1714680" y="1643040"/>
            <a:ext cx="5724360" cy="46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2" name="Номер слайда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D6E4-C3CD-4A22-B253-FE4A6B5EFA1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Georgia"/>
              </a:rPr>
              <a:t>Хлеб го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6" descr="66.jpg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6" name="Содержимое 7" descr="67.jpg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2B927-95BF-444F-A5A8-002D3981745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os49005"/>
          <p:cNvPicPr/>
          <p:nvPr/>
        </p:nvPicPr>
        <p:blipFill>
          <a:blip r:embed="rId2"/>
          <a:stretch/>
        </p:blipFill>
        <p:spPr>
          <a:xfrm>
            <a:off x="3429000" y="4968720"/>
            <a:ext cx="2805120" cy="18892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79280" y="214200"/>
            <a:ext cx="8785440" cy="53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от он Хлебушек душистый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от он теплый, золотистый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каждый дом, на каждый стол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он пожаловал, пришел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нем здоровье наша, сила, в нем чудесное тепло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Сколько рук его растило, охраняло, берегло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В нем - земли родимой соки,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Солнца свет веселый в нем... </a:t>
            </a:r>
            <a:br>
              <a:rPr sz="2800"/>
            </a:br>
            <a:r>
              <a:rPr b="1" lang="ru-RU" sz="2800" spc="-1" strike="noStrike">
                <a:solidFill>
                  <a:srgbClr val="984807"/>
                </a:solidFill>
                <a:latin typeface="Georgia"/>
              </a:rPr>
              <a:t>Уплетай за обе щеки, вырастай богатырем!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5A0B-2778-4FC8-9BCC-5FA340EDA04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2226-C1E1-4EBE-8996-C8A6B20673D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0" y="107172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84807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984807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30088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Сначала зёрнышко хлеба сажают в землю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6" descr="39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3018-6C84-4410-A01B-9A660A865B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362800" cy="18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Сажают специальными машинами - сеялкам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59.jpg"/>
          <p:cNvPicPr/>
          <p:nvPr/>
        </p:nvPicPr>
        <p:blipFill>
          <a:blip r:embed="rId2"/>
          <a:stretch/>
        </p:blipFill>
        <p:spPr>
          <a:xfrm>
            <a:off x="1752480" y="1747800"/>
            <a:ext cx="5962680" cy="422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F9FC-9110-4BCF-90C5-4AD109518D3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Потом вырастают вот такие колос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3.jpg"/>
          <p:cNvPicPr/>
          <p:nvPr/>
        </p:nvPicPr>
        <p:blipFill>
          <a:blip r:embed="rId2"/>
          <a:stretch/>
        </p:blipFill>
        <p:spPr>
          <a:xfrm>
            <a:off x="1320840" y="1684440"/>
            <a:ext cx="6502320" cy="435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3988-5B37-4441-92B6-318A46767FB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Колоски собирают машины - комбайны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Содержимое 3" descr="16.jpg"/>
          <p:cNvPicPr/>
          <p:nvPr/>
        </p:nvPicPr>
        <p:blipFill>
          <a:blip r:embed="rId2"/>
          <a:stretch/>
        </p:blipFill>
        <p:spPr>
          <a:xfrm>
            <a:off x="1523880" y="1862280"/>
            <a:ext cx="6096240" cy="4000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6BB9-6C08-4981-882C-32C4F61F075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Отвозят зерно на мельниц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AC99-19FE-4FDC-8340-660B18D4FEC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post-6-1221841772"/>
          <p:cNvPicPr/>
          <p:nvPr/>
        </p:nvPicPr>
        <p:blipFill>
          <a:blip r:embed="rId2"/>
          <a:srcRect l="-1584" t="15093" r="0" b="22058"/>
          <a:stretch/>
        </p:blipFill>
        <p:spPr>
          <a:xfrm>
            <a:off x="3613320" y="2786040"/>
            <a:ext cx="5316480" cy="3852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brno_muzeum_1375"/>
          <p:cNvPicPr/>
          <p:nvPr/>
        </p:nvPicPr>
        <p:blipFill>
          <a:blip r:embed="rId3"/>
          <a:stretch/>
        </p:blipFill>
        <p:spPr>
          <a:xfrm>
            <a:off x="214200" y="1357200"/>
            <a:ext cx="3357720" cy="34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Там зёрна перемелют в муку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3" descr="40.jpg"/>
          <p:cNvPicPr/>
          <p:nvPr/>
        </p:nvPicPr>
        <p:blipFill>
          <a:blip r:embed="rId2"/>
          <a:stretch/>
        </p:blipFill>
        <p:spPr>
          <a:xfrm>
            <a:off x="571680" y="1571760"/>
            <a:ext cx="7929360" cy="4643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141-C5B2-4B44-B7C0-2A520BD0F6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456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Из  муки на хлебозаводе  пекут хлеб, булки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5" descr="9.jpg"/>
          <p:cNvPicPr/>
          <p:nvPr/>
        </p:nvPicPr>
        <p:blipFill>
          <a:blip r:embed="rId2"/>
          <a:stretch/>
        </p:blipFill>
        <p:spPr>
          <a:xfrm>
            <a:off x="1643040" y="2143080"/>
            <a:ext cx="6215040" cy="4500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0684A-6B32-43A1-BE74-A69C9AFBD4F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https://sfw.so/uploads/posts/2010-08/1280951123_23.jpg"/>
          <p:cNvPicPr/>
          <p:nvPr/>
        </p:nvPicPr>
        <p:blipFill>
          <a:blip r:embed="rId1"/>
          <a:stretch/>
        </p:blipFill>
        <p:spPr>
          <a:xfrm>
            <a:off x="0" y="0"/>
            <a:ext cx="94219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Georgia"/>
              </a:rPr>
              <a:t>Можно выпекать хлеб дома в хлебопеч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одержимое 3" descr="13.jpg"/>
          <p:cNvPicPr/>
          <p:nvPr/>
        </p:nvPicPr>
        <p:blipFill>
          <a:blip r:embed="rId2"/>
          <a:stretch/>
        </p:blipFill>
        <p:spPr>
          <a:xfrm>
            <a:off x="1571760" y="1571760"/>
            <a:ext cx="6099120" cy="503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55EC-2908-41B6-B05A-877849D8217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05:13:17Z</dcterms:created>
  <dc:creator>Ольга</dc:creator>
  <dc:description/>
  <dc:language>en-US</dc:language>
  <cp:lastModifiedBy>Пользователь</cp:lastModifiedBy>
  <dcterms:modified xsi:type="dcterms:W3CDTF">2017-09-20T15:33:51Z</dcterms:modified>
  <cp:revision>27</cp:revision>
  <dc:subject/>
  <dc:title>Откуда к нам хлеб пришёл</dc:title>
</cp:coreProperties>
</file>