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5EE9-98A3-453D-BCB2-194024D90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C47E-E95F-426B-8F70-F7FCAE7A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0F9C-C791-4715-802C-CCDEB103C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BE7E-C0FE-4C95-9358-94065EF79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F3EE-C63F-40F7-999E-C0F2B365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D3E7-42B8-4685-8FD9-384384E7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EDB05-448F-47A8-B945-65475F58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7DCB-DCA6-4A09-BE12-A5B6BF4E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E74D-54A0-43DD-900C-70984B0A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004C-A521-4186-BE44-DF39050A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61CE-C3F0-4890-A172-99B742BB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A751-9FC9-4456-A4B4-451BD2A5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5CD6-373D-4E41-80C0-04453A90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2AF9-CF6F-47C3-BE98-1FFEE4D2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ED9B-0B24-411A-9D60-C839C5F0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48C5-CF9C-4FF2-98D0-625D2BF83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50E6-91BE-4E6C-B241-A093BEBB6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B0E3C-4014-4F82-9867-1DBCE4BA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32C19-5956-4301-AC97-8B01F580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DF758-5E2F-41DB-B8DB-B0E53E33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71870-98F4-4232-BBDB-05E790D1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D6D13-70C5-4310-96CD-9DAF5FD10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F883-B377-473F-94F3-614B9BE6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20492-1B96-42DC-9FFD-0CC8D26F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7A53F-AF7E-41C2-A44D-7726C920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589DE-68D4-450F-9721-11C99B9D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8E02F-B687-45FA-8E32-0E0FAE82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715B7-4FDF-4ACE-AA3B-505E8DDF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5FFB5-CA85-46E7-B338-D2CA89C4E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0FA2B-43A0-4E29-80EC-BA0F2E09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6A4E6-BA7C-4901-8336-440D4518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BA7BC-9913-4222-9FFF-58B79600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4539A-4F53-4AB0-9A99-14A3D32C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4E2D-2274-4576-AB94-6C91AD78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173BE-D329-49E1-82D5-1472E6F0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D08EE-D994-4018-B11B-046D5734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B275D-C612-48B3-9D2C-BEDA0A6F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AE32D-7E30-464A-AEF4-59328A70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75555-1FD5-4574-B247-21E979C2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DC01DE-1790-4CF0-8B66-1A8DBFD2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8DD23-6238-48DA-A6A6-89DEDAD2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BBE1B-7E8C-4116-9619-D68363CED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784C6-9C56-4B1A-8BC6-D8D5F478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9372-AD98-4324-BD5D-ACE348C7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601C-5E3F-40A5-946C-0FAF8059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2FC7-C77B-46AF-94ED-2C9869E6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3EB4-6BF1-4074-AE1E-395EB865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2EEE-38FB-423C-85AB-F9057EBF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160E-1C4D-453E-B3A1-BDE06044C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4757-C7FE-4C94-9E8A-FF852B6BA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8B31-3D9E-4743-AD56-62E09822C05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05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34A1-4C90-45D2-94EC-6A2D6B081BB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78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560" y="764640"/>
            <a:ext cx="7936200" cy="28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Системно - деятельностный подход в обучении математике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гда людей станут учить не тому, что они должны думать, а тому, как они должны думать, то тогда исчезнут всякие недоразум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755640" y="333360"/>
          <a:ext cx="7632720" cy="6245280"/>
        </p:xfrm>
        <a:graphic>
          <a:graphicData uri="http://schemas.openxmlformats.org/drawingml/2006/table">
            <a:tbl>
              <a:tblPr/>
              <a:tblGrid>
                <a:gridCol w="3816360"/>
                <a:gridCol w="381636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ействие учителя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ействие ученика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этап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актуализация знаний учащихся, предъявление проблемной ситуации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1 этап: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крепляет умение анализировать, обобщать, формулировать умозаключения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 этап: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рганизует взаимодействие учащихся, организует решение, сбор и обсуждение результатов в парах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 этап: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менение полученных ЗУН в измененных условиях (работа в паре), осуществление взаимоконтроля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 этап: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рганизует поиск рационального способа решения учебной задачи, организует самостоятельное выполнение учащимися заданий, организует самопроверку уч-ся своих решений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3 этап: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крепляет умение работать самостоятельно, контроль за правильностью выполнения своих действий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 этап: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онтроль и коррекция знаний, предоставление возможности выявления причин ошибок и их исправления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4 этап: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менение полученных ЗУН на практике, 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5 этап: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онтроль за результатом учебной деятельности, оценка знаний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5 этап: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амостоятельное подведение итогов урока, самоанализ и самооценка.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58880" y="27810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ариант контроля знаний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-490680" y="-171468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-262080" y="-1689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324000" y="515880"/>
          <a:ext cx="8135640" cy="6089760"/>
        </p:xfrm>
        <a:graphic>
          <a:graphicData uri="http://schemas.openxmlformats.org/drawingml/2006/table">
            <a:tbl>
              <a:tblPr/>
              <a:tblGrid>
                <a:gridCol w="216000"/>
                <a:gridCol w="1005480"/>
                <a:gridCol w="682920"/>
                <a:gridCol w="500040"/>
                <a:gridCol w="675360"/>
                <a:gridCol w="675360"/>
                <a:gridCol w="420840"/>
                <a:gridCol w="536040"/>
                <a:gridCol w="393840"/>
                <a:gridCol w="422280"/>
                <a:gridCol w="422280"/>
                <a:gridCol w="590040"/>
                <a:gridCol w="507960"/>
                <a:gridCol w="1087200"/>
              </a:tblGrid>
              <a:tr h="390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я и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вык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 учащегос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ожение многозн. натур. чисе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ие свойств сложени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читание многозн.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туральных чисе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ие свойств вычитани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квенные выражени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ные уравнени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я составл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ав-е по условию задач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выки устного счета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+»;  «-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/р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/р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читат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составл. (записать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упрощать, применяя св-ва «+»; «-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ать, упрощая левую часть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ать, используя зависим. при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+»; «-»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3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н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-5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№192, 228; 27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ид. м.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№29; 34; 35; 3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-5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№193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ид. м.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№37;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-5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№187-189, № 226; 33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ид. м.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№ 3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-5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№ 251; №253; 240; 281; 25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ид. м.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№ 38-40; № 44;48; 4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-5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№ 257; №283; 335-338;38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ид. м.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№ 46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-5: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5;</a:t>
                      </a:r>
                      <a:r>
                        <a:rPr b="0" lang="en-US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293; 29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-5: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1; №292; 298-301;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2; 323;348; 350; 352; 38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ид.м.: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№52-53; № 58-60; 63; № 64; 70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-5: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3; № 338; №35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ид. м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: № 68-71; 6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-5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  № 363; 367; 433; 450; 49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ид.м.: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№ 76; 79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-5: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8; № 369; 387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2; 32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ид.м.: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№ 75;     77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МТ: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Б; 1Д; 1Е № 2; № 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Дид.м.: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 109;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 111;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. 11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оретический материа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 2 п. 6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 2 п.6; 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 2 п. 7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 2 п. 7; 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 2 п. 8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 2 п. 8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 2 п. 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 2 п.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2 п.10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§ 2 п. 10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дания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76108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1116000" y="476280"/>
            <a:ext cx="72010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900000" y="1915920"/>
            <a:ext cx="78487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СДП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позволяет выделить основные результаты обучения и воспитания в контексте ключевых задач и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УУ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которыми должны владеть учащие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Основа образовательного и воспитательного процесс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развитие личности  через формирование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УУ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 Black"/>
              </a:rPr>
              <a:t>УУД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особность  субъекта к саморазвитию путем сознательного, активного присвоения нового социального опы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общенные   действия, порождающие широкую ориентацию учащихся в различных предметных област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опросы при создании проекта урок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 сформулировать цели урока и обеспечить их достиж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ой учебный материал отобрать и как подвергнуть его дидактической обработк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ие методы и средства обучения выбра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 организовать собственную деятельность и деятельность учени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ак сделать, чтобы взаимодействие всех этих компонентов привело к определенной системе знаний и ценностных ориентац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лавная задач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рганизация учебной деятельности таким образом, чтобы у учащихся сформировались потребности в осуществлении творческого преобразования учебного материала с целью овладения новыми знания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омпоненты овладения знаниями при СДП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3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сприятие информ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нализ полученной информ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поминание (создание образ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мооценка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Ученик  -  Учител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Позиция учител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 классу не с ответом, а с вопрос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Позиция ученик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 познание мира в специально организованных услови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755640" y="620280"/>
            <a:ext cx="80899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бная задача – задача, решая которую ребенок выполняет цели учител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бная деятельность – управляемый учебный процес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бное действие –  действие по созданию образ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з – слово, рисунок, схема, пла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ценочное действие – у меня получится! Я умею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«Все действия с натуральными числами .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5 класс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ипология урока: комплексное применение знаний и способов действ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Этапы урок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стная раб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бота в пар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амостоятельная раб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Фронтальная раб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ключительный этап (рефлексия, самооценк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08:58:18Z</dcterms:created>
  <dc:creator>Школа</dc:creator>
  <dc:description/>
  <dc:language>en-US</dc:language>
  <cp:lastModifiedBy>Школа</cp:lastModifiedBy>
  <dcterms:modified xsi:type="dcterms:W3CDTF">2011-02-04T06:31:47Z</dcterms:modified>
  <cp:revision>10</cp:revision>
  <dc:subject/>
  <dc:title>Системно - деятельностный подход в обучении математике.</dc:title>
</cp:coreProperties>
</file>