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5ECD-6F43-4E0C-8D55-89DA772D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5151-BEDC-4D0A-B238-C08AFF9F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4EFD-1AF3-4AAC-BDE4-210B062C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3718-83F8-4271-89DE-3D830F9D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C669-06D5-4B69-AC55-6FDA509D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BA8A-0EAD-4B6E-8405-AFD8566C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B0B5-D50F-4EC8-90FA-59D35551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04BB-F54C-4B67-ACD4-A9907BB4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0649-C088-48FE-BE79-49FDEE04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0504-A889-4073-8468-216E2129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2618-4317-4526-9B7A-5896E2AA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47C7-E8B5-4B81-A4F7-70F85200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34AD-16EB-46C2-8644-855F3C26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8C38-568C-4F7D-9358-E1F8B54C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F4C9-5926-4598-9C0A-B6E86291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BDDB-4BF8-4BDE-95E5-88CA8DA7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04B9-72B6-4378-9DA1-6FE5878C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D69AE-5EA9-4968-96C4-36FA7431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5D30D-163A-4AF1-BCAA-3EA6E314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81477-72CA-44B5-AB27-3E053D8C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DC79E-BE4D-4C90-BD25-417FEC24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8BB40-84F7-46A9-BD9B-4E259649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4FD9-7515-41A5-B493-684DBBD6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D9ED7-0FF7-4993-8D0F-62DB3254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1643B-78A7-4A6C-ACE9-4240D027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0F168-6E62-4911-8D7D-A4F62FE0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48602-0A7C-4AD6-A08A-2F5D4D86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31380-1F08-4301-AA08-EA0590D1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DF9A0-A2F8-41D7-921E-5ED3DA15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F3387-63AB-4D5C-ADC4-2DE27897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87447-19EB-4F59-B82E-04EE031E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47787-371D-41BA-9545-FAD94F40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2BC79-C4C5-45DC-94CC-8D75D186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7AC3-D1C6-4BB4-9D43-EB186D1B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AFF21-3386-44EA-B4F2-36D37EEE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4093E-576E-4584-85D2-9A8F0C16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3D2FA-3A4C-4C64-A525-9A9CED24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A145D-64C4-4631-9602-55368F47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CD82E-28DF-4832-9246-8087FEF4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C398D-BDB0-471E-8253-2EE78D32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9202C-D5FF-44E0-9ACF-3461D407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2913C-06C4-4A3C-BE04-09123148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950A2-0030-4829-87D3-ADBD6BA8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E8DD-0F3F-4BCF-A910-12BCBEE4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4768-EFE1-4DC3-BA0D-477A9CFD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E585-4B81-495C-8F4C-48E9C101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C84-F4EF-425E-AF5E-F7AF86F2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1AA8-25BA-4486-8E32-4EE4BB2E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6AE2-645A-4629-83DD-4924CA029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494D-C943-41D1-B39E-627D86935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DCD1-C37C-4661-AB3E-7597B79B74A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05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470E-3DC4-4587-822E-73D10E91FE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7936200" cy="28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истемно - деятельностный подход в обучении математике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гда людей станут учить не тому, что они должны думать, а тому, как они должны думать, то тогда исчезнут всякие недоразум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755640" y="333360"/>
          <a:ext cx="7632720" cy="624528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ействие учителя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ействие ученик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этап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ктуализация знаний учащихся, предъявление проблемной ситуации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этап: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крепляет умение анализировать, обобщать, формулировать умозаключения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 этап: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рганизует взаимодействие учащихся, организует решение, сбор и обсуждение результатов в парах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 этап: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менение полученных ЗУН в измененных условиях (работа в паре), осуществление взаимоконтроля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 этап: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рганизует поиск рационального способа решения учебной задачи, организует самостоятельное выполнение учащимися заданий, организует самопроверку уч-ся своих решений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 этап: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крепляет умение работать самостоятельно, контроль за правильностью выполнения своих действий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 этап: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онтроль и коррекция знаний, предоставление возможности выявления причин ошибок и их исправления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 этап: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менение полученных ЗУН на практике,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 этап: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онтроль за результатом учебной деятельности, оценка знаний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 этап: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амостоятельное подведение итогов урока, самоанализ и самооценка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58880" y="2781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ариант контроля знан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-490680" y="-171468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262080" y="-1689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24000" y="515880"/>
          <a:ext cx="8135640" cy="6089760"/>
        </p:xfrm>
        <a:graphic>
          <a:graphicData uri="http://schemas.openxmlformats.org/drawingml/2006/table">
            <a:tbl>
              <a:tblPr/>
              <a:tblGrid>
                <a:gridCol w="216000"/>
                <a:gridCol w="1005480"/>
                <a:gridCol w="682920"/>
                <a:gridCol w="500040"/>
                <a:gridCol w="675360"/>
                <a:gridCol w="675360"/>
                <a:gridCol w="420840"/>
                <a:gridCol w="536040"/>
                <a:gridCol w="393840"/>
                <a:gridCol w="422280"/>
                <a:gridCol w="422280"/>
                <a:gridCol w="590040"/>
                <a:gridCol w="507960"/>
                <a:gridCol w="1087200"/>
              </a:tblGrid>
              <a:tr h="390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я и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ык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учащегос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жение многозн. натур. чисе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 свойств сложе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читание многозн.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уральных чисе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 свойств вычита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венные выраже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ные уравне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я составл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-е по условию задач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ыки устного счета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+»;  «-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/р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/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читат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составл. (записать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упрощать, применяя св-ва «+»; «-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ть, упрощая левую част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ть, используя зависим. при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+»; «-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-5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№192, 228; 27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ид. м.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№29; 34; 35; 3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-5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№193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ид. м.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№37;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-5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№187-189, № 226; 33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ид. м.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№ 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-5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№ 251; №253; 240; 281; 2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ид. м.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№ 38-40; № 44;48; 4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-5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№ 257; №283; 335-338;38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ид. м.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№ 46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-5: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5;</a:t>
                      </a:r>
                      <a:r>
                        <a:rPr b="0" lang="en-US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293; 29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-5: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1; №292; 298-301;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2; 323;348; 350; 352; 38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ид.м.: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№52-53; № 58-60; 63; № 64; 7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-5: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; № 338; №35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ид. м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: № 68-71; 6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-5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 № 363; 367; 433; 450; 49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ид.м.: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№ 76; 7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-5: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8; № 369; 387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2; 32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ид.м.: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№ 75;     7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Т: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Б; 1Д; 1Е № 2; № 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ид.м.: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 109;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 111;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 1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етический материа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 2 п. 6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 2 п.6; 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 2 п. 7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 2 п. 7; 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 2 п. 8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 2 п. 8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 2 п. 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 2 п.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2 п.10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 2 п. 10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н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761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7201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848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СД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позволяет выделить основные результаты обучения и воспитания в контексте ключевых задач и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УУ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которыми должны владеть учащие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Основа образовательного и воспитательного процесс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развитие личности  через формирование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УУ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УУ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ность  субъекта к саморазвитию путем сознательного, активного присвоения нового социального опы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общенные   действия, порождающие широкую ориентацию учащихся в различных предметных област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просы при создании проекта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сформулировать цели урока и обеспечить их достиж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ой учебный материал отобрать и как подвергнуть его дидактической обработ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ие методы и средства обучения выбра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организовать собственную деятельность и деятельность учени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сделать, чтобы взаимодействие всех этих компонентов привело к определенной системе знаний и ценностных ориента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лавная задач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ганизация учебной деятельности таким образом, чтобы у учащихся сформировались потребности в осуществлении творческого преобразования учебного материала с целью овладения новыми знания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мпоненты овладения знаниями при СДП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3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приятие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ализ полученной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поминание (создание образ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оценка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ченик  -  Учител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Позиция учител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 классу не с ответом, а с вопрос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Позиция учени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 познание мира в специально организованных услов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755640" y="620280"/>
            <a:ext cx="8089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ая задача – задача, решая которую ребенок выполняет цели учител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ая деятельность – управляемый учебный процес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ое действие –  действие по созданию образ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з – слово, рисунок, схема, пл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очное действие – у меня получится! Я умею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«Все действия с натуральными числами .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5 класс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ипология урока: комплексное применение знаний и способов действ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апы уро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ная раб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а в пар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мостоятельная раб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ронтальная раб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ключительный этап (рефлексия, самооценк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08:58:18Z</dcterms:created>
  <dc:creator>Школа</dc:creator>
  <dc:description/>
  <dc:language>en-US</dc:language>
  <cp:lastModifiedBy>Школа</cp:lastModifiedBy>
  <dcterms:modified xsi:type="dcterms:W3CDTF">2011-02-04T06:31:47Z</dcterms:modified>
  <cp:revision>10</cp:revision>
  <dc:subject/>
  <dc:title>Системно - деятельностный подход в обучении математике.</dc:title>
</cp:coreProperties>
</file>