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22.gif" ContentType="image/gif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47.png" ContentType="image/png"/>
  <Override PartName="/ppt/media/image54.gif" ContentType="image/gif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24.jpeg" ContentType="image/jpeg"/>
  <Override PartName="/ppt/media/image33.png" ContentType="image/png"/>
  <Override PartName="/ppt/media/image34.jpeg" ContentType="image/jpeg"/>
  <Override PartName="/ppt/media/image7.jpeg" ContentType="image/jpeg"/>
  <Override PartName="/ppt/media/image39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42.png" ContentType="image/png"/>
  <Override PartName="/ppt/media/image43.png" ContentType="image/png"/>
  <Override PartName="/ppt/media/image41.jpeg" ContentType="image/jpeg"/>
  <Override PartName="/ppt/media/image44.png" ContentType="image/png"/>
  <Override PartName="/ppt/media/image45.jpeg" ContentType="image/jpeg"/>
  <Override PartName="/ppt/media/image35.png" ContentType="image/png"/>
  <Override PartName="/ppt/media/image32.jpeg" ContentType="image/jpeg"/>
  <Override PartName="/ppt/media/image5.jpeg" ContentType="image/jpeg"/>
  <Override PartName="/ppt/media/image46.png" ContentType="image/png"/>
  <Override PartName="/ppt/media/image48.jpeg" ContentType="image/jpeg"/>
  <Override PartName="/ppt/media/image53.png" ContentType="image/png"/>
  <Override PartName="/ppt/media/image31.jpeg" ContentType="image/jpeg"/>
  <Override PartName="/ppt/media/image12.png" ContentType="image/png"/>
  <Override PartName="/ppt/media/image13.png" ContentType="image/png"/>
  <Override PartName="/ppt/media/image28.jpeg" ContentType="image/jpeg"/>
  <Override PartName="/ppt/media/image5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3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0A9A-1931-491A-9269-2818D63D63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D95D-8480-4683-87C3-6B988A4084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BB9-EB38-4634-967E-B8555952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FD0-D64C-4E3B-91FB-34EEB89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2B3C-ED3A-4478-8B0C-385D669D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A80-EE4C-4980-8C4A-1336496B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913-DEF9-48C5-97BE-4DE268E2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77B6-9F2E-4E70-8A77-3455AAE8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592E-C727-425B-9EC2-8E5EC6C3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3EF0-1EE6-478A-AA1E-7C4A61E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555-4F00-4358-B742-A750494E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D199-76D8-4F2E-AECA-B89D01E6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E31-F60D-4A88-9D8B-95695949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EBD9-F5F8-42C6-B694-698D62A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4D89-2F35-4D78-A338-DBDEE8CDE5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gi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7.pn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28880" y="357120"/>
            <a:ext cx="68580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20520"/>
            <a:ext cx="9128160" cy="6837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76960" y="5219280"/>
            <a:ext cx="3767040" cy="16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Работу выполни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Гапаров М.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Gothic"/>
              </a:rPr>
              <a:t>учитель биолог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786040" y="285840"/>
            <a:ext cx="56577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Движение в живой природе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32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еактивное движ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7_6_s"/>
          <p:cNvPicPr/>
          <p:nvPr/>
        </p:nvPicPr>
        <p:blipFill>
          <a:blip r:embed="rId2"/>
          <a:stretch/>
        </p:blipFill>
        <p:spPr>
          <a:xfrm>
            <a:off x="6251400" y="4071960"/>
            <a:ext cx="2892600" cy="2786040"/>
          </a:xfrm>
          <a:prstGeom prst="rect">
            <a:avLst/>
          </a:prstGeom>
          <a:ln w="0">
            <a:noFill/>
          </a:ln>
        </p:spPr>
      </p:pic>
      <p:sp>
        <p:nvSpPr>
          <p:cNvPr id="88" name="Line 9"/>
          <p:cNvSpPr/>
          <p:nvPr/>
        </p:nvSpPr>
        <p:spPr>
          <a:xfrm>
            <a:off x="2340000" y="4149720"/>
            <a:ext cx="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900000" y="537372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Характерно для водно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2"/>
          <p:cNvSpPr/>
          <p:nvPr/>
        </p:nvSpPr>
        <p:spPr>
          <a:xfrm flipV="1">
            <a:off x="2484360" y="2997000"/>
            <a:ext cx="2735280" cy="50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5364000" y="765000"/>
            <a:ext cx="316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то толчок, за счет выбрасывания мощной струи во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4105440" cy="30002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692928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В водной среде наиболее распространенным способом передвижения является </a:t>
            </a:r>
            <a:r>
              <a:rPr b="0" lang="ru-RU" sz="2800" spc="-1" strike="noStrike" u="sng">
                <a:solidFill>
                  <a:srgbClr val="c00000"/>
                </a:solidFill>
                <a:uFillTx/>
                <a:latin typeface="Arial Black"/>
              </a:rPr>
              <a:t>пла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AG00178_"/>
          <p:cNvPicPr/>
          <p:nvPr/>
        </p:nvPicPr>
        <p:blipFill>
          <a:blip r:embed="rId2"/>
          <a:stretch/>
        </p:blipFill>
        <p:spPr>
          <a:xfrm>
            <a:off x="0" y="1214280"/>
            <a:ext cx="3125880" cy="22147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4786200" y="1928880"/>
            <a:ext cx="4214880" cy="4071960"/>
          </a:xfrm>
          <a:prstGeom prst="wedgeRoundRectCallout">
            <a:avLst>
              <a:gd name="adj1" fmla="val -56504"/>
              <a:gd name="adj2" fmla="val 71203"/>
              <a:gd name="adj3" fmla="val 16667"/>
            </a:avLst>
          </a:prstGeom>
          <a:solidFill>
            <a:srgbClr val="0099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Sylfaen"/>
              </a:rPr>
              <a:t>Обтекаемая форма т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Sylfaen"/>
              </a:rPr>
              <a:t>Плавники (ласты, перепонки между пальцами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2f2f2"/>
                </a:solidFill>
                <a:latin typeface="Sylfaen"/>
              </a:rPr>
              <a:t>Волнообразное движение те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2f2f2"/>
              </a:buClr>
              <a:buFont typeface="Sylfae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7" descr="Плавающие"/>
          <p:cNvPicPr/>
          <p:nvPr/>
        </p:nvPicPr>
        <p:blipFill>
          <a:blip r:embed="rId3"/>
          <a:stretch/>
        </p:blipFill>
        <p:spPr>
          <a:xfrm>
            <a:off x="0" y="2214720"/>
            <a:ext cx="4632480" cy="42368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716760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Swiss911 XCm BT"/>
              </a:rPr>
              <a:t>Какие приспособления к движению в водной среде вы можете назвать у данных животных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135000" y="285840"/>
            <a:ext cx="3365280" cy="2282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"/>
          <p:cNvPicPr/>
          <p:nvPr/>
        </p:nvPicPr>
        <p:blipFill>
          <a:blip r:embed="rId3"/>
          <a:stretch/>
        </p:blipFill>
        <p:spPr>
          <a:xfrm>
            <a:off x="5160960" y="357120"/>
            <a:ext cx="3483000" cy="2143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/>
          <p:cNvPicPr/>
          <p:nvPr/>
        </p:nvPicPr>
        <p:blipFill>
          <a:blip r:embed="rId4"/>
          <a:stretch/>
        </p:blipFill>
        <p:spPr>
          <a:xfrm>
            <a:off x="5286240" y="2714760"/>
            <a:ext cx="3387960" cy="192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5"/>
          <a:stretch/>
        </p:blipFill>
        <p:spPr>
          <a:xfrm>
            <a:off x="214200" y="2857680"/>
            <a:ext cx="3436920" cy="1815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 Black"/>
              </a:rPr>
              <a:t>Знаете ли вы,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0" y="857160"/>
            <a:ext cx="5000760" cy="5772240"/>
          </a:xfrm>
          <a:prstGeom prst="horizontalScroll">
            <a:avLst>
              <a:gd name="adj" fmla="val 12500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ба-парусник плава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ее, чем бежит гепар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ё скорость может достиг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9 км/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числу спринт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также рыб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ху (77,6 км/ч) 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рлин (92 км/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5214960" y="1544760"/>
            <a:ext cx="3902040" cy="2741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5143680" y="5072040"/>
            <a:ext cx="4000320" cy="1785960"/>
          </a:xfrm>
          <a:prstGeom prst="rect">
            <a:avLst/>
          </a:prstGeom>
          <a:ln w="0">
            <a:noFill/>
          </a:ln>
        </p:spPr>
      </p:pic>
      <p:sp>
        <p:nvSpPr>
          <p:cNvPr id="106" name="Выгнутая вверх стрелка 9"/>
          <p:cNvSpPr/>
          <p:nvPr/>
        </p:nvSpPr>
        <p:spPr>
          <a:xfrm>
            <a:off x="2643120" y="1143000"/>
            <a:ext cx="3857760" cy="500040"/>
          </a:xfrm>
          <a:custGeom>
            <a:avLst/>
            <a:gdLst>
              <a:gd name="textAreaLeft" fmla="*/ 917640 w 3857760"/>
              <a:gd name="textAreaRight" fmla="*/ 2877840 w 38577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75" hR="21600" stAng="10800000" swAng="5400000"/>
                <a:lnTo>
                  <a:pt x="10975" y="0"/>
                </a:lnTo>
                <a:arcTo wR="10275" hR="21600" stAng="-5400000" swAng="3690458"/>
                <a:lnTo>
                  <a:pt x="21274" y="16200"/>
                </a:lnTo>
                <a:lnTo>
                  <a:pt x="20900" y="21600"/>
                </a:lnTo>
                <a:lnTo>
                  <a:pt x="19874" y="16200"/>
                </a:lnTo>
                <a:lnTo>
                  <a:pt x="20224" y="16200"/>
                </a:lnTo>
                <a:arcTo wR="10275" hR="21600" stAng="-1709542" swAng="-3634727"/>
                <a:lnTo>
                  <a:pt x="10625" y="13"/>
                </a:lnTo>
                <a:arcTo wR="10275" hR="21600" stAng="-5455732" swAng="-5344268"/>
                <a:close/>
              </a:path>
              <a:path fill="darkenLess" w="21600" h="21600">
                <a:moveTo>
                  <a:pt x="0" y="21600"/>
                </a:moveTo>
                <a:arcTo wR="10275" hR="21600" stAng="10800000" swAng="5400000"/>
                <a:lnTo>
                  <a:pt x="10275" y="0"/>
                </a:lnTo>
                <a:arcTo wR="10275" hR="21600" stAng="-5400000" swAng="55732"/>
                <a:lnTo>
                  <a:pt x="10625" y="13"/>
                </a:lnTo>
                <a:arcTo wR="10275" hR="21600" stAng="-5455732" swAng="-5344268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Выгнутая вверх стрелка 10"/>
          <p:cNvSpPr/>
          <p:nvPr/>
        </p:nvSpPr>
        <p:spPr>
          <a:xfrm rot="1032600">
            <a:off x="1827360" y="4460760"/>
            <a:ext cx="4638600" cy="500040"/>
          </a:xfrm>
          <a:custGeom>
            <a:avLst/>
            <a:gdLst>
              <a:gd name="textAreaLeft" fmla="*/ 1112760 w 4638600"/>
              <a:gd name="textAreaRight" fmla="*/ 3463560 w 46386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364" hR="21600" stAng="10800000" swAng="5400000"/>
                <a:lnTo>
                  <a:pt x="10946" y="0"/>
                </a:lnTo>
                <a:arcTo wR="10364" hR="21600" stAng="-5400000" swAng="3702791"/>
                <a:lnTo>
                  <a:pt x="21271" y="16200"/>
                </a:lnTo>
                <a:lnTo>
                  <a:pt x="21018" y="21600"/>
                </a:lnTo>
                <a:lnTo>
                  <a:pt x="20107" y="16200"/>
                </a:lnTo>
                <a:lnTo>
                  <a:pt x="20398" y="16200"/>
                </a:lnTo>
                <a:arcTo wR="10364" hR="21600" stAng="-1697209" swAng="-3656461"/>
                <a:lnTo>
                  <a:pt x="10654" y="9"/>
                </a:lnTo>
                <a:arcTo wR="10364" hR="21600" stAng="-5446330" swAng="-5353670"/>
                <a:close/>
              </a:path>
              <a:path fill="darkenLess" w="21600" h="21600">
                <a:moveTo>
                  <a:pt x="0" y="21600"/>
                </a:moveTo>
                <a:arcTo wR="10364" hR="21600" stAng="10800000" swAng="5400000"/>
                <a:lnTo>
                  <a:pt x="10364" y="0"/>
                </a:lnTo>
                <a:arcTo wR="10364" hR="21600" stAng="-5400000" swAng="46330"/>
                <a:lnTo>
                  <a:pt x="10654" y="9"/>
                </a:lnTo>
                <a:arcTo wR="10364" hR="21600" stAng="-5446330" swAng="-5353670"/>
                <a:close/>
              </a:path>
            </a:pathLst>
          </a:custGeom>
          <a:solidFill>
            <a:srgbClr val="00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7868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857160" y="1214280"/>
            <a:ext cx="6786720" cy="535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вижение в наземно 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оздушной сре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1000080" y="3714840"/>
            <a:ext cx="3148200" cy="24289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В воздушной среде оптимальным способом движения является пол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Махаон"/>
          <p:cNvPicPr/>
          <p:nvPr/>
        </p:nvPicPr>
        <p:blipFill>
          <a:blip r:embed="rId3"/>
          <a:stretch/>
        </p:blipFill>
        <p:spPr>
          <a:xfrm>
            <a:off x="5410080" y="3646440"/>
            <a:ext cx="3009960" cy="255924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10"/>
          <p:cNvSpPr/>
          <p:nvPr/>
        </p:nvSpPr>
        <p:spPr>
          <a:xfrm>
            <a:off x="6172200" y="2286000"/>
            <a:ext cx="2209680" cy="1371600"/>
          </a:xfrm>
          <a:prstGeom prst="wedgeRoundRectCallout">
            <a:avLst>
              <a:gd name="adj1" fmla="val -45041"/>
              <a:gd name="adj2" fmla="val 66666"/>
              <a:gd name="adj3" fmla="val 16667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Staccato222 BT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3"/>
          <p:cNvSpPr/>
          <p:nvPr/>
        </p:nvSpPr>
        <p:spPr>
          <a:xfrm>
            <a:off x="1828800" y="2286000"/>
            <a:ext cx="2362320" cy="1523880"/>
          </a:xfrm>
          <a:prstGeom prst="wedgeRoundRectCallout">
            <a:avLst>
              <a:gd name="adj1" fmla="val -45361"/>
              <a:gd name="adj2" fmla="val 63958"/>
              <a:gd name="adj3" fmla="val 16667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Аналогичные крыльям орг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Специальные приспособления к полету есть у птиц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Это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1042920" y="2708280"/>
            <a:ext cx="7872480" cy="338760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Полые к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Воздушные меш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Обтекаем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457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 Black"/>
              </a:rPr>
              <a:t>Знаете ли Вы, что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Стрижи"/>
          <p:cNvPicPr/>
          <p:nvPr/>
        </p:nvPicPr>
        <p:blipFill>
          <a:blip r:embed="rId2"/>
          <a:stretch/>
        </p:blipFill>
        <p:spPr>
          <a:xfrm>
            <a:off x="6095880" y="1981080"/>
            <a:ext cx="2667240" cy="31323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4"/>
          <p:cNvSpPr/>
          <p:nvPr/>
        </p:nvSpPr>
        <p:spPr>
          <a:xfrm>
            <a:off x="0" y="1371600"/>
            <a:ext cx="6000840" cy="4952880"/>
          </a:xfrm>
          <a:prstGeom prst="verticalScrol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…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окол-сапсан, падая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ысоты, развивает скор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о 250 км/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 горизонтальном поле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его скорость ра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100 км/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Но его легко обгон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триж, чья скорост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остигает 171 км/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Для наземной среды обитания характерны такие способы передвижения как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914400" y="2590920"/>
            <a:ext cx="838080" cy="1752480"/>
          </a:xfrm>
          <a:prstGeom prst="downArrow">
            <a:avLst>
              <a:gd name="adj1" fmla="val 50000"/>
              <a:gd name="adj2" fmla="val 522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267080" y="2514600"/>
            <a:ext cx="838440" cy="2286000"/>
          </a:xfrm>
          <a:prstGeom prst="downArrow">
            <a:avLst>
              <a:gd name="adj1" fmla="val 50000"/>
              <a:gd name="adj2" fmla="val 6816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7467480" y="2514600"/>
            <a:ext cx="838440" cy="2895480"/>
          </a:xfrm>
          <a:prstGeom prst="downArrow">
            <a:avLst>
              <a:gd name="adj1" fmla="val 50000"/>
              <a:gd name="adj2" fmla="val 8633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28600" y="5791320"/>
            <a:ext cx="220968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 Black"/>
              </a:rPr>
              <a:t>Бе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429000" y="5791320"/>
            <a:ext cx="2209680" cy="5508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c0000"/>
                </a:solidFill>
                <a:latin typeface="Arial Black"/>
              </a:rPr>
              <a:t>Прыжк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6477120" y="5791320"/>
            <a:ext cx="2209680" cy="5205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Ползань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1401840" y="1984320"/>
            <a:ext cx="5302080" cy="37306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 Black"/>
              </a:rPr>
              <a:t>Для успешного бега животному необходим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2120" y="6019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4 ноги одинаковой дли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H="1" flipV="1">
            <a:off x="3143160" y="5000400"/>
            <a:ext cx="53352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 flipV="1">
            <a:off x="4000680" y="4928760"/>
            <a:ext cx="914400" cy="121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752480" y="19051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 Black"/>
              </a:rPr>
              <a:t>Горизонтальное расположение те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4286160" y="2643120"/>
            <a:ext cx="285840" cy="909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 Black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2920" y="1785960"/>
            <a:ext cx="792936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6600"/>
                </a:solidFill>
                <a:latin typeface="Stencil"/>
              </a:rPr>
              <a:t> </a:t>
            </a:r>
            <a:r>
              <a:rPr b="0" lang="ru-RU" sz="4000" spc="-1" strike="noStrike" u="sng">
                <a:solidFill>
                  <a:srgbClr val="cc3300"/>
                </a:solidFill>
                <a:uFillTx/>
                <a:latin typeface="Stencil"/>
              </a:rPr>
              <a:t>Движение живот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Stencil"/>
              </a:rPr>
              <a:t>Движение простейших и беспозвоноч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Stencil"/>
              </a:rPr>
              <a:t>Движение в водной ср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Stenci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Stencil"/>
              </a:rPr>
              <a:t>Движение в наземно-воздушной сре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57200" y="1600200"/>
            <a:ext cx="8381880" cy="152280"/>
          </a:xfrm>
          <a:prstGeom prst="rect">
            <a:avLst/>
          </a:prstGeom>
          <a:gradFill rotWithShape="0">
            <a:gsLst>
              <a:gs pos="0">
                <a:srgbClr val="764718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6929280" y="1785960"/>
            <a:ext cx="1714680" cy="156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0" y="5214960"/>
            <a:ext cx="1714680" cy="1643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7143840" y="5089680"/>
            <a:ext cx="2000160" cy="176832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 Black"/>
              </a:rPr>
              <a:t>В зависимости от положения конечности во время бега, животных подразделяют 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Виды хождения"/>
          <p:cNvPicPr/>
          <p:nvPr/>
        </p:nvPicPr>
        <p:blipFill>
          <a:blip r:embed="rId2"/>
          <a:stretch/>
        </p:blipFill>
        <p:spPr>
          <a:xfrm>
            <a:off x="533520" y="2057400"/>
            <a:ext cx="1968480" cy="441972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>
            <a:off x="2895480" y="251460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 flipH="1">
            <a:off x="2971440" y="3886200"/>
            <a:ext cx="2438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8"/>
          <p:cNvSpPr/>
          <p:nvPr/>
        </p:nvSpPr>
        <p:spPr>
          <a:xfrm flipH="1">
            <a:off x="2895480" y="5715000"/>
            <a:ext cx="2438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715000" y="2209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Стопоходя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5945400" y="3581280"/>
            <a:ext cx="270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Пальцеходящ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6021360" y="5257800"/>
            <a:ext cx="19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</a:rPr>
              <a:t>Копытн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5105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Животные, передвигающиеся прыжками, имею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3" descr="лягушка"/>
          <p:cNvPicPr/>
          <p:nvPr/>
        </p:nvPicPr>
        <p:blipFill>
          <a:blip r:embed="rId2"/>
          <a:stretch/>
        </p:blipFill>
        <p:spPr>
          <a:xfrm>
            <a:off x="5715000" y="762120"/>
            <a:ext cx="3048120" cy="3047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прыжок лягушки"/>
          <p:cNvPicPr/>
          <p:nvPr/>
        </p:nvPicPr>
        <p:blipFill>
          <a:blip r:embed="rId3"/>
          <a:stretch/>
        </p:blipFill>
        <p:spPr>
          <a:xfrm>
            <a:off x="762120" y="3886200"/>
            <a:ext cx="4128840" cy="2127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5"/>
          <p:cNvSpPr/>
          <p:nvPr/>
        </p:nvSpPr>
        <p:spPr>
          <a:xfrm>
            <a:off x="5638680" y="4800600"/>
            <a:ext cx="3048120" cy="825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дние ноги длиннее и мощнее передни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"/>
          <p:cNvSpPr/>
          <p:nvPr/>
        </p:nvSpPr>
        <p:spPr>
          <a:xfrm flipV="1">
            <a:off x="7315200" y="3352680"/>
            <a:ext cx="685800" cy="1447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У ползающих живот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3" descr="Змея"/>
          <p:cNvPicPr/>
          <p:nvPr/>
        </p:nvPicPr>
        <p:blipFill>
          <a:blip r:embed="rId2"/>
          <a:stretch/>
        </p:blipFill>
        <p:spPr>
          <a:xfrm>
            <a:off x="1295280" y="3591000"/>
            <a:ext cx="4267440" cy="32670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4"/>
          <p:cNvSpPr/>
          <p:nvPr/>
        </p:nvSpPr>
        <p:spPr>
          <a:xfrm>
            <a:off x="5562720" y="1219320"/>
            <a:ext cx="3581280" cy="3886200"/>
          </a:xfrm>
          <a:prstGeom prst="irregularSeal2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еретено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раз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тел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228600" y="1371600"/>
            <a:ext cx="3622680" cy="2994120"/>
          </a:xfrm>
          <a:prstGeom prst="irregularSeal2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онеч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295280" y="30492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ccff"/>
                </a:solidFill>
                <a:latin typeface="Arial Black"/>
              </a:rPr>
              <a:t>Знаете ли Вы, чт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Гепард"/>
          <p:cNvPicPr/>
          <p:nvPr/>
        </p:nvPicPr>
        <p:blipFill>
          <a:blip r:embed="rId2"/>
          <a:stretch/>
        </p:blipFill>
        <p:spPr>
          <a:xfrm>
            <a:off x="3646440" y="3929040"/>
            <a:ext cx="5040360" cy="336060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4"/>
          <p:cNvSpPr/>
          <p:nvPr/>
        </p:nvSpPr>
        <p:spPr>
          <a:xfrm>
            <a:off x="500040" y="1219320"/>
            <a:ext cx="6434280" cy="35049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Самый быстрый спринтер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гепард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Его скорость достига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Staccato222 BT"/>
              </a:rPr>
              <a:t>96-101 км/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 Black"/>
              </a:rPr>
              <a:t>Давайте обсудим…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6095880" y="1371600"/>
            <a:ext cx="2819520" cy="2743200"/>
          </a:xfrm>
          <a:prstGeom prst="wedgeRectCallout">
            <a:avLst>
              <a:gd name="adj1" fmla="val -93074"/>
              <a:gd name="adj2" fmla="val 11082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Какое животное здесь лишне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Почем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4" descr="Аист"/>
          <p:cNvPicPr/>
          <p:nvPr/>
        </p:nvPicPr>
        <p:blipFill>
          <a:blip r:embed="rId3"/>
          <a:stretch/>
        </p:blipFill>
        <p:spPr>
          <a:xfrm>
            <a:off x="457200" y="1371600"/>
            <a:ext cx="1974960" cy="2895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Белка-летяга"/>
          <p:cNvPicPr/>
          <p:nvPr/>
        </p:nvPicPr>
        <p:blipFill>
          <a:blip r:embed="rId4"/>
          <a:stretch/>
        </p:blipFill>
        <p:spPr>
          <a:xfrm>
            <a:off x="457200" y="4724280"/>
            <a:ext cx="3209760" cy="1791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Панда"/>
          <p:cNvPicPr/>
          <p:nvPr/>
        </p:nvPicPr>
        <p:blipFill>
          <a:blip r:embed="rId5"/>
          <a:stretch/>
        </p:blipFill>
        <p:spPr>
          <a:xfrm>
            <a:off x="6788160" y="4572000"/>
            <a:ext cx="1860480" cy="18795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Пчела"/>
          <p:cNvPicPr/>
          <p:nvPr/>
        </p:nvPicPr>
        <p:blipFill>
          <a:blip r:embed="rId6"/>
          <a:stretch/>
        </p:blipFill>
        <p:spPr>
          <a:xfrm>
            <a:off x="3419640" y="1341360"/>
            <a:ext cx="1901520" cy="28767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0" nodeType="afterEffect" fill="hold" presetClass="entr" presetID="2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4"/>
          <p:cNvSpPr/>
          <p:nvPr/>
        </p:nvSpPr>
        <p:spPr>
          <a:xfrm>
            <a:off x="304920" y="0"/>
            <a:ext cx="6933960" cy="3505320"/>
          </a:xfrm>
          <a:custGeom>
            <a:avLst/>
            <a:gdLst>
              <a:gd name="textAreaLeft" fmla="*/ 0 w 6933960"/>
              <a:gd name="textAreaRight" fmla="*/ 6934320 w 6933960"/>
              <a:gd name="textAreaTop" fmla="*/ 454320 h 3505320"/>
              <a:gd name="textAreaBottom" fmla="*/ 3051000 h 3505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Без движения – бед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танешь пищей без тру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 на солнышке сгориш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т врагов не убежи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4572000" y="3352680"/>
            <a:ext cx="4572000" cy="1905120"/>
          </a:xfrm>
          <a:prstGeom prst="irregularSeal1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Вывод прост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762120" y="5486400"/>
            <a:ext cx="8076960" cy="990720"/>
          </a:xfrm>
          <a:custGeom>
            <a:avLst/>
            <a:gdLst>
              <a:gd name="textAreaLeft" fmla="*/ 2019240 w 8076960"/>
              <a:gd name="textAreaRight" fmla="*/ 6057720 w 8076960"/>
              <a:gd name="textAreaTop" fmla="*/ 0 h 990720"/>
              <a:gd name="textAreaBottom" fmla="*/ 866880 h 99072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вижение – жизни прояв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7" descr="AG00043_"/>
          <p:cNvPicPr/>
          <p:nvPr/>
        </p:nvPicPr>
        <p:blipFill>
          <a:blip r:embed="rId4"/>
          <a:stretch/>
        </p:blipFill>
        <p:spPr>
          <a:xfrm>
            <a:off x="1219320" y="3124080"/>
            <a:ext cx="1295280" cy="21718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7"/>
          <p:cNvSpPr/>
          <p:nvPr/>
        </p:nvSpPr>
        <p:spPr>
          <a:xfrm>
            <a:off x="500040" y="214200"/>
            <a:ext cx="6572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Stencil"/>
              </a:rPr>
              <a:t>Для чего нужно движен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Stencil"/>
              </a:rPr>
              <a:t>Бег, прыжок, ходьба, скольжень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00"/>
                </a:solidFill>
                <a:latin typeface="Stencil"/>
              </a:rPr>
              <a:t>Плаванье, полет…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4140360" y="371628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Swiss911 XCm BT"/>
              </a:rPr>
              <a:t>Как знать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332000" y="5661000"/>
            <a:ext cx="749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empus Sans ITC"/>
              </a:rPr>
              <a:t>Может лучше полежать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0" y="2733840"/>
            <a:ext cx="4714920" cy="29844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214280" y="0"/>
            <a:ext cx="6858000" cy="4357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85920" y="3357720"/>
            <a:ext cx="7129440" cy="33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еремещение всего организма с одного места на другое называется</a:t>
            </a: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4400" spc="-1" strike="noStrike" u="sng">
                <a:solidFill>
                  <a:srgbClr val="7030a0"/>
                </a:solidFill>
                <a:uFillTx/>
                <a:latin typeface="Raavi"/>
              </a:rPr>
              <a:t>локомоцией</a:t>
            </a:r>
            <a:br>
              <a:rPr sz="4000"/>
            </a:br>
            <a:r>
              <a:rPr b="0" i="1" lang="ru-RU" sz="4000" spc="-1" strike="noStrike">
                <a:solidFill>
                  <a:srgbClr val="c00000"/>
                </a:solidFill>
                <a:latin typeface="Times New Roman"/>
              </a:rPr>
              <a:t>(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от лат.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locus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– место,</a:t>
            </a:r>
            <a:r>
              <a:rPr b="1" i="1" lang="en-US" sz="4000" spc="-1" strike="noStrike">
                <a:solidFill>
                  <a:srgbClr val="c00000"/>
                </a:solidFill>
                <a:latin typeface="Times New Roman"/>
              </a:rPr>
              <a:t> motio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– движение</a:t>
            </a:r>
            <a:r>
              <a:rPr b="0" i="1" lang="ru-RU" sz="4000" spc="-1" strike="noStrike">
                <a:solidFill>
                  <a:srgbClr val="c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Животные способны к активным перемещения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кенгуру"/>
          <p:cNvPicPr/>
          <p:nvPr/>
        </p:nvPicPr>
        <p:blipFill>
          <a:blip r:embed="rId2"/>
          <a:stretch/>
        </p:blipFill>
        <p:spPr>
          <a:xfrm>
            <a:off x="380880" y="2071800"/>
            <a:ext cx="3414960" cy="219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3"/>
          <a:stretch/>
        </p:blipFill>
        <p:spPr>
          <a:xfrm>
            <a:off x="5394240" y="2071800"/>
            <a:ext cx="3357720" cy="2260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"/>
          <p:cNvPicPr/>
          <p:nvPr/>
        </p:nvPicPr>
        <p:blipFill>
          <a:blip r:embed="rId4"/>
          <a:stretch/>
        </p:blipFill>
        <p:spPr>
          <a:xfrm>
            <a:off x="2817720" y="4429080"/>
            <a:ext cx="338796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Значение локомоции у животны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28840" y="1928880"/>
            <a:ext cx="616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Поиск пи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Спасение от хищников и неблагоприятных условий сре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Расселение и освоение новых местообит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Поиск половых партнер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57240" cy="17924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 Black"/>
              </a:rPr>
              <a:t>Простейшие имеют специальные органоиды движ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5" descr="Амеба2"/>
          <p:cNvPicPr/>
          <p:nvPr/>
        </p:nvPicPr>
        <p:blipFill>
          <a:blip r:embed="rId2"/>
          <a:stretch/>
        </p:blipFill>
        <p:spPr>
          <a:xfrm>
            <a:off x="609480" y="2133720"/>
            <a:ext cx="1946520" cy="2514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Инфузория"/>
          <p:cNvPicPr/>
          <p:nvPr/>
        </p:nvPicPr>
        <p:blipFill>
          <a:blip r:embed="rId3"/>
          <a:stretch/>
        </p:blipFill>
        <p:spPr>
          <a:xfrm>
            <a:off x="7315200" y="1828800"/>
            <a:ext cx="1523880" cy="3124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Эвглена"/>
          <p:cNvPicPr/>
          <p:nvPr/>
        </p:nvPicPr>
        <p:blipFill>
          <a:blip r:embed="rId4"/>
          <a:stretch/>
        </p:blipFill>
        <p:spPr>
          <a:xfrm>
            <a:off x="4114800" y="2133720"/>
            <a:ext cx="1979640" cy="2819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9"/>
          <p:cNvSpPr/>
          <p:nvPr/>
        </p:nvSpPr>
        <p:spPr>
          <a:xfrm>
            <a:off x="609480" y="5410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Ложнонож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0"/>
          <p:cNvSpPr/>
          <p:nvPr/>
        </p:nvSpPr>
        <p:spPr>
          <a:xfrm flipV="1">
            <a:off x="1905120" y="4419360"/>
            <a:ext cx="15228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1"/>
          <p:cNvSpPr/>
          <p:nvPr/>
        </p:nvSpPr>
        <p:spPr>
          <a:xfrm flipH="1" flipV="1">
            <a:off x="914400" y="3429000"/>
            <a:ext cx="914400" cy="19051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4191120" y="54100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Жгут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4"/>
          <p:cNvSpPr/>
          <p:nvPr/>
        </p:nvSpPr>
        <p:spPr>
          <a:xfrm flipH="1" flipV="1">
            <a:off x="4571640" y="3733920"/>
            <a:ext cx="609480" cy="16761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781680" y="5334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Реснич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6"/>
          <p:cNvSpPr/>
          <p:nvPr/>
        </p:nvSpPr>
        <p:spPr>
          <a:xfrm flipV="1">
            <a:off x="7467480" y="4647960"/>
            <a:ext cx="68580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" nodeType="after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28616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Arial Black"/>
              </a:rPr>
              <a:t>Движения всех многоклеточных животных связаны с мышечной деятельность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Движение червя"/>
          <p:cNvPicPr/>
          <p:nvPr/>
        </p:nvPicPr>
        <p:blipFill>
          <a:blip r:embed="rId2"/>
          <a:stretch/>
        </p:blipFill>
        <p:spPr>
          <a:xfrm>
            <a:off x="1219320" y="380880"/>
            <a:ext cx="6638760" cy="3718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4"/>
          <p:cNvSpPr txBox="1"/>
          <p:nvPr/>
        </p:nvSpPr>
        <p:spPr>
          <a:xfrm>
            <a:off x="1357200" y="3857760"/>
            <a:ext cx="6810480" cy="30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вижение в 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ной среде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4T07:58:34Z</dcterms:created>
  <dc:creator>st1-9</dc:creator>
  <dc:description/>
  <dc:language>en-US</dc:language>
  <cp:lastModifiedBy>user</cp:lastModifiedBy>
  <dcterms:modified xsi:type="dcterms:W3CDTF">2017-04-20T16:03:59Z</dcterms:modified>
  <cp:revision>105</cp:revision>
  <dc:subject/>
  <dc:title>Презентация PowerPoint</dc:title>
</cp:coreProperties>
</file>