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2.gif" ContentType="image/gif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54.gif" ContentType="image/gif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4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39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6.png" ContentType="image/png"/>
  <Override PartName="/ppt/media/image48.jpeg" ContentType="image/jpeg"/>
  <Override PartName="/ppt/media/image53.png" ContentType="image/png"/>
  <Override PartName="/ppt/media/image31.jpeg" ContentType="image/jpeg"/>
  <Override PartName="/ppt/media/image12.png" ContentType="image/png"/>
  <Override PartName="/ppt/media/image13.png" ContentType="image/png"/>
  <Override PartName="/ppt/media/image28.jpeg" ContentType="image/jpeg"/>
  <Override PartName="/ppt/media/image5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2842-227C-43C0-9CD2-810C06A2C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845-AC5E-4E7A-BA02-983B43217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E00-018A-470E-94FC-32B00EBF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78A-6692-4F35-BAB0-CDA4097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2CF-CF06-4C19-ACBA-4EBD9FFE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B65-B5A0-43C7-9645-A8E1353F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B8E-F680-4767-A1BA-A84C4B9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AC3-F443-45D3-B370-F2D526E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49A-A803-44C5-A3C4-4D8BD322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D18-2127-4707-ADC5-F7A568D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634-9ACF-4E1E-84E1-787EC1C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222-7803-4E1B-9254-D568E26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2E9-67E4-4823-BC76-CF06BAE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C87-3272-48BE-AEDC-3706D95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5C5A-05DE-4542-A594-3EEDEBDD09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68580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2052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76960" y="5219280"/>
            <a:ext cx="37670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Работу выполн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Гапаров М.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786040" y="285840"/>
            <a:ext cx="5657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вижение в живой природе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еактивное дви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7_6_s"/>
          <p:cNvPicPr/>
          <p:nvPr/>
        </p:nvPicPr>
        <p:blipFill>
          <a:blip r:embed="rId2"/>
          <a:stretch/>
        </p:blipFill>
        <p:spPr>
          <a:xfrm>
            <a:off x="6251400" y="4071960"/>
            <a:ext cx="2892600" cy="278604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2340000" y="414972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900000" y="53737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о для водно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V="1">
            <a:off x="2484360" y="2997000"/>
            <a:ext cx="273528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364000" y="765000"/>
            <a:ext cx="31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толчок, за счет выбрасывания мощной струи 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410544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В водной среде наиболее распространенным способом передвижения является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 Black"/>
              </a:rPr>
              <a:t>пла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AG00178_"/>
          <p:cNvPicPr/>
          <p:nvPr/>
        </p:nvPicPr>
        <p:blipFill>
          <a:blip r:embed="rId2"/>
          <a:stretch/>
        </p:blipFill>
        <p:spPr>
          <a:xfrm>
            <a:off x="0" y="1214280"/>
            <a:ext cx="3125880" cy="2214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4786200" y="1928880"/>
            <a:ext cx="4214880" cy="4071960"/>
          </a:xfrm>
          <a:prstGeom prst="wedgeRoundRectCallout">
            <a:avLst>
              <a:gd name="adj1" fmla="val -56504"/>
              <a:gd name="adj2" fmla="val 71203"/>
              <a:gd name="adj3" fmla="val 16667"/>
            </a:avLst>
          </a:prstGeom>
          <a:solidFill>
            <a:srgbClr val="0099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Обтекаемая форма т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Плавники (ласты, перепонки между пальцам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Волнообразное движение т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Плавающие"/>
          <p:cNvPicPr/>
          <p:nvPr/>
        </p:nvPicPr>
        <p:blipFill>
          <a:blip r:embed="rId3"/>
          <a:stretch/>
        </p:blipFill>
        <p:spPr>
          <a:xfrm>
            <a:off x="0" y="2214720"/>
            <a:ext cx="4632480" cy="4236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7167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wiss911 XCm BT"/>
              </a:rPr>
              <a:t>Какие приспособления к движению в водной среде вы можете назвать у данных животны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35000" y="285840"/>
            <a:ext cx="3365280" cy="228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5160960" y="357120"/>
            <a:ext cx="348300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5286240" y="2714760"/>
            <a:ext cx="3387960" cy="192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214200" y="2857680"/>
            <a:ext cx="3436920" cy="1815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Знаете ли вы,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0" y="857160"/>
            <a:ext cx="5000760" cy="57722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а-парусник пла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ее, чем бежит гепар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скорость может дости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9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числу спринт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также ры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ху (77,6 км/ч)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лин (92 км/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214960" y="1544760"/>
            <a:ext cx="3902040" cy="274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5143680" y="5072040"/>
            <a:ext cx="4000320" cy="1785960"/>
          </a:xfrm>
          <a:prstGeom prst="rect">
            <a:avLst/>
          </a:prstGeom>
          <a:ln w="0">
            <a:noFill/>
          </a:ln>
        </p:spPr>
      </p:pic>
      <p:sp>
        <p:nvSpPr>
          <p:cNvPr id="106" name="Выгнутая вверх стрелка 9"/>
          <p:cNvSpPr/>
          <p:nvPr/>
        </p:nvSpPr>
        <p:spPr>
          <a:xfrm>
            <a:off x="2643120" y="1143000"/>
            <a:ext cx="3857760" cy="500040"/>
          </a:xfrm>
          <a:custGeom>
            <a:avLst/>
            <a:gdLst>
              <a:gd name="textAreaLeft" fmla="*/ 917640 w 3857760"/>
              <a:gd name="textAreaRight" fmla="*/ 2877840 w 38577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75" hR="21600" stAng="10800000" swAng="5400000"/>
                <a:lnTo>
                  <a:pt x="10975" y="0"/>
                </a:lnTo>
                <a:arcTo wR="10275" hR="21600" stAng="-5400000" swAng="3690458"/>
                <a:lnTo>
                  <a:pt x="21274" y="16200"/>
                </a:lnTo>
                <a:lnTo>
                  <a:pt x="20900" y="21600"/>
                </a:lnTo>
                <a:lnTo>
                  <a:pt x="19874" y="16200"/>
                </a:lnTo>
                <a:lnTo>
                  <a:pt x="20224" y="16200"/>
                </a:lnTo>
                <a:arcTo wR="10275" hR="21600" stAng="-1709542" swAng="-3634727"/>
                <a:lnTo>
                  <a:pt x="10625" y="13"/>
                </a:lnTo>
                <a:arcTo wR="10275" hR="21600" stAng="-5455732" swAng="-5344268"/>
                <a:close/>
              </a:path>
              <a:path fill="darkenLess" w="21600" h="21600">
                <a:moveTo>
                  <a:pt x="0" y="21600"/>
                </a:moveTo>
                <a:arcTo wR="10275" hR="21600" stAng="10800000" swAng="5400000"/>
                <a:lnTo>
                  <a:pt x="10275" y="0"/>
                </a:lnTo>
                <a:arcTo wR="10275" hR="21600" stAng="-5400000" swAng="55732"/>
                <a:lnTo>
                  <a:pt x="10625" y="13"/>
                </a:lnTo>
                <a:arcTo wR="10275" hR="21600" stAng="-5455732" swAng="-5344268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гнутая вверх стрелка 10"/>
          <p:cNvSpPr/>
          <p:nvPr/>
        </p:nvSpPr>
        <p:spPr>
          <a:xfrm rot="1032600">
            <a:off x="1827360" y="4460760"/>
            <a:ext cx="4638600" cy="500040"/>
          </a:xfrm>
          <a:custGeom>
            <a:avLst/>
            <a:gdLst>
              <a:gd name="textAreaLeft" fmla="*/ 1112760 w 4638600"/>
              <a:gd name="textAreaRight" fmla="*/ 3463560 w 46386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64" hR="21600" stAng="10800000" swAng="5400000"/>
                <a:lnTo>
                  <a:pt x="10946" y="0"/>
                </a:lnTo>
                <a:arcTo wR="10364" hR="21600" stAng="-5400000" swAng="3702791"/>
                <a:lnTo>
                  <a:pt x="21271" y="16200"/>
                </a:lnTo>
                <a:lnTo>
                  <a:pt x="21018" y="21600"/>
                </a:lnTo>
                <a:lnTo>
                  <a:pt x="20107" y="16200"/>
                </a:lnTo>
                <a:lnTo>
                  <a:pt x="20398" y="16200"/>
                </a:lnTo>
                <a:arcTo wR="10364" hR="21600" stAng="-1697209" swAng="-3656461"/>
                <a:lnTo>
                  <a:pt x="10654" y="9"/>
                </a:lnTo>
                <a:arcTo wR="10364" hR="21600" stAng="-5446330" swAng="-5353670"/>
                <a:close/>
              </a:path>
              <a:path fill="darkenLess" w="21600" h="21600">
                <a:moveTo>
                  <a:pt x="0" y="21600"/>
                </a:moveTo>
                <a:arcTo wR="10364" hR="21600" stAng="10800000" swAng="5400000"/>
                <a:lnTo>
                  <a:pt x="10364" y="0"/>
                </a:lnTo>
                <a:arcTo wR="10364" hR="21600" stAng="-5400000" swAng="46330"/>
                <a:lnTo>
                  <a:pt x="10654" y="9"/>
                </a:lnTo>
                <a:arcTo wR="10364" hR="21600" stAng="-5446330" swAng="-5353670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868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857160" y="1214280"/>
            <a:ext cx="6786720" cy="535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ижение в наземно 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здушной сре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1000080" y="3714840"/>
            <a:ext cx="3148200" cy="2428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В воздушной среде оптимальным способом движения является пол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Махаон"/>
          <p:cNvPicPr/>
          <p:nvPr/>
        </p:nvPicPr>
        <p:blipFill>
          <a:blip r:embed="rId3"/>
          <a:stretch/>
        </p:blipFill>
        <p:spPr>
          <a:xfrm>
            <a:off x="5410080" y="3646440"/>
            <a:ext cx="3009960" cy="25592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0"/>
          <p:cNvSpPr/>
          <p:nvPr/>
        </p:nvSpPr>
        <p:spPr>
          <a:xfrm>
            <a:off x="6172200" y="2286000"/>
            <a:ext cx="2209680" cy="1371600"/>
          </a:xfrm>
          <a:prstGeom prst="wedgeRoundRectCallout">
            <a:avLst>
              <a:gd name="adj1" fmla="val -45041"/>
              <a:gd name="adj2" fmla="val 66666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taccato222 BT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1828800" y="2286000"/>
            <a:ext cx="2362320" cy="1523880"/>
          </a:xfrm>
          <a:prstGeom prst="wedgeRoundRectCallout">
            <a:avLst>
              <a:gd name="adj1" fmla="val -45361"/>
              <a:gd name="adj2" fmla="val 63958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налогичные крыльям орг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Специальные приспособления к полету есть у птиц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Эт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042920" y="2708280"/>
            <a:ext cx="7872480" cy="33876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лые 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Воздушные ме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бтекаем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Знаете ли Вы, что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Стрижи"/>
          <p:cNvPicPr/>
          <p:nvPr/>
        </p:nvPicPr>
        <p:blipFill>
          <a:blip r:embed="rId2"/>
          <a:stretch/>
        </p:blipFill>
        <p:spPr>
          <a:xfrm>
            <a:off x="6095880" y="1981080"/>
            <a:ext cx="2667240" cy="31323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0" y="1371600"/>
            <a:ext cx="6000840" cy="495288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окол-сапсан, падая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ысоты, развивает скор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о 250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 горизонтальном пол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го скорость ра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00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о его легко обгон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триж, чья скор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остигает 171 км/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Для наземной среды обитания характерны такие способы передвижения как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914400" y="2590920"/>
            <a:ext cx="838080" cy="1752480"/>
          </a:xfrm>
          <a:prstGeom prst="down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267080" y="2514600"/>
            <a:ext cx="838440" cy="2286000"/>
          </a:xfrm>
          <a:prstGeom prst="downArrow">
            <a:avLst>
              <a:gd name="adj1" fmla="val 50000"/>
              <a:gd name="adj2" fmla="val 6816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467480" y="2514600"/>
            <a:ext cx="838440" cy="2895480"/>
          </a:xfrm>
          <a:prstGeom prst="downArrow">
            <a:avLst>
              <a:gd name="adj1" fmla="val 50000"/>
              <a:gd name="adj2" fmla="val 8633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8600" y="5791320"/>
            <a:ext cx="220968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 Black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29000" y="5791320"/>
            <a:ext cx="2209680" cy="550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 Black"/>
              </a:rPr>
              <a:t>Прыж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477120" y="5791320"/>
            <a:ext cx="2209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Ползан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1401840" y="1984320"/>
            <a:ext cx="5302080" cy="3730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Для успешного бега животному необходи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6019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4 ноги одинаковой д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 flipV="1">
            <a:off x="3143160" y="5000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V="1">
            <a:off x="4000680" y="4928760"/>
            <a:ext cx="91440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52480" y="19051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Горизонтальное расположение 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4286160" y="2643120"/>
            <a:ext cx="285840" cy="90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7929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Stencil"/>
              </a:rPr>
              <a:t> </a:t>
            </a:r>
            <a:r>
              <a:rPr b="0" lang="ru-RU" sz="4000" spc="-1" strike="noStrike" u="sng">
                <a:solidFill>
                  <a:srgbClr val="cc3300"/>
                </a:solidFill>
                <a:uFillTx/>
                <a:latin typeface="Stencil"/>
              </a:rPr>
              <a:t>Движение живот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простейших и беспозвоноч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в водной ср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в наземно-воздушной ср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" y="1600200"/>
            <a:ext cx="8381880" cy="15228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6929280" y="1785960"/>
            <a:ext cx="1714680" cy="156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521496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7143840" y="5089680"/>
            <a:ext cx="2000160" cy="17683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В зависимости от положения конечности во время бега, животных подразделяют 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Виды хождения"/>
          <p:cNvPicPr/>
          <p:nvPr/>
        </p:nvPicPr>
        <p:blipFill>
          <a:blip r:embed="rId2"/>
          <a:stretch/>
        </p:blipFill>
        <p:spPr>
          <a:xfrm>
            <a:off x="533520" y="2057400"/>
            <a:ext cx="1968480" cy="441972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>
            <a:off x="2895480" y="25146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971440" y="388620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2895480" y="57150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15000" y="2209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топоходя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945400" y="35812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альцеходя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6021360" y="52578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пы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105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Животные, передвигающиеся прыжками, имею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лягушка"/>
          <p:cNvPicPr/>
          <p:nvPr/>
        </p:nvPicPr>
        <p:blipFill>
          <a:blip r:embed="rId2"/>
          <a:stretch/>
        </p:blipFill>
        <p:spPr>
          <a:xfrm>
            <a:off x="5715000" y="762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прыжок лягушки"/>
          <p:cNvPicPr/>
          <p:nvPr/>
        </p:nvPicPr>
        <p:blipFill>
          <a:blip r:embed="rId3"/>
          <a:stretch/>
        </p:blipFill>
        <p:spPr>
          <a:xfrm>
            <a:off x="762120" y="3886200"/>
            <a:ext cx="4128840" cy="212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638680" y="4800600"/>
            <a:ext cx="304812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дние ноги длиннее и мощнее перед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7315200" y="3352680"/>
            <a:ext cx="68580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У ползающих живот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Змея"/>
          <p:cNvPicPr/>
          <p:nvPr/>
        </p:nvPicPr>
        <p:blipFill>
          <a:blip r:embed="rId2"/>
          <a:stretch/>
        </p:blipFill>
        <p:spPr>
          <a:xfrm>
            <a:off x="1295280" y="3591000"/>
            <a:ext cx="4267440" cy="3267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4"/>
          <p:cNvSpPr/>
          <p:nvPr/>
        </p:nvSpPr>
        <p:spPr>
          <a:xfrm>
            <a:off x="5562720" y="1219320"/>
            <a:ext cx="3581280" cy="388620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ретен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раз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е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228600" y="1371600"/>
            <a:ext cx="3622680" cy="2994120"/>
          </a:xfrm>
          <a:prstGeom prst="irregularSeal2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неч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95280" y="3049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Arial Black"/>
              </a:rPr>
              <a:t>Знаете ли Вы,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Гепард"/>
          <p:cNvPicPr/>
          <p:nvPr/>
        </p:nvPicPr>
        <p:blipFill>
          <a:blip r:embed="rId2"/>
          <a:stretch/>
        </p:blipFill>
        <p:spPr>
          <a:xfrm>
            <a:off x="3646440" y="3929040"/>
            <a:ext cx="5040360" cy="3360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500040" y="1219320"/>
            <a:ext cx="6434280" cy="3504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Самый быстрый спринтер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гепар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Его скорость достиг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96-101 км/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Давайте обсудим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6095880" y="1371600"/>
            <a:ext cx="2819520" cy="2743200"/>
          </a:xfrm>
          <a:prstGeom prst="wedgeRectCallout">
            <a:avLst>
              <a:gd name="adj1" fmla="val -93074"/>
              <a:gd name="adj2" fmla="val 11082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акое животное здесь лишне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Аист"/>
          <p:cNvPicPr/>
          <p:nvPr/>
        </p:nvPicPr>
        <p:blipFill>
          <a:blip r:embed="rId3"/>
          <a:stretch/>
        </p:blipFill>
        <p:spPr>
          <a:xfrm>
            <a:off x="457200" y="1371600"/>
            <a:ext cx="19749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Белка-летяга"/>
          <p:cNvPicPr/>
          <p:nvPr/>
        </p:nvPicPr>
        <p:blipFill>
          <a:blip r:embed="rId4"/>
          <a:stretch/>
        </p:blipFill>
        <p:spPr>
          <a:xfrm>
            <a:off x="457200" y="4724280"/>
            <a:ext cx="3209760" cy="179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Панда"/>
          <p:cNvPicPr/>
          <p:nvPr/>
        </p:nvPicPr>
        <p:blipFill>
          <a:blip r:embed="rId5"/>
          <a:stretch/>
        </p:blipFill>
        <p:spPr>
          <a:xfrm>
            <a:off x="6788160" y="4572000"/>
            <a:ext cx="1860480" cy="18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Пчела"/>
          <p:cNvPicPr/>
          <p:nvPr/>
        </p:nvPicPr>
        <p:blipFill>
          <a:blip r:embed="rId6"/>
          <a:stretch/>
        </p:blipFill>
        <p:spPr>
          <a:xfrm>
            <a:off x="3419640" y="1341360"/>
            <a:ext cx="1901520" cy="2876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/>
          <p:cNvSpPr/>
          <p:nvPr/>
        </p:nvSpPr>
        <p:spPr>
          <a:xfrm>
            <a:off x="304920" y="0"/>
            <a:ext cx="6933960" cy="3505320"/>
          </a:xfrm>
          <a:custGeom>
            <a:avLst/>
            <a:gdLst>
              <a:gd name="textAreaLeft" fmla="*/ 0 w 6933960"/>
              <a:gd name="textAreaRight" fmla="*/ 6934320 w 6933960"/>
              <a:gd name="textAreaTop" fmla="*/ 454320 h 3505320"/>
              <a:gd name="textAreaBottom" fmla="*/ 30510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Без движения – бед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анешь пищей без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 на солнышке сгориш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т врагов не убеж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572000" y="3352680"/>
            <a:ext cx="4572000" cy="1905120"/>
          </a:xfrm>
          <a:prstGeom prst="irregularSeal1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ывод прост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762120" y="5486400"/>
            <a:ext cx="8076960" cy="990720"/>
          </a:xfrm>
          <a:custGeom>
            <a:avLst/>
            <a:gdLst>
              <a:gd name="textAreaLeft" fmla="*/ 2019240 w 8076960"/>
              <a:gd name="textAreaRight" fmla="*/ 6057720 w 807696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вижение – жизни про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AG00043_"/>
          <p:cNvPicPr/>
          <p:nvPr/>
        </p:nvPicPr>
        <p:blipFill>
          <a:blip r:embed="rId4"/>
          <a:stretch/>
        </p:blipFill>
        <p:spPr>
          <a:xfrm>
            <a:off x="1219320" y="3124080"/>
            <a:ext cx="1295280" cy="2171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500040" y="214200"/>
            <a:ext cx="6572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Для чего нужно движе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Бег, прыжок, ходьба, скольже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Плаванье, полет…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140360" y="37162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wiss911 XCm BT"/>
              </a:rPr>
              <a:t>Как знать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332000" y="5661000"/>
            <a:ext cx="74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empus Sans ITC"/>
              </a:rPr>
              <a:t>Может лучше полежа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0" y="2733840"/>
            <a:ext cx="4714920" cy="29844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14280" y="0"/>
            <a:ext cx="685800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5920" y="3357720"/>
            <a:ext cx="712944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еремещение всего организма с одного места на другое называется</a:t>
            </a: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400" spc="-1" strike="noStrike" u="sng">
                <a:solidFill>
                  <a:srgbClr val="7030a0"/>
                </a:solidFill>
                <a:uFillTx/>
                <a:latin typeface="Raavi"/>
              </a:rPr>
              <a:t>локомоцией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т лат.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locus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– место,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motio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– движение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Животные способны к активным перемещени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кенгуру"/>
          <p:cNvPicPr/>
          <p:nvPr/>
        </p:nvPicPr>
        <p:blipFill>
          <a:blip r:embed="rId2"/>
          <a:stretch/>
        </p:blipFill>
        <p:spPr>
          <a:xfrm>
            <a:off x="380880" y="2071800"/>
            <a:ext cx="3414960" cy="21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394240" y="2071800"/>
            <a:ext cx="3357720" cy="226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2817720" y="4429080"/>
            <a:ext cx="338796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Значение локомоции у живот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1928880"/>
            <a:ext cx="616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иск пи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Спасение от хищников и неблагоприятных условий ср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Расселение и освоение новых местообит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иск половых партне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1792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ростейшие имеют специальные органоиды дви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Амеба2"/>
          <p:cNvPicPr/>
          <p:nvPr/>
        </p:nvPicPr>
        <p:blipFill>
          <a:blip r:embed="rId2"/>
          <a:stretch/>
        </p:blipFill>
        <p:spPr>
          <a:xfrm>
            <a:off x="609480" y="2133720"/>
            <a:ext cx="19465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Инфузория"/>
          <p:cNvPicPr/>
          <p:nvPr/>
        </p:nvPicPr>
        <p:blipFill>
          <a:blip r:embed="rId3"/>
          <a:stretch/>
        </p:blipFill>
        <p:spPr>
          <a:xfrm>
            <a:off x="7315200" y="182880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Эвглена"/>
          <p:cNvPicPr/>
          <p:nvPr/>
        </p:nvPicPr>
        <p:blipFill>
          <a:blip r:embed="rId4"/>
          <a:stretch/>
        </p:blipFill>
        <p:spPr>
          <a:xfrm>
            <a:off x="4114800" y="2133720"/>
            <a:ext cx="197964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60948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ожнонож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1905120" y="4419360"/>
            <a:ext cx="1522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 flipV="1">
            <a:off x="914400" y="3429000"/>
            <a:ext cx="9144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191120" y="5410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 flipH="1" flipV="1">
            <a:off x="4571640" y="3733920"/>
            <a:ext cx="60948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78168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есни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7467480" y="464796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86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вижения всех многоклеточных животных связаны с мышечной деятельность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Движение червя"/>
          <p:cNvPicPr/>
          <p:nvPr/>
        </p:nvPicPr>
        <p:blipFill>
          <a:blip r:embed="rId2"/>
          <a:stretch/>
        </p:blipFill>
        <p:spPr>
          <a:xfrm>
            <a:off x="1219320" y="380880"/>
            <a:ext cx="6638760" cy="3718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1357200" y="3857760"/>
            <a:ext cx="681048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е в 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ной среде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7:58:34Z</dcterms:created>
  <dc:creator>st1-9</dc:creator>
  <dc:description/>
  <dc:language>en-US</dc:language>
  <cp:lastModifiedBy>user</cp:lastModifiedBy>
  <dcterms:modified xsi:type="dcterms:W3CDTF">2017-04-20T16:03:59Z</dcterms:modified>
  <cp:revision>105</cp:revision>
  <dc:subject/>
  <dc:title>Презентация PowerPoint</dc:title>
</cp:coreProperties>
</file>