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3395-F3E7-4826-8448-0DDA49DBFA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C86-87A2-4B8A-989C-70628DBCCA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5782-BE08-4C32-BF9F-59AEBE6DE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E2B4-8CC1-4B69-B3D3-C7D1C85487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86A-C8A8-4266-88D9-EEE0A481AF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1A6E-182E-48CF-9DF8-D98A79FF39D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5D5-9F9C-4B47-ACDB-78CF493E6AD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00C7-098D-420A-9BB4-58C680A247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6FED-C7D8-4B93-BABC-B68AE2B8E6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7B08-1F6C-414C-8A50-64422F15B3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D75B3-D3CB-43D2-BEE5-9D7594ACD6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D2CE-F5F8-49CD-88D9-BA5E56CCCF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9ABB-2C93-4C3B-AD04-5B09CFBDA4D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075-855A-4915-8E4E-F7169B237E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13BF-1E4D-40AE-BF61-90976219E4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7994-77A4-41CA-A5CD-F69111CBD4F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9678-0BCB-4BD7-97AA-87C42FA56C2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50AD-7F7A-4194-BD9A-F9898B4994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DAFA-6863-42AE-8B21-137B109E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53D4-6DA3-4AB6-9D98-5E35D0EF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8165-42B9-4D5A-8B84-B6706327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7B8-4ADD-4BD6-ADF9-091CF9F4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1D2-BD51-416E-B2C4-2719F850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1DBF-9503-426E-BF0C-493C3BD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99AE-DAFC-4EC4-B20C-F0ADCDC2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92F1-EFB3-4EE3-9B31-B1762A20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88A-B8B7-4702-A6F4-77710623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2268-9CBA-489A-B083-81F1753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125F-1D73-4F04-A47C-36B1FF79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764-7DD6-445D-8D20-F39F0C65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BD65-102A-447B-9122-5F65D458EE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cc0000"/>
                </a:solidFill>
                <a:latin typeface="Tahoma"/>
              </a:rPr>
              <a:t>САНКТ-ПЕТЕРБУРГ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Bookman Old Style"/>
              </a:rPr>
              <a:t>«ГОРОД  - МЕЧТА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4" descr="6"/>
          <p:cNvPicPr/>
          <p:nvPr/>
        </p:nvPicPr>
        <p:blipFill>
          <a:blip r:embed="rId2"/>
          <a:stretch/>
        </p:blipFill>
        <p:spPr>
          <a:xfrm>
            <a:off x="2362320" y="152280"/>
            <a:ext cx="434340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узей Эрмитаж ночью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7"/>
          <p:cNvPicPr/>
          <p:nvPr/>
        </p:nvPicPr>
        <p:blipFill>
          <a:blip r:embed="rId2"/>
          <a:stretch/>
        </p:blipFill>
        <p:spPr>
          <a:xfrm>
            <a:off x="914400" y="1905120"/>
            <a:ext cx="777240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орцовая площад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4" descr="9"/>
          <p:cNvPicPr/>
          <p:nvPr/>
        </p:nvPicPr>
        <p:blipFill>
          <a:blip r:embed="rId2"/>
          <a:stretch/>
        </p:blipFill>
        <p:spPr>
          <a:xfrm>
            <a:off x="838080" y="1987560"/>
            <a:ext cx="7467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Адмиралтейство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5" descr="Изображение 104"/>
          <p:cNvPicPr/>
          <p:nvPr/>
        </p:nvPicPr>
        <p:blipFill>
          <a:blip r:embed="rId2"/>
          <a:stretch/>
        </p:blipFill>
        <p:spPr>
          <a:xfrm>
            <a:off x="2666880" y="1066680"/>
            <a:ext cx="37911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Дворцовый мос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5" descr="Изображение 106"/>
          <p:cNvPicPr/>
          <p:nvPr/>
        </p:nvPicPr>
        <p:blipFill>
          <a:blip r:embed="rId2"/>
          <a:stretch/>
        </p:blipFill>
        <p:spPr>
          <a:xfrm>
            <a:off x="990720" y="1655640"/>
            <a:ext cx="72388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КУНСТКАМЕРА -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УНСТКАМЕРА - название естественно-научной  коллекции редкостей и место их хран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7" descr="кунт"/>
          <p:cNvPicPr/>
          <p:nvPr/>
        </p:nvPicPr>
        <p:blipFill>
          <a:blip r:embed="rId2"/>
          <a:stretch/>
        </p:blipFill>
        <p:spPr>
          <a:xfrm>
            <a:off x="380880" y="2209680"/>
            <a:ext cx="45720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Гостиница «Прибалтийская»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6" descr="приб"/>
          <p:cNvPicPr/>
          <p:nvPr/>
        </p:nvPicPr>
        <p:blipFill>
          <a:blip r:embed="rId2"/>
          <a:stretch/>
        </p:blipFill>
        <p:spPr>
          <a:xfrm>
            <a:off x="1447920" y="1535040"/>
            <a:ext cx="647676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Памятник Чижику-Пыжику. 1994.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6" descr="чиж"/>
          <p:cNvPicPr/>
          <p:nvPr/>
        </p:nvPicPr>
        <p:blipFill>
          <a:blip r:embed="rId2"/>
          <a:stretch/>
        </p:blipFill>
        <p:spPr>
          <a:xfrm>
            <a:off x="0" y="1523880"/>
            <a:ext cx="4495680" cy="3357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191120" y="685800"/>
            <a:ext cx="4952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дин из самых маленьких памятников мира, высота 11 сантиметров. Находится на Фонтанке недалеко от бывшего Императорского училища правоведения, основанного в 1835. Воспитанники училища одевались в мундиры желто-зеленого цвета, зимой носили «пыжиковые» шапки, за что были прозваны «чижиками-пыжиками». Считается, что брошенная на постамент скульптурки монета приносит счастье и исполнение желан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WordArt 4"/>
          <p:cNvSpPr txBox="1"/>
          <p:nvPr/>
        </p:nvSpPr>
        <p:spPr>
          <a:xfrm>
            <a:off x="533520" y="2514600"/>
            <a:ext cx="82296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 УР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амятник Петр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. Скульптор Фальконе Морис Этьен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782 году  был открыт памятник Петр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основателю горо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9" descr="6"/>
          <p:cNvPicPr/>
          <p:nvPr/>
        </p:nvPicPr>
        <p:blipFill>
          <a:blip r:embed="rId2"/>
          <a:stretch/>
        </p:blipFill>
        <p:spPr>
          <a:xfrm>
            <a:off x="0" y="1992240"/>
            <a:ext cx="4876920" cy="415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etr1i"/>
          <p:cNvPicPr/>
          <p:nvPr/>
        </p:nvPicPr>
        <p:blipFill>
          <a:blip r:embed="rId3"/>
          <a:stretch/>
        </p:blipFill>
        <p:spPr>
          <a:xfrm>
            <a:off x="6134040" y="3809880"/>
            <a:ext cx="25336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етропавловская крепость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Изображение 107"/>
          <p:cNvPicPr/>
          <p:nvPr/>
        </p:nvPicPr>
        <p:blipFill>
          <a:blip r:embed="rId2"/>
          <a:stretch/>
        </p:blipFill>
        <p:spPr>
          <a:xfrm>
            <a:off x="762120" y="1676520"/>
            <a:ext cx="723888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Васильевский остро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6" descr="10"/>
          <p:cNvPicPr/>
          <p:nvPr/>
        </p:nvPicPr>
        <p:blipFill>
          <a:blip r:embed="rId2"/>
          <a:stretch/>
        </p:blipFill>
        <p:spPr>
          <a:xfrm>
            <a:off x="762120" y="1441440"/>
            <a:ext cx="754380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рюков канал. Собор Николая  чудотворца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1"/>
          <p:cNvPicPr/>
          <p:nvPr/>
        </p:nvPicPr>
        <p:blipFill>
          <a:blip r:embed="rId2"/>
          <a:stretch/>
        </p:blipFill>
        <p:spPr>
          <a:xfrm>
            <a:off x="1219320" y="1751040"/>
            <a:ext cx="6553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Исаакиевский собор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2"/>
          <p:cNvPicPr/>
          <p:nvPr/>
        </p:nvPicPr>
        <p:blipFill>
          <a:blip r:embed="rId2"/>
          <a:stretch/>
        </p:blipFill>
        <p:spPr>
          <a:xfrm>
            <a:off x="685800" y="1928880"/>
            <a:ext cx="7543800" cy="43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Собор Воскресения Христова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в народе называется «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пас на крови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8" descr="3"/>
          <p:cNvPicPr/>
          <p:nvPr/>
        </p:nvPicPr>
        <p:blipFill>
          <a:blip r:embed="rId2"/>
          <a:stretch/>
        </p:blipFill>
        <p:spPr>
          <a:xfrm>
            <a:off x="2743200" y="1447920"/>
            <a:ext cx="361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Михайловский замок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5"/>
          <p:cNvPicPr/>
          <p:nvPr/>
        </p:nvPicPr>
        <p:blipFill>
          <a:blip r:embed="rId2"/>
          <a:stretch/>
        </p:blipFill>
        <p:spPr>
          <a:xfrm>
            <a:off x="990720" y="1490760"/>
            <a:ext cx="72388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Эрмитаж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7" descr="4"/>
          <p:cNvPicPr/>
          <p:nvPr/>
        </p:nvPicPr>
        <p:blipFill>
          <a:blip r:embed="rId2"/>
          <a:stretch/>
        </p:blipFill>
        <p:spPr>
          <a:xfrm>
            <a:off x="609480" y="1641600"/>
            <a:ext cx="76964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ьга</cp:lastModifiedBy>
  <dcterms:modified xsi:type="dcterms:W3CDTF">2011-01-04T20:32:08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