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1603-D0B7-4790-A696-87B9DED51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4B63-804E-4A4C-B3A1-C7ECD6B594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B914-FDA0-47C7-84EE-D28C76B372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96D1-3B3E-4794-AC69-4799A08E9E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3B1-CA8E-4595-AC95-370B449C0B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06D0-318C-4E36-BC6E-19E8F0C56A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5DF7-1EA7-4911-BD0C-52B4D1DB1A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79FC-A087-478C-8CDA-F93B311A8D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F4F6-867C-4FFA-A589-6235595935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3AD0-0214-46B5-930F-375EF8CD4E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3FD-10B3-47A8-8842-0FC7E9E5C2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B6D3-3FB8-40C4-B65D-22ADA18BD1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7DA5-8E79-4480-B833-2352D1C7BA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0B4D-25BA-457D-8568-A42CA559B5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ED05-FAFA-4531-B898-CE3AA8CC84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0BBE-26BA-4E57-957E-5403CE898D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C651-291B-46E3-8DD8-94956FDEB1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2F74-AAB1-4C4D-8FB2-CD6C64C2A5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6EE-F5A4-4226-A67F-95E59C98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774-104E-40B5-A286-0109317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3DB-013B-46C7-AE09-B89BB30E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F4F-FF37-4D4E-ADD6-92FC18EA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05C-DD3A-475F-B233-43DAC304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CAF-DD05-4CFD-84DA-928391E7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73F-66C8-49B8-A8A7-039D6DCB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83C-A747-4B27-B4FE-F4DCD7ED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90D-23BC-46E0-82A5-6921ED2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271-9255-4FB3-910E-D0A2B2E2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8A8-B0F6-4E56-B772-DCBC1E8E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688-C2C0-482C-89C1-987393B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90D-E4B2-4447-850D-5E69D21364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САНКТ-ПЕТЕРБУРГ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«ГОРОД  - МЕЧТ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6"/>
          <p:cNvPicPr/>
          <p:nvPr/>
        </p:nvPicPr>
        <p:blipFill>
          <a:blip r:embed="rId2"/>
          <a:stretch/>
        </p:blipFill>
        <p:spPr>
          <a:xfrm>
            <a:off x="2362320" y="152280"/>
            <a:ext cx="43434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узей Эрмитаж ночью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7"/>
          <p:cNvPicPr/>
          <p:nvPr/>
        </p:nvPicPr>
        <p:blipFill>
          <a:blip r:embed="rId2"/>
          <a:stretch/>
        </p:blipFill>
        <p:spPr>
          <a:xfrm>
            <a:off x="914400" y="1905120"/>
            <a:ext cx="7772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орцовая площад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9"/>
          <p:cNvPicPr/>
          <p:nvPr/>
        </p:nvPicPr>
        <p:blipFill>
          <a:blip r:embed="rId2"/>
          <a:stretch/>
        </p:blipFill>
        <p:spPr>
          <a:xfrm>
            <a:off x="838080" y="1987560"/>
            <a:ext cx="7467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дмиралтейств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5" descr="Изображение 104"/>
          <p:cNvPicPr/>
          <p:nvPr/>
        </p:nvPicPr>
        <p:blipFill>
          <a:blip r:embed="rId2"/>
          <a:stretch/>
        </p:blipFill>
        <p:spPr>
          <a:xfrm>
            <a:off x="2666880" y="1066680"/>
            <a:ext cx="37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орцовый мо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5" descr="Изображение 106"/>
          <p:cNvPicPr/>
          <p:nvPr/>
        </p:nvPicPr>
        <p:blipFill>
          <a:blip r:embed="rId2"/>
          <a:stretch/>
        </p:blipFill>
        <p:spPr>
          <a:xfrm>
            <a:off x="990720" y="1655640"/>
            <a:ext cx="72388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УНСТКАМЕРА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НСТКАМЕРА - название естественно-научной  коллекции редкостей и место их хра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7" descr="кунт"/>
          <p:cNvPicPr/>
          <p:nvPr/>
        </p:nvPicPr>
        <p:blipFill>
          <a:blip r:embed="rId2"/>
          <a:stretch/>
        </p:blipFill>
        <p:spPr>
          <a:xfrm>
            <a:off x="380880" y="2209680"/>
            <a:ext cx="45720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стиница «Прибалтийск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6" descr="приб"/>
          <p:cNvPicPr/>
          <p:nvPr/>
        </p:nvPicPr>
        <p:blipFill>
          <a:blip r:embed="rId2"/>
          <a:stretch/>
        </p:blipFill>
        <p:spPr>
          <a:xfrm>
            <a:off x="1447920" y="1535040"/>
            <a:ext cx="64767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амятник Чижику-Пыжику. 1994.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6" descr="чиж"/>
          <p:cNvPicPr/>
          <p:nvPr/>
        </p:nvPicPr>
        <p:blipFill>
          <a:blip r:embed="rId2"/>
          <a:stretch/>
        </p:blipFill>
        <p:spPr>
          <a:xfrm>
            <a:off x="0" y="1523880"/>
            <a:ext cx="4495680" cy="3357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191120" y="6858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 из самых маленьких памятников мира, высота 11 сантиметров. Находится на Фонтанке недалеко от бывшего Императорского училища правоведения, основанного в 1835. Воспитанники училища одевались в мундиры желто-зеленого цвета, зимой носили «пыжиковые» шапки, за что были прозваны «чижиками-пыжиками». Считается, что брошенная на постамент скульптурки монета приносит счастье и исполнение жел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3520" y="2514600"/>
            <a:ext cx="8229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 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мятник Петр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 Скульптор Фальконе Морис Этье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82 году  был открыт памятник Петр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нователю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6"/>
          <p:cNvPicPr/>
          <p:nvPr/>
        </p:nvPicPr>
        <p:blipFill>
          <a:blip r:embed="rId2"/>
          <a:stretch/>
        </p:blipFill>
        <p:spPr>
          <a:xfrm>
            <a:off x="0" y="1992240"/>
            <a:ext cx="4876920" cy="415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tr1i"/>
          <p:cNvPicPr/>
          <p:nvPr/>
        </p:nvPicPr>
        <p:blipFill>
          <a:blip r:embed="rId3"/>
          <a:stretch/>
        </p:blipFill>
        <p:spPr>
          <a:xfrm>
            <a:off x="6134040" y="3809880"/>
            <a:ext cx="2533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тропавловская креп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6" descr="Изображение 107"/>
          <p:cNvPicPr/>
          <p:nvPr/>
        </p:nvPicPr>
        <p:blipFill>
          <a:blip r:embed="rId2"/>
          <a:stretch/>
        </p:blipFill>
        <p:spPr>
          <a:xfrm>
            <a:off x="762120" y="1676520"/>
            <a:ext cx="72388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асильевский остр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6" descr="10"/>
          <p:cNvPicPr/>
          <p:nvPr/>
        </p:nvPicPr>
        <p:blipFill>
          <a:blip r:embed="rId2"/>
          <a:stretch/>
        </p:blipFill>
        <p:spPr>
          <a:xfrm>
            <a:off x="762120" y="1441440"/>
            <a:ext cx="75438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юков канал. Собор Николая  чудотворц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6" descr="1"/>
          <p:cNvPicPr/>
          <p:nvPr/>
        </p:nvPicPr>
        <p:blipFill>
          <a:blip r:embed="rId2"/>
          <a:stretch/>
        </p:blipFill>
        <p:spPr>
          <a:xfrm>
            <a:off x="1219320" y="1751040"/>
            <a:ext cx="6553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аакиевский собо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2"/>
          <p:cNvPicPr/>
          <p:nvPr/>
        </p:nvPicPr>
        <p:blipFill>
          <a:blip r:embed="rId2"/>
          <a:stretch/>
        </p:blipFill>
        <p:spPr>
          <a:xfrm>
            <a:off x="685800" y="1928880"/>
            <a:ext cx="754380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обор Воскресения Христова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 народе называется «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пас на крови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8" descr="3"/>
          <p:cNvPicPr/>
          <p:nvPr/>
        </p:nvPicPr>
        <p:blipFill>
          <a:blip r:embed="rId2"/>
          <a:stretch/>
        </p:blipFill>
        <p:spPr>
          <a:xfrm>
            <a:off x="2743200" y="1447920"/>
            <a:ext cx="361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ихайловский зам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6" descr="5"/>
          <p:cNvPicPr/>
          <p:nvPr/>
        </p:nvPicPr>
        <p:blipFill>
          <a:blip r:embed="rId2"/>
          <a:stretch/>
        </p:blipFill>
        <p:spPr>
          <a:xfrm>
            <a:off x="990720" y="1490760"/>
            <a:ext cx="72388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рмитаж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7" descr="4"/>
          <p:cNvPicPr/>
          <p:nvPr/>
        </p:nvPicPr>
        <p:blipFill>
          <a:blip r:embed="rId2"/>
          <a:stretch/>
        </p:blipFill>
        <p:spPr>
          <a:xfrm>
            <a:off x="609480" y="1641600"/>
            <a:ext cx="76964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1-01-04T20:32:0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