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Palatino Linotype"/>
              </a:rPr>
              <a:t>&lt;date/time&gt;</a:t>
            </a:r>
            <a:endParaRPr b="0" lang="en-US" sz="1200" spc="-1" strike="noStrike">
              <a:solidFill>
                <a:srgbClr val="000000"/>
              </a:solidFill>
              <a:latin typeface="Palatino Linotype"/>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move the slide</a:t>
            </a:r>
            <a:endParaRPr b="1" lang="en-US" sz="4100" spc="-1" strike="noStrike">
              <a:solidFill>
                <a:srgbClr val="4e5b6f"/>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DE73-83C3-4A29-83F3-F221DC9F506D}" type="slidenum">
              <a:rPr b="0" lang="ru-RU"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82D2-2619-4312-9F74-DC67885A1E53}" type="slidenum">
              <a:rPr b="0" lang="ru-RU"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8AFC6-33AF-4F24-A8EB-567CDCE17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D466F-1A9D-495E-9D61-1DEF9F806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1EDD4-525C-41EE-8698-668D0FEDC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27A11-BC3D-42DB-8D85-FB8355C29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889ACF-6A4E-406F-8382-02DA8645FF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E7376-32C0-4C34-BC04-6E9430211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FB17B-1A59-49B0-AB3E-8489B0E1A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8524F-90F8-4349-AA97-EF22A3AD5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CFF6D-5DF5-46C2-8CD7-9F52FBECC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AA635-B56D-44F7-8AF0-0223B40F1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3836C-D76A-4DDB-BCD7-A1024176D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7DD1A-A176-4021-B1CC-9591E510F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25D7D-241C-4432-94E0-7AB73E0F2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3AF2C-22A5-4CEE-96AE-BD7A69C56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A8375-FD3C-4F1F-854C-71D746F46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37A2DE-8146-49B7-B551-F91B8949A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FF589B-4007-49FB-AB36-A3EEA490A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7BBD1C-79ED-4B25-851B-7FC5AC5E38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BA3557-BCA9-4B26-9FC0-5102E12FA0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759517-9694-4A57-B032-D7C772DB32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94C5E5-C562-416F-9CFB-EBAC8E23E7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880814-1633-4C97-AE75-C0170B5F13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C975A-7163-4904-A542-3B8995142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ED80FE-CEEB-4C82-967F-ABEDE5E150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77AFE4-6652-4B53-ADB5-8FF97419FD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9F4F2D-3830-484D-A710-8978458F87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5B2148-B356-4904-966C-D4074C5726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C16848-4C2A-4920-971C-FB4D6F5C85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A6A316-D0BF-4B9B-BFC3-46498CD4D3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2D9DDD-1B00-42A0-981C-A18D25A6D3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C07D61-8215-4A95-A8AF-291BA29220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A3AE73-4252-465B-80E6-9AEC0E3068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9329E5-E794-47BB-BAA8-0EB357D8FC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2ED51-ECED-4923-B84A-4A3375E54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DD5CD1-BAC2-406D-AA98-20D218C080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F232F3-8F6C-405D-94B6-9139A1B174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8A6B40-17DA-461E-A06F-7F3F684183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3802BE-45C3-4771-B195-0E208C3518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A50312-68ED-463E-8343-21E1E6ABA9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1C8846-B68B-41F0-ABE1-7D37411222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BB35B1-EFDF-4951-BC66-DCFBC2D8EE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D5AEB0-0523-4721-86B8-088BAD8E46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8EE2BD-834B-4E55-9D18-5B5B031EC2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4F525A-C039-404B-B576-D9F88C3882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B3C2B-9283-4624-B418-86F67C0DE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4EAC36-81BB-4AD9-9AB7-1FB0203A35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37F821-3DD2-4075-A62B-E8E16D8816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85B6B6-1F1F-4A07-9292-328F29977D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ECEAB2-D132-45B6-A662-FEDD4C4C40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4D8933-5107-4B22-B5DF-31FCB35518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4B55AE-CD79-467F-9938-FD46D835EE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201BAF-D57C-4702-8873-04C4364325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02A29C-3CD7-4C71-8232-69D9558DD2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987339-BBA3-4889-B3F8-CAA3CD333A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907CAA-75C8-4DC5-85E5-66A3623356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05513-C625-48F8-A378-EDFF74A20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C79463-D5C3-4B97-9A68-A0F188318C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4E2C03-51D3-4495-A95D-17DE95DF86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C1F5AB-9115-43B2-9922-0C38C91A50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055C2E-AE82-4989-9DAB-054581B5DB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609A59-B481-484C-9C23-A22600ECF5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25D65D-1468-44FC-86F3-7222D36B84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7B8A5C-040C-49CF-BFA8-8A1ECF0F47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5B3042-DAD3-4B37-89DE-C952C3C817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BF421E-C908-424A-A0FB-353C60FC94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A21671-5FC0-43C8-95B4-B307CC3EC3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4D7A8-B32A-4B23-AA78-69ED64D60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C11FA5-74B4-4F0A-B5FF-C8639AFE15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3F46C4-1C96-4C14-B64D-16D15FD303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F24A2C-ECF8-47D9-9BD5-6E59F791B2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FD3C5D-E424-4A10-ABA3-50807E9CE7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60A7D5-66A5-4F7E-968F-AA7D584F52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24673F-B583-4A91-8FED-166791F76D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EAF0B1-0B4E-486F-8871-E335A2DEBA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90A1A1-8D23-4165-B801-2195975827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DBFE63-963A-4A32-9B2C-C529883F70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4814FA-1926-407F-80EC-6D2153EB87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11443-3B75-41A1-B37D-8C236F91C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78D8FA-4B4D-4330-98E7-AB8BA806A0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D38A57-807E-428E-AF20-457A1CAA8E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FF60B0-8762-42F5-8C2B-4066AC2D29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D4342B-A01E-40D1-A9F4-5726780AC5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B03D76-7A24-49CE-8718-292B882DDC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CD2E15-5AA0-4F96-8E92-7702E7C3E0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BE2036-55E3-474C-A5FD-1BDC5FFD4B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4A82C3-BF65-41F7-B954-D90819CCCE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E865F8-DBC0-4D55-9488-EC11160D81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4B619B-C875-4DA2-82AA-AFC16885E5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22BFA-2B2C-49DB-B25C-5AB68A3FF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5D0A0B-D7D2-467F-B66A-D53C0CFB3F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73D43A-8828-4077-81C6-D8DF5514E6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C3BB78-3897-46B6-A54F-D78DE70435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26EE85-AD87-4D3C-8944-827BB6F461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AC9039-BAF7-445E-8987-292A7825C3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5930F4-4ECE-44E3-8C29-769D906D06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72F4E6-6B2E-46B4-8B57-F3EC0CE4F1C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lt;date/time&gt;</a:t>
            </a:r>
            <a:endParaRPr b="0" lang="en-US" sz="1000" spc="-1" strike="noStrike">
              <a:solidFill>
                <a:srgbClr val="000000"/>
              </a:solidFill>
              <a:latin typeface="Palatino Linotype"/>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D01E6-0800-46D8-8240-06971747A6B8}" type="slidenum">
              <a:rPr b="0" lang="ru-RU"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4aa400"/>
              </a:gs>
              <a:gs pos="50000">
                <a:srgbClr val="8df24d"/>
              </a:gs>
              <a:gs pos="100000">
                <a:srgbClr val="4aa400"/>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nvGrpSpPr>
          <p:cNvPr id="48" name="Группа 15"/>
          <p:cNvGrpSpPr/>
          <p:nvPr/>
        </p:nvGrpSpPr>
        <p:grpSpPr>
          <a:xfrm>
            <a:off x="-3240" y="4952880"/>
            <a:ext cx="9147240" cy="1911600"/>
            <a:chOff x="-3240" y="4952880"/>
            <a:chExt cx="9147240" cy="1911600"/>
          </a:xfrm>
        </p:grpSpPr>
        <p:sp>
          <p:nvSpPr>
            <p:cNvPr id="49" name="Полилиния 15"/>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50" name="Полилиния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nvGrpSpPr>
            <p:cNvPr id="51" name="Полилиния 18"/>
            <p:cNvGrpSpPr/>
            <p:nvPr/>
          </p:nvGrpSpPr>
          <p:grpSpPr>
            <a:xfrm>
              <a:off x="2520" y="4992120"/>
              <a:ext cx="9141480" cy="1872360"/>
              <a:chOff x="2520" y="4992120"/>
              <a:chExt cx="9141480" cy="1872360"/>
            </a:xfrm>
          </p:grpSpPr>
          <p:pic>
            <p:nvPicPr>
              <p:cNvPr id="52" name="Полилиния 18"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pic>
          <p:nvPicPr>
            <p:cNvPr id="54" name="Прямая соединительная линия 19"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Palatino Linotype"/>
              </a:rPr>
              <a:t>&lt;date/time&gt;</a:t>
            </a:r>
            <a:endParaRPr b="0" lang="en-US" sz="1000" spc="-1" strike="noStrike">
              <a:solidFill>
                <a:srgbClr val="000000"/>
              </a:solidFill>
              <a:latin typeface="Palatino Linotype"/>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0C6C-D08C-46D7-B998-5814E6B3B28C}" type="slidenum">
              <a:rPr b="0" lang="ru-RU" sz="1000" spc="-1" strike="noStrike">
                <a:solidFill>
                  <a:srgbClr val="ffffff"/>
                </a:solidFill>
                <a:latin typeface="Palatino Linotype"/>
              </a:rPr>
              <a:t>&lt;number&gt;</a:t>
            </a:fld>
            <a:endParaRPr b="0" lang="en-US" sz="10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7"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3" name="Нашивка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lt;date/time&gt;</a:t>
            </a:r>
            <a:endParaRPr b="0" lang="en-US" sz="1000" spc="-1" strike="noStrike">
              <a:solidFill>
                <a:srgbClr val="000000"/>
              </a:solidFill>
              <a:latin typeface="Palatino Linotype"/>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F2D8-D457-401F-9894-BE8689625F94}" type="slidenum">
              <a:rPr b="0" lang="ru-RU"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46"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lt;date/time&gt;</a:t>
            </a:r>
            <a:endParaRPr b="0" lang="en-US" sz="1000" spc="-1" strike="noStrike">
              <a:solidFill>
                <a:srgbClr val="000000"/>
              </a:solidFill>
              <a:latin typeface="Palatino Linotype"/>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7465-0ED7-4A67-A4B9-1BCBE1F75364}" type="slidenum">
              <a:rPr b="0" lang="ru-RU"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lt;date/time&gt;</a:t>
            </a:r>
            <a:endParaRPr b="0" lang="en-US" sz="1000" spc="-1" strike="noStrike">
              <a:solidFill>
                <a:srgbClr val="000000"/>
              </a:solidFill>
              <a:latin typeface="Palatino Linotype"/>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E7F2C-78D1-4CBE-87FB-B67C15AA3F63}" type="slidenum">
              <a:rPr b="0" lang="ru-RU"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234"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lt;date/time&gt;</a:t>
            </a:r>
            <a:endParaRPr b="0" lang="en-US" sz="1000" spc="-1" strike="noStrike">
              <a:solidFill>
                <a:srgbClr val="000000"/>
              </a:solidFill>
              <a:latin typeface="Palatino Linotype"/>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215A-FEB2-4571-A081-17C7CD4E57FE}" type="slidenum">
              <a:rPr b="0" lang="ru-RU"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lt;date/time&gt;</a:t>
            </a:r>
            <a:endParaRPr b="0" lang="en-US" sz="1000" spc="-1" strike="noStrike">
              <a:solidFill>
                <a:srgbClr val="000000"/>
              </a:solidFill>
              <a:latin typeface="Palatino Linotype"/>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7667-184D-40DE-9A0A-A3FE91BF1A54}" type="slidenum">
              <a:rPr b="0" lang="ru-RU"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322" name="Полилиния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nvGrpSpPr>
          <p:cNvPr id="323" name="Прямоугольный треугольник 15"/>
          <p:cNvGrpSpPr/>
          <p:nvPr/>
        </p:nvGrpSpPr>
        <p:grpSpPr>
          <a:xfrm>
            <a:off x="-12600" y="5784840"/>
            <a:ext cx="3414600" cy="1092240"/>
            <a:chOff x="-12600" y="5784840"/>
            <a:chExt cx="3414600" cy="1092240"/>
          </a:xfrm>
        </p:grpSpPr>
        <p:pic>
          <p:nvPicPr>
            <p:cNvPr id="324" name="Прямоугольный треугольник 15"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pic>
        <p:nvPicPr>
          <p:cNvPr id="326" name="Прямая соединительная линия 16" descr=""/>
          <p:cNvPicPr/>
          <p:nvPr/>
        </p:nvPicPr>
        <p:blipFill>
          <a:blip r:embed="rId4"/>
          <a:stretch/>
        </p:blipFill>
        <p:spPr>
          <a:xfrm>
            <a:off x="-19080" y="5772240"/>
            <a:ext cx="3421080" cy="1109520"/>
          </a:xfrm>
          <a:prstGeom prst="rect">
            <a:avLst/>
          </a:prstGeom>
          <a:ln w="0">
            <a:noFill/>
          </a:ln>
        </p:spPr>
      </p:pic>
      <p:sp>
        <p:nvSpPr>
          <p:cNvPr id="327" name="Нашивка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28" name="Нашивка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Palatino Linotype"/>
              </a:rPr>
              <a:t>&lt;date/time&gt;</a:t>
            </a:r>
            <a:endParaRPr b="0" lang="en-US" sz="1000" spc="-1" strike="noStrike">
              <a:solidFill>
                <a:srgbClr val="000000"/>
              </a:solidFill>
              <a:latin typeface="Palatino Linotype"/>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FD15-8C10-4D20-B74F-488C604B71F0}" type="slidenum">
              <a:rPr b="0" lang="ru-RU" sz="1000" spc="-1" strike="noStrike">
                <a:solidFill>
                  <a:srgbClr val="ffffff"/>
                </a:solidFill>
                <a:latin typeface="Palatino Linotype"/>
              </a:rPr>
              <a:t>&lt;number&gt;</a:t>
            </a:fld>
            <a:endParaRPr b="0" lang="en-US" sz="10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Прямоугольник 3"/>
          <p:cNvSpPr/>
          <p:nvPr/>
        </p:nvSpPr>
        <p:spPr>
          <a:xfrm>
            <a:off x="357120" y="214200"/>
            <a:ext cx="8462880" cy="55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атарстан Республикасы Ютазы  муниципаль районы</a:t>
            </a:r>
            <a:endParaRPr b="0" lang="en-US" sz="18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униципаль бюджет</a:t>
            </a:r>
            <a:r>
              <a:rPr b="0" lang="tt-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муми белем бирү учреждениесе</a:t>
            </a:r>
            <a:endParaRPr b="0" lang="en-US" sz="18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3нче  санлы Урыссу урта гомуми белем бирү мәктәбе”</a:t>
            </a:r>
            <a:endParaRPr b="0" lang="en-US" sz="18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f6d19"/>
                </a:solidFill>
                <a:latin typeface="Times New Roman"/>
                <a:ea typeface="Times New Roman"/>
              </a:rPr>
              <a:t>фәнни-тикшеренү эшенең темасы</a:t>
            </a:r>
            <a:endParaRPr b="0" lang="en-US" sz="36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f6d19"/>
                </a:solidFill>
                <a:latin typeface="Times New Roman"/>
                <a:ea typeface="Times New Roman"/>
              </a:rPr>
              <a:t>Сирин Батыршин иҗатында </a:t>
            </a:r>
            <a:endParaRPr b="0" lang="en-US" sz="36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f6d19"/>
                </a:solidFill>
                <a:latin typeface="Times New Roman"/>
                <a:ea typeface="Times New Roman"/>
              </a:rPr>
              <a:t>мәсәл жанры</a:t>
            </a:r>
            <a:endParaRPr b="0" lang="en-US" sz="36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әнни эшне башкарды:</a:t>
            </a:r>
            <a:endParaRPr b="0" lang="en-US" sz="20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11 нче сыйныф укучысы </a:t>
            </a:r>
            <a:endParaRPr b="0" lang="en-US" sz="20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браһимов Искәндәр Илдар  улы</a:t>
            </a:r>
            <a:endParaRPr b="0" lang="en-US" sz="20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Прямоугольник 3"/>
          <p:cNvSpPr/>
          <p:nvPr/>
        </p:nvSpPr>
        <p:spPr>
          <a:xfrm>
            <a:off x="2286000" y="720720"/>
            <a:ext cx="457200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rPr>
              <a:t>                  </a:t>
            </a:r>
            <a:endParaRPr b="0" lang="en-US" sz="24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p:txBody>
      </p:sp>
      <p:sp>
        <p:nvSpPr>
          <p:cNvPr id="379" name="Прямоугольник 1"/>
          <p:cNvSpPr/>
          <p:nvPr/>
        </p:nvSpPr>
        <p:spPr>
          <a:xfrm>
            <a:off x="785880" y="285840"/>
            <a:ext cx="8001000" cy="67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Максатым:         </a:t>
            </a:r>
            <a:endParaRPr b="0" lang="en-US" sz="2000" spc="-1" strike="noStrike">
              <a:solidFill>
                <a:srgbClr val="000000"/>
              </a:solidFill>
              <a:latin typeface="Palatino Linotyp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tt-RU" sz="2000" spc="-1" strike="noStrike">
                <a:solidFill>
                  <a:srgbClr val="000000"/>
                </a:solidFill>
                <a:latin typeface="Times New Roman"/>
                <a:ea typeface="Times New Roman"/>
              </a:rPr>
              <a:t>Сирин Батыршинның мәсәлләрен уку, өйрәнү; </a:t>
            </a:r>
            <a:endParaRPr b="0" lang="en-US" sz="2000" spc="-1" strike="noStrike">
              <a:solidFill>
                <a:srgbClr val="000000"/>
              </a:solidFill>
              <a:latin typeface="Palatino Linotyp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ea typeface="Times New Roman"/>
              </a:rPr>
              <a:t> </a:t>
            </a:r>
            <a:r>
              <a:rPr b="0" lang="tt-RU" sz="2000" spc="-1" strike="noStrike">
                <a:solidFill>
                  <a:srgbClr val="000000"/>
                </a:solidFill>
                <a:latin typeface="Times New Roman"/>
                <a:ea typeface="Times New Roman"/>
              </a:rPr>
              <a:t>җыелган мәг</a:t>
            </a:r>
            <a:r>
              <a:rPr b="0" lang="ru-RU" sz="2000" spc="-1" strike="noStrike">
                <a:solidFill>
                  <a:srgbClr val="000000"/>
                </a:solidFill>
                <a:latin typeface="Times New Roman"/>
                <a:ea typeface="Times New Roman"/>
              </a:rPr>
              <a:t>ъ</a:t>
            </a:r>
            <a:r>
              <a:rPr b="0" lang="tt-RU" sz="2000" spc="-1" strike="noStrike">
                <a:solidFill>
                  <a:srgbClr val="000000"/>
                </a:solidFill>
                <a:latin typeface="Times New Roman"/>
                <a:ea typeface="Times New Roman"/>
              </a:rPr>
              <a:t>лүматларны сыйныфташларыма җиткерү.</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аксатттан чыгып мин үземә түбәндәге </a:t>
            </a:r>
            <a:r>
              <a:rPr b="1" i="1" lang="ru-RU" sz="2000" spc="-1" strike="noStrike">
                <a:solidFill>
                  <a:srgbClr val="000000"/>
                </a:solidFill>
                <a:latin typeface="Times New Roman"/>
                <a:ea typeface="Times New Roman"/>
              </a:rPr>
              <a:t>бурычлар</a:t>
            </a:r>
            <a:r>
              <a:rPr b="0" lang="ru-RU" sz="2000" spc="-1" strike="noStrike">
                <a:solidFill>
                  <a:srgbClr val="000000"/>
                </a:solidFill>
                <a:latin typeface="Times New Roman"/>
                <a:ea typeface="Times New Roman"/>
              </a:rPr>
              <a:t>ны  куйдым:</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шагыйрьнең мәсәл жанрында язылган әсәрләрен өйрәнү;</a:t>
            </a:r>
            <a:endParaRPr b="0" lang="en-US" sz="2000" spc="-1" strike="noStrike">
              <a:solidFill>
                <a:srgbClr val="000000"/>
              </a:solidFill>
              <a:latin typeface="Palatino Linotyp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тема буенча материаллар барлау,  уку,  туплау; </a:t>
            </a:r>
            <a:endParaRPr b="0" lang="en-US" sz="2000" spc="-1" strike="noStrike">
              <a:solidFill>
                <a:srgbClr val="000000"/>
              </a:solidFill>
              <a:latin typeface="Palatino Linotyp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ea typeface="Times New Roman"/>
              </a:rPr>
              <a:t> </a:t>
            </a:r>
            <a:r>
              <a:rPr b="0" lang="tt-RU" sz="2000" spc="-1" strike="noStrike">
                <a:solidFill>
                  <a:srgbClr val="000000"/>
                </a:solidFill>
                <a:latin typeface="Times New Roman"/>
                <a:ea typeface="Times New Roman"/>
              </a:rPr>
              <a:t>мәсәлләрдәге образлар бирелешенә, теленә игътибар итү.</a:t>
            </a:r>
            <a:r>
              <a:rPr b="0" lang="tt-RU" sz="2000" spc="-1" strike="noStrike">
                <a:solidFill>
                  <a:srgbClr val="000000"/>
                </a:solidFill>
                <a:latin typeface="Palatino Linotype"/>
              </a:rPr>
              <a:t> </a:t>
            </a:r>
            <a:endParaRPr b="0" lang="en-US" sz="20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ea typeface="Times New Roman"/>
              </a:rPr>
              <a:t>Фәнни-тикшеренү эшенең</a:t>
            </a:r>
            <a:r>
              <a:rPr b="1" lang="tt-RU" sz="2000" spc="-1" strike="noStrike">
                <a:solidFill>
                  <a:srgbClr val="000000"/>
                </a:solidFill>
                <a:latin typeface="Times New Roman"/>
                <a:ea typeface="Times New Roman"/>
              </a:rPr>
              <a:t> төп объекты</a:t>
            </a:r>
            <a:r>
              <a:rPr b="0" lang="tt-RU" sz="2000" spc="-1" strike="noStrike">
                <a:solidFill>
                  <a:srgbClr val="000000"/>
                </a:solidFill>
                <a:latin typeface="Times New Roman"/>
                <a:ea typeface="Times New Roman"/>
              </a:rPr>
              <a:t> – Сирин Батыршинның 1932-1935 еллар һәм сөргеннән соңгы чоры  иҗаты; </a:t>
            </a:r>
            <a:r>
              <a:rPr b="1" lang="tt-RU" sz="2000" spc="-1" strike="noStrike">
                <a:solidFill>
                  <a:srgbClr val="000000"/>
                </a:solidFill>
                <a:latin typeface="Times New Roman"/>
                <a:ea typeface="Times New Roman"/>
              </a:rPr>
              <a:t>предметы</a:t>
            </a:r>
            <a:r>
              <a:rPr b="0" lang="tt-RU" sz="2000" spc="-1" strike="noStrike">
                <a:solidFill>
                  <a:srgbClr val="000000"/>
                </a:solidFill>
                <a:latin typeface="Times New Roman"/>
                <a:ea typeface="Times New Roman"/>
              </a:rPr>
              <a:t> – мәсәлләр.</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ea typeface="Times New Roman"/>
              </a:rPr>
              <a:t>   </a:t>
            </a:r>
            <a:r>
              <a:rPr b="0" lang="tt-RU" sz="2000" spc="-1" strike="noStrike">
                <a:solidFill>
                  <a:srgbClr val="000000"/>
                </a:solidFill>
                <a:latin typeface="Times New Roman"/>
                <a:ea typeface="Times New Roman"/>
              </a:rPr>
              <a:t>Әлеге эшне башкарганда түбәндәге </a:t>
            </a:r>
            <a:r>
              <a:rPr b="1" lang="tt-RU" sz="2000" spc="-1" strike="noStrike">
                <a:solidFill>
                  <a:srgbClr val="000000"/>
                </a:solidFill>
                <a:latin typeface="Times New Roman"/>
                <a:ea typeface="Times New Roman"/>
              </a:rPr>
              <a:t>метод-алымнарны</a:t>
            </a:r>
            <a:r>
              <a:rPr b="0" lang="tt-RU" sz="2000" spc="-1" strike="noStrike">
                <a:solidFill>
                  <a:srgbClr val="000000"/>
                </a:solidFill>
                <a:latin typeface="Times New Roman"/>
                <a:ea typeface="Times New Roman"/>
              </a:rPr>
              <a:t>  кулландым: тикшеренү, эзләнү, анализлау, күзәтү, гомумиләштерү, нәтиҗә ясау.</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ea typeface="Times New Roman"/>
              </a:rPr>
              <a:t>   </a:t>
            </a:r>
            <a:r>
              <a:rPr b="1" lang="tt-RU" sz="2000" spc="-1" strike="noStrike">
                <a:solidFill>
                  <a:srgbClr val="000000"/>
                </a:solidFill>
                <a:latin typeface="Times New Roman"/>
                <a:ea typeface="Times New Roman"/>
              </a:rPr>
              <a:t>Фәнни эшнең структурасы</a:t>
            </a:r>
            <a:r>
              <a:rPr b="0" lang="tt-RU" sz="2000" spc="-1" strike="noStrike">
                <a:solidFill>
                  <a:srgbClr val="000000"/>
                </a:solidFill>
                <a:latin typeface="Times New Roman"/>
                <a:ea typeface="Times New Roman"/>
              </a:rPr>
              <a:t>. Фәнни эш кереш, төп өлеш,йомгаклау һәм кулланылган әдәбият исемлегеннән тора.</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Прямоугольник 3"/>
          <p:cNvSpPr/>
          <p:nvPr/>
        </p:nvSpPr>
        <p:spPr>
          <a:xfrm>
            <a:off x="2286000" y="720720"/>
            <a:ext cx="457200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rPr>
              <a:t>                  </a:t>
            </a:r>
            <a:endParaRPr b="0" lang="en-US" sz="24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p:txBody>
      </p:sp>
      <p:sp>
        <p:nvSpPr>
          <p:cNvPr id="381" name="Прямоугольник 1"/>
          <p:cNvSpPr/>
          <p:nvPr/>
        </p:nvSpPr>
        <p:spPr>
          <a:xfrm>
            <a:off x="785880" y="285840"/>
            <a:ext cx="7386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82" name="Rectangle 1"/>
          <p:cNvSpPr/>
          <p:nvPr/>
        </p:nvSpPr>
        <p:spPr>
          <a:xfrm>
            <a:off x="285840" y="251280"/>
            <a:ext cx="8572320" cy="5639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Times New Roman"/>
                <a:ea typeface="Times New Roman"/>
              </a:rPr>
              <a:t>Мәсәл - бик борынгы жанр</a:t>
            </a:r>
            <a:r>
              <a:rPr b="0" lang="tt-RU" sz="2800" spc="-1" strike="noStrike">
                <a:solidFill>
                  <a:srgbClr val="000000"/>
                </a:solidFill>
                <a:latin typeface="Times New Roman"/>
                <a:ea typeface="Times New Roman"/>
              </a:rPr>
              <a:t>. Ул үзенең тарихи үсешендә төрле этапларны үткән. </a:t>
            </a:r>
            <a:r>
              <a:rPr b="0" i="1" lang="tt-RU" sz="2800" spc="-1" strike="noStrike">
                <a:solidFill>
                  <a:srgbClr val="000000"/>
                </a:solidFill>
                <a:latin typeface="Times New Roman"/>
                <a:ea typeface="Times New Roman"/>
              </a:rPr>
              <a:t>Баштарак ул сөйләмдә гади мисал, чагыштыру буларак кулланыла. </a:t>
            </a:r>
            <a:r>
              <a:rPr b="0" lang="tt-RU" sz="2800" spc="-1" strike="noStrike">
                <a:solidFill>
                  <a:srgbClr val="000000"/>
                </a:solidFill>
                <a:latin typeface="Times New Roman"/>
                <a:ea typeface="Times New Roman"/>
              </a:rPr>
              <a:t>Алга таба иҗтимагый тормышта теге яки бу катлаулы ситуациядән чыгу юлын күрсәткән өйрәтмә, киңәш рәвешендә мөстәкыйльлек ала, </a:t>
            </a:r>
            <a:r>
              <a:rPr b="0" i="1" lang="tt-RU" sz="2800" spc="-1" strike="noStrike">
                <a:solidFill>
                  <a:srgbClr val="000000"/>
                </a:solidFill>
                <a:latin typeface="Times New Roman"/>
                <a:ea typeface="Times New Roman"/>
              </a:rPr>
              <a:t>борынгы грек әдәбиятында Эзоп, Рим әдәбиятында Федр иҗатында, Көнбатыш Аурупада һәм Азия илләрендә үстерелә. Атаклы осталары Лафонтен һәм Иван Крылов иҗатында чын мөстәкыйль, чын поэтик мәсәл югарылыгына күтәрелә. </a:t>
            </a:r>
            <a:endParaRPr b="0" lang="en-US" sz="28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
          <p:cNvSpPr/>
          <p:nvPr/>
        </p:nvSpPr>
        <p:spPr>
          <a:xfrm>
            <a:off x="500040" y="176760"/>
            <a:ext cx="8215200" cy="7134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700" spc="-1" strike="noStrike">
                <a:solidFill>
                  <a:srgbClr val="000000"/>
                </a:solidFill>
                <a:latin typeface="Times New Roman"/>
                <a:ea typeface="Times New Roman"/>
              </a:rPr>
              <a:t>Мәсәлне жанр буларак билгеләгән </a:t>
            </a:r>
            <a:r>
              <a:rPr b="1" i="1" lang="tt-RU" sz="2700" spc="-1" strike="noStrike">
                <a:solidFill>
                  <a:srgbClr val="000000"/>
                </a:solidFill>
                <a:latin typeface="Times New Roman"/>
                <a:ea typeface="Times New Roman"/>
              </a:rPr>
              <a:t>төп сыйфатлар: </a:t>
            </a:r>
            <a:r>
              <a:rPr b="0" lang="tt-RU" sz="2700" spc="-1" strike="noStrike">
                <a:solidFill>
                  <a:srgbClr val="000000"/>
                </a:solidFill>
                <a:latin typeface="Times New Roman"/>
                <a:ea typeface="Times New Roman"/>
              </a:rPr>
              <a:t>сюжетлылык, вакыйганың кыска һәм җыйнак, билгеле бер фикер әйтү өчен үткенәйтелгән булуы,</a:t>
            </a:r>
            <a:r>
              <a:rPr b="0" lang="ru-RU" sz="2700" spc="-1" strike="noStrike">
                <a:solidFill>
                  <a:srgbClr val="000000"/>
                </a:solidFill>
                <a:latin typeface="Times New Roman"/>
                <a:ea typeface="Times New Roman"/>
              </a:rPr>
              <a:t> аллегориягә, кинаягә корылуы. Вакыйгалардан килеп чыга торган әхлакый нәтиҗә -</a:t>
            </a:r>
            <a:r>
              <a:rPr b="1" i="1" lang="ru-RU" sz="2700" spc="-1" strike="noStrike">
                <a:solidFill>
                  <a:srgbClr val="000000"/>
                </a:solidFill>
                <a:latin typeface="Times New Roman"/>
                <a:ea typeface="Times New Roman"/>
              </a:rPr>
              <a:t>мораль</a:t>
            </a:r>
            <a:r>
              <a:rPr b="0" lang="ru-RU" sz="2700" spc="-1" strike="noStrike">
                <a:solidFill>
                  <a:srgbClr val="000000"/>
                </a:solidFill>
                <a:latin typeface="Times New Roman"/>
                <a:ea typeface="Times New Roman"/>
              </a:rPr>
              <a:t>. Төп фикер идея-әхлакый, сатирик һәм ироник характерда була</a:t>
            </a:r>
            <a:r>
              <a:rPr b="0" lang="tt-RU" sz="2700" spc="-1" strike="noStrike">
                <a:solidFill>
                  <a:srgbClr val="000000"/>
                </a:solidFill>
                <a:latin typeface="Times New Roman"/>
                <a:ea typeface="Times New Roman"/>
              </a:rPr>
              <a:t>.</a:t>
            </a:r>
            <a:endParaRPr b="0" lang="en-US" sz="27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	</a:t>
            </a:r>
            <a:r>
              <a:rPr b="0" lang="ru-RU" sz="2700" spc="-1" strike="noStrike">
                <a:solidFill>
                  <a:srgbClr val="000000"/>
                </a:solidFill>
                <a:latin typeface="Times New Roman"/>
                <a:ea typeface="Times New Roman"/>
              </a:rPr>
              <a:t>Татар әдәбиятында мәсәл борынгы дәверләрдән үк кулланылып, </a:t>
            </a:r>
            <a:r>
              <a:rPr b="0" lang="en-US" sz="2700" spc="-1" strike="noStrike">
                <a:solidFill>
                  <a:srgbClr val="000000"/>
                </a:solidFill>
                <a:latin typeface="Times New Roman"/>
                <a:ea typeface="Times New Roman"/>
              </a:rPr>
              <a:t>XIX</a:t>
            </a:r>
            <a:r>
              <a:rPr b="0" lang="ru-RU" sz="2700" spc="-1" strike="noStrike">
                <a:solidFill>
                  <a:srgbClr val="000000"/>
                </a:solidFill>
                <a:latin typeface="Times New Roman"/>
                <a:ea typeface="Times New Roman"/>
              </a:rPr>
              <a:t> йөздә, мәгърифәтчелек дәверендә, активлашып китә, </a:t>
            </a:r>
            <a:r>
              <a:rPr b="0" lang="en-US" sz="2700" spc="-1" strike="noStrike">
                <a:solidFill>
                  <a:srgbClr val="000000"/>
                </a:solidFill>
                <a:latin typeface="Times New Roman"/>
                <a:ea typeface="Times New Roman"/>
              </a:rPr>
              <a:t>XX</a:t>
            </a:r>
            <a:r>
              <a:rPr b="0" lang="ru-RU" sz="2700" spc="-1" strike="noStrike">
                <a:solidFill>
                  <a:srgbClr val="000000"/>
                </a:solidFill>
                <a:latin typeface="Times New Roman"/>
                <a:ea typeface="Times New Roman"/>
              </a:rPr>
              <a:t> йөз башында </a:t>
            </a:r>
            <a:r>
              <a:rPr b="1" i="1" lang="ru-RU" sz="2700" spc="-1" strike="noStrike">
                <a:solidFill>
                  <a:srgbClr val="000000"/>
                </a:solidFill>
                <a:latin typeface="Times New Roman"/>
                <a:ea typeface="Times New Roman"/>
              </a:rPr>
              <a:t>Габдулла Тукай, Мәҗит Гафури</a:t>
            </a:r>
            <a:r>
              <a:rPr b="0" lang="ru-RU" sz="2700" spc="-1" strike="noStrike">
                <a:solidFill>
                  <a:srgbClr val="000000"/>
                </a:solidFill>
                <a:latin typeface="Times New Roman"/>
                <a:ea typeface="Times New Roman"/>
              </a:rPr>
              <a:t> иҗатында үсеш ала.</a:t>
            </a:r>
            <a:endParaRPr b="0" lang="en-US" sz="27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700" spc="-1" strike="noStrike">
                <a:solidFill>
                  <a:srgbClr val="000000"/>
                </a:solidFill>
                <a:latin typeface="Times New Roman"/>
                <a:ea typeface="Times New Roman"/>
              </a:rPr>
              <a:t>	</a:t>
            </a:r>
            <a:r>
              <a:rPr b="0" lang="tt-RU" sz="2700" spc="-1" strike="noStrike">
                <a:solidFill>
                  <a:srgbClr val="000000"/>
                </a:solidFill>
                <a:latin typeface="Times New Roman"/>
                <a:ea typeface="Times New Roman"/>
              </a:rPr>
              <a:t>Мәсәл </a:t>
            </a:r>
            <a:r>
              <a:rPr b="0" lang="ru-RU" sz="2700" spc="-1" strike="noStrike">
                <a:solidFill>
                  <a:srgbClr val="000000"/>
                </a:solidFill>
                <a:latin typeface="Times New Roman"/>
                <a:ea typeface="Times New Roman"/>
              </a:rPr>
              <a:t>жанрын</a:t>
            </a:r>
            <a:r>
              <a:rPr b="0" lang="tt-RU" sz="2700" spc="-1" strike="noStrike">
                <a:solidFill>
                  <a:srgbClr val="000000"/>
                </a:solidFill>
                <a:latin typeface="Times New Roman"/>
                <a:ea typeface="Times New Roman"/>
              </a:rPr>
              <a:t> үстерүгә </a:t>
            </a:r>
            <a:r>
              <a:rPr b="1" i="1" lang="tt-RU" sz="2700" spc="-1" strike="noStrike">
                <a:solidFill>
                  <a:srgbClr val="000000"/>
                </a:solidFill>
                <a:latin typeface="Times New Roman"/>
                <a:ea typeface="Times New Roman"/>
              </a:rPr>
              <a:t>Сирин Батыршин </a:t>
            </a:r>
            <a:r>
              <a:rPr b="0" lang="tt-RU" sz="2700" spc="-1" strike="noStrike">
                <a:solidFill>
                  <a:srgbClr val="000000"/>
                </a:solidFill>
                <a:latin typeface="Times New Roman"/>
                <a:ea typeface="Times New Roman"/>
              </a:rPr>
              <a:t>да үзеннән шактый сизелерлек өлеш кертә. Ташып чыккан хисләрен  ул Эзоп теле аша күрсәтә.</a:t>
            </a:r>
            <a:endParaRPr b="0" lang="en-US" sz="27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1"/>
          <p:cNvSpPr/>
          <p:nvPr/>
        </p:nvSpPr>
        <p:spPr>
          <a:xfrm flipH="1" flipV="1" rot="10800000">
            <a:off x="427680" y="-4680"/>
            <a:ext cx="8429400" cy="7224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ea typeface="Times New Roman"/>
              </a:rPr>
              <a:t>1932-1935 елларда Сирин Батыршин “Кәҗә белән сарык” (1931), “Сатучы һәм сатып алучы” (1932), “Карга белән саескан” (1934), “Ишәк белән куян” (1935), һ.б. мәсәлләрен язган булса, сөргеннән кайткач та “Ике ат” (1940), “Аю белән көзге һәм мин” (1944), “Бал белән балан” (1949), “Ишәк белән куян” (1953), “Кыскартуга эләккәннәр” (1961) һ. б. әсәрләре белән мәсәл җанрын тагын да җанландырып җибәрә. </a:t>
            </a:r>
            <a:endParaRPr b="0" lang="en-US" sz="28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ea typeface="Times New Roman"/>
              </a:rPr>
              <a:t>Шагыйрь  </a:t>
            </a:r>
            <a:r>
              <a:rPr b="1" i="1" lang="tt-RU" sz="2800" spc="-1" strike="noStrike">
                <a:solidFill>
                  <a:srgbClr val="000000"/>
                </a:solidFill>
                <a:latin typeface="Times New Roman"/>
                <a:ea typeface="Times New Roman"/>
              </a:rPr>
              <a:t>аллегорик образлар </a:t>
            </a:r>
            <a:r>
              <a:rPr b="0" lang="tt-RU" sz="2800" spc="-1" strike="noStrike">
                <a:solidFill>
                  <a:srgbClr val="000000"/>
                </a:solidFill>
                <a:latin typeface="Times New Roman"/>
                <a:ea typeface="Times New Roman"/>
              </a:rPr>
              <a:t>төрлелеге аша (ишәк, куян, ат, эт, карга, саескан һ.б.) тормыштагы кимчелек, гаделсезлекне тәнкыйтьләү белән беррәттән, мәкерле, явыз, үз максатларында көчсезләрне файдаланучы кешеләрне тасвирлый. Дөреслекне әйтеп тә, сүзләренең көчсез булуын раслый. </a:t>
            </a:r>
            <a:endParaRPr b="0" lang="en-US" sz="28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imes New Roman"/>
                <a:ea typeface="Times New Roman"/>
              </a:rPr>
              <a:t>	</a:t>
            </a:r>
            <a:r>
              <a:rPr b="0" lang="tt-RU" sz="2400" spc="-1" strike="noStrike">
                <a:solidFill>
                  <a:srgbClr val="000000"/>
                </a:solidFill>
                <a:latin typeface="Times New Roman"/>
                <a:ea typeface="Times New Roman"/>
              </a:rPr>
              <a:t>	</a:t>
            </a:r>
            <a:endParaRPr b="0" lang="en-US" sz="24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Прямоугольник 1"/>
          <p:cNvSpPr/>
          <p:nvPr/>
        </p:nvSpPr>
        <p:spPr>
          <a:xfrm>
            <a:off x="500040" y="0"/>
            <a:ext cx="8215200" cy="570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00000"/>
                </a:solidFill>
                <a:latin typeface="Times New Roman"/>
                <a:ea typeface="Times New Roman"/>
              </a:rPr>
              <a:t>	</a:t>
            </a:r>
            <a:r>
              <a:rPr b="0" lang="tt-RU" sz="3200" spc="-1" strike="noStrike">
                <a:solidFill>
                  <a:srgbClr val="000000"/>
                </a:solidFill>
                <a:latin typeface="Times New Roman"/>
                <a:ea typeface="Times New Roman"/>
              </a:rPr>
              <a:t> </a:t>
            </a:r>
            <a:r>
              <a:rPr b="0" lang="tt-RU" sz="2400" spc="-1" strike="noStrike">
                <a:solidFill>
                  <a:srgbClr val="000000"/>
                </a:solidFill>
                <a:latin typeface="Times New Roman"/>
                <a:ea typeface="Times New Roman"/>
              </a:rPr>
              <a:t>Сирин Батыршинның  мәсәлләре Г.Тукай, М.Гафури һәм башкаларның мәсәлләреннән вакыйгаларның </a:t>
            </a:r>
            <a:r>
              <a:rPr b="1" i="1" lang="tt-RU" sz="2400" spc="-1" strike="noStrike">
                <a:solidFill>
                  <a:srgbClr val="000000"/>
                </a:solidFill>
                <a:latin typeface="Times New Roman"/>
                <a:ea typeface="Times New Roman"/>
              </a:rPr>
              <a:t>кыскалыгы, җыйнаклыгы; теленең халыкчанлыгы, гадилеге белән беррәттән, үткерлеге</a:t>
            </a:r>
            <a:r>
              <a:rPr b="0" lang="tt-RU" sz="2400" spc="-1" strike="noStrike">
                <a:solidFill>
                  <a:srgbClr val="000000"/>
                </a:solidFill>
                <a:latin typeface="Times New Roman"/>
                <a:ea typeface="Times New Roman"/>
              </a:rPr>
              <a:t> аерылып тора. Образлар сөйләме аша автор әйтәсе килгән фикерен аерма ачык күрсәтә. Һәр мәсәлнең әхлакый кыйммәте, тирән мәгънәсе ачыла.</a:t>
            </a:r>
            <a:r>
              <a:rPr b="0" lang="tt-RU" sz="2400" spc="-1" strike="noStrike">
                <a:solidFill>
                  <a:srgbClr val="000000"/>
                </a:solidFill>
                <a:latin typeface="Palatino Linotype"/>
              </a:rPr>
              <a:t> </a:t>
            </a:r>
            <a:endParaRPr b="0" lang="en-US" sz="24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400" spc="-1" strike="noStrike">
                <a:solidFill>
                  <a:srgbClr val="000000"/>
                </a:solidFill>
                <a:latin typeface="Times New Roman"/>
                <a:ea typeface="Times New Roman"/>
              </a:rPr>
              <a:t>	</a:t>
            </a:r>
            <a:r>
              <a:rPr b="1" i="1" lang="tt-RU" sz="2400" spc="-1" strike="noStrike">
                <a:solidFill>
                  <a:srgbClr val="000000"/>
                </a:solidFill>
                <a:latin typeface="Times New Roman"/>
                <a:ea typeface="Times New Roman"/>
              </a:rPr>
              <a:t>Йомгаклап шуны әйтәсем килә: </a:t>
            </a:r>
            <a:r>
              <a:rPr b="0" lang="tt-RU" sz="2400" spc="-1" strike="noStrike">
                <a:solidFill>
                  <a:srgbClr val="000000"/>
                </a:solidFill>
                <a:latin typeface="Times New Roman"/>
                <a:ea typeface="Times New Roman"/>
              </a:rPr>
              <a:t>Сирин Батыршинның  </a:t>
            </a:r>
            <a:r>
              <a:rPr b="0" i="1" lang="tt-RU" sz="2400" spc="-1" strike="noStrike">
                <a:solidFill>
                  <a:srgbClr val="000000"/>
                </a:solidFill>
                <a:latin typeface="Times New Roman"/>
                <a:ea typeface="Times New Roman"/>
              </a:rPr>
              <a:t>тапкыр, үткен, җор телдә язылган мәсәлләре, аны чын мәгънәсендә мәсәл язу остасы </a:t>
            </a:r>
            <a:r>
              <a:rPr b="0" lang="tt-RU" sz="2400" spc="-1" strike="noStrike">
                <a:solidFill>
                  <a:srgbClr val="000000"/>
                </a:solidFill>
                <a:latin typeface="Times New Roman"/>
                <a:ea typeface="Times New Roman"/>
              </a:rPr>
              <a:t>булуы турында сөйли. Тоткынлыкта, гадәттән тыш авыр шартларда  да үз йөзен югалтмаган, шәхес булып кала белгән әдипнең иҗатын хәзерге чорда өйрәнү, барлау аңа карата игътибар һәм ихтирам хисен уята. Әсәрләре шагыйрьнең искиткеч рухи ныклыгын, зур  батырлыгын күрсәтә. </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Box 1"/>
          <p:cNvSpPr/>
          <p:nvPr/>
        </p:nvSpPr>
        <p:spPr>
          <a:xfrm>
            <a:off x="1428840" y="1357200"/>
            <a:ext cx="65102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6000" spc="-1" strike="noStrike">
                <a:solidFill>
                  <a:srgbClr val="3f6d19"/>
                </a:solidFill>
                <a:latin typeface="Times New Roman"/>
                <a:ea typeface="Times New Roman"/>
              </a:rPr>
              <a:t>Иг</a:t>
            </a:r>
            <a:r>
              <a:rPr b="0" lang="ru-RU" sz="6000" spc="-1" strike="noStrike">
                <a:solidFill>
                  <a:srgbClr val="3f6d19"/>
                </a:solidFill>
                <a:latin typeface="Times New Roman"/>
                <a:ea typeface="Times New Roman"/>
              </a:rPr>
              <a:t>ъ</a:t>
            </a:r>
            <a:r>
              <a:rPr b="0" lang="tt-RU" sz="6000" spc="-1" strike="noStrike">
                <a:solidFill>
                  <a:srgbClr val="3f6d19"/>
                </a:solidFill>
                <a:latin typeface="Times New Roman"/>
                <a:ea typeface="Times New Roman"/>
              </a:rPr>
              <a:t>тибарыгыз өчен рәхмәт.</a:t>
            </a:r>
            <a:endParaRPr b="0" lang="en-US" sz="6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6T14:48:36Z</dcterms:created>
  <dc:creator>Windows-7</dc:creator>
  <dc:description/>
  <dc:language>en-US</dc:language>
  <cp:lastModifiedBy>Начальник отдела обр</cp:lastModifiedBy>
  <dcterms:modified xsi:type="dcterms:W3CDTF">2016-11-08T03:43:03Z</dcterms:modified>
  <cp:revision>25</cp:revision>
  <dc:subject/>
  <dc:title>Презентация PowerPoint</dc:title>
</cp:coreProperties>
</file>