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40B-F1A7-495C-8B73-BDD5E3EE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634-6444-4279-9119-7308004E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B3C-8CE6-4F6C-8206-E5AD2552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9DD-336A-4789-87FF-D987156D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4F0-837E-42BB-B4C0-EE36E71E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071-704F-4194-9A50-99687968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E55-B274-4D51-8310-65B253EE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ECE-C5C2-4042-A59A-F9FCD4E9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73C-9F1D-494C-B078-504287A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40A-8DFB-4999-90E6-B093BAC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D4C-9D31-436A-83B7-46D1982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30B-500D-4F10-A497-BAD7C32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13C-C810-4086-8415-8BD57178F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7846920" cy="21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Презентация на тему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:</a:t>
            </a: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Arial Black"/>
              </a:rPr>
              <a:t>Один день из жизни группы: организация повседневной работы детей по развитию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0920" y="4797000"/>
            <a:ext cx="493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ельной группы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олкина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ота с мнемотаблицам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сх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Илья\Desktop\IMG_2971.JPG"/>
          <p:cNvPicPr/>
          <p:nvPr/>
        </p:nvPicPr>
        <p:blipFill>
          <a:blip r:embed="rId1"/>
          <a:stretch/>
        </p:blipFill>
        <p:spPr>
          <a:xfrm>
            <a:off x="468360" y="1125360"/>
            <a:ext cx="3095640" cy="278460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4"/>
          <p:cNvSpPr/>
          <p:nvPr/>
        </p:nvSpPr>
        <p:spPr>
          <a:xfrm>
            <a:off x="684360" y="4221000"/>
            <a:ext cx="3456000" cy="223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сс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ывание сказки, рассказ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Илья\Desktop\IMG_2966.JPG"/>
          <p:cNvPicPr/>
          <p:nvPr/>
        </p:nvPicPr>
        <p:blipFill>
          <a:blip r:embed="rId2"/>
          <a:stretch/>
        </p:blipFill>
        <p:spPr>
          <a:xfrm>
            <a:off x="5724360" y="3933720"/>
            <a:ext cx="214956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Скругленный прямоугольник 6"/>
          <p:cNvSpPr/>
          <p:nvPr/>
        </p:nvSpPr>
        <p:spPr>
          <a:xfrm>
            <a:off x="4716360" y="1484280"/>
            <a:ext cx="3240360" cy="21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учивание и проговаривание  стихов, потешек, скороговорок, чистогов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6516720" y="1844640"/>
            <a:ext cx="2303280" cy="381636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3816360"/>
              <a:gd name="textAreaBottom" fmla="*/ 3704040 h 3816360"/>
            </a:gdLst>
            <a:ahLst/>
            <a:rect l="textAreaLeft" t="textAreaTop" r="textAreaRight" b="textAreaBottom"/>
            <a:pathLst>
              <a:path w="21600" h="35787">
                <a:moveTo>
                  <a:pt x="3600" y="0"/>
                </a:moveTo>
                <a:arcTo wR="3600" hR="3600" stAng="16200000" swAng="-5400000"/>
                <a:lnTo>
                  <a:pt x="0" y="32187"/>
                </a:lnTo>
                <a:arcTo wR="3600" hR="3600" stAng="10800000" swAng="-5400000"/>
                <a:lnTo>
                  <a:pt x="18000" y="35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-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Илья\Desktop\129___11\IMG_2986.JPG"/>
          <p:cNvPicPr/>
          <p:nvPr/>
        </p:nvPicPr>
        <p:blipFill>
          <a:blip r:embed="rId1"/>
          <a:stretch/>
        </p:blipFill>
        <p:spPr>
          <a:xfrm>
            <a:off x="611280" y="1600200"/>
            <a:ext cx="544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abic Typesetting"/>
              </a:rPr>
              <a:t>Сюжетно-ролевые игр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abic Typesetting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29620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Picture 5" descr="SAM_0523"/>
          <p:cNvPicPr/>
          <p:nvPr/>
        </p:nvPicPr>
        <p:blipFill>
          <a:blip r:embed="rId1"/>
          <a:stretch/>
        </p:blipFill>
        <p:spPr>
          <a:xfrm>
            <a:off x="468360" y="1052640"/>
            <a:ext cx="1942920" cy="2592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87" name="Picture 5" descr="C:\Users\Илья\Desktop\IMG_1955.JPG"/>
          <p:cNvPicPr/>
          <p:nvPr/>
        </p:nvPicPr>
        <p:blipFill>
          <a:blip r:embed="rId2"/>
          <a:stretch/>
        </p:blipFill>
        <p:spPr>
          <a:xfrm>
            <a:off x="2843280" y="1844640"/>
            <a:ext cx="5611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Дидактические и подвижн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Илья\Desktop\IMG_2018.JPG"/>
          <p:cNvPicPr/>
          <p:nvPr/>
        </p:nvPicPr>
        <p:blipFill>
          <a:blip r:embed="rId1"/>
          <a:stretch/>
        </p:blipFill>
        <p:spPr>
          <a:xfrm>
            <a:off x="4140360" y="2708280"/>
            <a:ext cx="4505040" cy="295272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0956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920" y="4724280"/>
            <a:ext cx="540072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онологи, разговоры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ждый раз, как в первый раз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"Мир - театр, мы в нем - актеры";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ечно сцена манит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5640" y="189000"/>
            <a:ext cx="84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еатрализирован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Илья\Desktop\IMG_1930.JPG"/>
          <p:cNvPicPr/>
          <p:nvPr/>
        </p:nvPicPr>
        <p:blipFill>
          <a:blip r:embed="rId1"/>
          <a:stretch/>
        </p:blipFill>
        <p:spPr>
          <a:xfrm>
            <a:off x="395280" y="1268280"/>
            <a:ext cx="4276800" cy="367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Илья\Desktop\IMG_1947.JPG"/>
          <p:cNvPicPr/>
          <p:nvPr/>
        </p:nvPicPr>
        <p:blipFill>
          <a:blip r:embed="rId2"/>
          <a:stretch/>
        </p:blipFill>
        <p:spPr>
          <a:xfrm>
            <a:off x="5214960" y="1785960"/>
            <a:ext cx="30430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следов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Илья\Desktop\IMG_2991.JPG"/>
          <p:cNvPicPr/>
          <p:nvPr/>
        </p:nvPicPr>
        <p:blipFill>
          <a:blip r:embed="rId1"/>
          <a:stretch/>
        </p:blipFill>
        <p:spPr>
          <a:xfrm>
            <a:off x="468360" y="1484280"/>
            <a:ext cx="3816360" cy="418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maam.ru/upload/blogs/detsad-135218-1425064303.jpg"/>
          <p:cNvPicPr/>
          <p:nvPr/>
        </p:nvPicPr>
        <p:blipFill>
          <a:blip r:embed="rId2"/>
          <a:stretch/>
        </p:blipFill>
        <p:spPr>
          <a:xfrm>
            <a:off x="3995640" y="2133720"/>
            <a:ext cx="48405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195640" y="162864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олнце скрылось за дом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окидаем детский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Я рассказываю ма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ро себя и про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ак мы хором песни п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ак играли в чехар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то мы п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то мы 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то читали в дет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Я рассказываю че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И подробно об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Знаю, маме 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Знать, о 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ак мы жив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ход детей д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6"/>
          <p:cNvSpPr txBox="1"/>
          <p:nvPr/>
        </p:nvSpPr>
        <p:spPr>
          <a:xfrm>
            <a:off x="3564000" y="5373720"/>
            <a:ext cx="496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Picture 4" descr="C:\Users\Илья\Desktop\129___11\IMG_2987.JPG"/>
          <p:cNvPicPr/>
          <p:nvPr/>
        </p:nvPicPr>
        <p:blipFill>
          <a:blip r:embed="rId1"/>
          <a:stretch/>
        </p:blipFill>
        <p:spPr>
          <a:xfrm>
            <a:off x="324000" y="189000"/>
            <a:ext cx="5760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Georgia"/>
              </a:rPr>
              <a:t>Добро пожаловать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Georgia"/>
              </a:rPr>
              <a:t>в нашу групп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Хорошее настроение с утра – залог успешного дня!» - девиз наш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Илья\Desktop\IMG_1360.JPG"/>
          <p:cNvPicPr/>
          <p:nvPr/>
        </p:nvPicPr>
        <p:blipFill>
          <a:blip r:embed="rId1"/>
          <a:stretch/>
        </p:blipFill>
        <p:spPr>
          <a:xfrm>
            <a:off x="395280" y="1700280"/>
            <a:ext cx="82882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6600"/>
                </a:solidFill>
                <a:uFillTx/>
                <a:latin typeface="Times New Roman"/>
              </a:rPr>
              <a:t>Речь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 как ведущее средство общения сопровождает все виды деятельности ребенка. От качества речи, умения пользоваться ею в игре, во время совместной деятельности педагога  и ребенка, при планировании и обсуждении рисунка, в наблюдении на прогулке, при обсуждении спектакля и т.д. зависит успешность деятельности ребенка, его принятие сверстниками, авторитет и статусное положение в детском сообщест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Georgia"/>
              </a:rPr>
              <a:t>Основными направлениями, через которые реализуется образовательная область «Коммуникация» являются:</a:t>
            </a:r>
            <a:r>
              <a:rPr b="1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образовательная деятельность, осуществляемая в процессе организации различных видов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образовательная деятельность, осуществляемая в ходе режимных мо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самостоятельная деятельность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взаимодействие с семьям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3492360" y="5373720"/>
            <a:ext cx="2376720" cy="1295280"/>
          </a:xfrm>
          <a:prstGeom prst="wedgeRoundRectCallout">
            <a:avLst>
              <a:gd name="adj1" fmla="val -13726"/>
              <a:gd name="adj2" fmla="val -25380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8"/>
          <p:cNvGrpSpPr/>
          <p:nvPr/>
        </p:nvGrpSpPr>
        <p:grpSpPr>
          <a:xfrm>
            <a:off x="2771640" y="189000"/>
            <a:ext cx="3600360" cy="2736720"/>
            <a:chOff x="2771640" y="189000"/>
            <a:chExt cx="3600360" cy="2736720"/>
          </a:xfrm>
        </p:grpSpPr>
        <p:sp>
          <p:nvSpPr>
            <p:cNvPr id="50" name="AutoShape 4"/>
            <p:cNvSpPr/>
            <p:nvPr/>
          </p:nvSpPr>
          <p:spPr>
            <a:xfrm>
              <a:off x="2771640" y="189000"/>
              <a:ext cx="3600360" cy="2736720"/>
            </a:xfrm>
            <a:custGeom>
              <a:avLst/>
              <a:gdLst>
                <a:gd name="textAreaLeft" fmla="*/ 821880 w 3600360"/>
                <a:gd name="textAreaRight" fmla="*/ 2778480 w 3600360"/>
                <a:gd name="textAreaTop" fmla="*/ 624600 h 2736720"/>
                <a:gd name="textAreaBottom" fmla="*/ 211212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3563640" y="836640"/>
              <a:ext cx="2087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Развитие речи дет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AutoShape 8"/>
          <p:cNvSpPr/>
          <p:nvPr/>
        </p:nvSpPr>
        <p:spPr>
          <a:xfrm>
            <a:off x="684360" y="4869000"/>
            <a:ext cx="2592360" cy="1295280"/>
          </a:xfrm>
          <a:prstGeom prst="wedgeRoundRectCallout">
            <a:avLst>
              <a:gd name="adj1" fmla="val 63657"/>
              <a:gd name="adj2" fmla="val -221569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468360" y="2997360"/>
            <a:ext cx="1944720" cy="1223640"/>
          </a:xfrm>
          <a:prstGeom prst="wedgeRoundRectCallout">
            <a:avLst>
              <a:gd name="adj1" fmla="val 95550"/>
              <a:gd name="adj2" fmla="val -101490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6588000" y="1557360"/>
            <a:ext cx="2087640" cy="1297080"/>
          </a:xfrm>
          <a:prstGeom prst="wedgeRoundRectCallout">
            <a:avLst>
              <a:gd name="adj1" fmla="val -70606"/>
              <a:gd name="adj2" fmla="val -90268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395280" y="1413000"/>
            <a:ext cx="2232000" cy="1224000"/>
          </a:xfrm>
          <a:prstGeom prst="wedgeRoundRectCallout">
            <a:avLst>
              <a:gd name="adj1" fmla="val 59814"/>
              <a:gd name="adj2" fmla="val -95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50920" y="1557360"/>
            <a:ext cx="2448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тение книг, общение с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(вопрос-ответ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39640" y="299736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тихи и сказки,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684360" y="5013360"/>
            <a:ext cx="266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движные, сюжетно - ролевые, дидактические </a:t>
            </a:r>
            <a:r>
              <a:rPr b="1" i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564000" y="551664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альчиковая и дыха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586920" y="184464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Чистоговор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рече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6659640" y="3429000"/>
            <a:ext cx="2305080" cy="1295280"/>
          </a:xfrm>
          <a:prstGeom prst="wedgeRoundRectCallout">
            <a:avLst>
              <a:gd name="adj1" fmla="val -93458"/>
              <a:gd name="adj2" fmla="val -117157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6732720" y="350028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ало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гры (н-п игры), рассматр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ин и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6084720" y="5229360"/>
            <a:ext cx="2448000" cy="1439640"/>
          </a:xfrm>
          <a:prstGeom prst="wedgeRoundRectCallout">
            <a:avLst>
              <a:gd name="adj1" fmla="val -87027"/>
              <a:gd name="adj2" fmla="val -214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6374880" y="5589720"/>
            <a:ext cx="20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Игры на мел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оторику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484000" y="765000"/>
            <a:ext cx="453708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треннее приветствия Индивидуальные бес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38812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льчиковые игр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ыхатель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Илья\Desktop\IMG_2963.JPG"/>
          <p:cNvPicPr/>
          <p:nvPr/>
        </p:nvPicPr>
        <p:blipFill>
          <a:blip r:embed="rId1"/>
          <a:stretch/>
        </p:blipFill>
        <p:spPr>
          <a:xfrm>
            <a:off x="1258920" y="1413000"/>
            <a:ext cx="4122720" cy="262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Илья\Desktop\IMG_2978.JPG"/>
          <p:cNvPicPr/>
          <p:nvPr/>
        </p:nvPicPr>
        <p:blipFill>
          <a:blip r:embed="rId2"/>
          <a:stretch/>
        </p:blipFill>
        <p:spPr>
          <a:xfrm>
            <a:off x="2124000" y="3357720"/>
            <a:ext cx="612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Илья\Desktop\IMG_2184.JPG"/>
          <p:cNvPicPr/>
          <p:nvPr/>
        </p:nvPicPr>
        <p:blipFill>
          <a:blip r:embed="rId1"/>
          <a:stretch/>
        </p:blipFill>
        <p:spPr>
          <a:xfrm>
            <a:off x="324000" y="1125360"/>
            <a:ext cx="3311280" cy="32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Илья\Desktop\IMG_1877.JPG"/>
          <p:cNvPicPr/>
          <p:nvPr/>
        </p:nvPicPr>
        <p:blipFill>
          <a:blip r:embed="rId2"/>
          <a:stretch/>
        </p:blipFill>
        <p:spPr>
          <a:xfrm>
            <a:off x="3995640" y="2205000"/>
            <a:ext cx="4640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дивидуа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Илья\Desktop\129___11\IMG_2977.JPG"/>
          <p:cNvPicPr/>
          <p:nvPr/>
        </p:nvPicPr>
        <p:blipFill>
          <a:blip r:embed="rId1"/>
          <a:stretch/>
        </p:blipFill>
        <p:spPr>
          <a:xfrm>
            <a:off x="468360" y="1268280"/>
            <a:ext cx="228276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3132000" y="1197000"/>
            <a:ext cx="525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оспитание произносительных навыков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развитие фонематического восприя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мимической мускул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мелкой моторики ру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артикуляционного аппар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тработка опорных зву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Формирование слова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лова, обозначающие предм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ва, обозначающие качества и свойства предме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ва, обозначающие различ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Формирование грамматических ум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вы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вязь слов в предложении (управление и соглас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ложные конструк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22:10Z</dcterms:created>
  <dc:creator>гульназ</dc:creator>
  <dc:description/>
  <dc:language>en-US</dc:language>
  <cp:lastModifiedBy>Пользователь Windows</cp:lastModifiedBy>
  <dcterms:modified xsi:type="dcterms:W3CDTF">2017-10-19T17:17:48Z</dcterms:modified>
  <cp:revision>64</cp:revision>
  <dc:subject/>
  <dc:title>Презентация на тему: Один день из жизни группы №4 использование форм образовательной деятельности «Познание», «Коммуникация», «ЧХЛ».</dc:title>
</cp:coreProperties>
</file>