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gif" ContentType="image/gif"/>
  <Override PartName="/ppt/media/image18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40B6-4081-4A43-BE65-3AA0335A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D4D4-7BFF-409C-B3D6-63FD89B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F089-6536-49CB-BA4B-C0D51BFA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B5E2-4B31-4F74-801E-A3B2973E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D55-42DF-44AB-B78E-DFB52BF3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A88-21C7-4C2F-8B7E-00C9D2E2B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3700-3527-4DE8-A610-4715F8473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2BB6-3633-4B20-9442-EC7F59E7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FFB2-E69D-4DF4-82B7-19D0BDD2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25BD-605D-4404-B41C-F6756BA6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298D-471D-4416-BA0A-14DC495A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34CF-12D6-43ED-A1D1-6C9BA8D7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2AF3-2C7B-4570-8C78-F163E0C8E1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1483920"/>
            <a:ext cx="7846920" cy="21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a50021"/>
                </a:solidFill>
                <a:latin typeface="Georgia"/>
              </a:rPr>
              <a:t>Презентация на тему</a:t>
            </a:r>
            <a:r>
              <a:rPr b="1" lang="ru-RU" sz="2800" spc="-1" strike="noStrike">
                <a:solidFill>
                  <a:srgbClr val="a50021"/>
                </a:solidFill>
                <a:latin typeface="Georgia"/>
              </a:rPr>
              <a:t>:</a:t>
            </a:r>
            <a:r>
              <a:rPr b="1" lang="ru-RU" sz="2800" spc="-1" strike="noStrike">
                <a:solidFill>
                  <a:srgbClr val="0000cc"/>
                </a:solidFill>
                <a:latin typeface="Georgia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 Black"/>
              </a:rPr>
              <a:t>Один день из жизни группы: организация повседневной работы детей по развитию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0920" y="4797000"/>
            <a:ext cx="493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тельной группы «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олкина В.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Раота с мнемотаблицами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 схем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Илья\Desktop\IMG_2971.JPG"/>
          <p:cNvPicPr/>
          <p:nvPr/>
        </p:nvPicPr>
        <p:blipFill>
          <a:blip r:embed="rId1"/>
          <a:stretch/>
        </p:blipFill>
        <p:spPr>
          <a:xfrm>
            <a:off x="468360" y="1125360"/>
            <a:ext cx="3095640" cy="2784600"/>
          </a:xfrm>
          <a:prstGeom prst="rect">
            <a:avLst/>
          </a:prstGeom>
          <a:ln w="0">
            <a:noFill/>
          </a:ln>
        </p:spPr>
      </p:pic>
      <p:sp>
        <p:nvSpPr>
          <p:cNvPr id="78" name="Скругленный прямоугольник 4"/>
          <p:cNvSpPr/>
          <p:nvPr/>
        </p:nvSpPr>
        <p:spPr>
          <a:xfrm>
            <a:off x="684360" y="4221000"/>
            <a:ext cx="3456000" cy="223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ление расск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исание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ывание сказки, рассказа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Илья\Desktop\IMG_2966.JPG"/>
          <p:cNvPicPr/>
          <p:nvPr/>
        </p:nvPicPr>
        <p:blipFill>
          <a:blip r:embed="rId2"/>
          <a:stretch/>
        </p:blipFill>
        <p:spPr>
          <a:xfrm>
            <a:off x="5724360" y="3933720"/>
            <a:ext cx="2149560" cy="2638440"/>
          </a:xfrm>
          <a:prstGeom prst="rect">
            <a:avLst/>
          </a:prstGeom>
          <a:ln w="0">
            <a:noFill/>
          </a:ln>
        </p:spPr>
      </p:pic>
      <p:sp>
        <p:nvSpPr>
          <p:cNvPr id="80" name="Скругленный прямоугольник 6"/>
          <p:cNvSpPr/>
          <p:nvPr/>
        </p:nvSpPr>
        <p:spPr>
          <a:xfrm>
            <a:off x="4716360" y="1484280"/>
            <a:ext cx="3240360" cy="216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учивание и проговаривание  стихов, потешек, скороговорок, чистогово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гу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4"/>
          <p:cNvSpPr/>
          <p:nvPr/>
        </p:nvSpPr>
        <p:spPr>
          <a:xfrm>
            <a:off x="6516720" y="1844640"/>
            <a:ext cx="2303280" cy="3816360"/>
          </a:xfrm>
          <a:custGeom>
            <a:avLst/>
            <a:gdLst>
              <a:gd name="textAreaLeft" fmla="*/ 112320 w 2303280"/>
              <a:gd name="textAreaRight" fmla="*/ 2190960 w 2303280"/>
              <a:gd name="textAreaTop" fmla="*/ 112320 h 3816360"/>
              <a:gd name="textAreaBottom" fmla="*/ 370404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16200000" swAng="-5400000"/>
                <a:lnTo>
                  <a:pt x="0" y="32187"/>
                </a:lnTo>
                <a:arcTo wR="3600" hR="3600" stAng="10800000" swAng="-5400000"/>
                <a:lnTo>
                  <a:pt x="18000" y="357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блю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ая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-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C:\Users\Илья\Desktop\129___11\IMG_2986.JPG"/>
          <p:cNvPicPr/>
          <p:nvPr/>
        </p:nvPicPr>
        <p:blipFill>
          <a:blip r:embed="rId1"/>
          <a:stretch/>
        </p:blipFill>
        <p:spPr>
          <a:xfrm>
            <a:off x="611280" y="1600200"/>
            <a:ext cx="544500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abic Typesetting"/>
              </a:rPr>
              <a:t>Сюжетно-ролевые игры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abic Typesetting"/>
              </a:rPr>
              <a:t>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2421000"/>
            <a:ext cx="29620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ff0000"/>
              </a:solidFill>
              <a:latin typeface="Georgia"/>
            </a:endParaRPr>
          </a:p>
        </p:txBody>
      </p:sp>
      <p:pic>
        <p:nvPicPr>
          <p:cNvPr id="86" name="Picture 5" descr="SAM_0523"/>
          <p:cNvPicPr/>
          <p:nvPr/>
        </p:nvPicPr>
        <p:blipFill>
          <a:blip r:embed="rId1"/>
          <a:stretch/>
        </p:blipFill>
        <p:spPr>
          <a:xfrm>
            <a:off x="468360" y="1052640"/>
            <a:ext cx="1942920" cy="25923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  <p:pic>
        <p:nvPicPr>
          <p:cNvPr id="87" name="Picture 5" descr="C:\Users\Илья\Desktop\IMG_1955.JPG"/>
          <p:cNvPicPr/>
          <p:nvPr/>
        </p:nvPicPr>
        <p:blipFill>
          <a:blip r:embed="rId2"/>
          <a:stretch/>
        </p:blipFill>
        <p:spPr>
          <a:xfrm>
            <a:off x="2843280" y="1844640"/>
            <a:ext cx="56116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Arial"/>
              </a:rPr>
              <a:t>Дидактические и подвижны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Илья\Desktop\IMG_2018.JPG"/>
          <p:cNvPicPr/>
          <p:nvPr/>
        </p:nvPicPr>
        <p:blipFill>
          <a:blip r:embed="rId1"/>
          <a:stretch/>
        </p:blipFill>
        <p:spPr>
          <a:xfrm>
            <a:off x="4140360" y="2708280"/>
            <a:ext cx="4505040" cy="2952720"/>
          </a:xfrm>
          <a:prstGeom prst="rect">
            <a:avLst/>
          </a:prstGeom>
          <a:ln w="0">
            <a:noFill/>
          </a:ln>
        </p:spPr>
      </p:pic>
      <p:pic>
        <p:nvPicPr>
          <p:cNvPr id="90" name="Объект 6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0956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0920" y="4724280"/>
            <a:ext cx="5400720" cy="18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онологи, разговоры,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Каждый раз, как в первый раз.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"Мир - театр, мы в нем - актеры";</a:t>
            </a:r>
            <a:br>
              <a:rPr sz="2000"/>
            </a:b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ечно сцена манит н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755640" y="189000"/>
            <a:ext cx="84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Театрализирован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Users\Илья\Desktop\IMG_1930.JPG"/>
          <p:cNvPicPr/>
          <p:nvPr/>
        </p:nvPicPr>
        <p:blipFill>
          <a:blip r:embed="rId1"/>
          <a:stretch/>
        </p:blipFill>
        <p:spPr>
          <a:xfrm>
            <a:off x="395280" y="1268280"/>
            <a:ext cx="4276800" cy="3670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C:\Users\Илья\Desktop\IMG_1947.JPG"/>
          <p:cNvPicPr/>
          <p:nvPr/>
        </p:nvPicPr>
        <p:blipFill>
          <a:blip r:embed="rId2"/>
          <a:stretch/>
        </p:blipFill>
        <p:spPr>
          <a:xfrm>
            <a:off x="5214960" y="1785960"/>
            <a:ext cx="30430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сследов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C:\Users\Илья\Desktop\IMG_2991.JPG"/>
          <p:cNvPicPr/>
          <p:nvPr/>
        </p:nvPicPr>
        <p:blipFill>
          <a:blip r:embed="rId1"/>
          <a:stretch/>
        </p:blipFill>
        <p:spPr>
          <a:xfrm>
            <a:off x="468360" y="1484280"/>
            <a:ext cx="3816360" cy="4189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www.maam.ru/upload/blogs/detsad-135218-1425064303.jpg"/>
          <p:cNvPicPr/>
          <p:nvPr/>
        </p:nvPicPr>
        <p:blipFill>
          <a:blip r:embed="rId2"/>
          <a:stretch/>
        </p:blipFill>
        <p:spPr>
          <a:xfrm>
            <a:off x="3995640" y="2133720"/>
            <a:ext cx="48405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2195640" y="1628640"/>
            <a:ext cx="4824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Солнце скрылось за дома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окидаем детский са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Я рассказываю ма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Про себя и про реб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мы хором песни п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играли в чехар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мы п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мы 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Что читали в детс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Я рассказываю чест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И подробно обо вс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Знаю, маме интер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Знать, о 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80"/>
                </a:solidFill>
                <a:latin typeface="Arial"/>
              </a:rPr>
              <a:t>Как мы живё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ход детей до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4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7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5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8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4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7" dur="2000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6"/>
          <p:cNvSpPr txBox="1"/>
          <p:nvPr/>
        </p:nvSpPr>
        <p:spPr>
          <a:xfrm>
            <a:off x="3564000" y="5373720"/>
            <a:ext cx="4968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!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1" name="Picture 4" descr="C:\Users\Илья\Desktop\129___11\IMG_2987.JPG"/>
          <p:cNvPicPr/>
          <p:nvPr/>
        </p:nvPicPr>
        <p:blipFill>
          <a:blip r:embed="rId1"/>
          <a:stretch/>
        </p:blipFill>
        <p:spPr>
          <a:xfrm>
            <a:off x="324000" y="189000"/>
            <a:ext cx="576072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Добро пожаловать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Georgia"/>
              </a:rPr>
              <a:t>в нашу групп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537336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«Хорошее настроение с утра – залог успешного дня!» - девиз наш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C:\Users\Илья\Desktop\IMG_1360.JPG"/>
          <p:cNvPicPr/>
          <p:nvPr/>
        </p:nvPicPr>
        <p:blipFill>
          <a:blip r:embed="rId1"/>
          <a:stretch/>
        </p:blipFill>
        <p:spPr>
          <a:xfrm>
            <a:off x="395280" y="1700280"/>
            <a:ext cx="82882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9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6600"/>
                </a:solidFill>
                <a:uFillTx/>
                <a:latin typeface="Times New Roman"/>
              </a:rPr>
              <a:t>Речь</a:t>
            </a:r>
            <a:r>
              <a:rPr b="0" lang="ru-RU" sz="3600" spc="-1" strike="noStrike">
                <a:solidFill>
                  <a:srgbClr val="a50021"/>
                </a:solidFill>
                <a:latin typeface="Times New Roman"/>
              </a:rPr>
              <a:t> как ведущее средство общения сопровождает все виды деятельности ребенка. От качества речи, умения пользоваться ею в игре, во время совместной деятельности педагога  и ребенка, при планировании и обсуждении рисунка, в наблюдении на прогулке, при обсуждении спектакля и т.д. зависит успешность деятельности ребенка, его принятие сверстниками, авторитет и статусное положение в детском сообществ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70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Georgia"/>
              </a:rPr>
              <a:t>Основными направлениями, через которые реализуется образовательная область «Коммуникация» являются:</a:t>
            </a:r>
            <a:r>
              <a:rPr b="1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образовательная деятельность, осуществляемая в процессе организации различных видов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образовательная деятельность, осуществляемая в ходе режимных момент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самостоятельная деятельность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993366"/>
                </a:solidFill>
                <a:latin typeface="Georgia"/>
              </a:rPr>
              <a:t>взаимодействие с семьям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3492360" y="5373720"/>
            <a:ext cx="2376720" cy="1295280"/>
          </a:xfrm>
          <a:prstGeom prst="wedgeRoundRectCallout">
            <a:avLst>
              <a:gd name="adj1" fmla="val -13726"/>
              <a:gd name="adj2" fmla="val -253800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8"/>
          <p:cNvGrpSpPr/>
          <p:nvPr/>
        </p:nvGrpSpPr>
        <p:grpSpPr>
          <a:xfrm>
            <a:off x="2771640" y="189000"/>
            <a:ext cx="3600360" cy="2736720"/>
            <a:chOff x="2771640" y="189000"/>
            <a:chExt cx="3600360" cy="2736720"/>
          </a:xfrm>
        </p:grpSpPr>
        <p:sp>
          <p:nvSpPr>
            <p:cNvPr id="50" name="AutoShape 4"/>
            <p:cNvSpPr/>
            <p:nvPr/>
          </p:nvSpPr>
          <p:spPr>
            <a:xfrm>
              <a:off x="2771640" y="189000"/>
              <a:ext cx="3600360" cy="2736720"/>
            </a:xfrm>
            <a:custGeom>
              <a:avLst/>
              <a:gdLst>
                <a:gd name="textAreaLeft" fmla="*/ 821880 w 3600360"/>
                <a:gd name="textAreaRight" fmla="*/ 2778480 w 3600360"/>
                <a:gd name="textAreaTop" fmla="*/ 624600 h 2736720"/>
                <a:gd name="textAreaBottom" fmla="*/ 2112120 h 27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562" y="11812"/>
                  </a:lnTo>
                  <a:lnTo>
                    <a:pt x="368" y="13595"/>
                  </a:lnTo>
                  <a:lnTo>
                    <a:pt x="3104" y="13909"/>
                  </a:lnTo>
                  <a:lnTo>
                    <a:pt x="1447" y="16200"/>
                  </a:lnTo>
                  <a:lnTo>
                    <a:pt x="4171" y="15795"/>
                  </a:lnTo>
                  <a:lnTo>
                    <a:pt x="3163" y="18437"/>
                  </a:lnTo>
                  <a:lnTo>
                    <a:pt x="5690" y="17340"/>
                  </a:lnTo>
                  <a:lnTo>
                    <a:pt x="5400" y="20153"/>
                  </a:lnTo>
                  <a:lnTo>
                    <a:pt x="7557" y="18440"/>
                  </a:lnTo>
                  <a:lnTo>
                    <a:pt x="8005" y="21232"/>
                  </a:lnTo>
                  <a:lnTo>
                    <a:pt x="9645" y="19019"/>
                  </a:lnTo>
                  <a:lnTo>
                    <a:pt x="10800" y="21600"/>
                  </a:lnTo>
                  <a:lnTo>
                    <a:pt x="11812" y="19038"/>
                  </a:lnTo>
                  <a:lnTo>
                    <a:pt x="13595" y="21232"/>
                  </a:lnTo>
                  <a:lnTo>
                    <a:pt x="13909" y="18496"/>
                  </a:lnTo>
                  <a:lnTo>
                    <a:pt x="16200" y="20153"/>
                  </a:lnTo>
                  <a:lnTo>
                    <a:pt x="15795" y="17429"/>
                  </a:lnTo>
                  <a:lnTo>
                    <a:pt x="18437" y="18437"/>
                  </a:lnTo>
                  <a:lnTo>
                    <a:pt x="17340" y="15910"/>
                  </a:lnTo>
                  <a:lnTo>
                    <a:pt x="20153" y="16200"/>
                  </a:lnTo>
                  <a:lnTo>
                    <a:pt x="18440" y="14043"/>
                  </a:lnTo>
                  <a:lnTo>
                    <a:pt x="21232" y="13595"/>
                  </a:lnTo>
                  <a:lnTo>
                    <a:pt x="19019" y="11955"/>
                  </a:lnTo>
                  <a:lnTo>
                    <a:pt x="21600" y="10800"/>
                  </a:lnTo>
                  <a:lnTo>
                    <a:pt x="19038" y="9788"/>
                  </a:lnTo>
                  <a:lnTo>
                    <a:pt x="21232" y="8005"/>
                  </a:lnTo>
                  <a:lnTo>
                    <a:pt x="18496" y="7691"/>
                  </a:lnTo>
                  <a:lnTo>
                    <a:pt x="20153" y="5400"/>
                  </a:lnTo>
                  <a:lnTo>
                    <a:pt x="17429" y="5805"/>
                  </a:lnTo>
                  <a:lnTo>
                    <a:pt x="18437" y="3163"/>
                  </a:lnTo>
                  <a:lnTo>
                    <a:pt x="15910" y="4260"/>
                  </a:lnTo>
                  <a:lnTo>
                    <a:pt x="16200" y="1447"/>
                  </a:lnTo>
                  <a:lnTo>
                    <a:pt x="14043" y="3160"/>
                  </a:lnTo>
                  <a:lnTo>
                    <a:pt x="13595" y="368"/>
                  </a:lnTo>
                  <a:lnTo>
                    <a:pt x="11955" y="2581"/>
                  </a:lnTo>
                  <a:lnTo>
                    <a:pt x="10800" y="0"/>
                  </a:lnTo>
                  <a:lnTo>
                    <a:pt x="9788" y="2562"/>
                  </a:lnTo>
                  <a:lnTo>
                    <a:pt x="8005" y="368"/>
                  </a:lnTo>
                  <a:lnTo>
                    <a:pt x="7691" y="3104"/>
                  </a:lnTo>
                  <a:lnTo>
                    <a:pt x="5400" y="1447"/>
                  </a:lnTo>
                  <a:lnTo>
                    <a:pt x="5805" y="4171"/>
                  </a:lnTo>
                  <a:lnTo>
                    <a:pt x="3163" y="3163"/>
                  </a:lnTo>
                  <a:lnTo>
                    <a:pt x="4260" y="5690"/>
                  </a:lnTo>
                  <a:lnTo>
                    <a:pt x="1447" y="5400"/>
                  </a:lnTo>
                  <a:lnTo>
                    <a:pt x="3160" y="7557"/>
                  </a:lnTo>
                  <a:lnTo>
                    <a:pt x="368" y="8005"/>
                  </a:lnTo>
                  <a:lnTo>
                    <a:pt x="2581" y="9645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7"/>
            <p:cNvSpPr/>
            <p:nvPr/>
          </p:nvSpPr>
          <p:spPr>
            <a:xfrm>
              <a:off x="3563640" y="836640"/>
              <a:ext cx="208764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Развитие речи дете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AutoShape 8"/>
          <p:cNvSpPr/>
          <p:nvPr/>
        </p:nvSpPr>
        <p:spPr>
          <a:xfrm>
            <a:off x="684360" y="4869000"/>
            <a:ext cx="2592360" cy="1295280"/>
          </a:xfrm>
          <a:prstGeom prst="wedgeRoundRectCallout">
            <a:avLst>
              <a:gd name="adj1" fmla="val 63657"/>
              <a:gd name="adj2" fmla="val -221569"/>
              <a:gd name="adj3" fmla="val 16667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0"/>
          <p:cNvSpPr/>
          <p:nvPr/>
        </p:nvSpPr>
        <p:spPr>
          <a:xfrm>
            <a:off x="468360" y="2997360"/>
            <a:ext cx="1944720" cy="1223640"/>
          </a:xfrm>
          <a:prstGeom prst="wedgeRoundRectCallout">
            <a:avLst>
              <a:gd name="adj1" fmla="val 95550"/>
              <a:gd name="adj2" fmla="val -101490"/>
              <a:gd name="adj3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1"/>
          <p:cNvSpPr/>
          <p:nvPr/>
        </p:nvSpPr>
        <p:spPr>
          <a:xfrm>
            <a:off x="6588000" y="1557360"/>
            <a:ext cx="2087640" cy="1297080"/>
          </a:xfrm>
          <a:prstGeom prst="wedgeRoundRectCallout">
            <a:avLst>
              <a:gd name="adj1" fmla="val -70606"/>
              <a:gd name="adj2" fmla="val -90268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2"/>
          <p:cNvSpPr/>
          <p:nvPr/>
        </p:nvSpPr>
        <p:spPr>
          <a:xfrm>
            <a:off x="395280" y="1413000"/>
            <a:ext cx="2232000" cy="1224000"/>
          </a:xfrm>
          <a:prstGeom prst="wedgeRoundRectCallout">
            <a:avLst>
              <a:gd name="adj1" fmla="val 59814"/>
              <a:gd name="adj2" fmla="val -95916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250920" y="1557360"/>
            <a:ext cx="2448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Чтение книг, общение с деть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(вопрос-ответ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539640" y="2997360"/>
            <a:ext cx="165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Стихи и сказки, теа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684360" y="5013360"/>
            <a:ext cx="266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одвижные, сюжетно - ролевые, дидактические </a:t>
            </a:r>
            <a:r>
              <a:rPr b="1" i="1" lang="ru-RU" sz="2000" spc="-1" strike="noStrike" u="sng">
                <a:solidFill>
                  <a:srgbClr val="008000"/>
                </a:solidFill>
                <a:uFillTx/>
                <a:latin typeface="Arial"/>
              </a:rPr>
              <a:t>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564000" y="551664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Пальчиковая и дыхательная гимна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"/>
          <p:cNvSpPr/>
          <p:nvPr/>
        </p:nvSpPr>
        <p:spPr>
          <a:xfrm>
            <a:off x="6586920" y="1844640"/>
            <a:ext cx="206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Чистоговор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Arial"/>
              </a:rPr>
              <a:t>рече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1"/>
          <p:cNvSpPr/>
          <p:nvPr/>
        </p:nvSpPr>
        <p:spPr>
          <a:xfrm>
            <a:off x="6659640" y="3429000"/>
            <a:ext cx="2305080" cy="1295280"/>
          </a:xfrm>
          <a:prstGeom prst="wedgeRoundRectCallout">
            <a:avLst>
              <a:gd name="adj1" fmla="val -93458"/>
              <a:gd name="adj2" fmla="val -117157"/>
              <a:gd name="adj3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2"/>
          <p:cNvSpPr/>
          <p:nvPr/>
        </p:nvSpPr>
        <p:spPr>
          <a:xfrm>
            <a:off x="6732720" y="350028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алоподвиж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игры (н-п игры), рассматр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картин и предм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4"/>
          <p:cNvSpPr/>
          <p:nvPr/>
        </p:nvSpPr>
        <p:spPr>
          <a:xfrm>
            <a:off x="6084720" y="5229360"/>
            <a:ext cx="2448000" cy="1439640"/>
          </a:xfrm>
          <a:prstGeom prst="wedgeRoundRectCallout">
            <a:avLst>
              <a:gd name="adj1" fmla="val -87027"/>
              <a:gd name="adj2" fmla="val -2149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5"/>
          <p:cNvSpPr/>
          <p:nvPr/>
        </p:nvSpPr>
        <p:spPr>
          <a:xfrm>
            <a:off x="6374880" y="5589720"/>
            <a:ext cx="204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Игры на мел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моторику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484000" y="765000"/>
            <a:ext cx="453708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треннее приветствия Индивидуальные бес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5388120" cy="46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альчиковые игр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Дыхательная гимна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Илья\Desktop\IMG_2963.JPG"/>
          <p:cNvPicPr/>
          <p:nvPr/>
        </p:nvPicPr>
        <p:blipFill>
          <a:blip r:embed="rId1"/>
          <a:stretch/>
        </p:blipFill>
        <p:spPr>
          <a:xfrm>
            <a:off x="1258920" y="1413000"/>
            <a:ext cx="4122720" cy="2620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C:\Users\Илья\Desktop\IMG_2978.JPG"/>
          <p:cNvPicPr/>
          <p:nvPr/>
        </p:nvPicPr>
        <p:blipFill>
          <a:blip r:embed="rId2"/>
          <a:stretch/>
        </p:blipFill>
        <p:spPr>
          <a:xfrm>
            <a:off x="2124000" y="3357720"/>
            <a:ext cx="6120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Users\Илья\Desktop\IMG_2184.JPG"/>
          <p:cNvPicPr/>
          <p:nvPr/>
        </p:nvPicPr>
        <p:blipFill>
          <a:blip r:embed="rId1"/>
          <a:stretch/>
        </p:blipFill>
        <p:spPr>
          <a:xfrm>
            <a:off x="324000" y="1125360"/>
            <a:ext cx="3311280" cy="3214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C:\Users\Илья\Desktop\IMG_1877.JPG"/>
          <p:cNvPicPr/>
          <p:nvPr/>
        </p:nvPicPr>
        <p:blipFill>
          <a:blip r:embed="rId2"/>
          <a:stretch/>
        </p:blipFill>
        <p:spPr>
          <a:xfrm>
            <a:off x="3995640" y="2205000"/>
            <a:ext cx="4640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ндивидуа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C:\Users\Илья\Desktop\129___11\IMG_2977.JPG"/>
          <p:cNvPicPr/>
          <p:nvPr/>
        </p:nvPicPr>
        <p:blipFill>
          <a:blip r:embed="rId1"/>
          <a:stretch/>
        </p:blipFill>
        <p:spPr>
          <a:xfrm>
            <a:off x="468360" y="1268280"/>
            <a:ext cx="2282760" cy="21607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3"/>
          <p:cNvSpPr/>
          <p:nvPr/>
        </p:nvSpPr>
        <p:spPr>
          <a:xfrm>
            <a:off x="3132000" y="1197000"/>
            <a:ext cx="525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Воспитание произносительных навыков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 развитие фонематического восприят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мимической мускулатур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мелкой моторики ру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звитие артикуляционного аппара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тработка опорных звук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Формирование словар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слова, обозначающие предме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ва, обозначающие качества и свойства предмет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лова, обозначающие различны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Формирование грамматических умени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навык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вязь слов в предложении (управление и согласова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едложные конструкции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9T15:22:10Z</dcterms:created>
  <dc:creator>гульназ</dc:creator>
  <dc:description/>
  <dc:language>en-US</dc:language>
  <cp:lastModifiedBy>Пользователь Windows</cp:lastModifiedBy>
  <dcterms:modified xsi:type="dcterms:W3CDTF">2017-10-19T17:17:48Z</dcterms:modified>
  <cp:revision>64</cp:revision>
  <dc:subject/>
  <dc:title>Презентация на тему: Один день из жизни группы №4 использование форм образовательной деятельности «Познание», «Коммуникация», «ЧХЛ».</dc:title>
</cp:coreProperties>
</file>