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7317-E6ED-4E93-9CAD-8A6F8C85E1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D496-D90D-4EE9-8575-C34C8447EF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7153-B7EF-4B15-86CA-8275177C1D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6C62-C216-4342-AD6C-36519C07A1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6187-1D7F-44B5-9275-34BBA953F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B513-E965-48A0-A131-6FDF1EE0CF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54B3-85E4-48E4-8BD0-4CD4C1CED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1260-13CF-4C24-91BC-5C2241755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94D6-ADD2-48E3-ABC8-E78EB80DB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055F5-EB9A-4951-9DD4-AD6EF9DE3F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B203-0C5D-489E-9E9B-999B8BF7DC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F7A2-77A2-4A02-B435-AC903E41EC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1A5A-AB5E-4FA1-8D93-E43397C205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83DC-E49A-4C0B-A529-611BC351E3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0A48-1601-406F-8402-A1C1ADE69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7B3C-83EC-4F19-AC5F-F4911035F9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3ACA-9C3E-4BFE-8625-5C75D70DC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369-70E5-41B7-BB66-1111511D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ACE2-4472-4A5B-BCEF-F8C6C568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0A44-D752-4DAF-A592-88F04918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35D1-7124-465C-9AB0-9242E8A8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6FC-DEC8-4044-BAE9-1A750791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A9F3-FD4D-483F-B8B8-EC52AA2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44DD-32EE-4519-84F2-BE2DCF9A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43AC-444C-4582-9F2C-64952617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9BE2-E150-40B7-A375-CB84F020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70D5-A5F5-4587-BE39-0A6FFA19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802-9E66-49D9-938A-60D3D117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E24F-E3D3-4A0B-BA33-3874BFCC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E3F20-1071-48D5-8519-0028F5FB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B045-6A8E-403E-807F-0E8139B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AAC7-EF26-45BB-A2FD-AD95DB07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1091-86A9-485E-BF24-37390134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967F-4BC6-44CA-9204-426BFA498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436F-F52F-4CD6-8733-C6467FE1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241C-7E22-4FB4-A5D4-3A202644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B268-0DD6-4CAA-A3C3-F6F25512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2CD8-7E63-410C-9C29-E8C35498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F7B-358A-4531-8379-1B611F4C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F6E-612A-4D19-A4D6-CE089613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BE28-FF28-4B6A-A99A-8B9315A7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7B41-0C4A-4C22-A85E-7F1ACEB35D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8CB4-D332-4044-B7C9-FD0968E740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6800" y="6426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нденсаторы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оемкость </a:t>
            </a:r>
            <a:br>
              <a:rPr sz="3300"/>
            </a:b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Единицы электроемкост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00080" y="4857480"/>
            <a:ext cx="7696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:   Журавлева Виктор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класс СОШ № 2 г. Белояр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: Панченко – Бондаренко Г.К.   ХМАО - Ю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конденсатор: Electrolytic capacitors Фото со стока"/>
          <p:cNvPicPr/>
          <p:nvPr/>
        </p:nvPicPr>
        <p:blipFill>
          <a:blip r:embed="rId1"/>
          <a:stretch/>
        </p:blipFill>
        <p:spPr>
          <a:xfrm>
            <a:off x="2500200" y="2000160"/>
            <a:ext cx="42865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оемкость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39" name="Picture 9" descr="C:\Users\1\Downloads\полск.jpg"/>
          <p:cNvPicPr/>
          <p:nvPr/>
        </p:nvPicPr>
        <p:blipFill>
          <a:blip r:embed="rId1"/>
          <a:stretch/>
        </p:blipFill>
        <p:spPr>
          <a:xfrm>
            <a:off x="191772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66"/>
                </a:solidFill>
                <a:latin typeface="Arial Black"/>
              </a:rPr>
              <a:t>Электроёмкость проводника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2643120" y="2071800"/>
                <a:ext cx="3600360" cy="27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ϕ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2" name="Text Box 6"/>
          <p:cNvSpPr/>
          <p:nvPr/>
        </p:nvSpPr>
        <p:spPr>
          <a:xfrm>
            <a:off x="1835280" y="515772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C]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/В =1Ф (Фара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4" name="Picture 2" descr="C:\Users\1\Downloads\78.jpg"/>
          <p:cNvPicPr/>
          <p:nvPr/>
        </p:nvPicPr>
        <p:blipFill>
          <a:blip r:embed="rId1"/>
          <a:stretch/>
        </p:blipFill>
        <p:spPr>
          <a:xfrm>
            <a:off x="500040" y="285840"/>
            <a:ext cx="83581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ическое поле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fiz6"/>
          <p:cNvPicPr/>
          <p:nvPr/>
        </p:nvPicPr>
        <p:blipFill>
          <a:blip r:embed="rId1"/>
          <a:stretch/>
        </p:blipFill>
        <p:spPr>
          <a:xfrm>
            <a:off x="2268360" y="2060640"/>
            <a:ext cx="4023000" cy="4033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Электроёмкость плоского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1042920" y="1957320"/>
                <a:ext cx="6481800" cy="379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Е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S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ff"/>
                </a:solidFill>
                <a:latin typeface="Arial Black"/>
              </a:rPr>
              <a:t>Электроёмкость сферического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85560" y="28195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Arial"/>
              </a:rPr>
              <a:t>С=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3429000" y="2714760"/>
                <a:ext cx="4033800" cy="20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ЕЕ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3" name="Picture 5" descr="C:\Users\1\Downloads\5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араллельное соединение 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5" name="Picture 4" descr="1"/>
          <p:cNvPicPr/>
          <p:nvPr/>
        </p:nvPicPr>
        <p:blipFill>
          <a:blip r:embed="rId1"/>
          <a:stretch/>
        </p:blipFill>
        <p:spPr>
          <a:xfrm>
            <a:off x="2651040" y="2205000"/>
            <a:ext cx="3513240" cy="388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оследовательное соедине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41672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fiz8"/>
          <p:cNvPicPr/>
          <p:nvPr/>
        </p:nvPicPr>
        <p:blipFill>
          <a:blip r:embed="rId1"/>
          <a:stretch/>
        </p:blipFill>
        <p:spPr>
          <a:xfrm>
            <a:off x="2195640" y="2301840"/>
            <a:ext cx="431964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оны параллельного соедин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1915920"/>
            <a:ext cx="373860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550880" indent="0">
              <a:buNone/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U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=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q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=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C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6"/>
              <p:cNvSpPr txBox="1"/>
              <p:nvPr/>
            </p:nvSpPr>
            <p:spPr>
              <a:xfrm>
                <a:off x="6515280" y="276876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5" descr="2"/>
          <p:cNvPicPr/>
          <p:nvPr/>
        </p:nvPicPr>
        <p:blipFill>
          <a:blip r:embed="rId1"/>
          <a:stretch/>
        </p:blipFill>
        <p:spPr>
          <a:xfrm>
            <a:off x="4500720" y="2133720"/>
            <a:ext cx="3611520" cy="381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Законы последовательного соединения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4" name="Picture 4" descr="fiz9"/>
          <p:cNvPicPr/>
          <p:nvPr/>
        </p:nvPicPr>
        <p:blipFill>
          <a:blip r:embed="rId1"/>
          <a:stretch/>
        </p:blipFill>
        <p:spPr>
          <a:xfrm>
            <a:off x="4714920" y="2357280"/>
            <a:ext cx="3816360" cy="2489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755640" y="1916280"/>
            <a:ext cx="3887640" cy="28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q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con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=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U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11280" y="3790800"/>
                <a:ext cx="3384360" cy="17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С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С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Arial Black"/>
              </a:rPr>
              <a:t>Конденсаторы</a:t>
            </a:r>
            <a:endParaRPr b="0" lang="en-US" sz="66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2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Система двух проводников,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700" spc="-1" strike="noStrike">
                <a:solidFill>
                  <a:srgbClr val="000000"/>
                </a:solidFill>
                <a:latin typeface="Arial"/>
              </a:rPr>
              <a:t>разделённых слоем диэлектрика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0"/>
              <p:cNvSpPr txBox="1"/>
              <p:nvPr/>
            </p:nvSpPr>
            <p:spPr>
              <a:xfrm>
                <a:off x="5919840" y="3271680"/>
                <a:ext cx="350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1" name="Text Box 19"/>
          <p:cNvSpPr/>
          <p:nvPr/>
        </p:nvSpPr>
        <p:spPr>
          <a:xfrm>
            <a:off x="5003640" y="3429000"/>
            <a:ext cx="32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2"/>
              <p:cNvSpPr txBox="1"/>
              <p:nvPr/>
            </p:nvSpPr>
            <p:spPr>
              <a:xfrm>
                <a:off x="6058080" y="4000680"/>
                <a:ext cx="1028520" cy="19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Text Box 24"/>
          <p:cNvSpPr/>
          <p:nvPr/>
        </p:nvSpPr>
        <p:spPr>
          <a:xfrm flipV="1">
            <a:off x="4572000" y="3284640"/>
            <a:ext cx="265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1" descr="конденсатор: Значок Конденсатор для различной конструкции Иллюстрация"/>
          <p:cNvPicPr/>
          <p:nvPr/>
        </p:nvPicPr>
        <p:blipFill>
          <a:blip r:embed="rId1"/>
          <a:stretch/>
        </p:blipFill>
        <p:spPr>
          <a:xfrm>
            <a:off x="5429160" y="1785960"/>
            <a:ext cx="2571840" cy="42861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C:\Users\1\Downloads\66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8" name="Picture 2" descr="C:\Users\1\Downloads\345.jpg"/>
          <p:cNvPicPr/>
          <p:nvPr/>
        </p:nvPicPr>
        <p:blipFill>
          <a:blip r:embed="rId1"/>
          <a:stretch/>
        </p:blipFill>
        <p:spPr>
          <a:xfrm>
            <a:off x="357120" y="428760"/>
            <a:ext cx="8358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пасибо за внимание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70" name="Picture 5" descr="C:\Users\1\Downloads\66.jpg"/>
          <p:cNvPicPr/>
          <p:nvPr/>
        </p:nvPicPr>
        <p:blipFill>
          <a:blip r:embed="rId1"/>
          <a:stretch/>
        </p:blipFill>
        <p:spPr>
          <a:xfrm>
            <a:off x="3086280" y="2577960"/>
            <a:ext cx="3047760" cy="2692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Что такое заряд конденсатора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д зарядом конденсатор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нимают абсолютное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значение заряда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дной из обкладок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q= C U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конденсатор: 3D Renderof a Robot with a Capacitor Фото со стока"/>
          <p:cNvPicPr/>
          <p:nvPr/>
        </p:nvPicPr>
        <p:blipFill>
          <a:blip r:embed="rId1"/>
          <a:stretch/>
        </p:blipFill>
        <p:spPr>
          <a:xfrm>
            <a:off x="5929200" y="1928880"/>
            <a:ext cx="300060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028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Конденсаторы различают по диэлектрик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Электролитическ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здуш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Слюдя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Бумажны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4560" cy="3817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fiz7"/>
          <p:cNvPicPr/>
          <p:nvPr/>
        </p:nvPicPr>
        <p:blipFill>
          <a:blip r:embed="rId2"/>
          <a:stretch/>
        </p:blipFill>
        <p:spPr>
          <a:xfrm>
            <a:off x="539640" y="4176720"/>
            <a:ext cx="3527640" cy="2681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конденсатор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4" name="Picture 2" descr="C:\Users\1\Downloads\123.jpg"/>
          <p:cNvPicPr/>
          <p:nvPr/>
        </p:nvPicPr>
        <p:blipFill>
          <a:blip r:embed="rId1"/>
          <a:stretch/>
        </p:blipFill>
        <p:spPr>
          <a:xfrm>
            <a:off x="1917720" y="1905120"/>
            <a:ext cx="5384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Arial Black"/>
              </a:rPr>
              <a:t>Конденсаторы различают по</a:t>
            </a:r>
            <a:r>
              <a:rPr b="0" lang="ru-RU" sz="3200" spc="-1" strike="noStrike">
                <a:solidFill>
                  <a:srgbClr val="990033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990033"/>
                </a:solidFill>
                <a:latin typeface="Arial Black"/>
              </a:rPr>
              <a:t>форме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ферическ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лоск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3708360" y="1844640"/>
            <a:ext cx="1295280" cy="1152720"/>
          </a:xfrm>
          <a:prstGeom prst="ellipse">
            <a:avLst/>
          </a:prstGeom>
          <a:solidFill>
            <a:srgbClr val="97cdcc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6"/>
          <p:cNvSpPr/>
          <p:nvPr/>
        </p:nvSpPr>
        <p:spPr>
          <a:xfrm flipV="1">
            <a:off x="4140360" y="2205000"/>
            <a:ext cx="431640" cy="432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3348000" y="3357720"/>
            <a:ext cx="1728720" cy="358560"/>
          </a:xfrm>
          <a:prstGeom prst="parallelogram">
            <a:avLst>
              <a:gd name="adj" fmla="val 12053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274920" y="4076640"/>
            <a:ext cx="1728720" cy="358920"/>
          </a:xfrm>
          <a:prstGeom prst="parallelogram">
            <a:avLst>
              <a:gd name="adj" fmla="val 120411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2"/>
          <p:cNvSpPr/>
          <p:nvPr/>
        </p:nvSpPr>
        <p:spPr>
          <a:xfrm>
            <a:off x="4140360" y="3500280"/>
            <a:ext cx="0" cy="7192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4202280" y="3710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564000" y="40766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7"/>
          <p:cNvSpPr/>
          <p:nvPr/>
        </p:nvSpPr>
        <p:spPr>
          <a:xfrm>
            <a:off x="3708360" y="3851280"/>
            <a:ext cx="28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0" descr=""/>
          <p:cNvPicPr/>
          <p:nvPr/>
        </p:nvPicPr>
        <p:blipFill>
          <a:blip r:embed="rId1"/>
          <a:stretch/>
        </p:blipFill>
        <p:spPr>
          <a:xfrm>
            <a:off x="5357880" y="4143240"/>
            <a:ext cx="3276360" cy="2127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" descr="C:\Users\1\Downloads\2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C:\Users\1\Downloads\77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C:\Users\1\Downloads\22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  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Типы и виды конденсаторов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Users\1\Downloads\34.jpg"/>
          <p:cNvPicPr/>
          <p:nvPr/>
        </p:nvPicPr>
        <p:blipFill>
          <a:blip r:embed="rId1"/>
          <a:stretch/>
        </p:blipFill>
        <p:spPr>
          <a:xfrm>
            <a:off x="785880" y="1928880"/>
            <a:ext cx="76197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500" spc="-1" strike="noStrike">
                <a:solidFill>
                  <a:srgbClr val="0000ff"/>
                </a:solidFill>
                <a:latin typeface="Arial Black"/>
              </a:rPr>
              <a:t>Электроёмкость</a:t>
            </a:r>
            <a:endParaRPr b="0" lang="en-US" sz="5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47640" y="4221000"/>
            <a:ext cx="61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величина, характеризующая способность тела накапливать заря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1:38:43Z</dcterms:created>
  <dc:creator>a112_student</dc:creator>
  <dc:description/>
  <dc:language>en-US</dc:language>
  <cp:lastModifiedBy>1</cp:lastModifiedBy>
  <dcterms:modified xsi:type="dcterms:W3CDTF">2017-10-20T16:24:39Z</dcterms:modified>
  <cp:revision>99</cp:revision>
  <dc:subject/>
  <dc:title>Слайд 1</dc:title>
</cp:coreProperties>
</file>