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12E6-79BF-45BC-8BEF-9C2C8204AC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D57A-4D4D-4A57-BED2-293D3944AC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A672-EA04-4472-955E-59F0968249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AF87-7EF8-4762-9829-C53BAAC4C8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C0F0-A575-47C6-8036-2B0AC3BF3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2737-3CEC-44F5-B256-76993AC965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8549-07A7-4B9E-AEE9-351683919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F6A7-3636-478B-86EC-010C21BFC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4704-28DE-44E3-B820-95199A144D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5637-0F97-42AD-88D1-6FA6285219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510E-F828-4E7B-BE5B-35177DAB6C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8B91-E471-4DC8-A8A3-E26C338B4B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0142-0254-4A5A-8734-C36F7AA1E9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EF0D-8853-4DA1-A2B4-E2CAFF5E12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76CF-D562-46D0-8F3D-BB8D0D74F7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C231-523D-4AD8-9599-5C8ED9584B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7EAF-BB81-473B-80D4-5BB6ECE21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6C4-2FD0-44A4-8BF6-81FE54C2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164-689B-45F3-8D52-3FBB3E97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507-6D67-40AB-AC20-CD4E1CA8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8FA-571E-4CDF-8D1F-BB2FBC97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5DA3-9925-4293-8593-AF7BC409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0AE6-601B-486F-95A9-6C15F586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3D53-DD10-45F1-B5AA-3F9D5AD7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E1B0-2552-49DE-959C-CE412423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45A4-809F-4475-866F-E9E1E62D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BCB4-14F7-4AA2-B637-C913126A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6DE2-74C8-49A3-AC25-151D7D03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E82-83B7-4AA4-A719-1F939F01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29D9-516F-4408-BE42-6C8FA82D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BE70-56F3-4F46-B0D9-9520E4CD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3115-C787-4514-820F-093BF843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7037-19EB-441D-A5B0-FDA3531C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FBEC-8DBE-4098-BEBD-3A443EB4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4218-F68F-47E6-A7A8-9CA4248C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C1F-8D4E-4D2E-A1B6-DADE5144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B3D-3BE5-424C-BC55-7C25919A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0E7-6955-4A27-840A-329D074A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FFE-1BD6-476A-8922-37165465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3C9-46A8-43AC-AF7F-61186B56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B3E-1F7E-472E-88ED-A47F7D15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25B4-5AD7-4372-B1F9-D93252C13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D537-CB0C-4EB0-8814-9C8C6E68F1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онденсаторы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Электроемкость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Единицы электроемкост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00080" y="4857480"/>
            <a:ext cx="7696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  Журавлева Викто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 класс СОШ № 2 г. Белояр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: Панченко – Бондаренко Г.К.   ХМАО - Ю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конденсатор: Electrolytic capacitors Фото со стока"/>
          <p:cNvPicPr/>
          <p:nvPr/>
        </p:nvPicPr>
        <p:blipFill>
          <a:blip r:embed="rId1"/>
          <a:stretch/>
        </p:blipFill>
        <p:spPr>
          <a:xfrm>
            <a:off x="2500200" y="2000160"/>
            <a:ext cx="428652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Электроемкость конденсатор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9" name="Picture 9" descr="C:\Users\1\Downloads\полск.jpg"/>
          <p:cNvPicPr/>
          <p:nvPr/>
        </p:nvPicPr>
        <p:blipFill>
          <a:blip r:embed="rId1"/>
          <a:stretch/>
        </p:blipFill>
        <p:spPr>
          <a:xfrm>
            <a:off x="1917720" y="1905120"/>
            <a:ext cx="538488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Электроёмкость проводник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2643120" y="2071800"/>
                <a:ext cx="3600360" cy="27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ϕ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Text Box 6"/>
          <p:cNvSpPr/>
          <p:nvPr/>
        </p:nvSpPr>
        <p:spPr>
          <a:xfrm>
            <a:off x="1835280" y="51577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C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/В =1Ф (Фара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4" name="Picture 2" descr="C:\Users\1\Downloads\78.jpg"/>
          <p:cNvPicPr/>
          <p:nvPr/>
        </p:nvPicPr>
        <p:blipFill>
          <a:blip r:embed="rId1"/>
          <a:stretch/>
        </p:blipFill>
        <p:spPr>
          <a:xfrm>
            <a:off x="500040" y="285840"/>
            <a:ext cx="83581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Электрическое поле конденсатор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fiz6"/>
          <p:cNvPicPr/>
          <p:nvPr/>
        </p:nvPicPr>
        <p:blipFill>
          <a:blip r:embed="rId1"/>
          <a:stretch/>
        </p:blipFill>
        <p:spPr>
          <a:xfrm>
            <a:off x="2268360" y="2060640"/>
            <a:ext cx="4023000" cy="4033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Электроёмкость плоского конденсатор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042920" y="1957320"/>
                <a:ext cx="6481800" cy="379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Е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S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ff"/>
                </a:solidFill>
                <a:latin typeface="Arial Black"/>
              </a:rPr>
              <a:t>Электроёмкость сферического конденсатор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85560" y="28195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С=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3429000" y="2714760"/>
                <a:ext cx="4033800" cy="20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Е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" name="Picture 5" descr="C:\Users\1\Downloads\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араллельное соединение 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5" name="Picture 4" descr="1"/>
          <p:cNvPicPr/>
          <p:nvPr/>
        </p:nvPicPr>
        <p:blipFill>
          <a:blip r:embed="rId1"/>
          <a:stretch/>
        </p:blipFill>
        <p:spPr>
          <a:xfrm>
            <a:off x="2651040" y="2205000"/>
            <a:ext cx="351324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следовательное соедине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41672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fiz8"/>
          <p:cNvPicPr/>
          <p:nvPr/>
        </p:nvPicPr>
        <p:blipFill>
          <a:blip r:embed="rId1"/>
          <a:stretch/>
        </p:blipFill>
        <p:spPr>
          <a:xfrm>
            <a:off x="2195640" y="2301840"/>
            <a:ext cx="431964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Законы параллельного соедин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1915920"/>
            <a:ext cx="373860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550880" indent="0"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=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=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=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6515280" y="27687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2" name="Picture 5" descr="2"/>
          <p:cNvPicPr/>
          <p:nvPr/>
        </p:nvPicPr>
        <p:blipFill>
          <a:blip r:embed="rId1"/>
          <a:stretch/>
        </p:blipFill>
        <p:spPr>
          <a:xfrm>
            <a:off x="4500720" y="2133720"/>
            <a:ext cx="3611520" cy="381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Законы последовательного соедин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4" name="Picture 4" descr="fiz9"/>
          <p:cNvPicPr/>
          <p:nvPr/>
        </p:nvPicPr>
        <p:blipFill>
          <a:blip r:embed="rId1"/>
          <a:stretch/>
        </p:blipFill>
        <p:spPr>
          <a:xfrm>
            <a:off x="4714920" y="2357280"/>
            <a:ext cx="3816360" cy="2489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755640" y="1916280"/>
            <a:ext cx="388764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q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=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611280" y="3790800"/>
                <a:ext cx="338436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Arial Black"/>
              </a:rPr>
              <a:t>Конденсаторы</a:t>
            </a:r>
            <a:endParaRPr b="0" lang="en-US" sz="6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Система двух проводников,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разделённых слоем диэлектрик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5919840" y="3271680"/>
                <a:ext cx="350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1" name="Text Box 19"/>
          <p:cNvSpPr/>
          <p:nvPr/>
        </p:nvSpPr>
        <p:spPr>
          <a:xfrm>
            <a:off x="5003640" y="342900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2"/>
              <p:cNvSpPr txBox="1"/>
              <p:nvPr/>
            </p:nvSpPr>
            <p:spPr>
              <a:xfrm>
                <a:off x="6058080" y="4000680"/>
                <a:ext cx="102852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Text Box 24"/>
          <p:cNvSpPr/>
          <p:nvPr/>
        </p:nvSpPr>
        <p:spPr>
          <a:xfrm flipV="1">
            <a:off x="4572000" y="3284640"/>
            <a:ext cx="265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конденсатор: Значок Конденсатор для различной конструкции Иллюстрация"/>
          <p:cNvPicPr/>
          <p:nvPr/>
        </p:nvPicPr>
        <p:blipFill>
          <a:blip r:embed="rId1"/>
          <a:stretch/>
        </p:blipFill>
        <p:spPr>
          <a:xfrm>
            <a:off x="5429160" y="1785960"/>
            <a:ext cx="2571840" cy="4286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1\Downloads\66.jpg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8" name="Picture 2" descr="C:\Users\1\Downloads\345.jpg"/>
          <p:cNvPicPr/>
          <p:nvPr/>
        </p:nvPicPr>
        <p:blipFill>
          <a:blip r:embed="rId1"/>
          <a:stretch/>
        </p:blipFill>
        <p:spPr>
          <a:xfrm>
            <a:off x="357120" y="428760"/>
            <a:ext cx="8358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пасибо за внима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70" name="Picture 5" descr="C:\Users\1\Downloads\66.jpg"/>
          <p:cNvPicPr/>
          <p:nvPr/>
        </p:nvPicPr>
        <p:blipFill>
          <a:blip r:embed="rId1"/>
          <a:stretch/>
        </p:blipFill>
        <p:spPr>
          <a:xfrm>
            <a:off x="3086280" y="2577960"/>
            <a:ext cx="3047760" cy="2692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Что такое заряд конденсатор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 зарядом конденсатор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нимают абсолютно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начение заряд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дной из обкладо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= C 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конденсатор: 3D Renderof a Robot with a Capacitor Фото со стока"/>
          <p:cNvPicPr/>
          <p:nvPr/>
        </p:nvPicPr>
        <p:blipFill>
          <a:blip r:embed="rId1"/>
          <a:stretch/>
        </p:blipFill>
        <p:spPr>
          <a:xfrm>
            <a:off x="5929200" y="1928880"/>
            <a:ext cx="300060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онденсаторы различают по диэлектрику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Электролитическ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оздушны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людяны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умажны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454560" cy="3817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fiz7"/>
          <p:cNvPicPr/>
          <p:nvPr/>
        </p:nvPicPr>
        <p:blipFill>
          <a:blip r:embed="rId2"/>
          <a:stretch/>
        </p:blipFill>
        <p:spPr>
          <a:xfrm>
            <a:off x="539640" y="4176720"/>
            <a:ext cx="3527640" cy="2681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ипы конденсатор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4" name="Picture 2" descr="C:\Users\1\Downloads\123.jpg"/>
          <p:cNvPicPr/>
          <p:nvPr/>
        </p:nvPicPr>
        <p:blipFill>
          <a:blip r:embed="rId1"/>
          <a:stretch/>
        </p:blipFill>
        <p:spPr>
          <a:xfrm>
            <a:off x="1917720" y="1905120"/>
            <a:ext cx="5384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 Black"/>
              </a:rPr>
              <a:t>Конденсаторы различают по</a:t>
            </a:r>
            <a:r>
              <a:rPr b="0" lang="ru-RU" sz="3200" spc="-1" strike="noStrike">
                <a:solidFill>
                  <a:srgbClr val="990033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990033"/>
                </a:solidFill>
                <a:latin typeface="Arial Black"/>
              </a:rPr>
              <a:t>форме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ферическ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лоск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3708360" y="1844640"/>
            <a:ext cx="1295280" cy="1152720"/>
          </a:xfrm>
          <a:prstGeom prst="ellipse">
            <a:avLst/>
          </a:prstGeom>
          <a:solidFill>
            <a:srgbClr val="97cd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6"/>
          <p:cNvSpPr/>
          <p:nvPr/>
        </p:nvSpPr>
        <p:spPr>
          <a:xfrm flipV="1">
            <a:off x="4140360" y="2205000"/>
            <a:ext cx="431640" cy="432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3348000" y="3357720"/>
            <a:ext cx="1728720" cy="358560"/>
          </a:xfrm>
          <a:prstGeom prst="parallelogram">
            <a:avLst>
              <a:gd name="adj" fmla="val 12053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3274920" y="4076640"/>
            <a:ext cx="1728720" cy="358920"/>
          </a:xfrm>
          <a:prstGeom prst="parallelogram">
            <a:avLst>
              <a:gd name="adj" fmla="val 120411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4140360" y="3500280"/>
            <a:ext cx="0" cy="7192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4202280" y="37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564000" y="40766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708360" y="385128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0" descr=""/>
          <p:cNvPicPr/>
          <p:nvPr/>
        </p:nvPicPr>
        <p:blipFill>
          <a:blip r:embed="rId1"/>
          <a:stretch/>
        </p:blipFill>
        <p:spPr>
          <a:xfrm>
            <a:off x="5357880" y="4143240"/>
            <a:ext cx="3276360" cy="212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C:\Users\1\Downloads\2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1\Downloads\77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Users\1\Downloads\2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ипы и виды конденсатор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1\Downloads\34.jpg"/>
          <p:cNvPicPr/>
          <p:nvPr/>
        </p:nvPicPr>
        <p:blipFill>
          <a:blip r:embed="rId1"/>
          <a:stretch/>
        </p:blipFill>
        <p:spPr>
          <a:xfrm>
            <a:off x="785880" y="1928880"/>
            <a:ext cx="76197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500" spc="-1" strike="noStrike">
                <a:solidFill>
                  <a:srgbClr val="0000ff"/>
                </a:solidFill>
                <a:latin typeface="Arial Black"/>
              </a:rPr>
              <a:t>Электроёмкость</a:t>
            </a:r>
            <a:endParaRPr b="0" lang="en-US" sz="5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547640" y="4221000"/>
            <a:ext cx="61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ая величина, характеризующая способность тела накапливать за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1:38:43Z</dcterms:created>
  <dc:creator>a112_student</dc:creator>
  <dc:description/>
  <dc:language>en-US</dc:language>
  <cp:lastModifiedBy>1</cp:lastModifiedBy>
  <dcterms:modified xsi:type="dcterms:W3CDTF">2017-10-20T16:24:39Z</dcterms:modified>
  <cp:revision>99</cp:revision>
  <dc:subject/>
  <dc:title>Слайд 1</dc:title>
</cp:coreProperties>
</file>