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A936-13E3-4DA9-A4B5-673BD08B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FE1-BB4D-4F09-89AC-36A3AA70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716-C186-48E3-8E38-40B04CC6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1788-9293-4235-95E8-2989A0D1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167-E53F-48E0-8AFB-5B55A584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294-BC5A-4F7A-ACF6-EE83D8AC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6BF7-82B6-43B6-81E8-08DF029D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EAA-2800-4D36-B211-BC5CAB87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320-4C30-42D1-9AEF-1E1A76DF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F64-A6AC-46F5-97AD-0DAF0EED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073-4F87-4D4B-8560-5C6D7D99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A976-0AF7-4AC5-AE7C-E0CCF54F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368E-A2A5-4FE5-98D4-DFE508BA6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4f6228"/>
                </a:solidFill>
                <a:latin typeface="Calibri"/>
              </a:rPr>
              <a:t>КОРЕНЬ</a:t>
            </a:r>
            <a:br>
              <a:rPr sz="6600"/>
            </a:br>
            <a:r>
              <a:rPr b="1" lang="ru-RU" sz="5400" spc="-1" strike="noStrike">
                <a:solidFill>
                  <a:srgbClr val="4f6228"/>
                </a:solidFill>
                <a:latin typeface="Calibri"/>
              </a:rPr>
              <a:t>ВНЕШНЕЕ И ВНУТРЕННЕЕ СТРОЕНИЕ КОРН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357720" y="5214960"/>
            <a:ext cx="578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ила учитель биологии МБОУ СОШ № 22 Ильенко Светлана Григор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Человек и дерево.bmp"/>
          <p:cNvPicPr/>
          <p:nvPr/>
        </p:nvPicPr>
        <p:blipFill>
          <a:blip r:embed="rId2"/>
          <a:stretch/>
        </p:blipFill>
        <p:spPr>
          <a:xfrm>
            <a:off x="2571840" y="1071720"/>
            <a:ext cx="4000320" cy="386208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48" name="Подзаголовок 2"/>
          <p:cNvSpPr/>
          <p:nvPr/>
        </p:nvSpPr>
        <p:spPr>
          <a:xfrm>
            <a:off x="0" y="4786200"/>
            <a:ext cx="9144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1. Закрепляет и удерживает растение в вертикальном положен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дзаголовок 2"/>
          <p:cNvSpPr/>
          <p:nvPr/>
        </p:nvSpPr>
        <p:spPr>
          <a:xfrm>
            <a:off x="3286080" y="0"/>
            <a:ext cx="58579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2. Питает растение, всасывая воду и минера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642960" y="1000080"/>
            <a:ext cx="2746440" cy="55152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ФУНКЦИИ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одзаголовок 2"/>
          <p:cNvSpPr/>
          <p:nvPr/>
        </p:nvSpPr>
        <p:spPr>
          <a:xfrm>
            <a:off x="0" y="4714920"/>
            <a:ext cx="914400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3. Накапливает и откладыв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итательные ве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Морковь и свекла.bmp"/>
          <p:cNvPicPr/>
          <p:nvPr/>
        </p:nvPicPr>
        <p:blipFill>
          <a:blip r:embed="rId2"/>
          <a:stretch/>
        </p:blipFill>
        <p:spPr>
          <a:xfrm>
            <a:off x="2428920" y="1071720"/>
            <a:ext cx="4156200" cy="37861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дзаголовок 2"/>
          <p:cNvSpPr/>
          <p:nvPr/>
        </p:nvSpPr>
        <p:spPr>
          <a:xfrm>
            <a:off x="4643280" y="1357200"/>
            <a:ext cx="450072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1. Главный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2. Боков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3. Придаточные кор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6" descr="Типы корней.jpg"/>
          <p:cNvPicPr/>
          <p:nvPr/>
        </p:nvPicPr>
        <p:blipFill>
          <a:blip r:embed="rId2"/>
          <a:stretch/>
        </p:blipFill>
        <p:spPr>
          <a:xfrm>
            <a:off x="571680" y="1357200"/>
            <a:ext cx="4000320" cy="45007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ТИПЫ КОРНЕВЫХ СИСТЕ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utoShape 2"/>
          <p:cNvSpPr/>
          <p:nvPr/>
        </p:nvSpPr>
        <p:spPr>
          <a:xfrm>
            <a:off x="38160" y="-842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одзаголовок 2"/>
          <p:cNvSpPr/>
          <p:nvPr/>
        </p:nvSpPr>
        <p:spPr>
          <a:xfrm>
            <a:off x="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СТЕРЖНЕВ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2286000" y="1285920"/>
            <a:ext cx="190980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>
            <a:off x="5000760" y="1285920"/>
            <a:ext cx="1865160" cy="360036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0" name="Подзаголовок 2"/>
          <p:cNvSpPr/>
          <p:nvPr/>
        </p:nvSpPr>
        <p:spPr>
          <a:xfrm>
            <a:off x="4929120" y="4929120"/>
            <a:ext cx="421488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f6228"/>
                </a:solidFill>
                <a:latin typeface="Calibri"/>
              </a:rPr>
              <a:t>МОЧКОВАТ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Calibri"/>
              </a:rPr>
              <a:t>ЗОНЫ КОР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71680" y="999720"/>
            <a:ext cx="3714840" cy="528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V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Всасы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Ро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f6228"/>
                </a:solidFill>
                <a:latin typeface="Calibri"/>
              </a:rPr>
              <a:t>I. </a:t>
            </a:r>
            <a:r>
              <a:rPr b="1" lang="ru-RU" sz="3600" spc="-1" strike="noStrike">
                <a:solidFill>
                  <a:srgbClr val="4f6228"/>
                </a:solidFill>
                <a:latin typeface="Calibri"/>
              </a:rPr>
              <a:t>Де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484200" y="1000080"/>
            <a:ext cx="4416480" cy="528660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8" descr="maintre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5286240" y="2643120"/>
            <a:ext cx="3376800" cy="3571920"/>
          </a:xfrm>
          <a:prstGeom prst="rect">
            <a:avLst/>
          </a:prstGeom>
          <a:ln w="9360">
            <a:solidFill>
              <a:srgbClr val="4f6228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4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f6228"/>
                </a:solidFill>
                <a:latin typeface="Calibri"/>
              </a:rPr>
              <a:t>КОРЕНЬ – это специализированный орган растения, обеспечивающий его почвенное питани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285840" y="2643120"/>
            <a:ext cx="478620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f6228"/>
                </a:solidFill>
                <a:latin typeface="Calibri"/>
              </a:rPr>
              <a:t>Тесное взаимодействие всех зон корня обеспечивает его нормальную работу, важную для жизнедеятельности всего организм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25:30Z</dcterms:created>
  <dc:creator>Дом</dc:creator>
  <dc:description/>
  <dc:language>en-US</dc:language>
  <cp:lastModifiedBy>ч</cp:lastModifiedBy>
  <dcterms:modified xsi:type="dcterms:W3CDTF">2014-03-31T06:04:06Z</dcterms:modified>
  <cp:revision>23</cp:revision>
  <dc:subject/>
  <dc:title>Слайд 1</dc:title>
</cp:coreProperties>
</file>