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1ED5-847E-45CB-B851-E598A32E3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B36-8B53-4BE4-9CD9-13B1DC28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EF9-0B09-406E-AF9D-B25958FE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462-556E-453D-898A-03915BA0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8FB6-542E-4849-BCE4-AD9EFCAE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5634-7491-4548-A6AD-7B8F637F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3B94-26C5-4C51-95CA-977ACD38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1A8-49C9-4CFA-BCC7-C27C8DD9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74E-5E8E-4D85-AE2F-069C2DE3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9D0-15DF-496B-828E-1F01B6F3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1AA-908E-4AAA-BC25-0293BD11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F298-637B-4084-A8F7-A24CF43C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6A65-39EE-4BA0-9DBE-4A3B91F5E1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f6228"/>
                </a:solidFill>
                <a:latin typeface="Calibri"/>
              </a:rPr>
              <a:t>КОРЕНЬ</a:t>
            </a:r>
            <a:br>
              <a:rPr sz="6600"/>
            </a:b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ВНЕШНЕЕ И ВНУТРЕННЕЕ СТРОЕНИЕ КОРН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357720" y="521496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ила учитель биологии МБОУ СОШ № 22 Ильенко Светлана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ФУНКЦИИ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Человек и дерево.bmp"/>
          <p:cNvPicPr/>
          <p:nvPr/>
        </p:nvPicPr>
        <p:blipFill>
          <a:blip r:embed="rId2"/>
          <a:stretch/>
        </p:blipFill>
        <p:spPr>
          <a:xfrm>
            <a:off x="2571840" y="1071720"/>
            <a:ext cx="4000320" cy="386208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  <p:sp>
        <p:nvSpPr>
          <p:cNvPr id="48" name="Подзаголовок 2"/>
          <p:cNvSpPr/>
          <p:nvPr/>
        </p:nvSpPr>
        <p:spPr>
          <a:xfrm>
            <a:off x="0" y="4786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1. Закрепляет и удерживает растение в вертикальном положе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ФУНКЦИИ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3286080" y="0"/>
            <a:ext cx="5857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2. Питает растение, всасывая воду и минеральные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642960" y="1000080"/>
            <a:ext cx="2746440" cy="551520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ФУНКЦИИ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одзаголовок 2"/>
          <p:cNvSpPr/>
          <p:nvPr/>
        </p:nvSpPr>
        <p:spPr>
          <a:xfrm>
            <a:off x="0" y="4714920"/>
            <a:ext cx="9144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3. Накапливает и отклады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питательные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Морковь и свекла.bmp"/>
          <p:cNvPicPr/>
          <p:nvPr/>
        </p:nvPicPr>
        <p:blipFill>
          <a:blip r:embed="rId2"/>
          <a:stretch/>
        </p:blipFill>
        <p:spPr>
          <a:xfrm>
            <a:off x="2428920" y="1071720"/>
            <a:ext cx="4156200" cy="378612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ТИПЫ КОРН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дзаголовок 2"/>
          <p:cNvSpPr/>
          <p:nvPr/>
        </p:nvSpPr>
        <p:spPr>
          <a:xfrm>
            <a:off x="4643280" y="1357200"/>
            <a:ext cx="45007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1. Главный 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. Боковые кор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. Придаточные кор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6" descr="Типы корней.jpg"/>
          <p:cNvPicPr/>
          <p:nvPr/>
        </p:nvPicPr>
        <p:blipFill>
          <a:blip r:embed="rId2"/>
          <a:stretch/>
        </p:blipFill>
        <p:spPr>
          <a:xfrm>
            <a:off x="571680" y="1357200"/>
            <a:ext cx="4000320" cy="450072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ТИПЫ КОРНЕВЫХ СИСТ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одзаголовок 2"/>
          <p:cNvSpPr/>
          <p:nvPr/>
        </p:nvSpPr>
        <p:spPr>
          <a:xfrm>
            <a:off x="0" y="4929120"/>
            <a:ext cx="42148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СТЕРЖНЕ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2286000" y="1285920"/>
            <a:ext cx="1909800" cy="360036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5000760" y="1285920"/>
            <a:ext cx="1865160" cy="360036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  <p:sp>
        <p:nvSpPr>
          <p:cNvPr id="70" name="Подзаголовок 2"/>
          <p:cNvSpPr/>
          <p:nvPr/>
        </p:nvSpPr>
        <p:spPr>
          <a:xfrm>
            <a:off x="4929120" y="4929120"/>
            <a:ext cx="42148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МОЧКОВА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ЗОНЫ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71680" y="999720"/>
            <a:ext cx="3714840" cy="52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IV.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III.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Всасы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II.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Ро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I.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484200" y="1000080"/>
            <a:ext cx="4416480" cy="528660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5286240" y="2643120"/>
            <a:ext cx="3376800" cy="357192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КОРЕНЬ – это специализированный орган растения, обеспечивающий его почвенное пит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285840" y="2643120"/>
            <a:ext cx="47862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f6228"/>
                </a:solidFill>
                <a:latin typeface="Calibri"/>
              </a:rPr>
              <a:t>Тесное взаимодействие всех зон корня обеспечивает его нормальную работу, важную для жизнедеятельности всего организм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25:30Z</dcterms:created>
  <dc:creator>Дом</dc:creator>
  <dc:description/>
  <dc:language>en-US</dc:language>
  <cp:lastModifiedBy>ч</cp:lastModifiedBy>
  <dcterms:modified xsi:type="dcterms:W3CDTF">2014-03-31T06:04:06Z</dcterms:modified>
  <cp:revision>23</cp:revision>
  <dc:subject/>
  <dc:title>Слайд 1</dc:title>
</cp:coreProperties>
</file>