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10C-F8AB-4AB2-A095-96FC099F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844D-F2ED-425D-87B4-156B4C96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F32E-BB94-4451-A990-F268905B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399-ACA9-4283-8957-33F1A0A2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25F-36B7-4793-84DF-754F91F6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0CE-6AF1-4D95-8C49-C7AB8A19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A070-C7B9-4713-AC31-32224EB2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582E-4898-4032-A724-5618C1F8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08E-9525-4F4F-A283-78E2CF44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965-2E68-4053-BCD4-E62A6BDD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B800-69D9-45C2-971B-054743F9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1534-51D3-42A4-8287-B8465D72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AC68-2B3F-457A-BEF1-008B6C3362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4f6228"/>
                </a:solidFill>
                <a:latin typeface="Calibri"/>
              </a:rPr>
              <a:t>КОРЕНЬ</a:t>
            </a:r>
            <a:br>
              <a:rPr sz="6600"/>
            </a:br>
            <a:r>
              <a:rPr b="1" lang="ru-RU" sz="5400" spc="-1" strike="noStrike">
                <a:solidFill>
                  <a:srgbClr val="4f6228"/>
                </a:solidFill>
                <a:latin typeface="Calibri"/>
              </a:rPr>
              <a:t>ВНЕШНЕЕ И ВНУТРЕННЕЕ СТРОЕНИЕ КОРН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357720" y="5214960"/>
            <a:ext cx="57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ила учитель биологии МБОУ СОШ № 22 Ильенко Светлана Григо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ФУНКЦИИ КОР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38160" y="-84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Человек и дерево.bmp"/>
          <p:cNvPicPr/>
          <p:nvPr/>
        </p:nvPicPr>
        <p:blipFill>
          <a:blip r:embed="rId2"/>
          <a:stretch/>
        </p:blipFill>
        <p:spPr>
          <a:xfrm>
            <a:off x="2571840" y="1071720"/>
            <a:ext cx="4000320" cy="386208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  <p:sp>
        <p:nvSpPr>
          <p:cNvPr id="48" name="Подзаголовок 2"/>
          <p:cNvSpPr/>
          <p:nvPr/>
        </p:nvSpPr>
        <p:spPr>
          <a:xfrm>
            <a:off x="0" y="4786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1. Закрепляет и удерживает растение в вертикальном положен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ФУНКЦИИ КОР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38160" y="-84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3286080" y="0"/>
            <a:ext cx="58579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2. Питает растение, всасывая воду и минеральные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642960" y="1000080"/>
            <a:ext cx="2746440" cy="551520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ФУНКЦИИ КОР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2"/>
          <p:cNvSpPr/>
          <p:nvPr/>
        </p:nvSpPr>
        <p:spPr>
          <a:xfrm>
            <a:off x="38160" y="-84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одзаголовок 2"/>
          <p:cNvSpPr/>
          <p:nvPr/>
        </p:nvSpPr>
        <p:spPr>
          <a:xfrm>
            <a:off x="0" y="4714920"/>
            <a:ext cx="91440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3. Накапливает и откладыв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питательные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Морковь и свекла.bmp"/>
          <p:cNvPicPr/>
          <p:nvPr/>
        </p:nvPicPr>
        <p:blipFill>
          <a:blip r:embed="rId2"/>
          <a:stretch/>
        </p:blipFill>
        <p:spPr>
          <a:xfrm>
            <a:off x="2428920" y="1071720"/>
            <a:ext cx="4156200" cy="378612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ТИПЫ КОРН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38160" y="-84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дзаголовок 2"/>
          <p:cNvSpPr/>
          <p:nvPr/>
        </p:nvSpPr>
        <p:spPr>
          <a:xfrm>
            <a:off x="4643280" y="1357200"/>
            <a:ext cx="450072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1. Главный ко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. Боковые кор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. Придаточные кор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6" descr="Типы корней.jpg"/>
          <p:cNvPicPr/>
          <p:nvPr/>
        </p:nvPicPr>
        <p:blipFill>
          <a:blip r:embed="rId2"/>
          <a:stretch/>
        </p:blipFill>
        <p:spPr>
          <a:xfrm>
            <a:off x="571680" y="1357200"/>
            <a:ext cx="4000320" cy="450072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ТИПЫ КОРНЕВЫХ СИСТ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2"/>
          <p:cNvSpPr/>
          <p:nvPr/>
        </p:nvSpPr>
        <p:spPr>
          <a:xfrm>
            <a:off x="38160" y="-84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одзаголовок 2"/>
          <p:cNvSpPr/>
          <p:nvPr/>
        </p:nvSpPr>
        <p:spPr>
          <a:xfrm>
            <a:off x="0" y="4929120"/>
            <a:ext cx="42148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СТЕРЖНЕ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2286000" y="1285920"/>
            <a:ext cx="1909800" cy="360036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5000760" y="1285920"/>
            <a:ext cx="1865160" cy="360036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  <p:sp>
        <p:nvSpPr>
          <p:cNvPr id="70" name="Подзаголовок 2"/>
          <p:cNvSpPr/>
          <p:nvPr/>
        </p:nvSpPr>
        <p:spPr>
          <a:xfrm>
            <a:off x="4929120" y="4929120"/>
            <a:ext cx="42148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МОЧКОВА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ЗОНЫ КОР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71680" y="999720"/>
            <a:ext cx="3714840" cy="52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IV. </a:t>
            </a: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III. </a:t>
            </a: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Всасы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II. </a:t>
            </a: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Ро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I. </a:t>
            </a: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484200" y="1000080"/>
            <a:ext cx="4416480" cy="528660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5286240" y="2643120"/>
            <a:ext cx="3376800" cy="357192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КОРЕНЬ – это специализированный орган растения, обеспечивающий его почвенное пита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285840" y="2643120"/>
            <a:ext cx="47862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f6228"/>
                </a:solidFill>
                <a:latin typeface="Calibri"/>
              </a:rPr>
              <a:t>Тесное взаимодействие всех зон корня обеспечивает его нормальную работу, важную для жизнедеятельности всего организм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25:30Z</dcterms:created>
  <dc:creator>Дом</dc:creator>
  <dc:description/>
  <dc:language>en-US</dc:language>
  <cp:lastModifiedBy>ч</cp:lastModifiedBy>
  <dcterms:modified xsi:type="dcterms:W3CDTF">2014-03-31T06:04:06Z</dcterms:modified>
  <cp:revision>23</cp:revision>
  <dc:subject/>
  <dc:title>Слайд 1</dc:title>
</cp:coreProperties>
</file>