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041B-6219-4C4D-A428-3DD7F9C02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A07D-6664-46D8-B01E-83445A29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A8A-B08F-4298-BEDE-1C6383E2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A17-4E85-4BE7-A1B7-8CA440F21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334-6D71-4775-9C10-070F5A6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7BB-3654-432E-8AE7-A0CC5142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21D-2831-496E-BA7C-239BAE65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9C7-EA6D-48AB-BC66-D190CBC8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084C-35BB-45F2-823F-21794CC0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9C0-102D-4528-90D9-0B74079E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E2A-705B-483E-BD35-4E5EB9C5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806-A977-46F7-BBFE-4463641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6CB1-1FD4-4F18-9531-B87CB63E6F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78808100_1317915987_vetkasakuruy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04560" y="3045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Муниципальное автономное дошкольное образовательное учреж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Центр развития ребёнка – детский с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Times New Roman"/>
              </a:rPr>
              <a:t>г. Пок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4191120" y="487692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Автор: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Мартынова Лиза 6 ле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группа общеразвивающе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направленности </a:t>
            </a:r>
            <a:r>
              <a:rPr b="0" lang="ru-RU" sz="1600" spc="-1" strike="noStrike">
                <a:solidFill>
                  <a:srgbClr val="660033"/>
                </a:solidFill>
                <a:latin typeface="Arial"/>
              </a:rPr>
              <a:t>старшего дошкольного возраста (6-7 лет)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«Тюльпанчик»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Руководитель проекта: </a:t>
            </a:r>
            <a:r>
              <a:rPr b="0" lang="ru-RU" sz="1600" spc="-1" strike="noStrike">
                <a:solidFill>
                  <a:srgbClr val="660033"/>
                </a:solidFill>
                <a:latin typeface="Times New Roman"/>
              </a:rPr>
              <a:t>педагог-психолог Е.М. Козак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2438280" y="2666880"/>
            <a:ext cx="6248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"Легко ли быть мамой?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21337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Мою по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DSCN1258"/>
          <p:cNvPicPr/>
          <p:nvPr/>
        </p:nvPicPr>
        <p:blipFill>
          <a:blip r:embed="rId2"/>
          <a:stretch/>
        </p:blipFill>
        <p:spPr>
          <a:xfrm>
            <a:off x="533520" y="1981080"/>
            <a:ext cx="5943600" cy="4456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8" name="Rectangle 7"/>
          <p:cNvSpPr/>
          <p:nvPr/>
        </p:nvSpPr>
        <p:spPr>
          <a:xfrm>
            <a:off x="5244840" y="302760"/>
            <a:ext cx="3329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вко, скоро, быстро, бойко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сейчас – посудомойка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кастрюлька хороша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ю её не спеша,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ю спинку, мою крышку – 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снова сварим кашу сестре и братиш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Брат, глядя на меня, решил тоже помог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DSCN1262"/>
          <p:cNvPicPr/>
          <p:nvPr/>
        </p:nvPicPr>
        <p:blipFill>
          <a:blip r:embed="rId2"/>
          <a:stretch/>
        </p:blipFill>
        <p:spPr>
          <a:xfrm>
            <a:off x="1752480" y="2209680"/>
            <a:ext cx="6400800" cy="3975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2" name="Rectangle 8"/>
          <p:cNvSpPr/>
          <p:nvPr/>
        </p:nvSpPr>
        <p:spPr>
          <a:xfrm>
            <a:off x="690120" y="1446480"/>
            <a:ext cx="2440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рат без дела не сиди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не на помощь он спеши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вожу кошку в поряд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SCN1269"/>
          <p:cNvPicPr/>
          <p:nvPr/>
        </p:nvPicPr>
        <p:blipFill>
          <a:blip r:embed="rId2"/>
          <a:stretch/>
        </p:blipFill>
        <p:spPr>
          <a:xfrm>
            <a:off x="380880" y="1790640"/>
            <a:ext cx="5105520" cy="4241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16" name="Rectangle 8"/>
          <p:cNvSpPr/>
          <p:nvPr/>
        </p:nvSpPr>
        <p:spPr>
          <a:xfrm>
            <a:off x="5715000" y="1515600"/>
            <a:ext cx="34290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 нашего кота плохая привычка —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ыть лапы без мыла и мыть без водички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Он просто оближет всю грязь языком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будто с порядком совсем не знак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обираемся на прогул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DSCN1231"/>
          <p:cNvPicPr/>
          <p:nvPr/>
        </p:nvPicPr>
        <p:blipFill>
          <a:blip r:embed="rId2"/>
          <a:stretch/>
        </p:blipFill>
        <p:spPr>
          <a:xfrm>
            <a:off x="3048120" y="1371600"/>
            <a:ext cx="5562360" cy="4848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0" name="Rectangle 11"/>
          <p:cNvSpPr/>
          <p:nvPr/>
        </p:nvSpPr>
        <p:spPr>
          <a:xfrm>
            <a:off x="304920" y="2345760"/>
            <a:ext cx="2743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Ах, сестра моя, сестра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ы ещё сестра мала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е умеешь одеваться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Как же мне не постараться?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ай, тебя одену я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ы же, ведь, сестра моя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 прогул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IMG_20160222_104300"/>
          <p:cNvPicPr/>
          <p:nvPr/>
        </p:nvPicPr>
        <p:blipFill>
          <a:blip r:embed="rId2"/>
          <a:stretch/>
        </p:blipFill>
        <p:spPr>
          <a:xfrm>
            <a:off x="533520" y="762120"/>
            <a:ext cx="3244680" cy="4267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24" name="Picture 6" descr="IMG_20160222_103843"/>
          <p:cNvPicPr/>
          <p:nvPr/>
        </p:nvPicPr>
        <p:blipFill>
          <a:blip r:embed="rId3"/>
          <a:stretch/>
        </p:blipFill>
        <p:spPr>
          <a:xfrm>
            <a:off x="5181480" y="1066680"/>
            <a:ext cx="3672000" cy="5410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5" name="Rectangle 21"/>
          <p:cNvSpPr/>
          <p:nvPr/>
        </p:nvSpPr>
        <p:spPr>
          <a:xfrm>
            <a:off x="938520" y="5195880"/>
            <a:ext cx="265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ж который год подря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Чудо-горка ждёт ребя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верх взобрался, вниз скат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 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се с дороги! Береги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0_4ca75_3a2909e6_XL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оход в магаз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IMG_20160221_094854"/>
          <p:cNvPicPr/>
          <p:nvPr/>
        </p:nvPicPr>
        <p:blipFill>
          <a:blip r:embed="rId2"/>
          <a:stretch/>
        </p:blipFill>
        <p:spPr>
          <a:xfrm>
            <a:off x="304920" y="838080"/>
            <a:ext cx="3682800" cy="5791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29" name="Rectangle 8"/>
          <p:cNvSpPr/>
          <p:nvPr/>
        </p:nvSpPr>
        <p:spPr>
          <a:xfrm>
            <a:off x="4648320" y="2209680"/>
            <a:ext cx="41148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ама в магазин посла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Строго настрого сказал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«Купишь, Лизонька, продукт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хлеб, сосиски,  молок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Да не ходи ты далеко. Поскорее возвращайся и на ключик запирайс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рею обед и снова мою посу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DSCN1298"/>
          <p:cNvPicPr/>
          <p:nvPr/>
        </p:nvPicPr>
        <p:blipFill>
          <a:blip r:embed="rId2"/>
          <a:stretch/>
        </p:blipFill>
        <p:spPr>
          <a:xfrm>
            <a:off x="228600" y="914400"/>
            <a:ext cx="4648320" cy="3487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3" name="Rectangle 6"/>
          <p:cNvSpPr/>
          <p:nvPr/>
        </p:nvSpPr>
        <p:spPr>
          <a:xfrm>
            <a:off x="5562720" y="1672920"/>
            <a:ext cx="320040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на кухне помогаю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от зажарку помешаю -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будет вкусненьким об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о конца работе нет!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8" descr="DSCN1261"/>
          <p:cNvPicPr/>
          <p:nvPr/>
        </p:nvPicPr>
        <p:blipFill>
          <a:blip r:embed="rId3"/>
          <a:stretch/>
        </p:blipFill>
        <p:spPr>
          <a:xfrm>
            <a:off x="4495680" y="3352680"/>
            <a:ext cx="4432320" cy="33242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Играю с братиш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DSCN1300"/>
          <p:cNvPicPr/>
          <p:nvPr/>
        </p:nvPicPr>
        <p:blipFill>
          <a:blip r:embed="rId2"/>
          <a:stretch/>
        </p:blipFill>
        <p:spPr>
          <a:xfrm>
            <a:off x="228600" y="914400"/>
            <a:ext cx="4572000" cy="2814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38" name="Picture 8" descr="DSCN1311"/>
          <p:cNvPicPr/>
          <p:nvPr/>
        </p:nvPicPr>
        <p:blipFill>
          <a:blip r:embed="rId3"/>
          <a:stretch/>
        </p:blipFill>
        <p:spPr>
          <a:xfrm>
            <a:off x="4952880" y="3276720"/>
            <a:ext cx="3962520" cy="3352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4267080"/>
            <a:ext cx="441972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й младший братишка любит книж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лото играет, картинки вырез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Ему я помогаю, слежу и обуча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Уборка в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DSCN1304"/>
          <p:cNvPicPr/>
          <p:nvPr/>
        </p:nvPicPr>
        <p:blipFill>
          <a:blip r:embed="rId2"/>
          <a:stretch/>
        </p:blipFill>
        <p:spPr>
          <a:xfrm>
            <a:off x="5105520" y="1905120"/>
            <a:ext cx="3751200" cy="47718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43" name="Picture 6" descr="DSCN1307"/>
          <p:cNvPicPr/>
          <p:nvPr/>
        </p:nvPicPr>
        <p:blipFill>
          <a:blip r:embed="rId3"/>
          <a:stretch/>
        </p:blipFill>
        <p:spPr>
          <a:xfrm>
            <a:off x="228600" y="838080"/>
            <a:ext cx="4419720" cy="3400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44" name="Rectangle 8"/>
          <p:cNvSpPr/>
          <p:nvPr/>
        </p:nvSpPr>
        <p:spPr>
          <a:xfrm>
            <a:off x="1389240" y="4725720"/>
            <a:ext cx="2632680" cy="11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Чтобы дом спасти от пыли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я мела, трясла и мыла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Так трудилась, так старалась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е гуляла - убиралась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DSCN1313"/>
          <p:cNvPicPr/>
          <p:nvPr/>
        </p:nvPicPr>
        <p:blipFill>
          <a:blip r:embed="rId2"/>
          <a:stretch/>
        </p:blipFill>
        <p:spPr>
          <a:xfrm>
            <a:off x="2133720" y="1447920"/>
            <a:ext cx="6718320" cy="5038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а штанах большая дырка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И откуда она здесь?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ама, я подозреваю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у нас дома мыши есть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19051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шиваю  штани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Однажды на занятии Елена Михайловна рассказала  ненецкую сказку «Кукушка», в которой у мамы было 4 детей,  и  они её не слушались, не помогали, а только гуляли. Ей приходилось всё делать одной, она очень уставала и в конце концов заболела. Но и тогда дети не проявили внимания к своей маме, даже воды не принесли, когда она просила. Мама превратилась в  кукушку и улетела. 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Мне очень стало жалко маму.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Я подумала, а легко ли моей маме быть мамой. Ведь у неё трое детей. И мне захотелось, чтобы  моя  мама никогда не болела, не уставала.  Я спросила </a:t>
            </a:r>
            <a:br>
              <a:rPr sz="1600"/>
            </a:br>
            <a:r>
              <a:rPr b="1" lang="ru-RU" sz="1600" spc="-1" strike="noStrike">
                <a:solidFill>
                  <a:srgbClr val="660033"/>
                </a:solidFill>
                <a:latin typeface="Times New Roman"/>
              </a:rPr>
              <a:t>у Елены Михайловны как помогать маме  дома, чтобы она не устава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7"/>
          <p:cNvSpPr txBox="1"/>
          <p:nvPr/>
        </p:nvSpPr>
        <p:spPr>
          <a:xfrm>
            <a:off x="2743200" y="533520"/>
            <a:ext cx="34290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АКТУАЛЬНОСТЬ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pic>
        <p:nvPicPr>
          <p:cNvPr id="48" name="Picture 8" descr="k1234l"/>
          <p:cNvPicPr/>
          <p:nvPr/>
        </p:nvPicPr>
        <p:blipFill>
          <a:blip r:embed="rId2"/>
          <a:stretch/>
        </p:blipFill>
        <p:spPr>
          <a:xfrm>
            <a:off x="1295280" y="3657600"/>
            <a:ext cx="1973520" cy="2666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9" name="Picture 9" descr="k2222l"/>
          <p:cNvPicPr/>
          <p:nvPr/>
        </p:nvPicPr>
        <p:blipFill>
          <a:blip r:embed="rId3"/>
          <a:stretch/>
        </p:blipFill>
        <p:spPr>
          <a:xfrm>
            <a:off x="3733920" y="3657600"/>
            <a:ext cx="1895400" cy="25909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0" name="Picture 10" descr="k3333l"/>
          <p:cNvPicPr/>
          <p:nvPr/>
        </p:nvPicPr>
        <p:blipFill>
          <a:blip r:embed="rId4"/>
          <a:stretch/>
        </p:blipFill>
        <p:spPr>
          <a:xfrm>
            <a:off x="6095880" y="3657600"/>
            <a:ext cx="1927440" cy="2666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Целый день, как белки в колес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5943600" y="2438280"/>
            <a:ext cx="25909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Быть мамой — совсем непростая работа: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Усталость, ответственность, куча заботы…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еленки, горшки, распашонки, болезни,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Коленки разбитые, мультики вместе…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Теперь нет покоя — быт с «потом и кровью», </a:t>
            </a:r>
            <a:br>
              <a:rPr sz="1400"/>
            </a:b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Ведь ты отвечаешь за жизнь и здоровье! 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DSCN1310"/>
          <p:cNvPicPr/>
          <p:nvPr/>
        </p:nvPicPr>
        <p:blipFill>
          <a:blip r:embed="rId2"/>
          <a:stretch/>
        </p:blipFill>
        <p:spPr>
          <a:xfrm>
            <a:off x="609480" y="1523880"/>
            <a:ext cx="5562720" cy="4172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WordArt 6"/>
          <p:cNvSpPr txBox="1"/>
          <p:nvPr/>
        </p:nvSpPr>
        <p:spPr>
          <a:xfrm>
            <a:off x="3276720" y="380880"/>
            <a:ext cx="2514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ЫВОД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838080" y="129528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ой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тру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400800" y="12193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а всё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уме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3733920" y="1295280"/>
            <a:ext cx="190476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а уст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3"/>
          <p:cNvSpPr/>
          <p:nvPr/>
        </p:nvSpPr>
        <p:spPr>
          <a:xfrm>
            <a:off x="762120" y="3124080"/>
            <a:ext cx="190476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е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мо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4"/>
          <p:cNvSpPr/>
          <p:nvPr/>
        </p:nvSpPr>
        <p:spPr>
          <a:xfrm>
            <a:off x="3657600" y="32767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ой бы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интере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5"/>
          <p:cNvSpPr/>
          <p:nvPr/>
        </p:nvSpPr>
        <p:spPr>
          <a:xfrm>
            <a:off x="6400800" y="3124080"/>
            <a:ext cx="2057400" cy="167652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не понрави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мог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а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6"/>
          <p:cNvSpPr/>
          <p:nvPr/>
        </p:nvSpPr>
        <p:spPr>
          <a:xfrm>
            <a:off x="3657600" y="5105520"/>
            <a:ext cx="1905120" cy="1600200"/>
          </a:xfrm>
          <a:prstGeom prst="pie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огда я вырас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буду мам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WordArt 6"/>
          <p:cNvSpPr txBox="1"/>
          <p:nvPr/>
        </p:nvSpPr>
        <p:spPr>
          <a:xfrm>
            <a:off x="228600" y="457200"/>
            <a:ext cx="8686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РЕДСТАВЛЕНИЕ ПРЕЗЕНТАЦИИ ДЕТЯ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64" name="Picture 7" descr="DSCF5971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304920" y="1143000"/>
            <a:ext cx="3962160" cy="3011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65" name="Picture 9" descr="DSCF5977"/>
          <p:cNvPicPr/>
          <p:nvPr/>
        </p:nvPicPr>
        <p:blipFill>
          <a:blip r:embed="rId3"/>
          <a:stretch/>
        </p:blipFill>
        <p:spPr>
          <a:xfrm>
            <a:off x="4495680" y="3352680"/>
            <a:ext cx="4343400" cy="32576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5"/>
          <p:cNvSpPr txBox="1"/>
          <p:nvPr/>
        </p:nvSpPr>
        <p:spPr>
          <a:xfrm>
            <a:off x="380880" y="228600"/>
            <a:ext cx="8382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ПОИСК ПОСЛОВИЦ О МАМ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69" name="Picture 6" descr="DSCF5980"/>
          <p:cNvPicPr/>
          <p:nvPr/>
        </p:nvPicPr>
        <p:blipFill>
          <a:blip r:embed="rId2"/>
          <a:stretch/>
        </p:blipFill>
        <p:spPr>
          <a:xfrm>
            <a:off x="380880" y="838080"/>
            <a:ext cx="4038840" cy="3408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0" name="Picture 7" descr="DSCF5981"/>
          <p:cNvPicPr/>
          <p:nvPr/>
        </p:nvPicPr>
        <p:blipFill>
          <a:blip r:embed="rId3"/>
          <a:stretch/>
        </p:blipFill>
        <p:spPr>
          <a:xfrm>
            <a:off x="4724280" y="3276720"/>
            <a:ext cx="4114800" cy="32907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4"/>
          <p:cNvSpPr txBox="1"/>
          <p:nvPr/>
        </p:nvSpPr>
        <p:spPr>
          <a:xfrm>
            <a:off x="1066680" y="380880"/>
            <a:ext cx="70866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ИЗГОТОВЛЕНИЕ ОТКРЫТ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pic>
        <p:nvPicPr>
          <p:cNvPr id="173" name="Picture 6" descr="DSCF5987"/>
          <p:cNvPicPr/>
          <p:nvPr/>
        </p:nvPicPr>
        <p:blipFill>
          <a:blip r:embed="rId2"/>
          <a:stretch/>
        </p:blipFill>
        <p:spPr>
          <a:xfrm>
            <a:off x="380880" y="1295280"/>
            <a:ext cx="3733920" cy="2800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174" name="Picture 8" descr="DSCF5989"/>
          <p:cNvPicPr/>
          <p:nvPr/>
        </p:nvPicPr>
        <p:blipFill>
          <a:blip r:embed="rId3"/>
          <a:stretch/>
        </p:blipFill>
        <p:spPr>
          <a:xfrm>
            <a:off x="4724280" y="1295280"/>
            <a:ext cx="3733920" cy="280044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175" name="Picture 9" descr="DSCF6002"/>
          <p:cNvPicPr/>
          <p:nvPr/>
        </p:nvPicPr>
        <p:blipFill>
          <a:blip r:embed="rId4"/>
          <a:srcRect l="0" t="0" r="-1383" b="0"/>
          <a:stretch/>
        </p:blipFill>
        <p:spPr>
          <a:xfrm>
            <a:off x="3352680" y="4038480"/>
            <a:ext cx="2057400" cy="262908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DSCF6078"/>
          <p:cNvPicPr/>
          <p:nvPr/>
        </p:nvPicPr>
        <p:blipFill>
          <a:blip r:embed="rId2"/>
          <a:stretch/>
        </p:blipFill>
        <p:spPr>
          <a:xfrm>
            <a:off x="609480" y="1447920"/>
            <a:ext cx="3733920" cy="2531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8" name="Picture 5" descr="DSCF6081"/>
          <p:cNvPicPr/>
          <p:nvPr/>
        </p:nvPicPr>
        <p:blipFill>
          <a:blip r:embed="rId3"/>
          <a:stretch/>
        </p:blipFill>
        <p:spPr>
          <a:xfrm>
            <a:off x="4952880" y="1295280"/>
            <a:ext cx="3162600" cy="2746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79" name="Picture 6" descr="DSCF6085"/>
          <p:cNvPicPr/>
          <p:nvPr/>
        </p:nvPicPr>
        <p:blipFill>
          <a:blip r:embed="rId4"/>
          <a:stretch/>
        </p:blipFill>
        <p:spPr>
          <a:xfrm>
            <a:off x="2895480" y="4114800"/>
            <a:ext cx="3353040" cy="25146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80" name="WordArt 10"/>
          <p:cNvSpPr txBox="1"/>
          <p:nvPr/>
        </p:nvSpPr>
        <p:spPr>
          <a:xfrm>
            <a:off x="1523880" y="380880"/>
            <a:ext cx="6172200" cy="3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ВРУЧЕНИЕ ОТКРЫТ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2"/>
          <p:cNvSpPr/>
          <p:nvPr/>
        </p:nvSpPr>
        <p:spPr>
          <a:xfrm>
            <a:off x="1523880" y="2286000"/>
            <a:ext cx="3429000" cy="335268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6"/>
          <p:cNvSpPr/>
          <p:nvPr/>
        </p:nvSpPr>
        <p:spPr>
          <a:xfrm>
            <a:off x="2133720" y="4966560"/>
            <a:ext cx="52974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Берегите мам.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Никогда не огорчайте!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Даже если больно вам —</a:t>
            </a:r>
            <a:br>
              <a:rPr sz="2400"/>
            </a:br>
            <a:r>
              <a:rPr b="0" lang="ru-RU" sz="2400" spc="-1" strike="noStrike">
                <a:solidFill>
                  <a:srgbClr val="800000"/>
                </a:solidFill>
                <a:latin typeface="Times New Roman"/>
              </a:rPr>
              <a:t>Им любовью отвечайте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IMG_0645"/>
          <p:cNvPicPr/>
          <p:nvPr/>
        </p:nvPicPr>
        <p:blipFill>
          <a:blip r:embed="rId2"/>
          <a:stretch/>
        </p:blipFill>
        <p:spPr>
          <a:xfrm>
            <a:off x="990720" y="304920"/>
            <a:ext cx="4214520" cy="44956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85" name="Picture 11" descr="DSCN1226"/>
          <p:cNvPicPr/>
          <p:nvPr/>
        </p:nvPicPr>
        <p:blipFill>
          <a:blip r:embed="rId3"/>
          <a:stretch/>
        </p:blipFill>
        <p:spPr>
          <a:xfrm>
            <a:off x="4572000" y="1523880"/>
            <a:ext cx="2906640" cy="3276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5"/>
          <p:cNvSpPr/>
          <p:nvPr/>
        </p:nvSpPr>
        <p:spPr>
          <a:xfrm>
            <a:off x="380880" y="839880"/>
            <a:ext cx="840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             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СПИСОК ИСПОЛЬЗУЕМОЙ ЛИТЕРАТУ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Овчарова Р.В. Психология родительства. - М.: ACADEMIA, 2005. - 363 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800000"/>
              </a:buClr>
              <a:buFont typeface="Times New Roman"/>
              <a:buAutoNum type="arabicPeriod"/>
              <a:tabLst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2. Седов, С.А. Сказки про мам / С.А. Седов ;худож. Т. Кормер. – М. : Самокат,     2006. – 71 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3. О маме: Стихи и рассказы/Рис. И.Дунаевой.М.: Дет. Лит., 1998. – 3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4. http://mamapapaimalish.ru/ «Тяжело ли быть мамо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5. http://upsihologa.com.ua/ «Игры в дочки-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6. http://www.baby.ru/ «Быть мам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7. http://4mother.ru/ «Трудно ли быть многодетной мамой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819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8. http://kkrasnova.ru/ «Мамины мысл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5049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лан:</a:t>
            </a: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1. Составить список домашних дел мамы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2. Провести один день в роли мамы.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3. Собрать  пословицы  о маме, сделать открытку с ними для детей  групп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4. Презентовать результат своего труда детям группы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380880" y="457200"/>
            <a:ext cx="83059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Цель: выяснить, какие обязанности по дому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выполняет мама и практическим путём определить: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трудно ли быть мамой.</a:t>
            </a:r>
            <a:endParaRPr b="0" lang="en-US" sz="9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DSCN1229"/>
          <p:cNvPicPr/>
          <p:nvPr/>
        </p:nvPicPr>
        <p:blipFill>
          <a:blip r:embed="rId2"/>
          <a:stretch/>
        </p:blipFill>
        <p:spPr>
          <a:xfrm>
            <a:off x="228600" y="1371600"/>
            <a:ext cx="2529000" cy="3505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pSp>
        <p:nvGrpSpPr>
          <p:cNvPr id="56" name="Group 11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57" name="Rectangle 6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Picture 10" descr="IMG_0645"/>
          <p:cNvPicPr/>
          <p:nvPr/>
        </p:nvPicPr>
        <p:blipFill>
          <a:blip r:embed="rId3"/>
          <a:stretch/>
        </p:blipFill>
        <p:spPr>
          <a:xfrm>
            <a:off x="5943600" y="1523880"/>
            <a:ext cx="2857680" cy="30481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pSp>
        <p:nvGrpSpPr>
          <p:cNvPr id="60" name="Group 12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1" name="Rectangle 13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4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15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4" name="Rectangle 16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7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8"/>
          <p:cNvGrpSpPr/>
          <p:nvPr/>
        </p:nvGrpSpPr>
        <p:grpSpPr>
          <a:xfrm>
            <a:off x="3048120" y="914400"/>
            <a:ext cx="4572000" cy="5256360"/>
            <a:chOff x="3048120" y="914400"/>
            <a:chExt cx="4572000" cy="5256360"/>
          </a:xfrm>
        </p:grpSpPr>
        <p:sp>
          <p:nvSpPr>
            <p:cNvPr id="67" name="Rectangle 19"/>
            <p:cNvSpPr/>
            <p:nvPr/>
          </p:nvSpPr>
          <p:spPr>
            <a:xfrm>
              <a:off x="3048120" y="914400"/>
              <a:ext cx="457200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одошла я как то к маме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 вопрос найти ответ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Помоги, скажи, родна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Трудно мамой быть, иль нет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мило улыбнулас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еня нежно об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тихонечко сказа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от такие вот сло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3048120" y="2666880"/>
              <a:ext cx="4572000" cy="350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ама - трудная работа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Много у меня хлопот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едь домашние от мамы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егда требуют забот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адо в доме мне прибраться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Всю посуду перемы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Чтоб семья осталась сытой -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Не забыть обед сварить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Сыну - маечку поглад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Дочке - алгебру решить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Папе уделить внимание,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Кошку рыбкой покормить..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Я совсем не поняла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Ну зачем столько труда!?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И решила я проверить:</a:t>
              </a:r>
              <a:br>
                <a:rPr sz="1400"/>
              </a:br>
              <a:r>
                <a:rPr b="1" lang="ru-RU" sz="1400" spc="-1" strike="noStrike">
                  <a:solidFill>
                    <a:srgbClr val="660066"/>
                  </a:solidFill>
                  <a:latin typeface="Arial"/>
                </a:rPr>
                <a:t>- В чём же счастье мамой быть?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WordArt 18"/>
          <p:cNvSpPr txBox="1"/>
          <p:nvPr/>
        </p:nvSpPr>
        <p:spPr>
          <a:xfrm>
            <a:off x="3048120" y="22860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вопрос:</a:t>
            </a:r>
            <a:endParaRPr b="1" lang="en-US" sz="2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590920" y="228600"/>
            <a:ext cx="4114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Список мамины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домашних дел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3124080" y="16002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готовить завтр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 накормить де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228600" y="2209680"/>
            <a:ext cx="28195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говорить младшу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естру поку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28600" y="3124080"/>
            <a:ext cx="281952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мыть посу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380880" y="41148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вести в поряд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ош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609480" y="510552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деть детей на прогул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1752480" y="59436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водить детей на гор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1"/>
          <p:cNvSpPr/>
          <p:nvPr/>
        </p:nvSpPr>
        <p:spPr>
          <a:xfrm>
            <a:off x="6019920" y="2209680"/>
            <a:ext cx="281916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пить продук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в магаз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2"/>
          <p:cNvSpPr/>
          <p:nvPr/>
        </p:nvSpPr>
        <p:spPr>
          <a:xfrm>
            <a:off x="6019920" y="3124080"/>
            <a:ext cx="2819160" cy="6098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азогреть  об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5943600" y="41148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играть с братом п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ит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>
            <a:off x="5715000" y="510552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делать уборку в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5"/>
          <p:cNvSpPr/>
          <p:nvPr/>
        </p:nvSpPr>
        <p:spPr>
          <a:xfrm>
            <a:off x="4800600" y="5943600"/>
            <a:ext cx="2819520" cy="609480"/>
          </a:xfrm>
          <a:prstGeom prst="rect">
            <a:avLst/>
          </a:prstGeom>
          <a:solidFill>
            <a:srgbClr val="ff99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Зашить дырочк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штанишк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8" descr="IMG_0645"/>
          <p:cNvPicPr/>
          <p:nvPr/>
        </p:nvPicPr>
        <p:blipFill>
          <a:blip r:embed="rId2"/>
          <a:stretch/>
        </p:blipFill>
        <p:spPr>
          <a:xfrm>
            <a:off x="3733920" y="2819520"/>
            <a:ext cx="1643040" cy="1752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DSCN1226"/>
          <p:cNvPicPr/>
          <p:nvPr/>
        </p:nvPicPr>
        <p:blipFill>
          <a:blip r:embed="rId2"/>
          <a:stretch/>
        </p:blipFill>
        <p:spPr>
          <a:xfrm>
            <a:off x="2438280" y="1219320"/>
            <a:ext cx="4191120" cy="4724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6" name="WordArt 13"/>
          <p:cNvSpPr txBox="1"/>
          <p:nvPr/>
        </p:nvSpPr>
        <p:spPr>
          <a:xfrm>
            <a:off x="2895480" y="380880"/>
            <a:ext cx="3505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33"/>
                </a:solidFill>
                <a:latin typeface="Arial"/>
              </a:rPr>
              <a:t>Нас у мамы тр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33"/>
              </a:solidFill>
              <a:latin typeface="Arial"/>
              <a:ea typeface="Arial"/>
            </a:endParaRPr>
          </a:p>
        </p:txBody>
      </p:sp>
      <p:sp>
        <p:nvSpPr>
          <p:cNvPr id="87" name="Rectangle 19"/>
          <p:cNvSpPr/>
          <p:nvPr/>
        </p:nvSpPr>
        <p:spPr>
          <a:xfrm>
            <a:off x="457200" y="1391400"/>
            <a:ext cx="1697040" cy="912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Есть у меня братишка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Ему четвёртый год.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Разбойник и плутишка,</a:t>
            </a:r>
            <a:br>
              <a:rPr sz="1200"/>
            </a:b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Так много с ним хлопот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1"/>
          <p:cNvSpPr/>
          <p:nvPr/>
        </p:nvSpPr>
        <p:spPr>
          <a:xfrm>
            <a:off x="7010280" y="4453560"/>
            <a:ext cx="152424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У меня сестренка маленькая Такая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Такая славненькая! Мама уходит – она не плач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Рядом со мною прыгает, и ска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0_4ca75_3a2909e6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Готовимся завтрак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DSCN1245"/>
          <p:cNvPicPr/>
          <p:nvPr/>
        </p:nvPicPr>
        <p:blipFill>
          <a:blip r:embed="rId2"/>
          <a:stretch/>
        </p:blipFill>
        <p:spPr>
          <a:xfrm>
            <a:off x="304920" y="1066680"/>
            <a:ext cx="3504960" cy="2629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2" name="Picture 7" descr="DSCN1246"/>
          <p:cNvPicPr/>
          <p:nvPr/>
        </p:nvPicPr>
        <p:blipFill>
          <a:blip r:embed="rId3"/>
          <a:stretch/>
        </p:blipFill>
        <p:spPr>
          <a:xfrm>
            <a:off x="304920" y="3809880"/>
            <a:ext cx="3581280" cy="26863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3" name="Picture 8" descr="DSCN1251"/>
          <p:cNvPicPr/>
          <p:nvPr/>
        </p:nvPicPr>
        <p:blipFill>
          <a:blip r:embed="rId4"/>
          <a:stretch/>
        </p:blipFill>
        <p:spPr>
          <a:xfrm>
            <a:off x="5105520" y="3962520"/>
            <a:ext cx="3504960" cy="2628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4" name="Picture 9" descr="DSCN1253"/>
          <p:cNvPicPr/>
          <p:nvPr/>
        </p:nvPicPr>
        <p:blipFill>
          <a:blip r:embed="rId5"/>
          <a:stretch/>
        </p:blipFill>
        <p:spPr>
          <a:xfrm>
            <a:off x="5105520" y="1143000"/>
            <a:ext cx="3429000" cy="2571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95" name="Rectangle 17"/>
          <p:cNvSpPr/>
          <p:nvPr/>
        </p:nvSpPr>
        <p:spPr>
          <a:xfrm>
            <a:off x="3353040" y="3213720"/>
            <a:ext cx="20660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Мы за столиком сидим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Вкусный завтрак мы едим.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старалась я с утра,</a:t>
            </a:r>
            <a:br>
              <a:rPr sz="1200"/>
            </a:b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Угощайся детв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18"/>
          <p:cNvSpPr txBox="1"/>
          <p:nvPr/>
        </p:nvSpPr>
        <p:spPr>
          <a:xfrm>
            <a:off x="990720" y="22860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66"/>
                </a:solidFill>
                <a:latin typeface="Arial"/>
              </a:rPr>
              <a:t>ОДИН ДЕНЬ В РОЛИ МАМ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00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0_4ca75_3a2909e6_XL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Кормлю младшую сест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DSCN1235"/>
          <p:cNvPicPr/>
          <p:nvPr/>
        </p:nvPicPr>
        <p:blipFill>
          <a:blip r:embed="rId2"/>
          <a:stretch/>
        </p:blipFill>
        <p:spPr>
          <a:xfrm>
            <a:off x="3048120" y="1828800"/>
            <a:ext cx="5562360" cy="4173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0" name="Rectangle 8"/>
          <p:cNvSpPr/>
          <p:nvPr/>
        </p:nvSpPr>
        <p:spPr>
          <a:xfrm>
            <a:off x="228600" y="1818000"/>
            <a:ext cx="2666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брата Кирюш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Веру-подру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рыжую к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мышку-кр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пса Тимошку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Ложку - за уточку-хромоно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За Лизу - последнюю ложку!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от и вся каш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лодец, Верочка наша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_4ca75_3a2909e6_XL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конец-то завтракаю с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DSCN1241"/>
          <p:cNvPicPr/>
          <p:nvPr/>
        </p:nvPicPr>
        <p:blipFill>
          <a:blip r:embed="rId2"/>
          <a:stretch/>
        </p:blipFill>
        <p:spPr>
          <a:xfrm>
            <a:off x="2286000" y="1752480"/>
            <a:ext cx="6248520" cy="46864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4" name="Rectangle 6"/>
          <p:cNvSpPr/>
          <p:nvPr/>
        </p:nvSpPr>
        <p:spPr>
          <a:xfrm>
            <a:off x="228600" y="489600"/>
            <a:ext cx="1752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Мой хороший аппетит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В животе один сидит.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Ножками топочет,</a:t>
            </a:r>
            <a:br>
              <a:rPr sz="1400"/>
            </a:br>
            <a:r>
              <a:rPr b="1" lang="ru-RU" sz="1400" spc="-1" strike="noStrike">
                <a:solidFill>
                  <a:srgbClr val="800000"/>
                </a:solidFill>
                <a:latin typeface="Times New Roman"/>
              </a:rPr>
              <a:t>Он обедать хочет!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08:39:45Z</dcterms:created>
  <dc:creator>ЦРР1</dc:creator>
  <dc:description/>
  <dc:language>en-US</dc:language>
  <cp:lastModifiedBy>ЦРР1</cp:lastModifiedBy>
  <dcterms:modified xsi:type="dcterms:W3CDTF">2017-10-20T06:29:3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