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19.wmf" ContentType="image/x-wmf"/>
  <Override PartName="/ppt/media/image16.gif" ContentType="image/gif"/>
  <Override PartName="/ppt/media/image14.jpeg" ContentType="image/jpeg"/>
  <Override PartName="/ppt/media/image17.gif" ContentType="image/gif"/>
  <Override PartName="/ppt/media/image15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A794-01FE-4C42-9B9C-E867496EFB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29F9-D32A-4A7A-B625-1A12D1D326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B43E-04B9-47FE-A4FA-51AA5DBC89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B51B-E038-4A7A-9757-4E48E2B5FB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B5F5-1218-4BDD-89A3-C8FF223C44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3BCF-9084-4CB7-BB46-FCF6C8961EC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B96D-362F-46F7-9B21-17F8061C39F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4A1E-DC1B-4187-88AC-9D715D2326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762C-7C5D-41A1-91DE-96CAD4DBC5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B543-96F8-46DF-BF5A-8C22F28B564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98A2-5304-4A77-BBAA-DFE79A5A5D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1D91-9FFB-4CD6-8ADB-45BF33A256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DCEE-3FB9-42DD-AB4C-C9D29150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DBF0-8809-4D7E-824C-3D0D825E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C172-5B85-41EE-A097-19E1FE6F3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7789-6B06-4D1F-8C51-5D7CFCF2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945D3-441D-4AB9-A68B-D50A8C4FF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88A8E-BAB5-478E-A741-7809C895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B65B8-AF9E-437F-854C-FA177C08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756D3-CAE4-47A0-9A46-20C12D73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054019-52E5-4BD8-8A75-19F92790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13A18-AC69-4F4D-A67F-A4AD40E5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23A1D-5837-455C-B4EA-3AEF1E46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5944-3FA0-4B98-B30E-0463FA02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F8A6D-6095-4C07-8C93-D9FFB319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BDEC3-26AD-4B35-A301-7C50D386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3A74C-4A64-4F50-AAB4-5DE27499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D8ED1-DF4F-4849-A4AE-3753F67C4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CF7D2-CA9A-48ED-BC50-901BA21EB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2500-03F3-4363-BD23-3323EC5C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C46-91A4-4954-98AE-519B0C81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9156-6842-41A8-8A57-F0010DFF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6F3-8146-44CE-98AC-00E2BBE5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809-E65E-4739-A343-8C424E78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B4B3-B2CB-466A-AAFB-6CE47C6F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CDB-9F26-458C-8767-DA1A7EB9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5037-F175-45AE-B383-98EF47DF80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EE67-B787-47B1-8FBB-21D2C4E769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andia.ru/text/category/vodoe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следовательская работ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240" y="3124080"/>
            <a:ext cx="7924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ff"/>
                </a:solidFill>
                <a:latin typeface="Times New Roman"/>
              </a:rPr>
              <a:t>«ВОДОЕМЫ НАШЕЙ МЕСТНОСТИ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ffff"/>
                </a:solidFill>
                <a:latin typeface="Tahoma"/>
              </a:rPr>
              <a:t>Автор: Ракипов Була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AG00343_"/>
          <p:cNvPicPr/>
          <p:nvPr/>
        </p:nvPicPr>
        <p:blipFill>
          <a:blip r:embed="rId1"/>
          <a:stretch/>
        </p:blipFill>
        <p:spPr>
          <a:xfrm rot="3282600">
            <a:off x="1599480" y="1371600"/>
            <a:ext cx="1228680" cy="11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AG00343_"/>
          <p:cNvPicPr/>
          <p:nvPr/>
        </p:nvPicPr>
        <p:blipFill>
          <a:blip r:embed="rId2"/>
          <a:stretch/>
        </p:blipFill>
        <p:spPr>
          <a:xfrm rot="7696200">
            <a:off x="6095880" y="1447560"/>
            <a:ext cx="1228680" cy="1171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Озера деревни Новый Каразире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53416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7" descr="C:\Users\C4D7~1\AppData\Local\Temp\Rar$DIa0.480\үрдәклекүл.jpg"/>
          <p:cNvPicPr/>
          <p:nvPr/>
        </p:nvPicPr>
        <p:blipFill>
          <a:blip r:embed="rId1"/>
          <a:stretch/>
        </p:blipFill>
        <p:spPr>
          <a:xfrm>
            <a:off x="190440" y="914400"/>
            <a:ext cx="3695760" cy="266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C:\Users\C4D7~1\AppData\Local\Temp\Rar$DIa0.772\x_454b05d1.jpg"/>
          <p:cNvPicPr/>
          <p:nvPr/>
        </p:nvPicPr>
        <p:blipFill>
          <a:blip r:embed="rId2"/>
          <a:stretch/>
        </p:blipFill>
        <p:spPr>
          <a:xfrm>
            <a:off x="5029200" y="914400"/>
            <a:ext cx="3505320" cy="2666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C:\Users\C4D7~1\AppData\Local\Temp\Rar$DIa0.648\x_aa7261fb.jpg"/>
          <p:cNvPicPr/>
          <p:nvPr/>
        </p:nvPicPr>
        <p:blipFill>
          <a:blip r:embed="rId3"/>
          <a:stretch/>
        </p:blipFill>
        <p:spPr>
          <a:xfrm>
            <a:off x="152280" y="3886200"/>
            <a:ext cx="3810240" cy="266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Users\C4D7~1\AppData\Local\Temp\Rar$DIa0.443\x_9282b1b6.jpg"/>
          <p:cNvPicPr/>
          <p:nvPr/>
        </p:nvPicPr>
        <p:blipFill>
          <a:blip r:embed="rId4"/>
          <a:stretch/>
        </p:blipFill>
        <p:spPr>
          <a:xfrm>
            <a:off x="5029200" y="3886200"/>
            <a:ext cx="3581280" cy="2666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Озеро «Бабай күле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10" descr="C:\Users\C4D7~1\AppData\Local\Temp\Rar$DIa0.443\x_9282b1b6.jpg"/>
          <p:cNvPicPr/>
          <p:nvPr/>
        </p:nvPicPr>
        <p:blipFill>
          <a:blip r:embed="rId1"/>
          <a:stretch/>
        </p:blipFill>
        <p:spPr>
          <a:xfrm>
            <a:off x="1066680" y="1333440"/>
            <a:ext cx="7086600" cy="55245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762120" y="1350720"/>
            <a:ext cx="74800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7" descr="обитатели озера"/>
          <p:cNvPicPr/>
          <p:nvPr/>
        </p:nvPicPr>
        <p:blipFill>
          <a:blip r:embed="rId1"/>
          <a:stretch/>
        </p:blipFill>
        <p:spPr>
          <a:xfrm>
            <a:off x="0" y="0"/>
            <a:ext cx="46483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обитатели озера - 2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Родник «Закуан чишм</a:t>
            </a:r>
            <a:r>
              <a:rPr b="0" lang="tt-RU" sz="4400" spc="-1" strike="noStrike">
                <a:solidFill>
                  <a:srgbClr val="ffc000"/>
                </a:solidFill>
                <a:latin typeface="Tahoma"/>
              </a:rPr>
              <a:t>әсе”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Picture 5" descr="C:\Users\Альфина\Desktop\Новая папка (2)\IMG_0575.JPG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41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Users\Альфина\Desktop\Новая папка (2)\IMG_0577.JPG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04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4000" spc="-1" strike="noStrike">
                <a:solidFill>
                  <a:srgbClr val="ffc000"/>
                </a:solidFill>
                <a:latin typeface="Times New Roman"/>
              </a:rPr>
              <a:t>Физические свойства </a:t>
            </a:r>
            <a:br>
              <a:rPr sz="4000"/>
            </a:br>
            <a:r>
              <a:rPr b="1" lang="tt-RU" sz="4000" spc="-1" strike="noStrike">
                <a:solidFill>
                  <a:srgbClr val="ffc000"/>
                </a:solidFill>
                <a:latin typeface="Times New Roman"/>
              </a:rPr>
              <a:t>родниковой 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6858000" cy="678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физические особенности воды источни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Прозрачность воды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прозрач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Запах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нет запаха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Вкус очень слаб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Цветность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бесцветны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Температура воды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8С</a:t>
            </a:r>
            <a:r>
              <a:rPr b="1" lang="ru-RU" sz="2800" spc="-1" strike="noStrike" u="sng" baseline="30000">
                <a:solidFill>
                  <a:srgbClr val="33cccc"/>
                </a:solidFill>
                <a:uFillTx/>
                <a:latin typeface="Tahoma"/>
              </a:rPr>
              <a:t>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Температура воздуха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26.С</a:t>
            </a:r>
            <a:r>
              <a:rPr b="1" lang="ru-RU" sz="2800" spc="-1" strike="noStrike" u="sng" baseline="30000">
                <a:solidFill>
                  <a:srgbClr val="33cccc"/>
                </a:solidFill>
                <a:uFillTx/>
                <a:latin typeface="Tahoma"/>
              </a:rPr>
              <a:t>0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 (июнь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ahoma"/>
              </a:rPr>
              <a:t>Состояние  благоустройства родника: </a:t>
            </a:r>
            <a:r>
              <a:rPr b="1" lang="ru-RU" sz="2800" spc="-1" strike="noStrike" u="sng">
                <a:solidFill>
                  <a:srgbClr val="33cccc"/>
                </a:solidFill>
                <a:uFillTx/>
                <a:latin typeface="Tahoma"/>
              </a:rPr>
              <a:t>каменная клад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AG00039_"/>
          <p:cNvPicPr/>
          <p:nvPr/>
        </p:nvPicPr>
        <p:blipFill>
          <a:blip r:embed="rId1"/>
          <a:stretch/>
        </p:blipFill>
        <p:spPr>
          <a:xfrm>
            <a:off x="6781680" y="0"/>
            <a:ext cx="2362320" cy="1639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J0076206"/>
          <p:cNvPicPr/>
          <p:nvPr/>
        </p:nvPicPr>
        <p:blipFill>
          <a:blip r:embed="rId2"/>
          <a:stretch/>
        </p:blipFill>
        <p:spPr>
          <a:xfrm>
            <a:off x="6858000" y="3276720"/>
            <a:ext cx="2301840" cy="3581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0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4400" spc="-1" strike="noStrike">
                <a:solidFill>
                  <a:srgbClr val="ffc000"/>
                </a:solidFill>
                <a:latin typeface="Tahoma"/>
              </a:rPr>
              <a:t>Результаты социологического опрос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Tahoma"/>
              </a:rPr>
              <a:t>Используем ли мы вод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Содержимое 3" descr=""/>
          <p:cNvPicPr/>
          <p:nvPr/>
        </p:nvPicPr>
        <p:blipFill>
          <a:blip r:embed="rId1"/>
          <a:stretch/>
        </p:blipFill>
        <p:spPr>
          <a:xfrm>
            <a:off x="457200" y="2489040"/>
            <a:ext cx="4040280" cy="3322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cc"/>
                </a:solidFill>
                <a:latin typeface="Tahoma"/>
              </a:rPr>
              <a:t>Вода, предпочитаемая людьм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Рисунок 4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3124080" cy="3505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вод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1.Территория нашей местности  и поселения богата родниковыми водами, озер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2.Жители по мере возможности стараются пользоваться ими.</a:t>
            </a: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3.Далеко не все родники и озера  находятся в удовлетворительном состоян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4. Общее состояние исследуемых родников можно оценить как хороше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cccc"/>
                </a:solidFill>
                <a:latin typeface="Times New Roman"/>
                <a:ea typeface="Times New Roman"/>
              </a:rPr>
              <a:t>5. Вода родников пригодна для хозяйственно-питьевых нужд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6" descr="PG0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10199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10199"/>
                </a:solidFill>
                <a:latin typeface="Book Antiqua"/>
              </a:rPr>
              <a:t>Необходимо запретить мытье машин около водоема, тем самым исключить загрязнени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10199"/>
                </a:solidFill>
                <a:latin typeface="Book Antiqua"/>
              </a:rPr>
              <a:t>- Ограничить использование удобрений и ядохимикатов на полях и огородах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10199"/>
                </a:solidFill>
                <a:latin typeface="Book Antiqua"/>
              </a:rPr>
              <a:t>- В целях достижения чистоты воды необходимо ежегодно проводить работы  по очистке родников от бытового мусор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26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Tahoma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Tahoma"/>
              </a:rPr>
              <a:t>ЗА ВНИМАНИЕ!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Tahoma"/>
              </a:rPr>
              <a:t>Актуаль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000" spc="-1" strike="noStrike">
                <a:solidFill>
                  <a:srgbClr val="33cccc"/>
                </a:solidFill>
                <a:latin typeface="Tahoma"/>
              </a:rPr>
              <a:t>Самая актуальная проблема  современности – это загрязнения водоемов и нехватки питьевой воды в Росси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33cccc"/>
                </a:solidFill>
                <a:latin typeface="Tahoma"/>
              </a:rPr>
              <a:t>Необходимость воды для обеспечения жизнедеятельности человека обусловлена ролью, которую она играет в круговороте природы, а также в удовлетворении физиологических, эстетических и других потребностей человек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90720" y="5331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imes New Roman"/>
              </a:rPr>
              <a:t>Цель:</a:t>
            </a:r>
            <a:r>
              <a:rPr b="1" lang="ru-RU" sz="3200" spc="-1" strike="noStrike">
                <a:solidFill>
                  <a:srgbClr val="ffcc00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ru-RU" sz="4800" spc="-1" strike="noStrike">
                <a:solidFill>
                  <a:srgbClr val="33cccc"/>
                </a:solidFill>
                <a:latin typeface="Times New Roman"/>
              </a:rPr>
              <a:t>Получение информации, связанной с конкретной проблемой состояния водного объекта – озера «Бабай к</a:t>
            </a:r>
            <a:r>
              <a:rPr b="0" lang="tt-RU" sz="4800" spc="-1" strike="noStrike">
                <a:solidFill>
                  <a:srgbClr val="33cccc"/>
                </a:solidFill>
                <a:latin typeface="Times New Roman"/>
              </a:rPr>
              <a:t>үле “ и </a:t>
            </a:r>
            <a:r>
              <a:rPr b="0" lang="ru-RU" sz="4800" spc="-1" strike="noStrike">
                <a:solidFill>
                  <a:srgbClr val="33cccc"/>
                </a:solidFill>
                <a:latin typeface="Times New Roman"/>
              </a:rPr>
              <a:t>родника «Закуан чишмәсе»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Задачи работ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Изучить состояние водоёмов своей мес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2. Выявить экологические проблемы водоёмов села Старый Каразире</a:t>
            </a:r>
            <a:r>
              <a:rPr b="0" lang="tt-RU" sz="2800" spc="-1" strike="noStrike">
                <a:solidFill>
                  <a:srgbClr val="33cccc"/>
                </a:solidFill>
                <a:latin typeface="Tahoma"/>
              </a:rPr>
              <a:t>к, деревни  Новый Каразирек и  Куряш-Буля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3. Предложить пути решения основных экологических пробл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ahoma"/>
              </a:rPr>
              <a:t>Основная проблема исследован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Соответствуют л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 u="sng">
                <a:solidFill>
                  <a:srgbClr val="ffcc00"/>
                </a:solidFill>
                <a:uFillTx/>
                <a:latin typeface="Tahoma"/>
                <a:hlinkClick r:id="rId1"/>
              </a:rPr>
              <a:t>водоем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наше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cccc"/>
                </a:solidFill>
                <a:latin typeface="Tahoma"/>
              </a:rPr>
              <a:t>местности экологическим требования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Tahoma"/>
              </a:rPr>
              <a:t>Объект, предмет и база исследования: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Объект исследования: эколог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Предмет исследования: вода – источник жизн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База исследования: учащиеся, их роди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Методы и материалы</a:t>
            </a:r>
            <a:r>
              <a:rPr b="1" lang="ru-RU" sz="4400" spc="-1" strike="noStrike">
                <a:solidFill>
                  <a:srgbClr val="ffcc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1.Сбор необходимых по теме источников и литературы. 2.Исследовательская работ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3. Экскурсии на место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4.Проведение фотосъемк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5. </a:t>
            </a:r>
            <a:r>
              <a:rPr b="0" lang="tt-RU" sz="4000" spc="-1" strike="noStrike">
                <a:solidFill>
                  <a:srgbClr val="33cccc"/>
                </a:solidFill>
                <a:latin typeface="Tahoma"/>
              </a:rPr>
              <a:t>Социологический опрос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4000" spc="-1" strike="noStrike">
                <a:solidFill>
                  <a:srgbClr val="ffc000"/>
                </a:solidFill>
                <a:latin typeface="Tahoma"/>
              </a:rPr>
              <a:t>Гипотеза исследования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cccc"/>
                </a:solidFill>
                <a:latin typeface="Tahoma"/>
              </a:rPr>
              <a:t>Человек неразумно относится к воде и загрязняет ее. Загрязнение водоемов опасно для всего живого. Каждый человек должен беречь воду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ahoma"/>
              </a:rPr>
              <a:t>Малые водные объекты — речки, озера, пруды, родники — важная часть нашей малой Родины.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Scan10303"/>
          <p:cNvPicPr/>
          <p:nvPr/>
        </p:nvPicPr>
        <p:blipFill>
          <a:blip r:embed="rId1"/>
          <a:stretch/>
        </p:blipFill>
        <p:spPr>
          <a:xfrm>
            <a:off x="533520" y="2514600"/>
            <a:ext cx="3581280" cy="2479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7" name="Picture 5" descr="IMG_0963"/>
          <p:cNvPicPr/>
          <p:nvPr/>
        </p:nvPicPr>
        <p:blipFill>
          <a:blip r:embed="rId2"/>
          <a:stretch/>
        </p:blipFill>
        <p:spPr>
          <a:xfrm>
            <a:off x="5181480" y="3581280"/>
            <a:ext cx="3394080" cy="254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>
    <p:cover dir="r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99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fc000"/>
                </a:solidFill>
                <a:latin typeface="Tahoma"/>
              </a:rPr>
              <a:t>Наши бессловесные друзья</a:t>
            </a:r>
            <a:r>
              <a:rPr b="0" lang="ru-RU" sz="32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33cccc"/>
                </a:solidFill>
                <a:latin typeface="Tahoma"/>
              </a:rPr>
              <a:t>речки, пруды, озера — начинают болеть: вода становится грязной, мутной, летом она может зацвести. Постепенно угасает жизнь в вод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Scan10014"/>
          <p:cNvPicPr/>
          <p:nvPr/>
        </p:nvPicPr>
        <p:blipFill>
          <a:blip r:embed="rId1"/>
          <a:stretch/>
        </p:blipFill>
        <p:spPr>
          <a:xfrm>
            <a:off x="228600" y="3048120"/>
            <a:ext cx="4191120" cy="2835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10" name="Picture 5" descr="IMG_0951"/>
          <p:cNvPicPr/>
          <p:nvPr/>
        </p:nvPicPr>
        <p:blipFill>
          <a:blip r:embed="rId2"/>
          <a:stretch/>
        </p:blipFill>
        <p:spPr>
          <a:xfrm>
            <a:off x="4724280" y="3809880"/>
            <a:ext cx="4191120" cy="2855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ransition>
    <p:cover dir="r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амонова Мария</dc:creator>
  <dc:description/>
  <dc:language>en-US</dc:language>
  <cp:lastModifiedBy>Айнур</cp:lastModifiedBy>
  <dcterms:modified xsi:type="dcterms:W3CDTF">2017-10-20T17:04:00Z</dcterms:modified>
  <cp:revision>59</cp:revision>
  <dc:subject/>
  <dc:title>Исследование родник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