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1787-08D8-457D-BD48-71B2A0337A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C12C-1A34-4E43-8AE6-3F371A170D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210D-973B-460B-B2D1-F6E3FC98B6F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2A17-5543-450B-B5A0-81B12CA709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3953-2359-44FB-9E8F-4124AB75D3A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6F50-039B-4A5A-BB69-DD943CE0231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2D37B-C382-463B-9252-BF2ACB71C9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C653-FDC4-4458-8383-C7754C53357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915A1-73E0-46D4-90B4-909F8727EC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7DD0-C71E-4113-8B9D-D84BD69EEA9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B3ECB-93C8-4715-8615-85D2D5EB5E3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4D5BF7-E96C-4B86-8471-F1395332A6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373B-211D-4390-A454-D70533BCE0A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A84E7-C984-49EF-AA8C-6AD385B02DC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2C755-7946-4F35-B055-75568E0F01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8EA7B-12C9-40C5-9FD9-4D0308C3CD7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B4ADD1-9152-47E9-B97A-001F58A76E6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A18A9-C9F0-4C84-B3E6-71A09177077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783B78-7FF0-4C75-93C8-7E81C6C1ECC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94737F-64EC-4CDE-999C-7F3DB4C7E1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D0D3C8-04CC-443B-937D-2E9892640C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56BB9-4183-4DA8-8C93-CDEC7208F9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FE345-09E4-438D-B614-694B8E0C2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1776-35B9-49FC-9D01-D7ED58AF84F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5527B-2595-435F-A2B8-B28C2B823A4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A1BE86-022D-425A-815F-B164A2F43EC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917AFA-E599-4F29-93CE-CD739AADD0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0B2E25-2F95-416B-94EA-186E07B5540E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810FE-E28D-4B00-B963-4333C3F084C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28D611-D229-46FC-9A21-C5815501E93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7024A3-1620-4CF3-A231-13F015D317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6D39B8-F77A-41A4-A624-3EFDCD1C5AF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247219-4A3E-4889-A7BE-9BEE502891D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24ABEF-4865-4553-9876-483AE6359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983D-F8AC-4139-9913-462AB0C51ED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2B012-EACF-4C61-9F04-E52A60F427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433A5-9C25-4882-BEBE-53F7E141373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883FE4-3DC7-45CE-A99A-321296D2538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2D0FE-34CC-455D-BC9A-452BF8EE22E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388C-D419-48F5-B899-0D4CB728A2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8D510-F61C-4C10-83DD-0D00E09C44D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A23C1-39C0-46B8-8D1D-5FB636323D9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EFBB1-8B8F-41D8-8C01-02C9AE5928A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B1BD-DA3E-412D-B7B8-86070018D28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694F-3BF4-47B5-92F6-2B4B2E91D5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0D68-5894-4C1F-B25E-AA7A053F467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7D59E-8153-43C1-987F-E308247EFFB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3E9D-C6D8-48C8-8C12-F7DEF7BED48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8268D-9A0F-4EF6-9F30-9B5400F9E6C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75D50-623D-4423-8B4D-1A32E6218B3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47F0-7DE2-4432-A5B7-69A69330B5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2481E-F8D0-4D3E-AE58-9A8286BDB7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2E14-489C-41EE-9FD2-0E865C2441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44FB-697D-4CA8-B45B-53A6BB1F2C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72A85-C4E0-4F97-9A4E-2CF3303CB7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3BD10-8353-481D-88A5-5764EB93FB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01DC3-DBC6-4043-A707-58165675E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4C44-1A14-4263-B636-6ADD82DB5B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24A84-F71D-4CEB-9401-5A329E51C5A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40F39-1801-4951-9A6A-841E90F987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9CF3A-5FBE-4612-9906-852946F8A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F11A1-B6D3-4C3B-B7F7-778EADB6590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DC0C-B08A-4458-8634-1ACDD210F91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D66B-ADBD-45FD-B7E7-6376D95E17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29B-6A11-4740-B60A-85A6114B38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2DFB-96BA-4939-AA23-8CFDC4C95E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AB3-F498-42A1-9E69-BA199F59C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F538-AFAE-4594-918B-EC3388869C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A86-44EF-4B13-A61A-4DCEBCADDC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5C24-C199-4BC8-9710-F81C91FA7B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5AD-21C7-4FB1-9D6C-97D1759640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1DA-1C1B-4F47-B682-27AC1261009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C2B-6036-46F4-837C-AD40B8BD86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45C-8E64-477A-A497-4EB08124FCD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AB2-199C-4332-A465-18465DA4381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45092-1B66-4569-AEAD-138779BF3EA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DE171-7A04-4E37-B89F-56B7F160D1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C39D4-0449-4EB5-A756-57ED0AA3E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0ACE5-0C92-4F00-881C-20B9196BE0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4D70-B463-4E88-97FE-5CED8121B89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5959D-527B-4E15-9422-0E16E4F4AB4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7B941-A58B-41A7-8B42-0425D10DFF5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EB2E5-4124-4606-A943-3966CDE2B9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D3FD4-A6FD-4BFF-AA9C-4FEAE66F2CA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1B457F-795F-49C7-9A51-7828837060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5A2FE-E3C1-4DFE-9F8F-20F9E40066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B6030-993A-4BC2-9ED0-D2C2BC605ED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147DB-6A78-4157-B846-0721A8B1005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62CD1-0361-4205-A176-6EFD758C3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B07B-B46C-4598-9B50-71EF4B7DC41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48A85-A89E-414B-AE64-05EFA0579D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BFA8A-63FF-4F2A-8E5C-478E3140E9B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7987B-CA08-432B-B48F-19F12C498D8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6381EA-5A4E-4E8F-BB3A-CCCDB949CA3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04C0-300B-4411-B839-6E53132DE37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CD6AD-D974-4976-8E56-BAAD9E0FCC9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D27B07-60DD-4B0E-84FD-F4ADEAFE21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74FD4-BE51-44C3-B1FF-02B6BC721F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14EEF-853E-4ABD-8FDC-F9F03939BAB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223E7-82C2-417F-93C4-B0B90DC0D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866E-E88E-4069-9B8E-4BEBB755BFF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5A89B-2DCE-4BD5-9289-93997E535FE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D18-8697-41D8-82F5-8B12CAB7A2C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3086-14B1-4EC6-8299-7CF6978172A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0814-64CF-44BC-89A1-1454A6C87EC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D391-9297-46C2-8E4A-8F6D6E8A61C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F77E-5F26-4CC8-82A0-7CDE965D88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BC12-B62F-464D-A8E3-9A3AB33B508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DA8D-B323-4A1E-BC7F-95CCBEC3FA1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37C1-2A2E-4BA0-A02C-1751B93040F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FACE-4097-4A07-A862-37CCAE318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786B-5DEF-4D15-8D7A-7702E732B78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4949-BBE6-4E52-AA25-4EA5EF5BA9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F6B6-0CBA-49D9-8A91-483BD4E168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4BF2-9923-4E18-A056-DD70C728679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9CC154-1CC5-42DF-B7D8-421D49091A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462212-C2C5-43DA-BDFD-C79571EE1D3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72743C-3F4A-4F86-A466-08C886938BF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56FD4E-442A-40E7-A0F2-0B59D9F5238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A8486-E67A-46AA-89B9-E3ADC039FA4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5767DD-D452-4C82-859B-D2E47D372A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8265E-CF63-46FE-82F4-93B1841554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EB75D-D998-48B2-B83F-F8B83576794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7E7A35-1718-4A27-8AA9-8AA6B0A71E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140A4F-3E35-483C-AF68-C3A6573269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D1DBE-172D-40E1-804C-6932B21E3FB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60F1DC-1B03-4FB3-857D-9A4F2CEF50A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AB3C2-640E-470F-89FE-0AEBC00AB22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191CB-3B4F-4F54-9790-FDB8A245417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A0EC5-D582-4393-8DEE-D26949EBC76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6CB64-A0A0-431F-BE7B-17A56D34D44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2AA853-1904-4DC2-B3C7-149EB35D199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37D255-FBB1-4F10-9EF7-3F23444B2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9F8E9-7A52-4911-B8C1-95F11BE6CB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387360" y="458280"/>
            <a:ext cx="83692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7F389-0DEE-41B6-A411-4F88E0FCD50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35C536-6662-42F9-B6F8-0AED3717AAA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7E529-B1DA-49B0-BEBA-BBBBC19C9B1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8FDF5-1962-413B-A75E-D9382D51530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7360" y="3097440"/>
            <a:ext cx="836928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FDD97-EFB8-43FA-8A75-326EBF75DB1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6040" y="148860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8736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6040" y="3097440"/>
            <a:ext cx="40842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E8C112-4620-4488-9331-2D8920C1F1D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1696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46920" y="148860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3873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1696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46920" y="3097440"/>
            <a:ext cx="2694600" cy="1468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CC881-48E8-4453-91F3-5F082E87DBA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CB108-8F59-4FB0-9BFA-8889120A229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769A-37EA-4B4B-AD55-DDDBE01213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BC39C-C989-4B94-A765-05A61D664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Robot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6418-9B13-410A-A91D-49FC1942C632}" type="slidenum">
              <a:rPr b="0" lang="ru-RU" sz="1000" spc="-1" strike="noStrike">
                <a:solidFill>
                  <a:srgbClr val="ffffff"/>
                </a:solidFill>
                <a:latin typeface="Roboto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0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E781-A7D4-455B-BC3E-0D2E0F536FB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Shape 53"/>
          <p:cNvSpPr/>
          <p:nvPr/>
        </p:nvSpPr>
        <p:spPr>
          <a:xfrm>
            <a:off x="0" y="5076720"/>
            <a:ext cx="9144000" cy="66960"/>
          </a:xfrm>
          <a:prstGeom prst="rect">
            <a:avLst/>
          </a:prstGeom>
          <a:solidFill>
            <a:srgbClr val="039b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24480" bIns="-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1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554C-9248-437A-B74F-5810F1F6CC3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1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197-EAFB-4011-B8B1-1C48E3AC58F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hape 10"/>
          <p:cNvSpPr/>
          <p:nvPr/>
        </p:nvSpPr>
        <p:spPr>
          <a:xfrm>
            <a:off x="1525680" y="673200"/>
            <a:ext cx="1081080" cy="1123920"/>
          </a:xfrm>
          <a:prstGeom prst="pie">
            <a:avLst/>
          </a:prstGeom>
          <a:noFill/>
          <a:ln w="28440">
            <a:solidFill>
              <a:srgbClr val="8bc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Shape 11"/>
          <p:cNvSpPr/>
          <p:nvPr/>
        </p:nvSpPr>
        <p:spPr>
          <a:xfrm rot="10800000">
            <a:off x="6536880" y="3343320"/>
            <a:ext cx="1081080" cy="1123920"/>
          </a:xfrm>
          <a:prstGeom prst="pie">
            <a:avLst/>
          </a:prstGeom>
          <a:noFill/>
          <a:ln w="28440">
            <a:solidFill>
              <a:srgbClr val="8bc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" name="Shape 12"/>
          <p:cNvCxnSpPr/>
          <p:nvPr/>
        </p:nvCxnSpPr>
        <p:spPr>
          <a:xfrm>
            <a:off x="4359240" y="281736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49EB-8C07-47EB-9EEC-93D653A1DE0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1" name="Shape 17"/>
          <p:cNvCxnSpPr/>
          <p:nvPr/>
        </p:nvCxnSpPr>
        <p:spPr>
          <a:xfrm>
            <a:off x="4359240" y="281736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2783-D6A9-4850-B680-C141AD45893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Shape 21"/>
          <p:cNvCxnSpPr/>
          <p:nvPr/>
        </p:nvCxnSpPr>
        <p:spPr>
          <a:xfrm>
            <a:off x="492120" y="126000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4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3D87-4D80-47DD-BCFD-74608742EE4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1" name="Shape 26"/>
          <p:cNvCxnSpPr/>
          <p:nvPr/>
        </p:nvCxnSpPr>
        <p:spPr>
          <a:xfrm>
            <a:off x="492120" y="1260000"/>
            <a:ext cx="4262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Num" idx="5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2CC1-5FD5-4BDC-8F76-8B65561188A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6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93A0-95D2-4DF7-9740-62A0A05177B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0" name="Shape 35"/>
          <p:cNvCxnSpPr/>
          <p:nvPr/>
        </p:nvCxnSpPr>
        <p:spPr>
          <a:xfrm>
            <a:off x="488880" y="1412640"/>
            <a:ext cx="332640" cy="1080"/>
          </a:xfrm>
          <a:prstGeom prst="straightConnector1">
            <a:avLst/>
          </a:prstGeom>
          <a:ln w="38160">
            <a:solidFill>
              <a:srgbClr val="039be5"/>
            </a:solidFill>
            <a:miter/>
          </a:ln>
        </p:spPr>
      </p:cxn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7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2B4F-E8C1-44BB-9275-95E6E4B12A8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8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79FC-2A01-49D0-9C22-9F830FF0CF1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17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hape 43"/>
          <p:cNvSpPr/>
          <p:nvPr/>
        </p:nvSpPr>
        <p:spPr>
          <a:xfrm>
            <a:off x="4572000" y="0"/>
            <a:ext cx="4572000" cy="5143680"/>
          </a:xfrm>
          <a:prstGeom prst="rect">
            <a:avLst/>
          </a:prstGeom>
          <a:solidFill>
            <a:srgbClr val="004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hape 44"/>
          <p:cNvCxnSpPr/>
          <p:nvPr/>
        </p:nvCxnSpPr>
        <p:spPr>
          <a:xfrm>
            <a:off x="5029200" y="4495320"/>
            <a:ext cx="542160" cy="1080"/>
          </a:xfrm>
          <a:prstGeom prst="straightConnector1">
            <a:avLst/>
          </a:prstGeom>
          <a:ln w="38160">
            <a:solidFill>
              <a:srgbClr val="8bc34a"/>
            </a:solidFill>
            <a:miter/>
          </a:ln>
        </p:spPr>
      </p:cxn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9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BB5E-EC97-4550-8C05-53554FDDCD9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679400" y="1189080"/>
            <a:ext cx="5785200" cy="145728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Roboto Slab"/>
              </a:rPr>
              <a:t>ДИДАКТИЧЕСКИ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679400" y="3049200"/>
            <a:ext cx="5785200" cy="909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bc34a"/>
                </a:solidFill>
                <a:latin typeface="Roboto Slab"/>
                <a:ea typeface="Roboto Slab"/>
              </a:rPr>
              <a:t>Ознакомление детей с родным городом Вороне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Найди герб и флаг города Воронежа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Знакомить с символикой гор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Символика разных город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Отгадай загадку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Закреплять полученные знания о достопримечательностях Воронеж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Развивать ассоциативное мышление,память,произвольное внима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Открытки с изображением достопримечательностей города Воронежа,альбом загад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Найди ошибку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Закреплять знания об исторических памятниках города,развивать логическое мыш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Открытки с изображением старого и нов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Четвертый лишний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Расширять представления детей об исторических сооружениях города,развивать логическое мышление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Иллюстративны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По улицам города” (экскурси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Учить ориентироваться на карте города,закреплять знание детьми улиц города,в честь кого они назв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Видеозапись,карта города Вороне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Викторина “Мой родной Вороне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Активизировать знания детей об исторических памятниках и здан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Учить выражать свои впечат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Собери герб города Воронежа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7240" y="164124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Учить составлять из частей целое,развивать внимание,глазом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Пазлы с изображением частей герба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Корреспондент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Учить составлять небольшой рассказ на тему “Любимый город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Воспитывать любовь к родному городу,желание делиться своими впечатлениями с други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6984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Диктоф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Краеведческая виктор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Закреплять знание,представление детей об исторических события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Продолжать формировать основы патриотического воспита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Карточки-вопросы по краеведению,игруш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Кроссвор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2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Развивать логическое мышление,произвольное вним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Воспитывать интерес к изучению родн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6364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Схемы кроссвордов,марк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Shape 225" descr=""/>
          <p:cNvPicPr/>
          <p:nvPr/>
        </p:nvPicPr>
        <p:blipFill>
          <a:blip r:embed="rId1"/>
          <a:stretch/>
        </p:blipFill>
        <p:spPr>
          <a:xfrm>
            <a:off x="711360" y="0"/>
            <a:ext cx="772128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Shape 230" descr=""/>
          <p:cNvPicPr/>
          <p:nvPr/>
        </p:nvPicPr>
        <p:blipFill>
          <a:blip r:embed="rId1"/>
          <a:stretch/>
        </p:blipFill>
        <p:spPr>
          <a:xfrm>
            <a:off x="773280" y="0"/>
            <a:ext cx="75974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Рисунки и фотографии Воронеж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Shape 235" descr=""/>
          <p:cNvPicPr/>
          <p:nvPr/>
        </p:nvPicPr>
        <p:blipFill>
          <a:blip r:embed="rId1"/>
          <a:stretch/>
        </p:blipFill>
        <p:spPr>
          <a:xfrm>
            <a:off x="733320" y="0"/>
            <a:ext cx="767736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Shape 240" descr="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1496880" y="2119320"/>
            <a:ext cx="5965920" cy="598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rmAutofit fontScale="4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  <a:ea typeface="Roboto Slab"/>
              </a:rPr>
              <a:t>Подготовила воспитатель ВКК Губарева Н.А.   2017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Домино “Воронеж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Развивать внимание,память,способность анализиров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Воспитывать чувства любви к родному горо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Карточки с изображением улиц,памятников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7520" y="458280"/>
            <a:ext cx="836784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Найди отличия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5000"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Учить сравнивать особенности старого и современного город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Развивать мышление,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"/>
              </a:rPr>
              <a:t>Воспитывать интерес к прошлому и настоящему горо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3480" y="2064960"/>
            <a:ext cx="836928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Иллюстрации и фотографии современного и старого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“</a:t>
            </a: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Воронежская мозаика</a:t>
            </a:r>
            <a:r>
              <a:rPr b="0" lang="ru-RU" sz="3000" spc="-1" strike="noStrike">
                <a:solidFill>
                  <a:srgbClr val="ffffff"/>
                </a:solidFill>
                <a:latin typeface="Roboto Slab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7360" y="1488600"/>
            <a:ext cx="8369280" cy="3079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Учить детей складывать картинку,узнавать и называть достопримечательности го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7360" y="458280"/>
            <a:ext cx="8369280" cy="685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 Slab"/>
              </a:rPr>
              <a:t>Игровой матери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776160" y="2064960"/>
            <a:ext cx="8367840" cy="3078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lnSpc>
                <a:spcPct val="115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Roboto"/>
              </a:rPr>
              <a:t>Фотографии Воронежа,разрезанные в форме моза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0-21T16:58:13Z</dcterms:modified>
  <cp:revision>1</cp:revision>
  <dc:subject/>
  <dc:title>ДИДАКТИЧЕСКИЕ ИГРЫ</dc:title>
</cp:coreProperties>
</file>