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96BC-F129-4A1F-8F70-C44974E5F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7CF2-C61A-4631-AF64-D1963773BE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DB63-72B3-4AF3-92C0-CA1BA0C311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4241-B159-4DBB-8EF1-F4062D23F5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8C9C-CABE-4749-81AB-2CA614B2F2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1CE7-B722-4155-B594-A3FDC30444E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00E6-2D5A-4177-8AD4-E81218CD77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CAE5-6735-4C8F-A7DA-9048D0D405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C075-90BF-4BD1-9575-CB14E99C45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BA14-83C0-44CE-8592-E78E82D4D5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2ADE-C583-471F-BF91-4624816EBA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CC7E5-EF47-4797-8367-47010F9A7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2012-C1E4-4D73-9E12-52B19F7217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B1DEE-46F9-441E-B935-965700A4D0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93851-4969-48A1-B1C9-766D2A4CE1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A5EEE-10B4-4D0E-921B-991AB329A7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A19FC-7A41-4D7F-AEBA-FAE9B0C1DB6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232F6-1828-4F79-A73B-9BE9F8ACEF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3453A-8EDE-4974-A8BF-7A3F30828BA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E5A96-8466-487F-ABAF-865341C6BD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5AA95-5D61-441E-8456-9F115EDADAB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DB9B5-92B3-4C23-83CC-091ED2933A0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46E39-DE44-42C1-B280-1842C6ED2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08C9-3791-4F8A-9F4F-D3042DF36B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8FF72-4FF7-41D9-90B4-50FD68BFA2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F4D29-6738-497B-BB59-99221830A6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4F92A-E180-47C6-B561-C6ABF1C887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7BF58-2454-4ED2-B9A6-6545B1047D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347CD-DF83-4CBF-B9C6-AD778C2C7CE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A4593-A643-4C7F-B50C-890F26D9AC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32F87-1A85-4287-8540-1DD4D618F6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61158-6235-4A87-9016-7415B40267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8C3A2-2510-49F2-B31E-A2DB2A00F4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697A5-89D3-477B-8F81-3B15EBF97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2F69-51E3-4C61-AD68-3C45EA79E9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CE8D8-913E-41A5-9A8E-E781D94CD65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D7F9E-AF9C-44D2-8E79-EC7A68DE3E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4365A-9884-4019-8CBD-FC3B682D7A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F1EB-718B-480F-8AD1-FE7B02467B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CE17-5BA3-4415-B175-2C409902266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95AA-647A-4AB2-827F-9093D5FAF1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1311-1FE9-4427-8544-5CDEA70EBE4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E858-FE3E-4B30-B134-D092DE99D0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AE8F-2A55-4471-8681-EC77158A4C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D7E3-1E10-4E51-9EDE-02114E781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7FA8-75E5-46B2-9094-219A6B1D6C4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0F6A-6A87-4762-82A2-543D88F4A2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70D9-1250-4263-9EF1-094952E8C2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BBE5-0E33-4996-AE09-8777F6E4D7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9946-4E18-46BB-BED5-D952B9D170A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5B47-AC60-4B1F-AFBD-8D5598F45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F4FB-D746-41E6-A5AB-05110B206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8EF9-CFB2-482C-B77D-25C1196F15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33E2-50F8-4738-ACBA-61250DC119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F142-CB86-4F83-AE33-2BD53FF90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CA80-EC89-4811-AA66-8646F246D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CDDD-C8D2-4F15-8A66-B46594A88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1FAC-45FA-484B-B9C6-486E244007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CD11-FCC7-42BB-AF81-30F8253E9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F328-9104-4437-9737-2555C090E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C9D0-5F5C-447B-8122-01C673B022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9F04-4EF4-4961-90DF-38F6AFFBF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0EC-1241-46AD-BA39-4FE63A1B35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C8A-2860-46E9-BDAD-38BC198C2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626-AA59-4F44-9ABF-93BCAEA185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B85-2BC2-43C2-94CA-3750F12087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FA2-1D3D-48CC-9A22-0097E6A82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ED76-93E5-49EE-B997-DB31F35C87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252-2E7F-422E-91B0-CFAA306AD2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C3C-059B-492C-841F-38658B921E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41B-CD9F-429A-AE39-33FB0ACDFD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AFF-8343-4FC3-AA57-A734577D19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2EA-3F4E-4E4F-817A-165B8BA691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4D9-786C-4E12-9ADB-5E29951FDD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9D4-0F6C-4B6F-B2C5-FA4211663E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E2EDF-67D5-40EF-A88D-A36C455FB2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B5AA7-B291-4843-B96C-34FA4E6172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BA1D-41C4-4CC4-87E4-5EC160624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6F8F-67AD-40B4-AFE8-05C993BF75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4501-3224-4779-AD9A-A267E155D2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17A9-1978-431D-ADA6-7B76737F17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38000-639D-4AE8-B63D-F61297DAA2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809A-3629-405C-B494-B8048F2F16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2DA2C-9803-44EA-B338-A8918B42FE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1E1C-4CF3-43A7-BE5F-4DE8CFC7CA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B45B6-9CC0-4178-9539-05622BAC0F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B222-E790-4701-B658-9AE81FB835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3022E-88C4-4B70-9C4B-C8784CD53F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7643E-F4F0-4E26-B9DC-983025AA3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5C8F-6167-447C-A8B7-76506E8CBB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98F65-C314-48A2-8E3C-7E7F95DC92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3F5D-42E4-406E-A0C9-1990FE1589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BC94A-37EC-4105-A9A5-36CCE43BB6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95F1-E5EF-4AD2-BE2D-BD0C65EC5C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FC08F-CAF8-4615-817C-6791AE19E3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A02D2-D24A-4884-B0D7-9FA7AF185F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2F5E1-0568-47C7-8A93-F170C9766E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CC8CA-774B-4BFE-BDD1-E253DAEC85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DB2C-B27B-4231-AE57-48ECFE3BF0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3574-DF7F-49C1-9C5A-F1EAD839D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318E-A53C-4771-8D45-ACB2BD89EF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A4473-CADA-4D6B-8755-A04121A998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E4CE-02F5-4948-8A5E-1CCA0EAFED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593-6867-481F-9656-91F2FFD444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41DD-426D-4826-A89F-11FDEBE532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0FF-1BE3-4F2D-8144-D016412CF0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7077-C26E-47D4-9ACD-BD42B43199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5723-1209-472E-848B-8D0A6FCEAC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643-0B19-4A9F-8D5F-4A09996B46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7127-73A9-4037-93CD-1D0F89FB12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2D5-CE0A-4CCB-9083-23D91AED4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5A24-875E-4E79-B1CC-835E8C2113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E8AE-1B9C-4C0B-B719-5124BD68FD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64A-6FF9-4926-BD9F-26C3DA50FF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DCD4-F3B4-4799-BD57-FC5CCBD9E7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7A509-5FD8-4C2A-B2AA-544D2681C3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9B8F5-0DF6-4779-AF89-DE8602512D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9AFCC-E14C-4258-BCD8-EBAF47F0CD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13E00-EFFF-4E16-8731-014FEC7DE1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E8D18-FB1F-4C67-AA79-D86D7B9EFC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CE146-5FA1-49C0-817F-0EC567AA9E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3B29F-700A-4BE2-AEF7-0BE9320F7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B401-1EAC-40F4-9E0E-8157DD4789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17F96-A636-44D2-98D5-A1CCB25AC3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A3DB3-51D6-4AB0-B452-91CCAC37CD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B1A78-5F2D-4AB0-B427-23BD870978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93E17-B3B8-4CDC-A88C-C7B9077896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94372-E972-458E-BB84-8FF6194098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1ABA5-EFDA-41C4-9BDA-417E442A44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8F772-A81C-4BE1-B566-8E5DFCD01A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CE7EA-C3FE-40B3-955E-27A03609AE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8FA22-0C89-4ADE-B949-91568BB726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50904-EAFB-49A5-8C2A-2645ED0B1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8A2D-0D6F-48D3-A749-9891F01955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F8CCE-1C62-4634-AA0F-8C5D08610E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B59D9-C750-4031-8E9D-A65245C57D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71A5B-1B64-4D19-9BA0-27A9C6831B2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C45F7-E583-4BBB-8B89-7F08EB9B4B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85ED8-8096-402A-A320-A433E893CF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EC4DB-8310-48C4-B37C-D266D79A33E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DB596-744B-417A-867A-39AD78630D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7A8A-E958-49FE-AE1B-C84BCDB461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D242-0952-44EE-81EA-986EFD808C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54EE-6421-4586-AF52-4CD20D184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bo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A76-B27B-46ED-A8E5-4688EEC5EA32}" type="slidenum">
              <a:rPr b="0" lang="ru-RU" sz="1000" spc="-1" strike="noStrike">
                <a:solidFill>
                  <a:srgbClr val="ffffff"/>
                </a:solidFill>
                <a:latin typeface="Robo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68C6-0C6D-40F5-8201-DF6E3B0B4D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hape 53"/>
          <p:cNvSpPr/>
          <p:nvPr/>
        </p:nvSpPr>
        <p:spPr>
          <a:xfrm>
            <a:off x="0" y="5076720"/>
            <a:ext cx="9144000" cy="66960"/>
          </a:xfrm>
          <a:prstGeom prst="rect">
            <a:avLst/>
          </a:prstGeom>
          <a:solidFill>
            <a:srgbClr val="039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480" bIns="-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1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324-4AC6-4B01-92E3-CBF09554F22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1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44B6-FD9E-44D2-A69C-0B105E8DFA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hape 10"/>
          <p:cNvSpPr/>
          <p:nvPr/>
        </p:nvSpPr>
        <p:spPr>
          <a:xfrm>
            <a:off x="1525680" y="673200"/>
            <a:ext cx="1081080" cy="1123920"/>
          </a:xfrm>
          <a:prstGeom prst="pie">
            <a:avLst/>
          </a:prstGeom>
          <a:noFill/>
          <a:ln w="28440">
            <a:solidFill>
              <a:srgbClr val="8bc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1"/>
          <p:cNvSpPr/>
          <p:nvPr/>
        </p:nvSpPr>
        <p:spPr>
          <a:xfrm rot="10800000">
            <a:off x="6536880" y="3343320"/>
            <a:ext cx="1081080" cy="1123920"/>
          </a:xfrm>
          <a:prstGeom prst="pie">
            <a:avLst/>
          </a:prstGeom>
          <a:noFill/>
          <a:ln w="28440">
            <a:solidFill>
              <a:srgbClr val="8bc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" name="Shape 12"/>
          <p:cNvCxnSpPr/>
          <p:nvPr/>
        </p:nvCxnSpPr>
        <p:spPr>
          <a:xfrm>
            <a:off x="4359240" y="281736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750-B758-4F21-9E83-2D3FBBE4F79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1" name="Shape 17"/>
          <p:cNvCxnSpPr/>
          <p:nvPr/>
        </p:nvCxnSpPr>
        <p:spPr>
          <a:xfrm>
            <a:off x="4359240" y="281736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6389-4963-4F2A-9A54-E997EDEE7B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Shape 21"/>
          <p:cNvCxnSpPr/>
          <p:nvPr/>
        </p:nvCxnSpPr>
        <p:spPr>
          <a:xfrm>
            <a:off x="492120" y="126000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A2E-97E4-4D17-AAF7-BCB91449F30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1" name="Shape 26"/>
          <p:cNvCxnSpPr/>
          <p:nvPr/>
        </p:nvCxnSpPr>
        <p:spPr>
          <a:xfrm>
            <a:off x="492120" y="126000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5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14A-0476-4B4E-95A1-CA858F26A84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DD6-C3FC-4CD8-A56B-AFD776D6C2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Shape 35"/>
          <p:cNvCxnSpPr/>
          <p:nvPr/>
        </p:nvCxnSpPr>
        <p:spPr>
          <a:xfrm>
            <a:off x="488880" y="1412640"/>
            <a:ext cx="3326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C8C0-490A-453F-9A6B-5B2A8F1F665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8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67B-A101-4E91-BD4C-7BFACD00DAA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hape 43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004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hape 44"/>
          <p:cNvCxnSpPr/>
          <p:nvPr/>
        </p:nvCxnSpPr>
        <p:spPr>
          <a:xfrm>
            <a:off x="5029200" y="4495320"/>
            <a:ext cx="542160" cy="1080"/>
          </a:xfrm>
          <a:prstGeom prst="straightConnector1">
            <a:avLst/>
          </a:prstGeom>
          <a:ln w="38160">
            <a:solidFill>
              <a:srgbClr val="8bc34a"/>
            </a:solidFill>
            <a:miter/>
          </a:ln>
        </p:spPr>
      </p:cxn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ACB-1476-4838-8B2B-A8AB2F29CCE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9400" y="1189080"/>
            <a:ext cx="5785200" cy="145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Roboto Slab"/>
              </a:rPr>
              <a:t>ДИДАК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679400" y="3049200"/>
            <a:ext cx="5785200" cy="909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bc34a"/>
                </a:solidFill>
                <a:latin typeface="Roboto Slab"/>
                <a:ea typeface="Roboto Slab"/>
              </a:rPr>
              <a:t>Ознакомление детей с родным городом Вороне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герб и флаг города Воронеж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Знакомить с символикой г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Символика разных г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Отгадай загадку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Закреплять полученные знания о достопримечательностях Вороне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ассоциативное мышление,память,произвольное вним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Открытки с изображением достопримечательностей города Воронежа,альбом заг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ошибку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Закреплять знания об исторических памятниках города,развивать логическое мыш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Открытки с изображением старого и нов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Четвертый лишний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асширять представления детей об исторических сооружениях города,развивать логическое мышление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Иллюстратив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По улицам города” (экскурс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ориентироваться на карте города,закреплять знание детьми улиц города,в честь кого они наз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Видеозапись,карта города Вороне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Викторина “Мой родной Вороне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Активизировать знания детей об исторических памятниках и здан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выражать свои впечат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Собери герб города Воронеж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7240" y="164124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составлять из частей целое,развивать внимание,глаз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Пазлы с изображением частей герба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орреспондент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составлять небольшой рассказ на тему “Любимый город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любовь к родному городу,желание делиться своими впечатлениями с други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6984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Диктоф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раеведческая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Закреплять знание,представление детей об исторических событ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Продолжать формировать основы патриотического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Карточки-вопросы по краеведению,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россвор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азвивать логическое мышление,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Воспитывать интерес к изучению родн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6364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Схемы кроссвордов,марк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Shape 225" descr=""/>
          <p:cNvPicPr/>
          <p:nvPr/>
        </p:nvPicPr>
        <p:blipFill>
          <a:blip r:embed="rId1"/>
          <a:stretch/>
        </p:blipFill>
        <p:spPr>
          <a:xfrm>
            <a:off x="711360" y="0"/>
            <a:ext cx="77212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Shape 230" descr=""/>
          <p:cNvPicPr/>
          <p:nvPr/>
        </p:nvPicPr>
        <p:blipFill>
          <a:blip r:embed="rId1"/>
          <a:stretch/>
        </p:blipFill>
        <p:spPr>
          <a:xfrm>
            <a:off x="773280" y="0"/>
            <a:ext cx="75974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исунки и фотографии Вороне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Shape 235" descr=""/>
          <p:cNvPicPr/>
          <p:nvPr/>
        </p:nvPicPr>
        <p:blipFill>
          <a:blip r:embed="rId1"/>
          <a:stretch/>
        </p:blipFill>
        <p:spPr>
          <a:xfrm>
            <a:off x="733320" y="0"/>
            <a:ext cx="76773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Shape 240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496880" y="2119320"/>
            <a:ext cx="5965920" cy="598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 fontScale="4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  <a:ea typeface="Roboto Slab"/>
              </a:rPr>
              <a:t>Подготовила воспитатель ВКК Губарева Н.А.   2017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Домино “Вороне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внимание,память,способность анализ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чувства любви к родному гор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Карточки с изображением улиц,памят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7520" y="45828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отличия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сравнивать особенности старого и современного г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мышление,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интерес к прошлому и настоящему го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3480" y="2064960"/>
            <a:ext cx="836928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Иллюстрации и фотографии современного и стар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Воронежская мозаик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детей складывать картинку,узнавать и называть достопримечательности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Фотографии Воронежа,разрезанные в форме моза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0-21T16:58:13Z</dcterms:modified>
  <cp:revision>1</cp:revision>
  <dc:subject/>
  <dc:title>ДИДАКТИЧЕСКИЕ ИГРЫ</dc:title>
</cp:coreProperties>
</file>