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B9AD-2A44-4BB2-81F6-70036087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4DBE-D4C6-4F47-A989-76FB3804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2798-1FE1-4AE8-A61D-9137D28F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7D0F-87FF-41F0-BEE6-76B46F0C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04C5-D846-446A-820E-663ED5FF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7C54-BEA5-43A7-A9A7-A8BF6C28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2F9C-4D22-4BEB-9876-DED06EA6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D7E3-57AD-452A-AF9A-98970385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125E-4D11-406A-8B8B-033BCF21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07D56-CB63-403F-882A-B9D150F01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58BF4-4F45-4A31-B2EE-A3CB9013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CA93-CF7B-4BBE-8023-0B69C8CA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7F6E-1199-462D-A089-F3C564A1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20EC-F9A4-4EAE-8F25-21F6FCF3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F576-16AA-43EB-80F8-07F21DB2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FBD3D-68E2-4030-A487-7A6F0B1B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29CD-423D-482F-A978-120873A0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2F23B-6F86-49AF-A10D-A596BEFD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BC2C9-7C74-4F73-BCEB-EC0B4CF6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57729-3550-4604-BE84-E4E5C72C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B7539-8C5C-4912-90EF-80D2E412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78AB3-DA9E-4C30-95F8-1563FD6D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C3B-6AA9-4487-9928-C1FB1331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F9BD3-F312-40F2-8B65-3630FB1A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D8002-F9A0-41D5-854A-68D9A557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037D9-ACF2-4EA7-ABA6-A715672D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94FDE-CCA8-4CBB-A961-032FB639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0DF44-11D0-4CED-B06A-700D1D6B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77778-ADD6-496D-8737-6D7E0D61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0B794-46C8-4EEE-9293-DA1E521B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8FFDF-C9C6-45E7-A54F-19567065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1A925-F9F0-4B29-9DA0-95EB5A41C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8BE61-4F10-480B-A2D5-13405908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B022-E863-422B-A708-9308453D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C8128-0F49-4D52-B9B5-CA6CEEC1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CDFAD-C8DC-4542-B5C3-367379C4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ED702-E8B4-4629-8731-73D63EDB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6767D-4F57-41B2-ACF3-239AFCA3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EF103-28BC-4A80-8B19-6E6CAA68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86465-1450-42FB-A8AE-8C8A2393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98D90-1F2F-4430-BD7B-3A3F80FA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E1D4C-96A6-4F8F-BD75-FEF1B938D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CC4F8-7AC4-45A8-9044-BC81C1F6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18B9D-88B6-42D2-8A6C-C8D58EEB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1AE3-1DDF-415D-A463-A3F4867A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5E964-9809-4DEC-B4B3-A7B7C186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0694C-7F64-4EB6-9307-172DDD8C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2A1BE-51E1-42A6-B02D-560A0B4B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6B306-AB5A-4ED9-BEA0-81C20374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6F878-9D15-4D33-98C3-B8C80BBA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4005D-B36B-45BE-B55F-EF588FD3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3579D-20C7-47FA-AB84-B5F8AEA0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E5DE4-A2AD-44E2-BD59-46C478C0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2E086-9EA0-46BE-B308-5C5D4E4D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1F9AA-FA03-443A-8BE6-88E2CB802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29B5-5874-4111-A354-AEC0D40AF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7E00C-8EE6-4EC0-A415-5BF96485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B7DB1-B7A1-4A98-B112-E0B6FF49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7973B-2C1A-4B0A-BCBF-2BD67ADC3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95CDF-D65B-454C-9EC8-5D0BBDF4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FB60E-40AC-4C43-88AE-52FD0E30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BF3FD-6787-44B8-903F-53B94278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66AD2-96C3-4249-9DF3-DB8C5737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56E05-3B98-4385-8FEC-D7F94D16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86D4C-9F84-466F-ABC0-46C87A41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21136-B855-4F54-B24E-466FEDAE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8A93-18FE-4044-A6EF-94809E53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A2A5A-70FA-4A9A-B9CA-5C56E53B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9692E-2A4A-4E0B-B58D-B9E1F1E3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FE93F-7047-465F-BB9D-E61ABB74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C50A-547C-4B20-8295-45F06411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B6AE-EAB2-4B57-9F65-8B66CF39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4AFE-9F81-4573-BBE2-5B006ED3937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D1F26-4F4E-4DB9-B140-A0560230FD8B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BD91-EBE2-40DF-851E-9AA1A3D93A3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3947-58BD-4AB7-AECF-520D15DE56C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5934-3800-4D62-80FE-8E993D33CD0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8A3C-0943-4276-9580-D511A11EA5F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2"/>
          <a:stretch/>
        </p:blipFill>
        <p:spPr>
          <a:xfrm>
            <a:off x="420840" y="781200"/>
            <a:ext cx="7864200" cy="18396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785520" y="510552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л учитель физической культуры МАОУ СОШ № 14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асильев Алексей Георгиеви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571680" y="928800"/>
            <a:ext cx="75006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рок основ знаний о физической культур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10 кла</a:t>
            </a: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с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3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30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2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Box 1"/>
          <p:cNvSpPr/>
          <p:nvPr/>
        </p:nvSpPr>
        <p:spPr>
          <a:xfrm>
            <a:off x="659520" y="928800"/>
            <a:ext cx="688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. Клиностатическая проба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яется в обратном порядк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переходе из положения сто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оложения леж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2"/>
          <p:cNvSpPr/>
          <p:nvPr/>
        </p:nvSpPr>
        <p:spPr>
          <a:xfrm>
            <a:off x="994320" y="3929040"/>
            <a:ext cx="729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ерии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норме пульс уменьшаетс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4-10 уд.мин. Большее замедление – призн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енирован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1"/>
          <p:cNvSpPr/>
          <p:nvPr/>
        </p:nvSpPr>
        <p:spPr>
          <a:xfrm>
            <a:off x="571680" y="428760"/>
            <a:ext cx="81435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Функциональные пробы для определения состояния системы дыхания</a:t>
            </a:r>
            <a:r>
              <a:rPr b="1" lang="ru-RU" sz="3200" spc="-1" strike="noStrike">
                <a:solidFill>
                  <a:srgbClr val="00b0f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а Штанг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ытуемый делает полный вдох и задерживает дыхание как можно дольш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Box 2"/>
          <p:cNvSpPr/>
          <p:nvPr/>
        </p:nvSpPr>
        <p:spPr>
          <a:xfrm>
            <a:off x="428760" y="4500720"/>
            <a:ext cx="778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ерии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орма – не менее 40 секунд. Отличный показатель – 1 минута и больш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1"/>
          <p:cNvSpPr/>
          <p:nvPr/>
        </p:nvSpPr>
        <p:spPr>
          <a:xfrm>
            <a:off x="285840" y="214200"/>
            <a:ext cx="857232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2. Измерение жизненной емкости легких (ЖЕЛ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Л – объем газа, который можно выдохнуть при максимальном усилии после максимального глубокого вдо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ытуемый делает полный вдох, затем полный выдох в спиромет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Box 2"/>
          <p:cNvSpPr/>
          <p:nvPr/>
        </p:nvSpPr>
        <p:spPr>
          <a:xfrm>
            <a:off x="214200" y="4143240"/>
            <a:ext cx="8215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ерии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для мужчин – 3000 – 4500 см3, для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щин – 2500 – 3500 см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снижению ЖЕЛ приводят патологические состояния (пневмония, абсцесс легкого, туберкулезный процесс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3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3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3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f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500040" y="0"/>
            <a:ext cx="864396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улы оценки вес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Показатель Поля Бро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 Поля Брока – наиболее простой метод определения оптимального ве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ьный вес (кг) вычисляется по формул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(кг) = росту (см) – 100 (при росте до 165 см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(кг) = росту (см) – 105 (при росте 166 – 175 с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(кг) = росту (см) – 110 (при росте свыше 176 см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Box 2"/>
          <p:cNvSpPr/>
          <p:nvPr/>
        </p:nvSpPr>
        <p:spPr>
          <a:xfrm>
            <a:off x="357120" y="4143240"/>
            <a:ext cx="835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лонение от нормы указывают на избыточный или недостаточный вес. Показатели веса, например, у вполне здоровых детей могут отклоняться в ту или другую сторону на 3 - 5 к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7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7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7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3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7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7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7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30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700" fill="hold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3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f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1"/>
          <p:cNvSpPr/>
          <p:nvPr/>
        </p:nvSpPr>
        <p:spPr>
          <a:xfrm>
            <a:off x="714240" y="714240"/>
            <a:ext cx="75726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Весо – ростовой показате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с (г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атель = ------------------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</a:t>
            </a:r>
            <a:r>
              <a:rPr b="1" i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ст (см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Box 2"/>
          <p:cNvSpPr/>
          <p:nvPr/>
        </p:nvSpPr>
        <p:spPr>
          <a:xfrm>
            <a:off x="428760" y="3786120"/>
            <a:ext cx="8358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ь менее 300 г. для взрослых или менее 200 г. для детей возраста 12 – 15 лет указывает на недостаточный вес, а показатель больше 400 г. на избыточный ве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3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f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Box 1"/>
          <p:cNvSpPr/>
          <p:nvPr/>
        </p:nvSpPr>
        <p:spPr>
          <a:xfrm>
            <a:off x="500040" y="285840"/>
            <a:ext cx="8001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Индекс массы тела ( индекс Кетле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екс массы тела (индекс кетле) – росто – весовой показатель. Наиболее простым и доступным и достаточно объективным способом диагностики избыточной массы тела (ожирение) является измерение индекса массы тела. Он вычисляется как отношение веса человека (в кг) к квадрату роста (в м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с (кг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казатель = -----------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ст (м)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2"/>
          <p:cNvSpPr/>
          <p:nvPr/>
        </p:nvSpPr>
        <p:spPr>
          <a:xfrm>
            <a:off x="285840" y="4357800"/>
            <a:ext cx="84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итерии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– идеальный показатель, 20-25 – норма, 25-30 – ожирение 1-й степени; 30-40 – ожирение 2-й степени; более 40 – ожирение 3-й степе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4" dur="3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3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0" dur="3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3" dur="3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6" dur="3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30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1"/>
          <p:cNvSpPr/>
          <p:nvPr/>
        </p:nvSpPr>
        <p:spPr>
          <a:xfrm>
            <a:off x="285840" y="285840"/>
            <a:ext cx="814392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ропометрические проб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екс Эрисмана. Показатель пропорциональности конституции те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поставляя величину роста с величиной окружности грудной клетки (широкая или узкая грудная клетк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2"/>
          <p:cNvSpPr/>
          <p:nvPr/>
        </p:nvSpPr>
        <p:spPr>
          <a:xfrm>
            <a:off x="357120" y="3714840"/>
            <a:ext cx="8358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екс Эрисмана равен величине окружности грудной клетки (см) минус половина величины роста стоя (см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спокойном состоянии окружность грудной клетки должна быть на 4-5 см меньше половины ро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3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3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3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1"/>
          <p:cNvSpPr/>
          <p:nvPr/>
        </p:nvSpPr>
        <p:spPr>
          <a:xfrm>
            <a:off x="500040" y="571680"/>
            <a:ext cx="814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Индекс пропорциональности роста (длины тела) и обхвата грудной клетк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 рассчитывается по формул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= обхват грудной клетки (см) : длину тела (см) × 100</a:t>
            </a:r>
            <a:r>
              <a:rPr b="0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0" y="4143240"/>
            <a:ext cx="892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итерии: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екс К – 50 – 55 – пропорциональная грудная клетка (нормостеническая); менее 50 – узкогрудость (астеническая); более 55 – широкогрудость (гиперстеническа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155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1155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1155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1155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155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1155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1155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1155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155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0" dur="1155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2" dur="1155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4" dur="1155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2"/>
          <p:cNvSpPr/>
          <p:nvPr/>
        </p:nvSpPr>
        <p:spPr>
          <a:xfrm>
            <a:off x="642960" y="571680"/>
            <a:ext cx="778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Показатель Пинье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яется по формуле: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ост (см) – (вес +окружность грудной клетки в см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3"/>
          <p:cNvSpPr/>
          <p:nvPr/>
        </p:nvSpPr>
        <p:spPr>
          <a:xfrm>
            <a:off x="428760" y="3429000"/>
            <a:ext cx="7858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ерии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 и менее – крепкое телосложение; 20 – хорошее; 20-25 – среднее; 25 – 35 – слабое; 35 и более очень слабо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Box 1"/>
          <p:cNvSpPr/>
          <p:nvPr/>
        </p:nvSpPr>
        <p:spPr>
          <a:xfrm>
            <a:off x="714240" y="500040"/>
            <a:ext cx="7929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4. Измерение окружности плеча (бицепс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воляет определить степень развития мускулатуры. Для расчетов производиться два его измерения (в см): первое – в спокойном состоянии (рука опущена и расслабленна), второе – в напряжении (рука согнут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(2-е измерение – 1-е измерение)×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--------------------------------------------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                           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1-е измер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2"/>
          <p:cNvSpPr/>
          <p:nvPr/>
        </p:nvSpPr>
        <p:spPr>
          <a:xfrm>
            <a:off x="500040" y="442908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ритерии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5 – ожирение; 5 – 12 – норма; 12 и более – атлетическая мускулат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c7c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428760" y="642960"/>
            <a:ext cx="8072280" cy="56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ема урока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рмы и средства контроля индивидуальной физической деятельности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81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61,-56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Box 1"/>
          <p:cNvSpPr/>
          <p:nvPr/>
        </p:nvSpPr>
        <p:spPr>
          <a:xfrm>
            <a:off x="357120" y="714240"/>
            <a:ext cx="85010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люче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зученные методы самооценки физического здоровья позволят вам контролировать состояние своего организма. Гармония, функциональное равновесие в жизнедеятельности приносят хорошее самочувствие и настроение, а это, как известно, - залог счастливой и продолжительной жиз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155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1155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2" dur="1155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4" dur="1155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587160" y="500040"/>
            <a:ext cx="400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и урока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285840" y="15001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ние ответственности за свое здоровь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1143000" y="24289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воение учащимися общедоступных диагностических методов оценки своего физического здоровья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214200" y="4000680"/>
            <a:ext cx="792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рмирование приверженности здоровому образу жизни и личных качеств – самостоятельности  и ответственности за свое здоровь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2"/>
          <p:cNvSpPr/>
          <p:nvPr/>
        </p:nvSpPr>
        <p:spPr>
          <a:xfrm>
            <a:off x="357120" y="500040"/>
            <a:ext cx="8786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наше время всеобщее внимание привлекает проблема здоровья. Многие  молодые люди считают, что им рано морочить голову мыслями о будущих болезня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мирно известный хирург Н.М. Амосов утверждал: «здоровье – это резервные мощности клеток, органов, целого организма». Он ввел такое понятие, как «количество здоровья», которое можно определить как сумму «резервных мощностей» основных функциональных сист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ьмем к примеру, сердце. Это мышечный орган, выполняющий механическую работу. При 75 ударах в минуту оно производит 100 000 сокращений в сутки, в течении жизни человека перекачивает до 175 млн. литров кров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ьмем такую единицу, как минутный объем крови (МОК). Предположим, что в состоянии покоя оно перекачивает 4 л крови в минуту. А при энергичной физической работе – до 20 л. Определим «коэффициент резерва»; 20 : 4 =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уммарные резервы мощности» - не только важнейшая характеристика состояния здоровья как такового. Они важны для противодействия организма боле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571680" y="428760"/>
            <a:ext cx="8286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ставим человека, у которого МОК 20 л – максимальная мощность сердца. Случилось, что он простудился и заболел. Температура поднялась до 39-40 градусов. В такой ситуации потребление кислорода тканям возрастает вдвое. Но организму это ни почем, его сердце может выдержать еще большую нагрузку. А что будет с детренированным сердцем, у которого максимальный МОК 6 л?. Его ткани начнут задыхаться. Сердце будет не в состоянии доставить удвоенный объем крови. Что произойдет? Болезнь будет протекать гораздо тяжелее, появиться осложнения 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2"/>
          <p:cNvSpPr/>
          <p:nvPr/>
        </p:nvSpPr>
        <p:spPr>
          <a:xfrm>
            <a:off x="571680" y="3643200"/>
            <a:ext cx="82864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системы организма человека взаимосвязаны. Некоторые из них играют самую важную, ключевую роль. Какие это системы?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дечно - сосудистая и дыхательная системы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смотрим функциональные пробы для определения состояния сердечно - сосудистой системы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1"/>
          <p:cNvSpPr/>
          <p:nvPr/>
        </p:nvSpPr>
        <p:spPr>
          <a:xfrm>
            <a:off x="928800" y="642960"/>
            <a:ext cx="742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– метод определения частоты сердечных сокращений (ЧСС)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считаем пуль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785880" y="3286080"/>
            <a:ext cx="8072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ерии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СС в состоянии покоя: для мужчин – реже 55 уд./мин – отлично; реже 65 уд/мин – хорошо; 65-75 уд./мин –посредственно; выше 75 уд./мин- плохо. Для женщин и юношей – каждый показатель примерно на 5 ударов больш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3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1"/>
          <p:cNvSpPr/>
          <p:nvPr/>
        </p:nvSpPr>
        <p:spPr>
          <a:xfrm>
            <a:off x="357120" y="42876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514"/>
                </a:solidFill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161514"/>
                </a:solidFill>
                <a:latin typeface="Times New Roman"/>
                <a:ea typeface="Times New Roman"/>
              </a:rPr>
              <a:t>. </a:t>
            </a:r>
            <a:r>
              <a:rPr b="1" lang="ru-RU" sz="3600" spc="-1" strike="noStrike">
                <a:solidFill>
                  <a:srgbClr val="161514"/>
                </a:solidFill>
                <a:latin typeface="Times New Roman"/>
                <a:ea typeface="Times New Roman"/>
              </a:rPr>
              <a:t>Измерение артериального давления</a:t>
            </a:r>
            <a:r>
              <a:rPr b="0" lang="ru-RU" sz="3600" spc="-1" strike="noStrike">
                <a:solidFill>
                  <a:srgbClr val="161514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вление, которое оказывает на стенку артерии находящаяся в ней кровь, называется артериальны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мерим А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0" y="3500280"/>
            <a:ext cx="885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ерии: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тимальное АД – 120/80 мм рт. ст., нормальное 130/85 мм тр. ст.,  повышенное нормальное 130-139/85-90 мм рт. 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ойкое повышение АД выше 140/90 мм рт. ст. может быть признаком различных заболеваний. Однако при заболеваниях наблюдается и снижение артериального давления – артериальная гипотензия (гипотония). У взрослых нижней границей нормы считается 105/65 мм рт. ст., у детей 85/60 мм рт. 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8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2"/>
          <p:cNvSpPr/>
          <p:nvPr/>
        </p:nvSpPr>
        <p:spPr>
          <a:xfrm>
            <a:off x="500040" y="42876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 Проба Мартинэ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ксируется ЧСС и АД до и после нагрузки, а также время возврата изменившихся показателей к исходным. По команде испытуемый делает 20 приседаний за 30 секун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500040" y="3857760"/>
            <a:ext cx="807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ерии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щение пульса на 50-70%; увеличение систолического АД на 15-20%; снижение диастолического АД на 20-30%. У здоровых людей восстановление показателей до исходного уровня – до 3 мину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3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3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582480" y="857160"/>
            <a:ext cx="87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</a:t>
            </a:r>
            <a:r>
              <a:rPr b="0" lang="ru-RU" sz="36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Ортостатическая проб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оложении  лежа подсчитывается пульс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тем нужно спокойно встать и подсчитат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льс сто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3"/>
          <p:cNvSpPr/>
          <p:nvPr/>
        </p:nvSpPr>
        <p:spPr>
          <a:xfrm>
            <a:off x="470520" y="3929040"/>
            <a:ext cx="725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итерии: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норме превышение не  составля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-14 уд.мин. Учащение до 20 уд.мин 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овлетворительная реакци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ыше 20 уд.мин – не удовлетворите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0:21:44Z</dcterms:created>
  <dc:creator>ноутбук3</dc:creator>
  <dc:description/>
  <dc:language>en-US</dc:language>
  <cp:lastModifiedBy>Пользователь</cp:lastModifiedBy>
  <dcterms:modified xsi:type="dcterms:W3CDTF">2017-09-30T17:53:01Z</dcterms:modified>
  <cp:revision>36</cp:revision>
  <dc:subject/>
  <dc:title>Урок ОБЖ </dc:title>
</cp:coreProperties>
</file>