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70B-1A86-401F-9692-000362DA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B3A-4A12-4037-AA66-72D64724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5FD-4C03-4F22-B1D2-C01E175C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A26-FF60-4FFE-A0DF-D46EDA5E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946D-1BDD-4D59-BCA0-B9ED868F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D643-35E0-4FFF-AB2D-83FDEF75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72B9-7780-4B54-B9C1-54CFA865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2916-E349-4E93-9394-48B8BA9A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4173-BF8A-4DC5-A575-20B587D7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53A2-4FAE-4F62-B4BE-8CC85D47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9A6C-2DA3-45B0-BDF7-5E764479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235-5EEB-4DA8-BEB9-763046A5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6455-85A6-40E9-9703-72E8B7B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BE4D-12F3-4D3A-B94A-94D559CD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8A2A-F2AA-44E6-811B-F8F2D59D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F96D-2A0E-4EA4-81DD-759A14B6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C36F-7615-411C-B295-D87FAEFF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A7AD-5C32-4512-A955-31CEAAFB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9985-DE24-4EA5-84F2-2C41FBA6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D68C7-95EA-4E5F-AFBD-6A347586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E19C-2F76-47E0-B243-B678BE81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06A7B-14F2-4E3D-AF5B-56B09EA9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4FA-AD0B-4649-B31D-CB70DF0A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5B74-CC0A-4A2B-AF6F-7F515465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1492-0E6E-4598-AEBC-B4BDAE0B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1A65-AF70-48D5-B57A-367F8F1E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DBCE-9B1D-44A9-B62A-02DD7943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3AA4-417D-429F-8087-AD035044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8DC6-2B6E-4C72-B1F4-3F83A40D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F463-3112-4C51-A573-E09CA165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95A93-068C-40ED-B401-20A21631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0E448-EE48-48EA-865B-581DC9C3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F3AB-0331-4D0C-A0D1-81270650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B82-9525-4086-8CC5-3233BD6B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1513-5C4D-45A6-96CA-2B604278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8BD0-BBF7-404F-A4F6-19E95D6F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F75D0-53F2-42A0-BCAA-CADA612B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E51C6-3D0B-4259-8C88-162F39DF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FF5D1-CCE2-41B5-ABB1-6AE4E56B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D109E-7B44-424D-8FC3-F0B91C8D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7E5D-602F-4F8F-B57E-16753381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2FBB2-7F9E-4062-A352-67936312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B33B-7FE8-45A6-AA76-D03293CF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AEEB2-A445-42D3-8512-5C618846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ECB-E7C4-4555-A925-033916A2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AC908-3C6A-4F0D-8158-BC796AC3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5938C-C034-4B48-B0FF-9ADF9381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2209A-6950-408E-BB09-C6FC3D53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8219D-073A-42AD-B771-1C4BF5C4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DBEB-5DE5-445B-859A-E7DB8924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80C5D-1A40-4424-BC03-867F14C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83606-6CB6-49E4-8217-2C8054B1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41CB-07AD-4CAC-9204-13B6E916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3596B-1CE5-480E-B5F6-A7CCF741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F98E-3F84-4874-B459-7207B30B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8CE-38FC-409E-9F8F-EE8BCA89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D3FA-B14A-4552-917C-1157F66F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46CAB-2585-4B8B-B2DD-3BB5CA7A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43BBD-F556-45A6-B6CA-590FC413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64B92-B4CF-4787-8715-BB4DAA10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B5FB9-D741-4D15-937B-85ACE19D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5B748-9B56-4760-B6F1-3CD09077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69F14-DF48-4356-93CB-E64AA9B6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CF31B-B02F-4D48-8D86-159E4BA7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7D7EB-AED9-4DBF-A3F8-E49CC3B0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6D5B7-A365-4D78-A171-11C7FE07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4E5-95BE-4C5E-8400-79776DCE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E835B-17BF-41E6-A4F7-822215D3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AD574-9DBD-4301-8C85-C63E18E6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0F38B-5748-42A0-B3EE-028A71A2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F68-1D7E-4A2E-A92D-CFDD54E0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816-6AB7-47FB-A67E-97C6AB0B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0E40-51D8-4974-BDEB-ED200F4A58A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AF6E-E9E4-49CF-90AD-C0885532A4A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47FE-02BA-4293-BF14-E7BC3CD69DE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4E1E-B7A4-433D-A175-F31B91799F1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F519-A107-4DAB-A3C5-BA962F603D3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F33D-9016-47F0-840A-2E4DC3E0ACE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420840" y="781200"/>
            <a:ext cx="7864200" cy="18396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785520" y="51055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 учитель физической культуры МАОУ СОШ № 14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сильев Алексей Георги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571680" y="928800"/>
            <a:ext cx="7500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основ знаний о физической культур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0 кла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3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659520" y="928800"/>
            <a:ext cx="68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 Клиностатическая проб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яется в обратном порядк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ереходе из положения сто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оложения леж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94320" y="3929040"/>
            <a:ext cx="729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норме пульс уменьша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4-10 уд.мин. Большее замедление – призн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нирова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571680" y="428760"/>
            <a:ext cx="81435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ункциональные пробы для определения состояния системы дыхания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а Штанг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ытуемый делает полный вдох и задерживает дыхание как можно дольш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428760" y="450072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орма – не менее 40 секунд. Отличный показатель – 1 минута и боль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285840" y="214200"/>
            <a:ext cx="85723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. Измерение жизненной емкости легких (ЖЕ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 – объем газа, который можно выдохнуть при максимальном усилии после максимального глубокого вдо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ытуемый делает полный вдох, затем полный выдох в спиромет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214200" y="4143240"/>
            <a:ext cx="821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ля мужчин – 3000 – 4500 см3, дл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щин – 2500 – 3500 см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снижению ЖЕЛ приводят патологические состояния (пневмония, абсцесс легкого, туберкулезный процес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3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3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3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f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500040" y="0"/>
            <a:ext cx="864396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улы оценки вес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Показатель Поля Бро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Поля Брока – наиболее простой метод определения оптимального ве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ый вес (кг) вычисляется по форму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(кг) = росту (см) – 100 (при росте до 165 см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(кг) = росту (см) – 105 (при росте 166 – 175 с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(кг) = росту (см) – 110 (при росте свыше 176 с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357120" y="414324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от нормы указывают на избыточный или недостаточный вес. Показатели веса, например, у вполне здоровых детей могут отклоняться в ту или другую сторону на 3 - 5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7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7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7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7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7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7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3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7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3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f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714240" y="714240"/>
            <a:ext cx="7572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Весо – ростовой показат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 (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ь = 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т (с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428760" y="378612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менее 300 г. для взрослых или менее 200 г. для детей возраста 12 – 15 лет указывает на недостаточный вес, а показатель больше 400 г. на избыточный ве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f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500040" y="285840"/>
            <a:ext cx="8001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Индекс массы тела ( индекс Кетл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 массы тела (индекс кетле) – росто – весовой показатель. Наиболее простым и доступным и достаточно объективным способом диагностики избыточной массы тела (ожирение) является измерение индекса массы тела. Он вычисляется как отношение веса человека (в кг) к квадрату роста (в м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 (к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ь = 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т (м)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285840" y="435780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– идеальный показатель, 20-25 – норма, 25-30 – ожирение 1-й степени; 30-40 – ожирение 2-й степени; более 40 – ожирение 3-й степ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4" dur="3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3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3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3" dur="3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6" dur="3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3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285840" y="285840"/>
            <a:ext cx="81439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ропометрические про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 Эрисмана. Показатель пропорциональности конституции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поставляя величину роста с величиной окружности грудной клетки (широкая или узкая грудная клет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357120" y="371484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 Эрисмана равен величине окружности грудной клетки (см) минус половина величины роста стоя (с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покойном состоянии окружность грудной клетки должна быть на 4-5 см меньше половины ро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500040" y="571680"/>
            <a:ext cx="814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Индекс пропорциональности роста (длины тела) и обхвата грудной клет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рассчитывается по формул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= обхват грудной клетки (см) : длину тела (см) × 100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0" y="414324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екс К – 50 – 55 – пропорциональная грудная клетка (нормостеническая); менее 50 – узкогрудость (астеническая); более 55 – широкогрудость (гиперстеническа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155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1155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1155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1155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155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1155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1155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1155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155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1155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1155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1155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"/>
          <p:cNvSpPr/>
          <p:nvPr/>
        </p:nvSpPr>
        <p:spPr>
          <a:xfrm>
            <a:off x="642960" y="57168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Показатель Пинь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яется по формуле: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т (см) – (вес +окружность грудной клетки в с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428760" y="3429000"/>
            <a:ext cx="785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 и менее – крепкое телосложение; 20 – хорошее; 20-25 – среднее; 25 – 35 – слабое; 35 и более очень слаб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714240" y="50004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4. Измерение окружности плеча (бицепс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воляет определить степень развития мускулатуры. Для расчетов производиться два его измерения (в см): первое – в спокойном состоянии (рука опущена и расслабленна), второе – в напряжении (рука согнут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2-е измерение – 1-е измерение)×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-е изме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500040" y="442908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5 – ожирение; 5 – 12 – норма; 12 и более – атлетическая мускул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7c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428760" y="642960"/>
            <a:ext cx="8072280" cy="56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ы и средства контроля индивидуальной физической деятельности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357120" y="714240"/>
            <a:ext cx="85010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зученные методы самооценки физического здоровья позволят вам контролировать состояние своего организма. Гармония, функциональное равновесие в жизнедеятельности приносят хорошее самочувствие и настроение, а это, как известно, - залог счастливой и продолжительн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155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155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2" dur="115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4" dur="115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587160" y="500040"/>
            <a:ext cx="400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285840" y="1500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ответственности за свое здоровь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1143000" y="24289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оение учащимися общедоступных диагностических методов оценки своего физического здоровь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214200" y="400068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приверженности здоровому образу жизни и личных качеств – самостоятельности  и ответственности за свое здоров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2"/>
          <p:cNvSpPr/>
          <p:nvPr/>
        </p:nvSpPr>
        <p:spPr>
          <a:xfrm>
            <a:off x="357120" y="500040"/>
            <a:ext cx="8786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 время всеобщее внимание привлекает проблема здоровья. Многие  молодые люди считают, что им рано морочить голову мыслями о будущих болезн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ирно известный хирург Н.М. Амосов утверждал: «здоровье – это резервные мощности клеток, органов, целого организма». Он ввел такое понятие, как «количество здоровья», которое можно определить как сумму «резервных мощностей» основных функциональных сист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ьмем к примеру, сердце. Это мышечный орган, выполняющий механическую работу. При 75 ударах в минуту оно производит 100 000 сокращений в сутки, в течении жизни человека перекачивает до 175 млн. литров кро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ьмем такую единицу, как минутный объем крови (МОК). Предположим, что в состоянии покоя оно перекачивает 4 л крови в минуту. А при энергичной физической работе – до 20 л. Определим «коэффициент резерва»; 20 : 4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уммарные резервы мощности» - не только важнейшая характеристика состояния здоровья как такового. Они важны для противодействия организма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571680" y="428760"/>
            <a:ext cx="8286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им человека, у которого МОК 20 л – максимальная мощность сердца. Случилось, что он простудился и заболел. Температура поднялась до 39-40 градусов. В такой ситуации потребление кислорода тканям возрастает вдвое. Но организму это ни почем, его сердце может выдержать еще большую нагрузку. А что будет с детренированным сердцем, у которого максимальный МОК 6 л?. Его ткани начнут задыхаться. Сердце будет не в состоянии доставить удвоенный объем крови. Что произойдет? Болезнь будет протекать гораздо тяжелее, появиться осложнения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571680" y="3643200"/>
            <a:ext cx="8286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системы организма человека взаимосвязаны. Некоторые из них играют самую важную, ключевую роль. Какие это системы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дечно - сосудистая и дыхательная системы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мотрим функциональные пробы для определения состояния сердечно - сосудистой системы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928800" y="64296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етод определения частоты сердечных сокращений (ЧСС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считаем пуль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785880" y="3286080"/>
            <a:ext cx="8072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СС в состоянии покоя: для мужчин – реже 55 уд./мин – отлично; реже 65 уд/мин – хорошо; 65-75 уд./мин –посредственно; выше 75 уд./мин- плохо. Для женщин и юношей – каждый показатель примерно на 5 ударов боль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357120" y="42876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514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161514"/>
                </a:solidFill>
                <a:latin typeface="Times New Roman"/>
                <a:ea typeface="Times New Roman"/>
              </a:rPr>
              <a:t>. </a:t>
            </a:r>
            <a:r>
              <a:rPr b="1" lang="ru-RU" sz="3600" spc="-1" strike="noStrike">
                <a:solidFill>
                  <a:srgbClr val="161514"/>
                </a:solidFill>
                <a:latin typeface="Times New Roman"/>
                <a:ea typeface="Times New Roman"/>
              </a:rPr>
              <a:t>Измерение артериального давления</a:t>
            </a:r>
            <a:r>
              <a:rPr b="0" lang="ru-RU" sz="3600" spc="-1" strike="noStrike">
                <a:solidFill>
                  <a:srgbClr val="161514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вление, которое оказывает на стенку артерии находящаяся в ней кровь, называется артериаль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рим А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0" y="3500280"/>
            <a:ext cx="885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тимальное АД – 120/80 мм рт. ст., нормальное 130/85 мм тр. ст.,  повышенное нормальное 130-139/85-90 мм рт. 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йкое повышение АД выше 140/90 мм рт. ст. может быть признаком различных заболеваний. Однако при заболеваниях наблюдается и снижение артериального давления – артериальная гипотензия (гипотония). У взрослых нижней границей нормы считается 105/65 мм рт. ст., у детей 85/60 мм рт. 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2"/>
          <p:cNvSpPr/>
          <p:nvPr/>
        </p:nvSpPr>
        <p:spPr>
          <a:xfrm>
            <a:off x="500040" y="42876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 Проба Мартинэ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ксируется ЧСС и АД до и после нагрузки, а также время возврата изменившихся показателей к исходным. По команде испытуемый делает 20 приседаний за 30 секун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500040" y="3857760"/>
            <a:ext cx="807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щение пульса на 50-70%; увеличение систолического АД на 15-20%; снижение диастолического АД на 20-30%. У здоровых людей восстановление показателей до исходного уровня – до 3 мину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582480" y="857160"/>
            <a:ext cx="87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ртостатическая проб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оложении  лежа подсчитывается пуль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ем нужно спокойно встать и подсчита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льс сто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470520" y="3929040"/>
            <a:ext cx="725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норме превышение не  составля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14 уд.мин. Учащение до 20 уд.мин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овлетворительная реакц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ыше 20 уд.мин – не удовлетвори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0:21:44Z</dcterms:created>
  <dc:creator>ноутбук3</dc:creator>
  <dc:description/>
  <dc:language>en-US</dc:language>
  <cp:lastModifiedBy>Пользователь</cp:lastModifiedBy>
  <dcterms:modified xsi:type="dcterms:W3CDTF">2017-09-30T17:53:01Z</dcterms:modified>
  <cp:revision>36</cp:revision>
  <dc:subject/>
  <dc:title>Урок ОБЖ </dc:title>
</cp:coreProperties>
</file>