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CFBF-6796-4B95-8E53-7A7E580D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04FF-EE39-4D4A-B698-B7F0CA9E2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3B1-D174-4FAB-BF57-B4590DF99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D45E-B637-49CE-9E0D-79C47071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FF9D-4FE6-4EB3-8180-F9084DB9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E0B-772C-453D-9D32-9FDA6E2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63C7-3017-4B15-A6FC-A64C6413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9BF3-D8CA-4C3E-B8B6-EB6BEB0F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7CC-611D-43C1-AC14-71AB316D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B453-135C-4546-9412-DD2213E8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144-65C0-4601-8207-9FDB0020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FABD-9132-45A6-8A35-9F1A23B7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7502-CCF5-4FA6-9BD0-07C1F6D47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езентация: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Стили на направления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в искусстве Востока,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Запада и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191120" y="33526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иколаев 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ученик 8 «В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БУ лицей № 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https://theworldwentaway.files.wordpress.com/2013/07/estilos-musicales-concepto-en-nube.jpg"/>
          <p:cNvPicPr/>
          <p:nvPr/>
        </p:nvPicPr>
        <p:blipFill>
          <a:blip r:embed="rId2"/>
          <a:stretch/>
        </p:blipFill>
        <p:spPr>
          <a:xfrm>
            <a:off x="3200400" y="2514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http://www.wm-painting.ru/images/Books/ru17.jpg"/>
          <p:cNvPicPr/>
          <p:nvPr/>
        </p:nvPicPr>
        <p:blipFill>
          <a:blip r:embed="rId3"/>
          <a:stretch/>
        </p:blipFill>
        <p:spPr>
          <a:xfrm>
            <a:off x="762120" y="2438280"/>
            <a:ext cx="2209680" cy="156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https://im0-tub-ru.yandex.net/i?id=0faf28f5f1285aa248b890c11020260a&amp;n=33&amp;h=215&amp;w=272"/>
          <p:cNvPicPr/>
          <p:nvPr/>
        </p:nvPicPr>
        <p:blipFill>
          <a:blip r:embed="rId4"/>
          <a:stretch/>
        </p:blipFill>
        <p:spPr>
          <a:xfrm>
            <a:off x="1295280" y="4572000"/>
            <a:ext cx="25909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62320" y="4572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Импрессионизм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</a:t>
            </a:r>
            <a:br>
              <a:rPr sz="2400"/>
            </a:b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оследняя треть 19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0 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828800"/>
            <a:ext cx="3048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Характерно: стремление наиболее естественно и непредвзято запечатлеть реальный мир в его недвижимости и изменчивости, передача своих мимолётных впечатлений, тонких настроений.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1" descr="https://ds04.infourok.ru/uploads/ex/0fbd/0001f804-dbd98f06/img13.jpg"/>
          <p:cNvPicPr/>
          <p:nvPr/>
        </p:nvPicPr>
        <p:blipFill>
          <a:blip r:embed="rId2"/>
          <a:stretch/>
        </p:blipFill>
        <p:spPr>
          <a:xfrm>
            <a:off x="3809880" y="2590920"/>
            <a:ext cx="4267440" cy="3163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4" descr="https://www.2do2go.ru/uploads/225c7c00acdce9e0278d7ab624d5c989.jpg"/>
          <p:cNvPicPr/>
          <p:nvPr/>
        </p:nvPicPr>
        <p:blipFill>
          <a:blip r:embed="rId3"/>
          <a:stretch/>
        </p:blipFill>
        <p:spPr>
          <a:xfrm>
            <a:off x="7238880" y="5003640"/>
            <a:ext cx="1905120" cy="18543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0" descr="Импрессионизм"/>
          <p:cNvPicPr/>
          <p:nvPr/>
        </p:nvPicPr>
        <p:blipFill>
          <a:blip r:embed="rId4"/>
          <a:stretch/>
        </p:blipFill>
        <p:spPr>
          <a:xfrm>
            <a:off x="2895480" y="1752480"/>
            <a:ext cx="1378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533520"/>
            <a:ext cx="79246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Модерн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 – cтиль в eвpoпeйcкoм и aмepикaнcкoм иcкyccтвe нa pyбeжe 19-20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в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5520" y="1905120"/>
            <a:ext cx="3048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Этот стиль считался искусством неизведанного будущего. Гонясь за всем новым, он открыл множество новых направлений. Некоторые из них искусстве пользуются и сейчас большой популярность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37" descr="http://art42.ru/wp-content/uploads/2016/12/Musical-instruments-abstract-art-painting-oil-painting-hi-quality-hot-living-room-decoration-pictures-artwork-painted.jpg"/>
          <p:cNvPicPr/>
          <p:nvPr/>
        </p:nvPicPr>
        <p:blipFill>
          <a:blip r:embed="rId2"/>
          <a:stretch/>
        </p:blipFill>
        <p:spPr>
          <a:xfrm>
            <a:off x="1600200" y="2971800"/>
            <a:ext cx="3825720" cy="3056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3" descr="Модерн"/>
          <p:cNvPicPr/>
          <p:nvPr/>
        </p:nvPicPr>
        <p:blipFill>
          <a:blip r:embed="rId3"/>
          <a:stretch/>
        </p:blipFill>
        <p:spPr>
          <a:xfrm>
            <a:off x="380880" y="1905120"/>
            <a:ext cx="178128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62320" y="23623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течение ХХ века появились многочисленные новые стили в искусств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ными из них были модернизм, символизм, импрессионизм, сюрреализм, кубизм, футуризм, дадаизм, абстракционизм, постмодернизм и друг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18" descr="Примитивизм"/>
          <p:cNvPicPr/>
          <p:nvPr/>
        </p:nvPicPr>
        <p:blipFill>
          <a:blip r:embed="rId2"/>
          <a:stretch/>
        </p:blipFill>
        <p:spPr>
          <a:xfrm>
            <a:off x="228600" y="38088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Авангардизм"/>
          <p:cNvPicPr/>
          <p:nvPr/>
        </p:nvPicPr>
        <p:blipFill>
          <a:blip r:embed="rId3"/>
          <a:stretch/>
        </p:blipFill>
        <p:spPr>
          <a:xfrm>
            <a:off x="304920" y="3581280"/>
            <a:ext cx="2135160" cy="276876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21" descr="Сюрреализм"/>
          <p:cNvPicPr/>
          <p:nvPr/>
        </p:nvPicPr>
        <p:blipFill>
          <a:blip r:embed="rId4"/>
          <a:stretch/>
        </p:blipFill>
        <p:spPr>
          <a:xfrm>
            <a:off x="5562720" y="304920"/>
            <a:ext cx="2819160" cy="18525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2" descr="Футуризм"/>
          <p:cNvPicPr/>
          <p:nvPr/>
        </p:nvPicPr>
        <p:blipFill>
          <a:blip r:embed="rId5"/>
          <a:stretch/>
        </p:blipFill>
        <p:spPr>
          <a:xfrm>
            <a:off x="6705720" y="4979880"/>
            <a:ext cx="2133360" cy="1878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https://im0-tub-ru.yandex.net/i?id=0faf28f5f1285aa248b890c11020260a&amp;n=33&amp;h=215&amp;w=272"/>
          <p:cNvPicPr/>
          <p:nvPr/>
        </p:nvPicPr>
        <p:blipFill>
          <a:blip r:embed="rId6"/>
          <a:stretch/>
        </p:blipFill>
        <p:spPr>
          <a:xfrm>
            <a:off x="3886200" y="5411880"/>
            <a:ext cx="182880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Число стилей и направлений огромно, если не бесконечно. Ключевым признаком, по которому произведения можно группировать по стилям, являются единые принципы художественного мышлени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800600" y="1752480"/>
            <a:ext cx="4114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Стили в искусстве не имеют четких границ, они плавно переходят один в другой и находятся в непрерывном развитии, смешении и противодейств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В рамках одного стиля всегда зарождается новый, а тот, в свою очередь, переходит в следующи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432600" y="533520"/>
            <a:ext cx="37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Актуа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562720" y="1600200"/>
            <a:ext cx="3581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ледует различать: художественные стили, направления, течения, школы и особенности индивидуальных стилей отдельных масте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рамках одного стиля может существовать несколько художественных направлений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889440" y="642960"/>
            <a:ext cx="27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http://lusana.ru/files/4833/573/3.jpg"/>
          <p:cNvPicPr/>
          <p:nvPr/>
        </p:nvPicPr>
        <p:blipFill>
          <a:blip r:embed="rId2"/>
          <a:stretch/>
        </p:blipFill>
        <p:spPr>
          <a:xfrm>
            <a:off x="457200" y="1981080"/>
            <a:ext cx="5181480" cy="41911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1905120" y="3657600"/>
            <a:ext cx="2057400" cy="380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или и направ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Готика 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– художественный стиль, сформировавшийся в странах Западной и Центральной Европы в 12-15 в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8240" y="2057400"/>
            <a:ext cx="5334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Он охватил все виды искусства – архитектуру, скульптуру, живопись, музыку, витраж, книжное оформление, декоративно-прикладное искусство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Основой готического стиля была архитектура, которая характеризуется устремленными ввысь стрельчатыми арками, многоцветными витраж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1" descr="Готика"/>
          <p:cNvPicPr/>
          <p:nvPr/>
        </p:nvPicPr>
        <p:blipFill>
          <a:blip r:embed="rId2"/>
          <a:stretch/>
        </p:blipFill>
        <p:spPr>
          <a:xfrm>
            <a:off x="5638680" y="2438280"/>
            <a:ext cx="29847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609120"/>
            <a:ext cx="8153280" cy="16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Возрождение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 ( Ренессанс) -  эпоха в культурном и идейном развитии ряда стран Западной и Центральной Европы, а также некоторых стран Восточной Европы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в 14-16 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3504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Отличительные черт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ветский характер, гуманистическое мировоззрение, обращение к античному культурному наследи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своего рода "возрождение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2" descr="Возрождение"/>
          <p:cNvPicPr/>
          <p:nvPr/>
        </p:nvPicPr>
        <p:blipFill>
          <a:blip r:embed="rId2"/>
          <a:stretch/>
        </p:blipFill>
        <p:spPr>
          <a:xfrm>
            <a:off x="0" y="0"/>
            <a:ext cx="1401840" cy="18032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0" descr="http://storesfast.ru/48191-Muzyka-v-zhivopisi-i-grafike-kartina-Muzyka-renessansa-0.jpeg"/>
          <p:cNvPicPr/>
          <p:nvPr/>
        </p:nvPicPr>
        <p:blipFill>
          <a:blip r:embed="rId3"/>
          <a:stretch/>
        </p:blipFill>
        <p:spPr>
          <a:xfrm>
            <a:off x="5029200" y="2362320"/>
            <a:ext cx="4114800" cy="2447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3" descr="https://f.otzyv.ru/f/11/01/69057/3943/30011218504770.jpg"/>
          <p:cNvPicPr/>
          <p:nvPr/>
        </p:nvPicPr>
        <p:blipFill>
          <a:blip r:embed="rId4"/>
          <a:stretch/>
        </p:blipFill>
        <p:spPr>
          <a:xfrm>
            <a:off x="3505320" y="4429080"/>
            <a:ext cx="3657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Барокко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 - художественный стиль, получивший распространение первоначально в Италии в сер. XVI-XVII столетия, а затем во Франции, Испании, Фландрии и Германии 17-18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171840" y="2666880"/>
            <a:ext cx="2971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творческий подъем, напряжение эмоций, взрывоопасности форм, беспокойство,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экспрессия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http://images.boomsbeat.com/data/images/full/27941/v25-jpg.jpg"/>
          <p:cNvPicPr/>
          <p:nvPr/>
        </p:nvPicPr>
        <p:blipFill>
          <a:blip r:embed="rId2"/>
          <a:stretch/>
        </p:blipFill>
        <p:spPr>
          <a:xfrm>
            <a:off x="0" y="4481640"/>
            <a:ext cx="3581280" cy="23763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" descr="Антикварная лавка, ваза барокко"/>
          <p:cNvPicPr/>
          <p:nvPr/>
        </p:nvPicPr>
        <p:blipFill>
          <a:blip r:embed="rId3"/>
          <a:stretch/>
        </p:blipFill>
        <p:spPr>
          <a:xfrm>
            <a:off x="0" y="2209680"/>
            <a:ext cx="1752480" cy="160668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Барокко"/>
          <p:cNvPicPr/>
          <p:nvPr/>
        </p:nvPicPr>
        <p:blipFill>
          <a:blip r:embed="rId4"/>
          <a:stretch/>
        </p:blipFill>
        <p:spPr>
          <a:xfrm>
            <a:off x="0" y="228600"/>
            <a:ext cx="1171440" cy="16765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7" descr="http://900igr.net/datas/mkhk/Epokha-Barokko/0007-007-Muzyka-epokhi-barokko.jpg"/>
          <p:cNvPicPr/>
          <p:nvPr/>
        </p:nvPicPr>
        <p:blipFill>
          <a:blip r:embed="rId5"/>
          <a:stretch/>
        </p:blipFill>
        <p:spPr>
          <a:xfrm>
            <a:off x="2438280" y="2590920"/>
            <a:ext cx="381024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Классицизм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художественный стиль в западноевропейском искусстве 17 - нач. 19 века и в русском 18 - нач. 19 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3124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Характер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Рационализм, представление о разумной закономерности мира, возвышенные героические и нравственные идеалы, конфликт долга и чув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5" descr="Классицизм"/>
          <p:cNvPicPr/>
          <p:nvPr/>
        </p:nvPicPr>
        <p:blipFill>
          <a:blip r:embed="rId2"/>
          <a:stretch/>
        </p:blipFill>
        <p:spPr>
          <a:xfrm>
            <a:off x="5715000" y="4199040"/>
            <a:ext cx="3429000" cy="26589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6" descr="https://allyslide.com/thumbs/a4490dd0664a8f515caa2418131dfd81/img4.jpg"/>
          <p:cNvPicPr/>
          <p:nvPr/>
        </p:nvPicPr>
        <p:blipFill>
          <a:blip r:embed="rId3"/>
          <a:stretch/>
        </p:blipFill>
        <p:spPr>
          <a:xfrm>
            <a:off x="3429000" y="3124080"/>
            <a:ext cx="2514600" cy="18702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9" descr="http://images.myshared.ru/5/451578/slide_8.jpg"/>
          <p:cNvPicPr/>
          <p:nvPr/>
        </p:nvPicPr>
        <p:blipFill>
          <a:blip r:embed="rId4"/>
          <a:srcRect l="0" t="28302" r="-2980" b="31447"/>
          <a:stretch/>
        </p:blipFill>
        <p:spPr>
          <a:xfrm>
            <a:off x="4419720" y="2135160"/>
            <a:ext cx="4494240" cy="13161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Романтизм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– направление в европейском и русском искусстве 1820-1830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57909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Характерно: острое индивидуальное восприятие и переж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2" descr="http://uslide.ru/images/17/23561/960/img4.jpg"/>
          <p:cNvPicPr/>
          <p:nvPr/>
        </p:nvPicPr>
        <p:blipFill>
          <a:blip r:embed="rId2"/>
          <a:stretch/>
        </p:blipFill>
        <p:spPr>
          <a:xfrm>
            <a:off x="4419720" y="2057400"/>
            <a:ext cx="4038480" cy="3036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Романтизм"/>
          <p:cNvPicPr/>
          <p:nvPr/>
        </p:nvPicPr>
        <p:blipFill>
          <a:blip r:embed="rId3"/>
          <a:stretch/>
        </p:blipFill>
        <p:spPr>
          <a:xfrm>
            <a:off x="2666880" y="3809880"/>
            <a:ext cx="1443240" cy="187344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5" descr="http://lib.podelise.ru/tw_files2/urls_63/11/d-10411/img22.jpg"/>
          <p:cNvPicPr/>
          <p:nvPr/>
        </p:nvPicPr>
        <p:blipFill>
          <a:blip r:embed="rId4"/>
          <a:stretch/>
        </p:blipFill>
        <p:spPr>
          <a:xfrm>
            <a:off x="304920" y="1752480"/>
            <a:ext cx="320040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7760" y="609120"/>
            <a:ext cx="609588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Arial"/>
              </a:rPr>
              <a:t>Реализм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– середина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3733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Характерно: акцент на противоречиях жизни. Утверждение трезвого взгляда на вещ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8" descr="Реализм"/>
          <p:cNvPicPr/>
          <p:nvPr/>
        </p:nvPicPr>
        <p:blipFill>
          <a:blip r:embed="rId2"/>
          <a:stretch/>
        </p:blipFill>
        <p:spPr>
          <a:xfrm>
            <a:off x="6770520" y="1905120"/>
            <a:ext cx="2105280" cy="30477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8" descr="http://zero50x.myjino.ru/allpic/15/11258-img_7.jpg"/>
          <p:cNvPicPr/>
          <p:nvPr/>
        </p:nvPicPr>
        <p:blipFill>
          <a:blip r:embed="rId3"/>
          <a:stretch/>
        </p:blipFill>
        <p:spPr>
          <a:xfrm>
            <a:off x="2133720" y="3219480"/>
            <a:ext cx="434340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anila</dc:creator>
  <dc:description/>
  <dc:language>en-US</dc:language>
  <cp:lastModifiedBy>Danila</cp:lastModifiedBy>
  <dcterms:modified xsi:type="dcterms:W3CDTF">2017-09-24T15:30:3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