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CD83-EB1F-4278-86F3-EE9A8276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A543-6FB4-4F16-9B24-6AC6A36D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A893-F92F-48CE-8AAC-42203D9E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CC5B-D525-4B04-84CD-DCB098F0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B9C4-0AC1-4214-8A67-8F4B1660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5954-C512-4ADD-8B78-14590A40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567B-716E-48A1-931A-D5EA1882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945-7DA9-427E-990E-F108DDEB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A7D-DCDE-4880-94E5-278B94F2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9883-74A8-40D4-8FAD-4AF6242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97B4-1962-4E23-B84D-71E98A7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EBB5-4B70-48EA-8019-301ACB3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BD38-61BA-478F-A46D-7581700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B19-A3D4-45B4-88FF-FE09BF4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3D7-A506-4FB2-8F49-2AF69B31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C7DA-7E74-42C5-9F29-F66876B6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B386-F148-4DA3-9F2B-7A6A01B4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275F-3BF4-43A4-9C2F-10BBCF5E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E3F3-2801-4E05-A0E0-2CAAD94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8290-5767-4756-858B-2E5F3893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6E71-C2C5-471A-825A-7B46332B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3DBE-A69B-49E9-A060-74D1B39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9B97-F149-4858-A272-110E694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592B-0D63-44C7-A4E4-991665D6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BF7F89-D3E7-44C4-81ED-5A1299070CF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E9E83D-9A06-490D-846F-525475C5ED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637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005280" cy="11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2128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3527640" cy="853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н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651640" y="969840"/>
            <a:ext cx="3241440" cy="12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963960" cy="310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3716280"/>
            <a:ext cx="60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ДО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МА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ШН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ИЕ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ЖИ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ТН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Ы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ная пово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36338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-396720" y="5157720"/>
            <a:ext cx="54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Chicago"/>
              </a:rPr>
              <a:t>ПА</a:t>
            </a: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РУ</a:t>
            </a:r>
            <a:r>
              <a:rPr b="1" lang="ru-RU" sz="6600" spc="-1" strike="noStrike">
                <a:solidFill>
                  <a:srgbClr val="006600"/>
                </a:solidFill>
                <a:latin typeface="Chicago"/>
              </a:rPr>
              <a:t>СНЫ</a:t>
            </a: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х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39840" y="5759280"/>
            <a:ext cx="430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РА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БЛ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37160" y="476280"/>
            <a:ext cx="360684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04760" y="4514760"/>
            <a:ext cx="668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ДУ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Ш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НЫ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9999cc"/>
                </a:solidFill>
                <a:latin typeface="Chicago"/>
              </a:rPr>
              <a:t> 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ША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душный ша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0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5720" y="5516640"/>
            <a:ext cx="47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ПА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16720" cy="46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0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57200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0" y="5668920"/>
            <a:ext cx="68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АВ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ТО</a:t>
            </a: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МО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БИ</a:t>
            </a: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Л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24480" y="2276640"/>
            <a:ext cx="4619520" cy="35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360" y="3284640"/>
            <a:ext cx="5453280" cy="275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0320" y="5668920"/>
            <a:ext cx="47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СА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ЛЁ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л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8243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524400" cy="446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3960" y="5430960"/>
            <a:ext cx="338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6600" spc="-1" strike="noStrike">
                <a:solidFill>
                  <a:srgbClr val="006600"/>
                </a:solidFill>
                <a:latin typeface="Chicago"/>
              </a:rPr>
              <a:t>КЕ</a:t>
            </a: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5306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3780000" cy="244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55840" y="2781360"/>
            <a:ext cx="498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ОД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ЛОД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7800" y="5759280"/>
            <a:ext cx="316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МЕ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ТР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8:11:34Z</dcterms:created>
  <dc:creator>Оксана</dc:creator>
  <dc:description>detki.tyumen.ru</dc:description>
  <dc:language>en-US</dc:language>
  <cp:lastModifiedBy>Оксана</cp:lastModifiedBy>
  <dcterms:modified xsi:type="dcterms:W3CDTF">2011-01-25T17:13:46Z</dcterms:modified>
  <cp:revision>3</cp:revision>
  <dc:subject/>
  <dc:title>Слайд 1</dc:title>
</cp:coreProperties>
</file>