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3BCFC-12B9-4328-ABF9-49680C68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72E1-C7E2-4420-A61B-ABC2C7A8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3FE9-9029-42E6-AEC1-1653A7B8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0EE61-6AC9-45AF-B150-D391F5AF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92E8-6903-4858-A2FF-145685BD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AE1B-AD49-459A-8B60-7F2DBCFC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C0C2-00D1-4AD7-BF9C-829D56C9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B098-9804-451C-B8ED-974E718B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6645-CF06-4BA3-A2DD-D4A712CD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6165-4942-4153-9E4D-478CAAE7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1C6E-6C0B-4DE7-84B5-49F91DEF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F58D5-F6C6-4285-BC0F-D39A38EA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9968-8054-45AE-A87E-2B470D4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B9B3-9480-4E50-8DBB-414F8DF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D65A-CBA8-471E-B361-E5B2CE0B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5249-1E27-4E17-B71F-444FB6C03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28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1360" y="198072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28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1360" y="4010040"/>
            <a:ext cx="264924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8694-55F5-4768-84C4-C34C4CF2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65329-C183-45FA-8025-52D153BF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1479-AC25-425A-95E6-4147931F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B27C3-80C2-41E7-A6E6-DF68A773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25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27C99-5E5C-4060-BC5C-5676A3AA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54E42-6770-4184-91C6-5EAD6480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3520" y="401004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323D6-0229-4184-B3A3-E8347847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3520" y="1980720"/>
            <a:ext cx="401508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040"/>
            <a:ext cx="8228160" cy="18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A041-E995-47DF-B92F-91B315B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245280"/>
            <a:ext cx="2894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C233C5-D8FB-479C-8CAD-6EA281258D2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25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E8FB228-E1F0-4831-AED8-7EFF79A6C1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440" y="1828800"/>
            <a:ext cx="601812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68360" y="2637000"/>
            <a:ext cx="8280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r>
              <a:rPr b="1" lang="ru-RU" sz="100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Н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С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ПО</a:t>
            </a:r>
            <a:r>
              <a:rPr b="1" lang="ru-RU" sz="10000" spc="-1" strike="noStrike">
                <a:solidFill>
                  <a:srgbClr val="33cc33"/>
                </a:solidFill>
                <a:latin typeface="Chicago"/>
              </a:rPr>
              <a:t>Р</a:t>
            </a:r>
            <a:r>
              <a:rPr b="1" lang="ru-RU" sz="10000" spc="-1" strike="noStrike">
                <a:solidFill>
                  <a:srgbClr val="006600"/>
                </a:solidFill>
                <a:latin typeface="Chicago"/>
              </a:rPr>
              <a:t>Т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3005280" cy="1141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64000" y="4292640"/>
            <a:ext cx="3221280" cy="1069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5300640"/>
            <a:ext cx="3527640" cy="8539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ранспор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5651640" y="969840"/>
            <a:ext cx="3241440" cy="12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88000" y="404640"/>
            <a:ext cx="3963960" cy="31006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9640" y="3716280"/>
            <a:ext cx="606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ДО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МА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ШН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ИЕ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ЖИ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ВО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ТН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Ы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ная повоз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549360"/>
            <a:ext cx="36338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dur="indefinite" fill="hold">
                      <p:stCondLst>
                        <p:cond delay="0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716360" y="54936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354816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-396720" y="5157720"/>
            <a:ext cx="543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Chicago"/>
              </a:rPr>
              <a:t>ПА</a:t>
            </a: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РУ</a:t>
            </a:r>
            <a:r>
              <a:rPr b="1" lang="ru-RU" sz="6600" spc="-1" strike="noStrike">
                <a:solidFill>
                  <a:srgbClr val="006600"/>
                </a:solidFill>
                <a:latin typeface="Chicago"/>
              </a:rPr>
              <a:t>СНЫ</a:t>
            </a: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х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39840" y="5759280"/>
            <a:ext cx="4301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КО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РА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БЛ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37160" y="476280"/>
            <a:ext cx="3606840" cy="4800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-104760" y="4514760"/>
            <a:ext cx="6688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ВО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З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ДУ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Ш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НЫ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9999cc"/>
                </a:solidFill>
                <a:latin typeface="Chicago"/>
              </a:rPr>
              <a:t> 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ША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Р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здушный ша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0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95720" y="5516640"/>
            <a:ext cx="476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ПА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РО</a:t>
            </a: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ВО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З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416720" cy="46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0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4572000" cy="38876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40" y="5668920"/>
            <a:ext cx="68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АВ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ТО</a:t>
            </a: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МО</a:t>
            </a:r>
            <a:r>
              <a:rPr b="1" lang="ru-RU" sz="7200" spc="-1" strike="noStrike">
                <a:solidFill>
                  <a:srgbClr val="009900"/>
                </a:solidFill>
                <a:latin typeface="Arial"/>
              </a:rPr>
              <a:t>БИ</a:t>
            </a: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ЛЬ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24480" y="2276640"/>
            <a:ext cx="4619520" cy="357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0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360" y="3284640"/>
            <a:ext cx="5453280" cy="2755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0320" y="5668920"/>
            <a:ext cx="47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СА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МО</a:t>
            </a:r>
            <a:r>
              <a:rPr b="1" lang="ru-RU" sz="7200" spc="-1" strike="noStrike">
                <a:solidFill>
                  <a:srgbClr val="009900"/>
                </a:solidFill>
                <a:latin typeface="Chicago"/>
              </a:rPr>
              <a:t>ЛЁ</a:t>
            </a:r>
            <a:r>
              <a:rPr b="1" lang="ru-RU" sz="7200" spc="-1" strike="noStrike">
                <a:solidFill>
                  <a:srgbClr val="006600"/>
                </a:solidFill>
                <a:latin typeface="Chicago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ол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82436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dur="indefinite" fill="hold">
                      <p:stCondLst>
                        <p:cond delay="0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524400" cy="4464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43960" y="5430960"/>
            <a:ext cx="3382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РА</a:t>
            </a:r>
            <a:r>
              <a:rPr b="1" lang="ru-RU" sz="6600" spc="-1" strike="noStrike">
                <a:solidFill>
                  <a:srgbClr val="006600"/>
                </a:solidFill>
                <a:latin typeface="Chicago"/>
              </a:rPr>
              <a:t>КЕ</a:t>
            </a:r>
            <a:r>
              <a:rPr b="1" lang="ru-RU" sz="6600" spc="-1" strike="noStrike">
                <a:solidFill>
                  <a:srgbClr val="009900"/>
                </a:solidFill>
                <a:latin typeface="Chicago"/>
              </a:rPr>
              <a:t>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319840" y="15239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к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5306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932360" y="3716280"/>
            <a:ext cx="3780000" cy="244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155840" y="2781360"/>
            <a:ext cx="498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П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ОД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ЛОД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К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57800" y="5759280"/>
            <a:ext cx="3161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МЕ</a:t>
            </a:r>
            <a:r>
              <a:rPr b="1" lang="ru-RU" sz="6600" spc="-1" strike="noStrike">
                <a:solidFill>
                  <a:srgbClr val="006600"/>
                </a:solidFill>
                <a:latin typeface="Arial"/>
              </a:rPr>
              <a:t>ТР</a:t>
            </a:r>
            <a:r>
              <a:rPr b="1" lang="ru-RU" sz="6600" spc="-1" strike="noStrike">
                <a:solidFill>
                  <a:srgbClr val="009900"/>
                </a:solidFill>
                <a:latin typeface="Arial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dur="indefinite" fill="hold">
                      <p:stCondLst>
                        <p:cond delay="0"/>
                      </p:stCondLst>
                      <p:childTnLst>
                        <p:par>
                          <p:cTn id="1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18:11:34Z</dcterms:created>
  <dc:creator>Оксана</dc:creator>
  <dc:description>detki.tyumen.ru</dc:description>
  <dc:language>en-US</dc:language>
  <cp:lastModifiedBy>Оксана</cp:lastModifiedBy>
  <dcterms:modified xsi:type="dcterms:W3CDTF">2011-01-25T17:13:46Z</dcterms:modified>
  <cp:revision>3</cp:revision>
  <dc:subject/>
  <dc:title>Слайд 1</dc:title>
</cp:coreProperties>
</file>