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gif" ContentType="image/gif"/>
  <Override PartName="/ppt/media/image24.png" ContentType="image/png"/>
  <Override PartName="/ppt/media/image1.gif" ContentType="image/gif"/>
  <Override PartName="/ppt/media/image31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32.gif" ContentType="image/gif"/>
  <Override PartName="/ppt/media/image42.jpeg" ContentType="image/jpeg"/>
  <Override PartName="/ppt/media/image2.png" ContentType="image/png"/>
  <Override PartName="/ppt/media/image3.png" ContentType="image/png"/>
  <Override PartName="/ppt/media/image47.png" ContentType="image/png"/>
  <Override PartName="/ppt/media/image34.gif" ContentType="image/gif"/>
  <Override PartName="/ppt/media/image37.png" ContentType="image/png"/>
  <Override PartName="/ppt/media/image48.jpeg" ContentType="image/jpeg"/>
  <Override PartName="/ppt/media/image40.png" ContentType="image/png"/>
  <Override PartName="/ppt/media/image43.png" ContentType="image/png"/>
  <Override PartName="/ppt/media/image12.png" ContentType="image/png"/>
  <Override PartName="/ppt/media/image49.png" ContentType="image/png"/>
  <Override PartName="/ppt/media/image33.gif" ContentType="image/gif"/>
  <Override PartName="/ppt/media/image9.png" ContentType="image/png"/>
  <Override PartName="/ppt/media/image29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5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28.gif" ContentType="image/gif"/>
  <Override PartName="/ppt/media/image3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E38-B966-4776-8E98-B2C47930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9EC-3BD2-4703-B832-8FF03A5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D03-218C-419B-B218-4D492E83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9BB-D091-42CD-8686-DDA3D1D5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6E5-30A6-468A-9716-0E9E6699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3186-0347-4551-9D72-6AF5A943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970-FA03-4070-ABD0-26BF15AB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3FA-8209-434E-8630-7B924A4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D84-F115-40E5-A8CA-9AD2C4A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0E7E-BEB8-47D7-B46C-F4000FC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AEF-2F9C-42F5-A2AC-358F5386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2B3-3954-40A8-AF8E-7B7AE1E0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8412-680B-4152-8EDF-B5FF849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AC39-E0D7-4B34-8641-026F526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0298-A7ED-4EE4-86B4-079FAEF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A6E-8125-4F2A-ABA4-13A8543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080E-703B-4DCD-B649-312826DE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4E7B-0BF7-4B3A-B79F-2B1729AC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A317-B586-4FE9-9971-D02F138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B651-EF20-4F9F-AA6F-CC34283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8E5F-0F60-416F-92E7-A764371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ABCF-ACFC-403E-8871-FBFD38E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DE5-512B-4C6A-BF49-0DF8C52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388F-9FAD-4FBE-BBA3-2BDDD0DD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A13D-48AB-414A-BD0C-EC8379D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A1D8-F5D2-4BD3-8D4A-F44D434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0AF9-7364-4892-8029-01DBEC5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859A-1479-4DB0-89C0-121C312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A5C8-0BF9-4EAA-BEEB-64871A83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CE00-09F9-4F87-9DCA-E0F28DE6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D7-CD55-4109-8070-611CAE5A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331-80AC-4269-8E5F-69AE9F1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271-A934-4B9E-80D3-9D9DC77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336-FADE-4129-BA43-ABEFCEA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87E-86A9-495A-871F-E0781F4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210-CACA-418B-8F25-C760CFB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1866-44F7-4D9C-8BA0-778AD8D66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BE3-59D1-4A54-9F2E-39542FF78A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8525-7C1B-4ADC-9015-8A38CE83581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1116000" y="907920"/>
            <a:ext cx="71294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тешествие в страну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нфознайка"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12" descr="17"/>
          <p:cNvPicPr/>
          <p:nvPr/>
        </p:nvPicPr>
        <p:blipFill>
          <a:blip r:embed="rId1"/>
          <a:stretch/>
        </p:blipFill>
        <p:spPr>
          <a:xfrm>
            <a:off x="2411280" y="3068640"/>
            <a:ext cx="43214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692360" y="4221000"/>
            <a:ext cx="604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ов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5" descr="A"/>
          <p:cNvPicPr/>
          <p:nvPr/>
        </p:nvPicPr>
        <p:blipFill>
          <a:blip r:embed="rId1"/>
          <a:stretch/>
        </p:blipFill>
        <p:spPr>
          <a:xfrm rot="20844000">
            <a:off x="610920" y="765000"/>
            <a:ext cx="1420560" cy="14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"/>
          <p:cNvPicPr/>
          <p:nvPr/>
        </p:nvPicPr>
        <p:blipFill>
          <a:blip r:embed="rId2"/>
          <a:stretch/>
        </p:blipFill>
        <p:spPr>
          <a:xfrm rot="2100600">
            <a:off x="6948360" y="40428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"/>
          <p:cNvPicPr/>
          <p:nvPr/>
        </p:nvPicPr>
        <p:blipFill>
          <a:blip r:embed="rId3"/>
          <a:stretch/>
        </p:blipFill>
        <p:spPr>
          <a:xfrm>
            <a:off x="3203640" y="40464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M"/>
          <p:cNvPicPr/>
          <p:nvPr/>
        </p:nvPicPr>
        <p:blipFill>
          <a:blip r:embed="rId4"/>
          <a:stretch/>
        </p:blipFill>
        <p:spPr>
          <a:xfrm rot="317400">
            <a:off x="7164360" y="2781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P"/>
          <p:cNvPicPr/>
          <p:nvPr/>
        </p:nvPicPr>
        <p:blipFill>
          <a:blip r:embed="rId5"/>
          <a:stretch/>
        </p:blipFill>
        <p:spPr>
          <a:xfrm rot="1111800">
            <a:off x="223560" y="2870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O"/>
          <p:cNvPicPr/>
          <p:nvPr/>
        </p:nvPicPr>
        <p:blipFill>
          <a:blip r:embed="rId6"/>
          <a:stretch/>
        </p:blipFill>
        <p:spPr>
          <a:xfrm rot="20853000">
            <a:off x="5076720" y="14839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K"/>
          <p:cNvPicPr/>
          <p:nvPr/>
        </p:nvPicPr>
        <p:blipFill>
          <a:blip r:embed="rId7"/>
          <a:stretch/>
        </p:blipFill>
        <p:spPr>
          <a:xfrm>
            <a:off x="3132000" y="2421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826920" y="1557360"/>
            <a:ext cx="7704360" cy="28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Arial"/>
              </a:rPr>
              <a:t>Художествен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242" name="Picture 5" descr="baby06"/>
          <p:cNvPicPr/>
          <p:nvPr/>
        </p:nvPicPr>
        <p:blipFill>
          <a:blip r:embed="rId2"/>
          <a:stretch/>
        </p:blipFill>
        <p:spPr>
          <a:xfrm>
            <a:off x="2627280" y="2924280"/>
            <a:ext cx="37432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9999ff"/>
            </a:gs>
            <a:gs pos="100000">
              <a:srgbClr val="99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rcRect l="6248" t="0" r="8315" b="3485"/>
          <a:stretch/>
        </p:blipFill>
        <p:spPr>
          <a:xfrm>
            <a:off x="755640" y="1773360"/>
            <a:ext cx="2952720" cy="32353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116000" y="544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Ш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3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2920" y="40428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5867280" y="544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И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клавиатура"/>
          <p:cNvPicPr/>
          <p:nvPr/>
        </p:nvPicPr>
        <p:blipFill>
          <a:blip r:embed="rId2"/>
          <a:srcRect l="0" t="12301" r="0" b="18037"/>
          <a:stretch/>
        </p:blipFill>
        <p:spPr>
          <a:xfrm>
            <a:off x="457200" y="1913040"/>
            <a:ext cx="689148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3" descr=""/>
          <p:cNvPicPr/>
          <p:nvPr/>
        </p:nvPicPr>
        <p:blipFill>
          <a:blip r:embed="rId3"/>
          <a:stretch/>
        </p:blipFill>
        <p:spPr>
          <a:xfrm>
            <a:off x="255600" y="3591000"/>
            <a:ext cx="6931080" cy="1279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2223720" y="5972040"/>
            <a:ext cx="28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клави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3" descr=""/>
          <p:cNvPicPr/>
          <p:nvPr/>
        </p:nvPicPr>
        <p:blipFill>
          <a:blip r:embed="rId2"/>
          <a:stretch/>
        </p:blipFill>
        <p:spPr>
          <a:xfrm>
            <a:off x="725400" y="3498840"/>
            <a:ext cx="6675480" cy="1285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2746080" y="5972040"/>
            <a:ext cx="23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интернет"/>
          <p:cNvPicPr/>
          <p:nvPr/>
        </p:nvPicPr>
        <p:blipFill>
          <a:blip r:embed="rId3"/>
          <a:srcRect l="10317" t="10920" r="5796" b="21871"/>
          <a:stretch/>
        </p:blipFill>
        <p:spPr>
          <a:xfrm>
            <a:off x="1940040" y="1817640"/>
            <a:ext cx="5241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3" descr=""/>
          <p:cNvPicPr/>
          <p:nvPr/>
        </p:nvPicPr>
        <p:blipFill>
          <a:blip r:embed="rId2"/>
          <a:stretch/>
        </p:blipFill>
        <p:spPr>
          <a:xfrm>
            <a:off x="725400" y="3498840"/>
            <a:ext cx="7882200" cy="1285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2756520" y="5972040"/>
            <a:ext cx="26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инчес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винчестер"/>
          <p:cNvPicPr/>
          <p:nvPr/>
        </p:nvPicPr>
        <p:blipFill>
          <a:blip r:embed="rId3"/>
          <a:srcRect l="0" t="17331" r="0" b="20460"/>
          <a:stretch/>
        </p:blipFill>
        <p:spPr>
          <a:xfrm>
            <a:off x="1004760" y="1903320"/>
            <a:ext cx="64008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2763000" y="5972040"/>
            <a:ext cx="33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5800" y="1908000"/>
            <a:ext cx="7010280" cy="215280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3" descr=""/>
          <p:cNvPicPr/>
          <p:nvPr/>
        </p:nvPicPr>
        <p:blipFill>
          <a:blip r:embed="rId3"/>
          <a:stretch/>
        </p:blipFill>
        <p:spPr>
          <a:xfrm>
            <a:off x="208080" y="3498840"/>
            <a:ext cx="8429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2748960" y="597204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од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3" descr=""/>
          <p:cNvPicPr/>
          <p:nvPr/>
        </p:nvPicPr>
        <p:blipFill>
          <a:blip r:embed="rId2"/>
          <a:stretch/>
        </p:blipFill>
        <p:spPr>
          <a:xfrm>
            <a:off x="2084400" y="3359160"/>
            <a:ext cx="4681440" cy="12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модем"/>
          <p:cNvPicPr/>
          <p:nvPr/>
        </p:nvPicPr>
        <p:blipFill>
          <a:blip r:embed="rId3"/>
          <a:srcRect l="2761" t="14186" r="-2755" b="7989"/>
          <a:stretch/>
        </p:blipFill>
        <p:spPr>
          <a:xfrm>
            <a:off x="1258920" y="1695600"/>
            <a:ext cx="5181480" cy="1860480"/>
          </a:xfrm>
          <a:prstGeom prst="rect">
            <a:avLst/>
          </a:prstGeom>
          <a:ln w="0">
            <a:noFill/>
          </a:ln>
        </p:spPr>
      </p:pic>
      <p:sp>
        <p:nvSpPr>
          <p:cNvPr id="272" name="Выгнутая вправо стрелка 2"/>
          <p:cNvSpPr/>
          <p:nvPr/>
        </p:nvSpPr>
        <p:spPr>
          <a:xfrm rot="5400000">
            <a:off x="2706840" y="4100400"/>
            <a:ext cx="357120" cy="1046160"/>
          </a:xfrm>
          <a:custGeom>
            <a:avLst/>
            <a:gdLst>
              <a:gd name="textAreaLeft" fmla="*/ 47880 w 357120"/>
              <a:gd name="textAreaRight" fmla="*/ 309240 w 357120"/>
              <a:gd name="textAreaTop" fmla="*/ 227880 h 1046160"/>
              <a:gd name="textAreaBottom" fmla="*/ 77364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8" stAng="-5400000" swAng="5400000"/>
                <a:lnTo>
                  <a:pt x="21600" y="11261"/>
                </a:lnTo>
                <a:arcTo wR="21600" hR="9418" stAng="0" swAng="3561945"/>
                <a:lnTo>
                  <a:pt x="5400" y="21301"/>
                </a:lnTo>
                <a:lnTo>
                  <a:pt x="0" y="19757"/>
                </a:lnTo>
                <a:lnTo>
                  <a:pt x="5400" y="17614"/>
                </a:lnTo>
                <a:lnTo>
                  <a:pt x="5400" y="18536"/>
                </a:lnTo>
                <a:arcTo wR="21600" hR="9418" stAng="3561945" swAng="-3414666"/>
                <a:lnTo>
                  <a:pt x="21496" y="10339"/>
                </a:lnTo>
                <a:arcTo wR="21600" hR="9418" stAng="-147278" swAng="-5252722"/>
                <a:close/>
              </a:path>
              <a:path fill="darkenLess" w="21600" h="21600">
                <a:moveTo>
                  <a:pt x="0" y="0"/>
                </a:moveTo>
                <a:arcTo wR="21600" hR="9418" stAng="-5400000" swAng="5400000"/>
                <a:lnTo>
                  <a:pt x="21600" y="11261"/>
                </a:lnTo>
                <a:arcTo wR="21600" hR="9418" stAng="0" swAng="-147278"/>
                <a:lnTo>
                  <a:pt x="21496" y="10339"/>
                </a:lnTo>
                <a:arcTo wR="21600" hR="9418" stAng="-147278" swAng="-5252722"/>
                <a:close/>
              </a:path>
            </a:pathLst>
          </a:cu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2903760" y="5972040"/>
            <a:ext cx="18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TextBox 3" descr=""/>
          <p:cNvPicPr/>
          <p:nvPr/>
        </p:nvPicPr>
        <p:blipFill>
          <a:blip r:embed="rId2"/>
          <a:stretch/>
        </p:blipFill>
        <p:spPr>
          <a:xfrm>
            <a:off x="2048040" y="3468600"/>
            <a:ext cx="8431200" cy="128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сервер"/>
          <p:cNvPicPr/>
          <p:nvPr/>
        </p:nvPicPr>
        <p:blipFill>
          <a:blip r:embed="rId3"/>
          <a:srcRect l="0" t="11474" r="0" b="16247"/>
          <a:stretch/>
        </p:blipFill>
        <p:spPr>
          <a:xfrm>
            <a:off x="1463760" y="1889280"/>
            <a:ext cx="5715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9"/>
          <p:cNvSpPr txBox="1"/>
          <p:nvPr/>
        </p:nvSpPr>
        <p:spPr>
          <a:xfrm>
            <a:off x="684360" y="404640"/>
            <a:ext cx="734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пьютерная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>
            <a:off x="-108000" y="141300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1476360" y="3645000"/>
            <a:ext cx="70866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a000"/>
                </a:solidFill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писать каждое устройство и подключить все устройства с помощью «проводов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"/>
          <p:cNvPicPr/>
          <p:nvPr/>
        </p:nvPicPr>
        <p:blipFill>
          <a:blip r:embed="rId2"/>
          <a:srcRect l="0" t="1966" r="916" b="7849"/>
          <a:stretch/>
        </p:blipFill>
        <p:spPr>
          <a:xfrm>
            <a:off x="98280" y="1268280"/>
            <a:ext cx="8958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69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для записи заглавных букв и знаков над цифрам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для перехода на новую строку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удаление символа слева от курсор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удаление  символа справа от курсор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чать только заглавных букв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ревод курсора в начало строк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ревод курсора в конец строк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ыход из текущего режим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-152280" y="2084400"/>
            <a:ext cx="4143240" cy="41432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3"/>
          <a:stretch/>
        </p:blipFill>
        <p:spPr>
          <a:xfrm>
            <a:off x="4925880" y="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"/>
          <p:cNvPicPr/>
          <p:nvPr/>
        </p:nvPicPr>
        <p:blipFill>
          <a:blip r:embed="rId4"/>
          <a:stretch/>
        </p:blipFill>
        <p:spPr>
          <a:xfrm>
            <a:off x="3497400" y="3924360"/>
            <a:ext cx="412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"/>
          <p:cNvPicPr/>
          <p:nvPr/>
        </p:nvPicPr>
        <p:blipFill>
          <a:blip r:embed="rId5"/>
          <a:stretch/>
        </p:blipFill>
        <p:spPr>
          <a:xfrm>
            <a:off x="7669080" y="4065480"/>
            <a:ext cx="930240" cy="8874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"/>
          <p:cNvPicPr/>
          <p:nvPr/>
        </p:nvPicPr>
        <p:blipFill>
          <a:blip r:embed="rId6"/>
          <a:stretch/>
        </p:blipFill>
        <p:spPr>
          <a:xfrm>
            <a:off x="1447920" y="246240"/>
            <a:ext cx="2630520" cy="19540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6" descr=""/>
          <p:cNvPicPr/>
          <p:nvPr/>
        </p:nvPicPr>
        <p:blipFill>
          <a:blip r:embed="rId7"/>
          <a:stretch/>
        </p:blipFill>
        <p:spPr>
          <a:xfrm>
            <a:off x="311040" y="5572080"/>
            <a:ext cx="3218040" cy="15717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7" descr=""/>
          <p:cNvPicPr/>
          <p:nvPr/>
        </p:nvPicPr>
        <p:blipFill>
          <a:blip r:embed="rId8"/>
          <a:stretch/>
        </p:blipFill>
        <p:spPr>
          <a:xfrm>
            <a:off x="5479920" y="1030320"/>
            <a:ext cx="2530440" cy="1401840"/>
          </a:xfrm>
          <a:prstGeom prst="rect">
            <a:avLst/>
          </a:prstGeom>
          <a:ln w="0">
            <a:noFill/>
          </a:ln>
        </p:spPr>
      </p:pic>
      <p:sp>
        <p:nvSpPr>
          <p:cNvPr id="206" name="Полилиния 8"/>
          <p:cNvSpPr/>
          <p:nvPr/>
        </p:nvSpPr>
        <p:spPr>
          <a:xfrm>
            <a:off x="3475080" y="2695680"/>
            <a:ext cx="2049480" cy="1357200"/>
          </a:xfrm>
          <a:custGeom>
            <a:avLst/>
            <a:gdLst/>
            <a:ahLst/>
            <a:rect l="l" t="t" r="r" b="b"/>
            <a:pathLst>
              <a:path w="2050181" h="1357162">
                <a:moveTo>
                  <a:pt x="2050181" y="0"/>
                </a:moveTo>
                <a:cubicBezTo>
                  <a:pt x="2034139" y="12834"/>
                  <a:pt x="2019149" y="27105"/>
                  <a:pt x="2002055" y="38501"/>
                </a:cubicBezTo>
                <a:cubicBezTo>
                  <a:pt x="1966354" y="62302"/>
                  <a:pt x="1947538" y="59612"/>
                  <a:pt x="1905802" y="77002"/>
                </a:cubicBezTo>
                <a:cubicBezTo>
                  <a:pt x="1813899" y="115295"/>
                  <a:pt x="1881648" y="93892"/>
                  <a:pt x="1799924" y="134753"/>
                </a:cubicBezTo>
                <a:cubicBezTo>
                  <a:pt x="1790849" y="139290"/>
                  <a:pt x="1780123" y="139841"/>
                  <a:pt x="1771048" y="144379"/>
                </a:cubicBezTo>
                <a:cubicBezTo>
                  <a:pt x="1760701" y="149552"/>
                  <a:pt x="1751586" y="156905"/>
                  <a:pt x="1742173" y="163629"/>
                </a:cubicBezTo>
                <a:cubicBezTo>
                  <a:pt x="1698957" y="194498"/>
                  <a:pt x="1709776" y="186401"/>
                  <a:pt x="1674796" y="221381"/>
                </a:cubicBezTo>
                <a:cubicBezTo>
                  <a:pt x="1686211" y="404024"/>
                  <a:pt x="1661419" y="329382"/>
                  <a:pt x="1722922" y="452387"/>
                </a:cubicBezTo>
                <a:cubicBezTo>
                  <a:pt x="1751250" y="509042"/>
                  <a:pt x="1737634" y="477270"/>
                  <a:pt x="1761423" y="548640"/>
                </a:cubicBezTo>
                <a:lnTo>
                  <a:pt x="1771048" y="577515"/>
                </a:lnTo>
                <a:cubicBezTo>
                  <a:pt x="1767840" y="596766"/>
                  <a:pt x="1772249" y="619028"/>
                  <a:pt x="1761423" y="635267"/>
                </a:cubicBezTo>
                <a:cubicBezTo>
                  <a:pt x="1751046" y="650833"/>
                  <a:pt x="1729080" y="654099"/>
                  <a:pt x="1713297" y="664143"/>
                </a:cubicBezTo>
                <a:cubicBezTo>
                  <a:pt x="1693778" y="676564"/>
                  <a:pt x="1678232" y="698107"/>
                  <a:pt x="1655545" y="702644"/>
                </a:cubicBezTo>
                <a:cubicBezTo>
                  <a:pt x="1639503" y="705852"/>
                  <a:pt x="1623290" y="708301"/>
                  <a:pt x="1607419" y="712269"/>
                </a:cubicBezTo>
                <a:cubicBezTo>
                  <a:pt x="1597576" y="714730"/>
                  <a:pt x="1588386" y="719433"/>
                  <a:pt x="1578543" y="721894"/>
                </a:cubicBezTo>
                <a:cubicBezTo>
                  <a:pt x="1562672" y="725862"/>
                  <a:pt x="1546087" y="726819"/>
                  <a:pt x="1530417" y="731520"/>
                </a:cubicBezTo>
                <a:cubicBezTo>
                  <a:pt x="1513868" y="736485"/>
                  <a:pt x="1499306" y="747767"/>
                  <a:pt x="1482291" y="750770"/>
                </a:cubicBezTo>
                <a:cubicBezTo>
                  <a:pt x="1444244" y="757484"/>
                  <a:pt x="1405288" y="757187"/>
                  <a:pt x="1366787" y="760395"/>
                </a:cubicBezTo>
                <a:cubicBezTo>
                  <a:pt x="1353953" y="763604"/>
                  <a:pt x="1341258" y="767427"/>
                  <a:pt x="1328286" y="770021"/>
                </a:cubicBezTo>
                <a:cubicBezTo>
                  <a:pt x="1173846" y="800910"/>
                  <a:pt x="1118300" y="775743"/>
                  <a:pt x="895149" y="770021"/>
                </a:cubicBezTo>
                <a:cubicBezTo>
                  <a:pt x="881529" y="765480"/>
                  <a:pt x="839864" y="750770"/>
                  <a:pt x="827773" y="750770"/>
                </a:cubicBezTo>
                <a:cubicBezTo>
                  <a:pt x="805086" y="750770"/>
                  <a:pt x="782855" y="757187"/>
                  <a:pt x="760396" y="760395"/>
                </a:cubicBezTo>
                <a:cubicBezTo>
                  <a:pt x="661610" y="834485"/>
                  <a:pt x="706085" y="795457"/>
                  <a:pt x="625642" y="875899"/>
                </a:cubicBezTo>
                <a:lnTo>
                  <a:pt x="567891" y="933650"/>
                </a:lnTo>
                <a:cubicBezTo>
                  <a:pt x="539741" y="975874"/>
                  <a:pt x="555581" y="953271"/>
                  <a:pt x="519764" y="1001027"/>
                </a:cubicBezTo>
                <a:cubicBezTo>
                  <a:pt x="501530" y="1055731"/>
                  <a:pt x="517314" y="1022727"/>
                  <a:pt x="452387" y="1087654"/>
                </a:cubicBezTo>
                <a:cubicBezTo>
                  <a:pt x="429628" y="1110413"/>
                  <a:pt x="413825" y="1128941"/>
                  <a:pt x="385011" y="1145406"/>
                </a:cubicBezTo>
                <a:cubicBezTo>
                  <a:pt x="376202" y="1150440"/>
                  <a:pt x="365760" y="1151823"/>
                  <a:pt x="356135" y="1155031"/>
                </a:cubicBezTo>
                <a:cubicBezTo>
                  <a:pt x="214870" y="1249207"/>
                  <a:pt x="363465" y="1153593"/>
                  <a:pt x="259882" y="1212783"/>
                </a:cubicBezTo>
                <a:cubicBezTo>
                  <a:pt x="207638" y="1242637"/>
                  <a:pt x="255071" y="1224010"/>
                  <a:pt x="202131" y="1241659"/>
                </a:cubicBezTo>
                <a:cubicBezTo>
                  <a:pt x="75821" y="1336387"/>
                  <a:pt x="229248" y="1227662"/>
                  <a:pt x="134754" y="1280160"/>
                </a:cubicBezTo>
                <a:cubicBezTo>
                  <a:pt x="114529" y="1291396"/>
                  <a:pt x="96253" y="1305827"/>
                  <a:pt x="77002" y="1318661"/>
                </a:cubicBezTo>
                <a:lnTo>
                  <a:pt x="48126" y="1337911"/>
                </a:lnTo>
                <a:cubicBezTo>
                  <a:pt x="38501" y="1344328"/>
                  <a:pt x="30819" y="1357162"/>
                  <a:pt x="19251" y="1357162"/>
                </a:cubicBezTo>
                <a:lnTo>
                  <a:pt x="0" y="1357162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9" descr=""/>
          <p:cNvPicPr/>
          <p:nvPr/>
        </p:nvPicPr>
        <p:blipFill>
          <a:blip r:embed="rId9"/>
          <a:stretch/>
        </p:blipFill>
        <p:spPr>
          <a:xfrm>
            <a:off x="4516560" y="5364000"/>
            <a:ext cx="2957400" cy="1360800"/>
          </a:xfrm>
          <a:prstGeom prst="rect">
            <a:avLst/>
          </a:prstGeom>
          <a:ln w="0">
            <a:noFill/>
          </a:ln>
        </p:spPr>
      </p:pic>
      <p:sp>
        <p:nvSpPr>
          <p:cNvPr id="208" name="Полилиния 10"/>
          <p:cNvSpPr/>
          <p:nvPr/>
        </p:nvSpPr>
        <p:spPr>
          <a:xfrm>
            <a:off x="3484440" y="3927600"/>
            <a:ext cx="2406600" cy="191880"/>
          </a:xfrm>
          <a:custGeom>
            <a:avLst/>
            <a:gdLst/>
            <a:ahLst/>
            <a:rect l="l" t="t" r="r" b="b"/>
            <a:pathLst>
              <a:path w="2406316" h="192506">
                <a:moveTo>
                  <a:pt x="2406316" y="192506"/>
                </a:moveTo>
                <a:cubicBezTo>
                  <a:pt x="2390274" y="182881"/>
                  <a:pt x="2373156" y="174855"/>
                  <a:pt x="2358190" y="163630"/>
                </a:cubicBezTo>
                <a:cubicBezTo>
                  <a:pt x="2325217" y="138900"/>
                  <a:pt x="2337170" y="131830"/>
                  <a:pt x="2300438" y="115504"/>
                </a:cubicBezTo>
                <a:cubicBezTo>
                  <a:pt x="2281895" y="107263"/>
                  <a:pt x="2261937" y="102670"/>
                  <a:pt x="2242687" y="96253"/>
                </a:cubicBezTo>
                <a:lnTo>
                  <a:pt x="2156059" y="67377"/>
                </a:lnTo>
                <a:lnTo>
                  <a:pt x="2127183" y="57752"/>
                </a:lnTo>
                <a:cubicBezTo>
                  <a:pt x="2075848" y="60960"/>
                  <a:pt x="2023984" y="59355"/>
                  <a:pt x="1973179" y="67377"/>
                </a:cubicBezTo>
                <a:cubicBezTo>
                  <a:pt x="1961752" y="69181"/>
                  <a:pt x="1954936" y="82071"/>
                  <a:pt x="1944303" y="86628"/>
                </a:cubicBezTo>
                <a:cubicBezTo>
                  <a:pt x="1932144" y="91839"/>
                  <a:pt x="1918636" y="93045"/>
                  <a:pt x="1905802" y="96253"/>
                </a:cubicBezTo>
                <a:cubicBezTo>
                  <a:pt x="1844982" y="48948"/>
                  <a:pt x="1837330" y="33907"/>
                  <a:pt x="1780674" y="9626"/>
                </a:cubicBezTo>
                <a:cubicBezTo>
                  <a:pt x="1771348" y="5629"/>
                  <a:pt x="1761423" y="3209"/>
                  <a:pt x="1751798" y="0"/>
                </a:cubicBezTo>
                <a:cubicBezTo>
                  <a:pt x="1734822" y="2122"/>
                  <a:pt x="1662480" y="8029"/>
                  <a:pt x="1636295" y="19251"/>
                </a:cubicBezTo>
                <a:cubicBezTo>
                  <a:pt x="1625662" y="23808"/>
                  <a:pt x="1616832" y="31777"/>
                  <a:pt x="1607419" y="38501"/>
                </a:cubicBezTo>
                <a:cubicBezTo>
                  <a:pt x="1594365" y="47825"/>
                  <a:pt x="1583994" y="61895"/>
                  <a:pt x="1568918" y="67377"/>
                </a:cubicBezTo>
                <a:cubicBezTo>
                  <a:pt x="1547597" y="75130"/>
                  <a:pt x="1524000" y="73794"/>
                  <a:pt x="1501541" y="77002"/>
                </a:cubicBezTo>
                <a:cubicBezTo>
                  <a:pt x="1491916" y="80211"/>
                  <a:pt x="1482812" y="86628"/>
                  <a:pt x="1472666" y="86628"/>
                </a:cubicBezTo>
                <a:cubicBezTo>
                  <a:pt x="1327643" y="86628"/>
                  <a:pt x="1346047" y="88661"/>
                  <a:pt x="1260910" y="67377"/>
                </a:cubicBezTo>
                <a:cubicBezTo>
                  <a:pt x="1251285" y="57752"/>
                  <a:pt x="1245427" y="40936"/>
                  <a:pt x="1232034" y="38501"/>
                </a:cubicBezTo>
                <a:cubicBezTo>
                  <a:pt x="1121712" y="18443"/>
                  <a:pt x="1183542" y="73439"/>
                  <a:pt x="1078030" y="86628"/>
                </a:cubicBezTo>
                <a:cubicBezTo>
                  <a:pt x="972199" y="99857"/>
                  <a:pt x="1026737" y="93397"/>
                  <a:pt x="914400" y="105878"/>
                </a:cubicBezTo>
                <a:cubicBezTo>
                  <a:pt x="830981" y="102670"/>
                  <a:pt x="747450" y="101628"/>
                  <a:pt x="664143" y="96253"/>
                </a:cubicBezTo>
                <a:cubicBezTo>
                  <a:pt x="627105" y="93863"/>
                  <a:pt x="608585" y="85130"/>
                  <a:pt x="577516" y="67377"/>
                </a:cubicBezTo>
                <a:cubicBezTo>
                  <a:pt x="567472" y="61638"/>
                  <a:pt x="557527" y="55533"/>
                  <a:pt x="548640" y="48127"/>
                </a:cubicBezTo>
                <a:cubicBezTo>
                  <a:pt x="538183" y="39413"/>
                  <a:pt x="530841" y="27163"/>
                  <a:pt x="519764" y="19251"/>
                </a:cubicBezTo>
                <a:cubicBezTo>
                  <a:pt x="508088" y="10911"/>
                  <a:pt x="494097" y="6417"/>
                  <a:pt x="481263" y="0"/>
                </a:cubicBezTo>
                <a:cubicBezTo>
                  <a:pt x="464348" y="50747"/>
                  <a:pt x="482818" y="9684"/>
                  <a:pt x="442762" y="57752"/>
                </a:cubicBezTo>
                <a:cubicBezTo>
                  <a:pt x="435356" y="66639"/>
                  <a:pt x="432399" y="79222"/>
                  <a:pt x="423512" y="86628"/>
                </a:cubicBezTo>
                <a:cubicBezTo>
                  <a:pt x="366610" y="134047"/>
                  <a:pt x="202219" y="114583"/>
                  <a:pt x="182880" y="115504"/>
                </a:cubicBezTo>
                <a:cubicBezTo>
                  <a:pt x="162311" y="122360"/>
                  <a:pt x="136653" y="131733"/>
                  <a:pt x="115503" y="134754"/>
                </a:cubicBezTo>
                <a:cubicBezTo>
                  <a:pt x="43657" y="145018"/>
                  <a:pt x="45367" y="144379"/>
                  <a:pt x="0" y="144379"/>
                </a:cubicBez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11" descr=""/>
          <p:cNvPicPr/>
          <p:nvPr/>
        </p:nvPicPr>
        <p:blipFill>
          <a:blip r:embed="rId10"/>
          <a:stretch/>
        </p:blipFill>
        <p:spPr>
          <a:xfrm>
            <a:off x="7070760" y="2975040"/>
            <a:ext cx="196380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12"/>
          <p:cNvSpPr/>
          <p:nvPr/>
        </p:nvSpPr>
        <p:spPr>
          <a:xfrm>
            <a:off x="3446640" y="3570120"/>
            <a:ext cx="4292280" cy="597240"/>
          </a:xfrm>
          <a:custGeom>
            <a:avLst/>
            <a:gdLst/>
            <a:ahLst/>
            <a:rect l="l" t="t" r="r" b="b"/>
            <a:pathLst>
              <a:path w="4292868" h="596766">
                <a:moveTo>
                  <a:pt x="4292868" y="596766"/>
                </a:moveTo>
                <a:cubicBezTo>
                  <a:pt x="4291211" y="594004"/>
                  <a:pt x="4253858" y="530021"/>
                  <a:pt x="4244741" y="519764"/>
                </a:cubicBezTo>
                <a:cubicBezTo>
                  <a:pt x="4226654" y="499416"/>
                  <a:pt x="4202092" y="484664"/>
                  <a:pt x="4186990" y="462012"/>
                </a:cubicBezTo>
                <a:cubicBezTo>
                  <a:pt x="4180573" y="452387"/>
                  <a:pt x="4175919" y="441316"/>
                  <a:pt x="4167739" y="433136"/>
                </a:cubicBezTo>
                <a:cubicBezTo>
                  <a:pt x="4128564" y="393962"/>
                  <a:pt x="4138287" y="432751"/>
                  <a:pt x="4081112" y="394635"/>
                </a:cubicBezTo>
                <a:cubicBezTo>
                  <a:pt x="4071487" y="388218"/>
                  <a:pt x="4062739" y="380233"/>
                  <a:pt x="4052236" y="375385"/>
                </a:cubicBezTo>
                <a:cubicBezTo>
                  <a:pt x="3997285" y="350023"/>
                  <a:pt x="3973874" y="342848"/>
                  <a:pt x="3927108" y="327259"/>
                </a:cubicBezTo>
                <a:cubicBezTo>
                  <a:pt x="3917483" y="320842"/>
                  <a:pt x="3909207" y="311666"/>
                  <a:pt x="3898232" y="308008"/>
                </a:cubicBezTo>
                <a:cubicBezTo>
                  <a:pt x="3816034" y="280609"/>
                  <a:pt x="3863601" y="319567"/>
                  <a:pt x="3782729" y="279132"/>
                </a:cubicBezTo>
                <a:cubicBezTo>
                  <a:pt x="3769895" y="272715"/>
                  <a:pt x="3757550" y="265211"/>
                  <a:pt x="3744228" y="259882"/>
                </a:cubicBezTo>
                <a:cubicBezTo>
                  <a:pt x="3725387" y="252346"/>
                  <a:pt x="3704626" y="249706"/>
                  <a:pt x="3686476" y="240631"/>
                </a:cubicBezTo>
                <a:cubicBezTo>
                  <a:pt x="3629826" y="212307"/>
                  <a:pt x="3661586" y="225918"/>
                  <a:pt x="3590223" y="202130"/>
                </a:cubicBezTo>
                <a:cubicBezTo>
                  <a:pt x="3580598" y="198922"/>
                  <a:pt x="3571191" y="194966"/>
                  <a:pt x="3561348" y="192505"/>
                </a:cubicBezTo>
                <a:cubicBezTo>
                  <a:pt x="3535680" y="186088"/>
                  <a:pt x="3509445" y="181621"/>
                  <a:pt x="3484345" y="173254"/>
                </a:cubicBezTo>
                <a:cubicBezTo>
                  <a:pt x="3462782" y="166066"/>
                  <a:pt x="3439415" y="157457"/>
                  <a:pt x="3416969" y="154004"/>
                </a:cubicBezTo>
                <a:cubicBezTo>
                  <a:pt x="3388253" y="149586"/>
                  <a:pt x="3359217" y="147587"/>
                  <a:pt x="3330341" y="144379"/>
                </a:cubicBezTo>
                <a:lnTo>
                  <a:pt x="3214838" y="115503"/>
                </a:lnTo>
                <a:cubicBezTo>
                  <a:pt x="3202004" y="112295"/>
                  <a:pt x="3188887" y="110062"/>
                  <a:pt x="3176337" y="105878"/>
                </a:cubicBezTo>
                <a:cubicBezTo>
                  <a:pt x="3166712" y="102669"/>
                  <a:pt x="3157453" y="98015"/>
                  <a:pt x="3147461" y="96252"/>
                </a:cubicBezTo>
                <a:cubicBezTo>
                  <a:pt x="3102778" y="88367"/>
                  <a:pt x="3056727" y="88008"/>
                  <a:pt x="3012708" y="77002"/>
                </a:cubicBezTo>
                <a:cubicBezTo>
                  <a:pt x="2999874" y="73793"/>
                  <a:pt x="2987320" y="69124"/>
                  <a:pt x="2974207" y="67376"/>
                </a:cubicBezTo>
                <a:cubicBezTo>
                  <a:pt x="2861915" y="52403"/>
                  <a:pt x="2893053" y="64871"/>
                  <a:pt x="2800952" y="48126"/>
                </a:cubicBezTo>
                <a:cubicBezTo>
                  <a:pt x="2787937" y="45760"/>
                  <a:pt x="2775526" y="40513"/>
                  <a:pt x="2762451" y="38501"/>
                </a:cubicBezTo>
                <a:cubicBezTo>
                  <a:pt x="2733735" y="34083"/>
                  <a:pt x="2704585" y="32984"/>
                  <a:pt x="2675823" y="28875"/>
                </a:cubicBezTo>
                <a:cubicBezTo>
                  <a:pt x="2659628" y="26561"/>
                  <a:pt x="2643667" y="22799"/>
                  <a:pt x="2627697" y="19250"/>
                </a:cubicBezTo>
                <a:cubicBezTo>
                  <a:pt x="2614783" y="16380"/>
                  <a:pt x="2602334" y="11171"/>
                  <a:pt x="2589196" y="9625"/>
                </a:cubicBezTo>
                <a:cubicBezTo>
                  <a:pt x="2547650" y="4737"/>
                  <a:pt x="2505777" y="3208"/>
                  <a:pt x="2464068" y="0"/>
                </a:cubicBezTo>
                <a:lnTo>
                  <a:pt x="1337912" y="9625"/>
                </a:lnTo>
                <a:cubicBezTo>
                  <a:pt x="1315228" y="9991"/>
                  <a:pt x="1293067" y="16599"/>
                  <a:pt x="1270535" y="19250"/>
                </a:cubicBezTo>
                <a:cubicBezTo>
                  <a:pt x="1238511" y="23017"/>
                  <a:pt x="1206486" y="27265"/>
                  <a:pt x="1174282" y="28875"/>
                </a:cubicBezTo>
                <a:cubicBezTo>
                  <a:pt x="1078096" y="33684"/>
                  <a:pt x="981777" y="35292"/>
                  <a:pt x="885524" y="38501"/>
                </a:cubicBezTo>
                <a:cubicBezTo>
                  <a:pt x="869482" y="41709"/>
                  <a:pt x="853269" y="44158"/>
                  <a:pt x="837398" y="48126"/>
                </a:cubicBezTo>
                <a:cubicBezTo>
                  <a:pt x="827555" y="50587"/>
                  <a:pt x="818471" y="55761"/>
                  <a:pt x="808522" y="57751"/>
                </a:cubicBezTo>
                <a:cubicBezTo>
                  <a:pt x="786276" y="62200"/>
                  <a:pt x="763604" y="64168"/>
                  <a:pt x="741145" y="67376"/>
                </a:cubicBezTo>
                <a:lnTo>
                  <a:pt x="683394" y="86627"/>
                </a:lnTo>
                <a:lnTo>
                  <a:pt x="654518" y="96252"/>
                </a:lnTo>
                <a:cubicBezTo>
                  <a:pt x="644893" y="102669"/>
                  <a:pt x="636213" y="110805"/>
                  <a:pt x="625642" y="115503"/>
                </a:cubicBezTo>
                <a:cubicBezTo>
                  <a:pt x="512179" y="165931"/>
                  <a:pt x="376892" y="140722"/>
                  <a:pt x="259882" y="144379"/>
                </a:cubicBezTo>
                <a:cubicBezTo>
                  <a:pt x="237423" y="147587"/>
                  <a:pt x="214611" y="148903"/>
                  <a:pt x="192505" y="154004"/>
                </a:cubicBezTo>
                <a:cubicBezTo>
                  <a:pt x="172733" y="158567"/>
                  <a:pt x="134754" y="173254"/>
                  <a:pt x="134754" y="173254"/>
                </a:cubicBezTo>
                <a:cubicBezTo>
                  <a:pt x="125129" y="179671"/>
                  <a:pt x="114058" y="184325"/>
                  <a:pt x="105878" y="192505"/>
                </a:cubicBezTo>
                <a:cubicBezTo>
                  <a:pt x="97698" y="200685"/>
                  <a:pt x="96438" y="215250"/>
                  <a:pt x="86628" y="221381"/>
                </a:cubicBezTo>
                <a:cubicBezTo>
                  <a:pt x="69420" y="232136"/>
                  <a:pt x="48127" y="234214"/>
                  <a:pt x="28876" y="240631"/>
                </a:cubicBezTo>
                <a:lnTo>
                  <a:pt x="0" y="250256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3" descr=""/>
          <p:cNvPicPr/>
          <p:nvPr/>
        </p:nvPicPr>
        <p:blipFill>
          <a:blip r:embed="rId11"/>
          <a:stretch/>
        </p:blipFill>
        <p:spPr>
          <a:xfrm>
            <a:off x="55440" y="384120"/>
            <a:ext cx="2206800" cy="914400"/>
          </a:xfrm>
          <a:prstGeom prst="rect">
            <a:avLst/>
          </a:prstGeom>
          <a:ln w="0">
            <a:noFill/>
          </a:ln>
        </p:spPr>
      </p:pic>
      <p:sp>
        <p:nvSpPr>
          <p:cNvPr id="212" name="Полилиния 14"/>
          <p:cNvSpPr/>
          <p:nvPr/>
        </p:nvSpPr>
        <p:spPr>
          <a:xfrm>
            <a:off x="3465360" y="1155600"/>
            <a:ext cx="876600" cy="2579760"/>
          </a:xfrm>
          <a:custGeom>
            <a:avLst/>
            <a:gdLst/>
            <a:ahLst/>
            <a:rect l="l" t="t" r="r" b="b"/>
            <a:pathLst>
              <a:path w="875951" h="2579570">
                <a:moveTo>
                  <a:pt x="539014" y="0"/>
                </a:moveTo>
                <a:cubicBezTo>
                  <a:pt x="660347" y="40443"/>
                  <a:pt x="537745" y="-1679"/>
                  <a:pt x="644892" y="38501"/>
                </a:cubicBezTo>
                <a:cubicBezTo>
                  <a:pt x="654392" y="42064"/>
                  <a:pt x="664693" y="43589"/>
                  <a:pt x="673768" y="48126"/>
                </a:cubicBezTo>
                <a:cubicBezTo>
                  <a:pt x="690501" y="56493"/>
                  <a:pt x="706111" y="66958"/>
                  <a:pt x="721894" y="77002"/>
                </a:cubicBezTo>
                <a:cubicBezTo>
                  <a:pt x="741413" y="89423"/>
                  <a:pt x="763286" y="99143"/>
                  <a:pt x="779646" y="115503"/>
                </a:cubicBezTo>
                <a:lnTo>
                  <a:pt x="847023" y="182880"/>
                </a:lnTo>
                <a:cubicBezTo>
                  <a:pt x="850231" y="192505"/>
                  <a:pt x="853086" y="202255"/>
                  <a:pt x="856648" y="211755"/>
                </a:cubicBezTo>
                <a:cubicBezTo>
                  <a:pt x="862715" y="227933"/>
                  <a:pt x="875899" y="242604"/>
                  <a:pt x="875899" y="259882"/>
                </a:cubicBezTo>
                <a:cubicBezTo>
                  <a:pt x="875899" y="333954"/>
                  <a:pt x="877933" y="410315"/>
                  <a:pt x="856648" y="481263"/>
                </a:cubicBezTo>
                <a:cubicBezTo>
                  <a:pt x="852247" y="495934"/>
                  <a:pt x="789783" y="553197"/>
                  <a:pt x="760396" y="567890"/>
                </a:cubicBezTo>
                <a:cubicBezTo>
                  <a:pt x="694899" y="600638"/>
                  <a:pt x="773133" y="546694"/>
                  <a:pt x="693019" y="596766"/>
                </a:cubicBezTo>
                <a:cubicBezTo>
                  <a:pt x="679415" y="605268"/>
                  <a:pt x="667572" y="616318"/>
                  <a:pt x="654518" y="625642"/>
                </a:cubicBezTo>
                <a:cubicBezTo>
                  <a:pt x="555996" y="696014"/>
                  <a:pt x="712968" y="579397"/>
                  <a:pt x="587141" y="673768"/>
                </a:cubicBezTo>
                <a:cubicBezTo>
                  <a:pt x="583933" y="683393"/>
                  <a:pt x="576738" y="692528"/>
                  <a:pt x="577516" y="702644"/>
                </a:cubicBezTo>
                <a:cubicBezTo>
                  <a:pt x="584065" y="787786"/>
                  <a:pt x="583909" y="779611"/>
                  <a:pt x="616017" y="827772"/>
                </a:cubicBezTo>
                <a:cubicBezTo>
                  <a:pt x="632932" y="878519"/>
                  <a:pt x="614462" y="837456"/>
                  <a:pt x="654518" y="885524"/>
                </a:cubicBezTo>
                <a:cubicBezTo>
                  <a:pt x="721513" y="965920"/>
                  <a:pt x="618291" y="858925"/>
                  <a:pt x="702644" y="943275"/>
                </a:cubicBezTo>
                <a:cubicBezTo>
                  <a:pt x="705066" y="948120"/>
                  <a:pt x="732464" y="998380"/>
                  <a:pt x="731520" y="1010652"/>
                </a:cubicBezTo>
                <a:cubicBezTo>
                  <a:pt x="729011" y="1043275"/>
                  <a:pt x="723274" y="1076091"/>
                  <a:pt x="712269" y="1106905"/>
                </a:cubicBezTo>
                <a:cubicBezTo>
                  <a:pt x="706873" y="1122013"/>
                  <a:pt x="695219" y="1134566"/>
                  <a:pt x="683393" y="1145406"/>
                </a:cubicBezTo>
                <a:cubicBezTo>
                  <a:pt x="656427" y="1170125"/>
                  <a:pt x="627204" y="1192492"/>
                  <a:pt x="596766" y="1212783"/>
                </a:cubicBezTo>
                <a:cubicBezTo>
                  <a:pt x="587141" y="1219200"/>
                  <a:pt x="576777" y="1224627"/>
                  <a:pt x="567890" y="1232033"/>
                </a:cubicBezTo>
                <a:cubicBezTo>
                  <a:pt x="540098" y="1255193"/>
                  <a:pt x="538692" y="1261392"/>
                  <a:pt x="519764" y="1289785"/>
                </a:cubicBezTo>
                <a:cubicBezTo>
                  <a:pt x="522972" y="1337911"/>
                  <a:pt x="524063" y="1386226"/>
                  <a:pt x="529389" y="1434164"/>
                </a:cubicBezTo>
                <a:cubicBezTo>
                  <a:pt x="532197" y="1459438"/>
                  <a:pt x="545329" y="1471217"/>
                  <a:pt x="558265" y="1491915"/>
                </a:cubicBezTo>
                <a:cubicBezTo>
                  <a:pt x="595582" y="1551621"/>
                  <a:pt x="570035" y="1528639"/>
                  <a:pt x="616017" y="1559292"/>
                </a:cubicBezTo>
                <a:cubicBezTo>
                  <a:pt x="622434" y="1568917"/>
                  <a:pt x="630094" y="1577821"/>
                  <a:pt x="635267" y="1588168"/>
                </a:cubicBezTo>
                <a:cubicBezTo>
                  <a:pt x="652007" y="1621650"/>
                  <a:pt x="651945" y="1672697"/>
                  <a:pt x="635267" y="1703671"/>
                </a:cubicBezTo>
                <a:cubicBezTo>
                  <a:pt x="615738" y="1739939"/>
                  <a:pt x="579001" y="1738303"/>
                  <a:pt x="548640" y="1751797"/>
                </a:cubicBezTo>
                <a:cubicBezTo>
                  <a:pt x="481408" y="1781677"/>
                  <a:pt x="508330" y="1770975"/>
                  <a:pt x="462012" y="1799924"/>
                </a:cubicBezTo>
                <a:cubicBezTo>
                  <a:pt x="369110" y="1857989"/>
                  <a:pt x="451006" y="1804054"/>
                  <a:pt x="385010" y="1848050"/>
                </a:cubicBezTo>
                <a:cubicBezTo>
                  <a:pt x="381802" y="1857675"/>
                  <a:pt x="375385" y="1866780"/>
                  <a:pt x="375385" y="1876926"/>
                </a:cubicBezTo>
                <a:cubicBezTo>
                  <a:pt x="375385" y="1937355"/>
                  <a:pt x="390104" y="1942319"/>
                  <a:pt x="423511" y="1992429"/>
                </a:cubicBezTo>
                <a:lnTo>
                  <a:pt x="442762" y="2021305"/>
                </a:lnTo>
                <a:cubicBezTo>
                  <a:pt x="449179" y="2040555"/>
                  <a:pt x="464031" y="2058865"/>
                  <a:pt x="462012" y="2079056"/>
                </a:cubicBezTo>
                <a:cubicBezTo>
                  <a:pt x="458804" y="2111140"/>
                  <a:pt x="459637" y="2143890"/>
                  <a:pt x="452387" y="2175309"/>
                </a:cubicBezTo>
                <a:cubicBezTo>
                  <a:pt x="448911" y="2190372"/>
                  <a:pt x="413871" y="2225587"/>
                  <a:pt x="404261" y="2233061"/>
                </a:cubicBezTo>
                <a:cubicBezTo>
                  <a:pt x="307154" y="2308589"/>
                  <a:pt x="384206" y="2243189"/>
                  <a:pt x="308008" y="2290812"/>
                </a:cubicBezTo>
                <a:cubicBezTo>
                  <a:pt x="294404" y="2299314"/>
                  <a:pt x="282341" y="2310063"/>
                  <a:pt x="269507" y="2319688"/>
                </a:cubicBezTo>
                <a:cubicBezTo>
                  <a:pt x="256673" y="2338939"/>
                  <a:pt x="247366" y="2361080"/>
                  <a:pt x="231006" y="2377440"/>
                </a:cubicBezTo>
                <a:cubicBezTo>
                  <a:pt x="221381" y="2387065"/>
                  <a:pt x="210487" y="2395570"/>
                  <a:pt x="202130" y="2406315"/>
                </a:cubicBezTo>
                <a:cubicBezTo>
                  <a:pt x="187926" y="2424578"/>
                  <a:pt x="176463" y="2444816"/>
                  <a:pt x="163629" y="2464067"/>
                </a:cubicBezTo>
                <a:cubicBezTo>
                  <a:pt x="157212" y="2473692"/>
                  <a:pt x="154004" y="2486526"/>
                  <a:pt x="144379" y="2492943"/>
                </a:cubicBezTo>
                <a:lnTo>
                  <a:pt x="115503" y="2512193"/>
                </a:lnTo>
                <a:cubicBezTo>
                  <a:pt x="102669" y="2531444"/>
                  <a:pt x="99960" y="2567075"/>
                  <a:pt x="77002" y="2569945"/>
                </a:cubicBezTo>
                <a:lnTo>
                  <a:pt x="0" y="2579570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539640" y="620640"/>
            <a:ext cx="712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ссвор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4" name="Picture 5" descr="baby01"/>
          <p:cNvPicPr/>
          <p:nvPr/>
        </p:nvPicPr>
        <p:blipFill>
          <a:blip r:embed="rId1"/>
          <a:stretch/>
        </p:blipFill>
        <p:spPr>
          <a:xfrm>
            <a:off x="5508720" y="3429000"/>
            <a:ext cx="254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Ответы на кроссворд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по теме «Устройство П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2920" y="1052640"/>
          <a:ext cx="7489800" cy="5761080"/>
        </p:xfrm>
        <a:graphic>
          <a:graphicData uri="http://schemas.openxmlformats.org/drawingml/2006/table">
            <a:tbl>
              <a:tblPr/>
              <a:tblGrid>
                <a:gridCol w="595440"/>
                <a:gridCol w="623880"/>
                <a:gridCol w="627120"/>
                <a:gridCol w="623880"/>
                <a:gridCol w="625320"/>
                <a:gridCol w="625680"/>
                <a:gridCol w="637920"/>
                <a:gridCol w="625680"/>
                <a:gridCol w="630000"/>
                <a:gridCol w="623880"/>
                <a:gridCol w="627120"/>
                <a:gridCol w="6238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1962" descr="25"/>
          <p:cNvPicPr/>
          <p:nvPr/>
        </p:nvPicPr>
        <p:blipFill>
          <a:blip r:embed="rId1"/>
          <a:stretch/>
        </p:blipFill>
        <p:spPr>
          <a:xfrm>
            <a:off x="179280" y="3068640"/>
            <a:ext cx="2374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34920" y="422280"/>
            <a:ext cx="9109080" cy="6032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4437360" y="43570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TextBox 6" descr=""/>
          <p:cNvPicPr/>
          <p:nvPr/>
        </p:nvPicPr>
        <p:blipFill>
          <a:blip r:embed="rId2"/>
          <a:stretch/>
        </p:blipFill>
        <p:spPr>
          <a:xfrm>
            <a:off x="66600" y="3249720"/>
            <a:ext cx="2451240" cy="51120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7" descr=""/>
          <p:cNvPicPr/>
          <p:nvPr/>
        </p:nvPicPr>
        <p:blipFill>
          <a:blip r:embed="rId3"/>
          <a:stretch/>
        </p:blipFill>
        <p:spPr>
          <a:xfrm>
            <a:off x="871560" y="1652760"/>
            <a:ext cx="2073240" cy="185256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8" descr=""/>
          <p:cNvPicPr/>
          <p:nvPr/>
        </p:nvPicPr>
        <p:blipFill>
          <a:blip r:embed="rId4"/>
          <a:stretch/>
        </p:blipFill>
        <p:spPr>
          <a:xfrm>
            <a:off x="2571840" y="890640"/>
            <a:ext cx="45720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9" descr=""/>
          <p:cNvPicPr/>
          <p:nvPr/>
        </p:nvPicPr>
        <p:blipFill>
          <a:blip r:embed="rId5"/>
          <a:stretch/>
        </p:blipFill>
        <p:spPr>
          <a:xfrm>
            <a:off x="2938320" y="1311120"/>
            <a:ext cx="2109960" cy="194472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10" descr=""/>
          <p:cNvPicPr/>
          <p:nvPr/>
        </p:nvPicPr>
        <p:blipFill>
          <a:blip r:embed="rId6"/>
          <a:stretch/>
        </p:blipFill>
        <p:spPr>
          <a:xfrm>
            <a:off x="3200400" y="3249720"/>
            <a:ext cx="2408400" cy="51120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12" descr=""/>
          <p:cNvPicPr/>
          <p:nvPr/>
        </p:nvPicPr>
        <p:blipFill>
          <a:blip r:embed="rId7"/>
          <a:stretch/>
        </p:blipFill>
        <p:spPr>
          <a:xfrm>
            <a:off x="3041640" y="3713040"/>
            <a:ext cx="2225520" cy="20178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13" descr=""/>
          <p:cNvPicPr/>
          <p:nvPr/>
        </p:nvPicPr>
        <p:blipFill>
          <a:blip r:embed="rId8"/>
          <a:stretch/>
        </p:blipFill>
        <p:spPr>
          <a:xfrm>
            <a:off x="2571840" y="3749760"/>
            <a:ext cx="463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 rot="19768200">
            <a:off x="568440" y="2044800"/>
            <a:ext cx="77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40027e"/>
                  </a:solidFill>
                  <a:miter/>
                </a:ln>
                <a:solidFill>
                  <a:srgbClr val="33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азочная</a:t>
            </a:r>
            <a:endParaRPr b="0" lang="en-US" sz="1800" spc="1" strike="noStrike">
              <a:ln w="50760">
                <a:solidFill>
                  <a:srgbClr val="40027e"/>
                </a:solidFill>
                <a:miter/>
              </a:ln>
              <a:solidFill>
                <a:srgbClr val="33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d13"/>
          <p:cNvPicPr/>
          <p:nvPr/>
        </p:nvPicPr>
        <p:blipFill>
          <a:blip r:embed="rId2"/>
          <a:stretch/>
        </p:blipFill>
        <p:spPr>
          <a:xfrm>
            <a:off x="6156360" y="3645000"/>
            <a:ext cx="251460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WPS"/>
          <p:cNvPicPr/>
          <p:nvPr/>
        </p:nvPicPr>
        <p:blipFill>
          <a:blip r:embed="rId3"/>
          <a:stretch/>
        </p:blipFill>
        <p:spPr>
          <a:xfrm>
            <a:off x="611280" y="260280"/>
            <a:ext cx="184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13:58Z</dcterms:created>
  <dc:creator>Королёвы</dc:creator>
  <dc:description/>
  <dc:language>en-US</dc:language>
  <cp:lastModifiedBy>GLAV</cp:lastModifiedBy>
  <dcterms:modified xsi:type="dcterms:W3CDTF">2017-10-20T07:39:43Z</dcterms:modified>
  <cp:revision>24</cp:revision>
  <dc:subject/>
  <dc:title>Слайд 1</dc:title>
</cp:coreProperties>
</file>