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B55C-7EA3-406E-BD10-1F81CCF2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0C3C-6BD7-43E9-BD9E-861DDAC6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6759-0413-4A59-A9AB-02A07755F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EEFD-94DB-4980-AC2A-98078B215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B6CA-0133-44FA-9D76-D33BF37F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9A29-04FF-45E2-81F8-DD0CA26D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7B1F-8B5C-40D2-A533-F57B2000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1CCC-4D2E-4BB7-AEE2-36D99953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4F7E-EA28-46E1-B8D9-8FC792B4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A71C-92EA-40D2-A40E-F80C1AA1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C5D9-CBD5-4F91-A74A-13140D5C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B8F6-9585-44DB-BA7F-B054B2DD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525C-6479-441C-81A4-E538AAC74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5181480"/>
            <a:ext cx="624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23880"/>
            <a:ext cx="8153280" cy="247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рода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 поэзии  и  музыке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281160"/>
            <a:ext cx="9144000" cy="7420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143000" y="3962520"/>
            <a:ext cx="7543800" cy="26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ихотворение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Русь"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04920" y="6172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066788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06678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914400" y="2895480"/>
            <a:ext cx="7696080" cy="300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рывок "Степь"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 повести "Тарас Бульба"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6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2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23417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990720" y="685800"/>
            <a:ext cx="76960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ихотворение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Родина"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-304920" y="0"/>
            <a:ext cx="975384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-533520" y="0"/>
            <a:ext cx="967752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-304920" y="0"/>
            <a:ext cx="9753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22860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160704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609480" y="1066680"/>
            <a:ext cx="822960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севолод Рождественский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Берёзка"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reme</cp:lastModifiedBy>
  <dcterms:modified xsi:type="dcterms:W3CDTF">2017-10-15T14:41:57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