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4B4-EB7B-4D94-A259-825BB546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2B6-6778-42C2-B188-1A4B620F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3F6-2FB3-4BBE-BBAC-020F50E8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22D-4962-4F8B-87A3-DB827B8E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AD5-508C-4D95-8360-9FE90106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AF57-F590-437A-875C-240AFD04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B18-9EE8-4C8D-8F48-F66F0707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B46-2C96-435D-8C87-8A013C2B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EC3-8851-42F2-A6DB-72D1EC47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03B-FE7A-4F4D-93FA-DEC0807E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C75-BF72-4548-88FD-C4D8E82C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DA9-CF9A-4E81-9611-F2F2865A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96B0-2223-447E-A96A-69104DBE7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5181480"/>
            <a:ext cx="624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23880"/>
            <a:ext cx="8153280" cy="24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рода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 поэзии  и  музыке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281160"/>
            <a:ext cx="9144000" cy="7420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143000" y="3962520"/>
            <a:ext cx="7543800" cy="26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ихотворение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Русь"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6788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7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14400" y="2895480"/>
            <a:ext cx="7696080" cy="30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рывок "Степь"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 повести "Тарас Бульба"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6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23417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990720" y="685800"/>
            <a:ext cx="7696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ихотворение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Родина"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-533520" y="0"/>
            <a:ext cx="96775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6070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09480" y="1066680"/>
            <a:ext cx="8229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волод Рождественский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Берёзка"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7-10-15T14:41:5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