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wmf" ContentType="image/x-wmf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CFB-4804-4331-9195-96DE2F138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9E3-0B64-4B5A-AB7A-4DFC6F6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8FD-DA26-4283-8E1D-F9D1CBC54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3EE5-7224-4E7B-BCB2-03035D8A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09F-B5BB-46B7-897A-C4D5F529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9F8-1F90-4EB5-9C0A-E57528D9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0FA-4072-43D1-8848-007B37903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0552-D8C6-413B-B197-A3BA4051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A69E-F188-4B87-B345-570D26349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069C-1AE8-44E9-995B-E6CA91EDE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C46D-094F-4556-A410-3A2C5F58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8F1-5863-4872-A7FC-86D05C27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B0F8-DA98-4DD0-928C-C6CF6FD0B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2060"/>
                </a:solidFill>
                <a:latin typeface="Calibri"/>
              </a:rPr>
              <a:t>Проект по опытно-экспериментальной деятельности для детей 6–7 лет «Волшебница-водиц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Подготовила: воспитате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Быстрюкова О.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6" descr="264549cb7f64"/>
          <p:cNvPicPr/>
          <p:nvPr/>
        </p:nvPicPr>
        <p:blipFill>
          <a:blip r:embed="rId1"/>
          <a:stretch/>
        </p:blipFill>
        <p:spPr>
          <a:xfrm>
            <a:off x="179280" y="290520"/>
            <a:ext cx="2019240" cy="165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Реализация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етское экспериментирова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ода может превращаться в лёд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Тающая сосульк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В замёршей воде видны предметы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Заморозим воду в разных формах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Где вода может замёрзнуть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Чудесное превращение воды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«При замерзании вода сохраняет форму сосуда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Делаем с детьми цветную вод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D:\6. ФОТО\Проект подготовительная группа\P1010593.JPG"/>
          <p:cNvPicPr/>
          <p:nvPr/>
        </p:nvPicPr>
        <p:blipFill>
          <a:blip r:embed="rId1"/>
          <a:stretch/>
        </p:blipFill>
        <p:spPr>
          <a:xfrm>
            <a:off x="1400040" y="1484280"/>
            <a:ext cx="6485040" cy="4862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53735"/>
                </a:solidFill>
                <a:latin typeface="Calibri"/>
              </a:rPr>
              <a:t>Девочки старались не расплескать во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6. ФОТО\Проект подготовительная группа\P1010594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1" descr="Мульты"/>
          <p:cNvPicPr/>
          <p:nvPr/>
        </p:nvPicPr>
        <p:blipFill>
          <a:blip r:embed="rId2"/>
          <a:stretch/>
        </p:blipFill>
        <p:spPr>
          <a:xfrm>
            <a:off x="108000" y="1268280"/>
            <a:ext cx="95256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И вот вода замерзла. Сколько восторга было у ребят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тягивание кана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D:\6. ФОТО\Проект подготовительная группа\P101059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А теперь на улицу: сравним лед в стаканчике со снегом</a:t>
            </a:r>
            <a:br>
              <a:rPr sz="2800"/>
            </a:br>
            <a:r>
              <a:rPr b="1" i="1" lang="ru-RU" sz="2800" spc="-1" strike="noStrike">
                <a:solidFill>
                  <a:srgbClr val="00b050"/>
                </a:solidFill>
                <a:latin typeface="Calibri"/>
              </a:rPr>
              <a:t>(Образовательная область «Познавательное развитие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6. ФОТО\Проект подготовительная группа\P1010598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e1c11"/>
                </a:solidFill>
                <a:latin typeface="Calibri"/>
              </a:rPr>
              <a:t>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D:\6. ФОТО\Проект подготовительная группа\P1010599.JPG"/>
          <p:cNvPicPr/>
          <p:nvPr/>
        </p:nvPicPr>
        <p:blipFill>
          <a:blip r:embed="rId1"/>
          <a:stretch/>
        </p:blipFill>
        <p:spPr>
          <a:xfrm>
            <a:off x="611280" y="404640"/>
            <a:ext cx="7924680" cy="594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Следующий этап проекта – это игры</a:t>
            </a: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Calibri"/>
              </a:rPr>
              <a:t>(Образовательная область «Социально-коммуникативное развит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Заморожу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Два Мороз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то дальш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Снежки»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Как на тоненький ледок» - хоровод – совместная работа с музыкальным руководителе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, конечно, постройки из снега на детской игровой площадк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6. ФОТО\Проект подготовительная группа\P1010602.JPG"/>
          <p:cNvPicPr/>
          <p:nvPr/>
        </p:nvPicPr>
        <p:blipFill>
          <a:blip r:embed="rId1"/>
          <a:stretch/>
        </p:blipFill>
        <p:spPr>
          <a:xfrm>
            <a:off x="1403280" y="1600200"/>
            <a:ext cx="676908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D:\6. ФОТО\Проект подготовительная группа\P1010603.JPG"/>
          <p:cNvPicPr/>
          <p:nvPr/>
        </p:nvPicPr>
        <p:blipFill>
          <a:blip r:embed="rId1"/>
          <a:stretch/>
        </p:blipFill>
        <p:spPr>
          <a:xfrm>
            <a:off x="611280" y="404640"/>
            <a:ext cx="7948440" cy="596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:\6. ФОТО\Проект подготовительная группа\P1010605.JPG"/>
          <p:cNvPicPr/>
          <p:nvPr/>
        </p:nvPicPr>
        <p:blipFill>
          <a:blip r:embed="rId1"/>
          <a:stretch/>
        </p:blipFill>
        <p:spPr>
          <a:xfrm>
            <a:off x="826920" y="549360"/>
            <a:ext cx="7564680" cy="5672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764640"/>
            <a:ext cx="8569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5968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«Люди, научившиеся… наблюдениям и опытам, приобретаю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ность сами ставить вопросы и получать на них ответ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казываясь на более высоком умственном и нравственном уров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 сравнении с теми, кто такой школы не прошел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. А. Тимиряз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D:\6. ФОТО\Проект подготовительная группа\P1010606.JPG"/>
          <p:cNvPicPr/>
          <p:nvPr/>
        </p:nvPicPr>
        <p:blipFill>
          <a:blip r:embed="rId1"/>
          <a:stretch/>
        </p:blipFill>
        <p:spPr>
          <a:xfrm>
            <a:off x="684360" y="549360"/>
            <a:ext cx="770400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Образовательная область «Физическое развитие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6. ФОТО\Проект подготовительная группа\P1010607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Аппликация «КИТ»</a:t>
            </a:r>
            <a:br>
              <a:rPr sz="3200"/>
            </a:b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Образовательная область «Художественно-эстетическое разви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D:\6. ФОТО\Проект подготовительная группа\P1010610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Образовательная область «Речевое развитие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Идёт – Волшебница – Зима!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имнее утро! 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 С. Пушк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казки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Морозк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Снежная королева» Х. К. Андерсе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езентация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508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уск стенгазе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теме: «Сохраним тебя вод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9" descr="BD07213_"/>
          <p:cNvPicPr/>
          <p:nvPr/>
        </p:nvPicPr>
        <p:blipFill>
          <a:blip r:embed="rId1"/>
          <a:stretch/>
        </p:blipFill>
        <p:spPr>
          <a:xfrm>
            <a:off x="5724360" y="3141720"/>
            <a:ext cx="3360960" cy="287964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" descr=""/>
          <p:cNvPicPr/>
          <p:nvPr/>
        </p:nvPicPr>
        <p:blipFill>
          <a:blip r:embed="rId2"/>
          <a:stretch/>
        </p:blipFill>
        <p:spPr>
          <a:xfrm>
            <a:off x="611280" y="2960640"/>
            <a:ext cx="4824360" cy="324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ИТОГИ ПРОЕКТНОЙ ДЕЯТЕЛЬ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ти научилис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проводить опыты с вод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но расходовать в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03152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84216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Calibri"/>
              </a:rPr>
              <a:t>Актуальность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Ребенок познает объект в ходе практической деятельности с ним. Практические действия, осуществляемые ребенком, выполняют познавательную, ориентировочно-исследовательскую функцию, создавая условия, в которых раскрывается содержание данного объек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В нашем случае – это ВОДА. Свойства воды в различных агрегатных состояниях (вода, снег, лед) – объекты, окружающие детей, но мало ими изученные, представляют большое поле для проведения элементарных опытов, позволяющих расширить и углубить познавательную сферу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3" descr="Рисунок1.gif"/>
          <p:cNvPicPr/>
          <p:nvPr/>
        </p:nvPicPr>
        <p:blipFill>
          <a:blip r:embed="rId1"/>
          <a:stretch/>
        </p:blipFill>
        <p:spPr>
          <a:xfrm>
            <a:off x="7451640" y="241200"/>
            <a:ext cx="1235160" cy="1285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5cb05"/>
                </a:solidFill>
                <a:latin typeface="Calibri"/>
              </a:rPr>
              <a:t>Вид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Познавательно-исследовательск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раткосрочный (1 неделя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Коллективн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middleschoolnotes.org/assets/content/melting.jpg"/>
          <p:cNvPicPr/>
          <p:nvPr/>
        </p:nvPicPr>
        <p:blipFill>
          <a:blip r:embed="rId1"/>
          <a:stretch/>
        </p:blipFill>
        <p:spPr>
          <a:xfrm>
            <a:off x="2771640" y="3573360"/>
            <a:ext cx="3792600" cy="2880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Calibri"/>
              </a:rPr>
              <a:t>Развитие познавательных и творческих способностей детей в процессе ознакомления и экспериментальной деятельности с водой (свойства льд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400" spc="-1" strike="noStrike">
                <a:solidFill>
                  <a:srgbClr val="663300"/>
                </a:solidFill>
                <a:latin typeface="Calibri"/>
              </a:rPr>
              <a:t>Задачи проекта:</a:t>
            </a:r>
            <a:br>
              <a:rPr sz="29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Развивать экологическое мышление в процессе проведения элементарных опыт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Развивать умение наблюдать, анализировать, сравнивать, выделять характерные, существенные признаки явлений прир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Выявление свойств 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Выявить что лед – твердый, прозрачный, хрупкий, скользкий, тает, состоит из в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Познакомить с процессом растворения краски в воде (замораживание и получение цветного льда)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МЕТОДЫ ПРО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Рассматривание иллюстраци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Чтение художественной литерату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Исследования, эксперименты с вод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Игр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Бесе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Познавательные занят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Совместная и самостоятельная деятельность дете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Наблюд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10253f"/>
                </a:solidFill>
                <a:latin typeface="Calibri"/>
              </a:rPr>
              <a:t>Творческая деятельность – рисование, аппликац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Предполагаемый конечный результа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ширить и углубить знания и представления ребенка о свойстве льда, как об одном из свойств 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68360" y="3355920"/>
            <a:ext cx="45943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4000" spc="-1" strike="noStrike">
                <a:solidFill>
                  <a:srgbClr val="663300"/>
                </a:solidFill>
                <a:latin typeface="Calibri"/>
              </a:rPr>
              <a:t>Содержание проекта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сти с детьми эксперименты с водой, снегом, льдом и обсудить наблюдаемые я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ользовать литературные произведения по теме про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лечь родителей к проведению опытов с водой, снегом, льд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30T17:43:56Z</dcterms:created>
  <dc:creator>User</dc:creator>
  <dc:description/>
  <dc:language>en-US</dc:language>
  <cp:lastModifiedBy>Пользователь Windows</cp:lastModifiedBy>
  <dcterms:modified xsi:type="dcterms:W3CDTF">2017-10-20T11:00:03Z</dcterms:modified>
  <cp:revision>53</cp:revision>
  <dc:subject/>
  <dc:title>Презентация PowerPoint</dc:title>
</cp:coreProperties>
</file>