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wmf" ContentType="image/x-wmf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76A-38FA-4F88-9CB5-56244141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23E-262C-45D1-8076-13F73082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35F-341D-45A7-8578-98EE2F86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3FC-7714-424D-ADBC-43654A08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E60-E3FD-44F4-B77E-091EC0E5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13A-13EE-4852-95E0-C6A31592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DA2-CA19-4EB4-803D-F9E350C7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387-E266-4B21-8038-90131039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569-1229-4FFA-BD09-A33C1A77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CB8-AD8B-472F-B18D-8C697DD0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0DC-F168-42FA-8729-B3CF01FC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7D9-4973-4175-B550-A51BBEC8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0F8F-DB8B-418F-BB94-36C8D6B85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роект по опытно-экспериментальной деятельности для детей 6–7 лет «Волшебница-водиц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Подготовила: воспит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Быстрюкова О.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6" descr="264549cb7f64"/>
          <p:cNvPicPr/>
          <p:nvPr/>
        </p:nvPicPr>
        <p:blipFill>
          <a:blip r:embed="rId1"/>
          <a:stretch/>
        </p:blipFill>
        <p:spPr>
          <a:xfrm>
            <a:off x="179280" y="290520"/>
            <a:ext cx="201924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Реализация прое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ское экспериментирова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Вода может превращаться в лёд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Тающая сосульк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В замёршей воде видны предметы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Заморозим воду в разных формах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Где вода может замёрзну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Чудесное превращение воды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При замерзании вода сохраняет форму сосуд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Делаем с детьми цветную в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6. ФОТО\Проект подготовительная группа\P1010593.JPG"/>
          <p:cNvPicPr/>
          <p:nvPr/>
        </p:nvPicPr>
        <p:blipFill>
          <a:blip r:embed="rId1"/>
          <a:stretch/>
        </p:blipFill>
        <p:spPr>
          <a:xfrm>
            <a:off x="1400040" y="1484280"/>
            <a:ext cx="6485040" cy="48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Девочки старались не расплескать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D:\6. ФОТО\Проект подготовительная группа\P101059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1" descr="Мульты"/>
          <p:cNvPicPr/>
          <p:nvPr/>
        </p:nvPicPr>
        <p:blipFill>
          <a:blip r:embed="rId2"/>
          <a:stretch/>
        </p:blipFill>
        <p:spPr>
          <a:xfrm>
            <a:off x="108000" y="1268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И вот вода замерзла. Сколько восторга было у ребят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тягивание кан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D:\6. ФОТО\Проект подготовительная группа\P101059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А теперь на улицу: сравним лед в стаканчике со снегом</a:t>
            </a:r>
            <a:br>
              <a:rPr sz="2800"/>
            </a:b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(Образовательная область «Познавательное развитие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6. ФОТО\Проект подготовительная группа\P101059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Calibri"/>
              </a:rPr>
              <a:t>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6. ФОТО\Проект подготовительная группа\P1010599.JPG"/>
          <p:cNvPicPr/>
          <p:nvPr/>
        </p:nvPicPr>
        <p:blipFill>
          <a:blip r:embed="rId1"/>
          <a:stretch/>
        </p:blipFill>
        <p:spPr>
          <a:xfrm>
            <a:off x="611280" y="404640"/>
            <a:ext cx="792468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Следующий этап проекта – это игры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(Образовательная область «Социально-коммуникативное развит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Заморож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Два Мороз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Кто дальш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Снежки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Как на тоненький ледок» - хоровод – совместная работа с музыкальным руководител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, конечно, постройки из снега на детской игровой площад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6. ФОТО\Проект подготовительная группа\P1010602.JPG"/>
          <p:cNvPicPr/>
          <p:nvPr/>
        </p:nvPicPr>
        <p:blipFill>
          <a:blip r:embed="rId1"/>
          <a:stretch/>
        </p:blipFill>
        <p:spPr>
          <a:xfrm>
            <a:off x="1403280" y="16002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D:\6. ФОТО\Проект подготовительная группа\P1010603.JPG"/>
          <p:cNvPicPr/>
          <p:nvPr/>
        </p:nvPicPr>
        <p:blipFill>
          <a:blip r:embed="rId1"/>
          <a:stretch/>
        </p:blipFill>
        <p:spPr>
          <a:xfrm>
            <a:off x="611280" y="404640"/>
            <a:ext cx="7948440" cy="5961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:\6. ФОТО\Проект подготовительная группа\P1010605.JPG"/>
          <p:cNvPicPr/>
          <p:nvPr/>
        </p:nvPicPr>
        <p:blipFill>
          <a:blip r:embed="rId1"/>
          <a:stretch/>
        </p:blipFill>
        <p:spPr>
          <a:xfrm>
            <a:off x="826920" y="549360"/>
            <a:ext cx="7564680" cy="567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764640"/>
            <a:ext cx="856944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Люди, научившиеся… наблюдениям и опытам, приобрет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ность сами ставить вопросы и получать на них отве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азываясь на более высоком умственном и нравственном уров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сравнении с теми, кто такой школы не проше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. А. Тимиряз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D:\6. ФОТО\Проект подготовительная группа\P1010606.JPG"/>
          <p:cNvPicPr/>
          <p:nvPr/>
        </p:nvPicPr>
        <p:blipFill>
          <a:blip r:embed="rId1"/>
          <a:stretch/>
        </p:blipFill>
        <p:spPr>
          <a:xfrm>
            <a:off x="684360" y="549360"/>
            <a:ext cx="7704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Образовательная область «Физическое развити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6. ФОТО\Проект подготовительная группа\P101060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Calibri"/>
              </a:rPr>
              <a:t>Аппликация «КИТ»</a:t>
            </a:r>
            <a:br>
              <a:rPr sz="3200"/>
            </a:br>
            <a:r>
              <a:rPr b="1" i="1" lang="ru-RU" sz="3200" spc="-1" strike="noStrike">
                <a:solidFill>
                  <a:srgbClr val="4f6228"/>
                </a:solidFill>
                <a:latin typeface="Calibri"/>
              </a:rPr>
              <a:t>Образовательная область «Художественно-эстетическое 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D:\6. ФОТО\Проект подготовительная группа\P101061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бразовательная область «Речевое развити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дёт – Волшебница – Зима!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имнее утро!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С. Пуш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и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розк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нежная королева» Х. К. Андерс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508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уск стенгаз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теме: «Сохраним тебя во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9" descr="BD07213_"/>
          <p:cNvPicPr/>
          <p:nvPr/>
        </p:nvPicPr>
        <p:blipFill>
          <a:blip r:embed="rId1"/>
          <a:stretch/>
        </p:blipFill>
        <p:spPr>
          <a:xfrm>
            <a:off x="5724360" y="3141720"/>
            <a:ext cx="3360960" cy="2879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"/>
          <p:cNvPicPr/>
          <p:nvPr/>
        </p:nvPicPr>
        <p:blipFill>
          <a:blip r:embed="rId2"/>
          <a:stretch/>
        </p:blipFill>
        <p:spPr>
          <a:xfrm>
            <a:off x="611280" y="2960640"/>
            <a:ext cx="482436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ИТОГИ ПРОЕКТ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научили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проводить опыты с в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но расходовать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3152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84216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Актуальность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Ребенок познает объект в ходе практической деятельности с ним. Практические действия, осуществляемые ребенком, выполняют познавательную, ориентировочно-исследовательскую функцию, создавая условия, в которых раскрывается содержание данного объ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В нашем случае – это ВОДА. Свойства воды в различных агрегатных состояниях (вода, снег, лед) – объекты, окружающие детей, но мало ими изученные, представляют большое поле для проведения элементарных опытов, позволяющих расширить и углубить познавательную сферу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7451640" y="241200"/>
            <a:ext cx="123516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5cb05"/>
                </a:solidFill>
                <a:latin typeface="Calibri"/>
              </a:rPr>
              <a:t>Вид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ознавательно-исследователь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раткосрочный (1 недел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оллективны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middleschoolnotes.org/assets/content/melting.jpg"/>
          <p:cNvPicPr/>
          <p:nvPr/>
        </p:nvPicPr>
        <p:blipFill>
          <a:blip r:embed="rId1"/>
          <a:stretch/>
        </p:blipFill>
        <p:spPr>
          <a:xfrm>
            <a:off x="2771640" y="3573360"/>
            <a:ext cx="379260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Развитие познавательных и творческих способностей детей в процессе ознакомления и экспериментальной деятельности с водой (свойства льда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Задачи проекта:</a:t>
            </a: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Развивать экологическое мышление в процессе проведения элементарных опыт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Развивать умение наблюдать, анализировать, сравнивать, выделять характерные, существенные признаки явлений прир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Выявление свойств в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Выявить что лед – твердый, прозрачный, хрупкий, скользкий, тает, состоит из в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 Познакомить с процессом растворения краски в воде (замораживание и получение цветного льда)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МЕТОДЫ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Рассматривание иллюстрац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Чтение художественной литерату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Исследования, эксперименты с водо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Иг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Бесе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Познавательные заня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Совместная и самостоятельная деятельность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Наблюд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Творческая деятельность – рисование, аппликац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Предполагаемый конечный результа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ить и углубить знания и представления ребенка о свойстве льда, как об одном из свойств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68360" y="3355920"/>
            <a:ext cx="4594320" cy="304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4000" spc="-1" strike="noStrike">
                <a:solidFill>
                  <a:srgbClr val="663300"/>
                </a:solidFill>
                <a:latin typeface="Calibri"/>
              </a:rPr>
              <a:t>Содержание проекта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с детьми эксперименты с водой, снегом, льдом и обсудить наблюдаемые я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ть литературные произведения по теме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лечь родителей к проведению опытов с водой, снегом, ль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7:43:56Z</dcterms:created>
  <dc:creator>User</dc:creator>
  <dc:description/>
  <dc:language>en-US</dc:language>
  <cp:lastModifiedBy>Пользователь Windows</cp:lastModifiedBy>
  <dcterms:modified xsi:type="dcterms:W3CDTF">2017-10-20T11:00:03Z</dcterms:modified>
  <cp:revision>53</cp:revision>
  <dc:subject/>
  <dc:title>Презентация PowerPoint</dc:title>
</cp:coreProperties>
</file>